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77FE-AABF-4E35-AC27-324574C7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5C95-6A54-4FD6-AE22-E0EE57AB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8C5DC-17D8-4235-9A1A-A278FF3D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F2B11-1283-444D-BA5C-7902395A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B1EAA-2F22-41B2-88DB-B3E8C953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B2410-B76F-46B6-A040-1BB7CE29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EBC55-DC42-4A73-ADFC-1F5278A0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38899-F24D-4ABF-8A67-D16264E6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C3AA2-2150-45A1-B6FC-A22312F0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0394F-F7C3-43E4-8ED1-E1217864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55C08-11B3-4058-89CF-6F2EBDD9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59D83-3EAF-4AED-943D-370D104C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C49-6F54-40FC-891E-7FF3050A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44556-F2F0-465F-8A42-100B507D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2B06B-4648-4120-8A8B-FA5DEC1E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5193A-D3B8-4D56-AA86-1639C026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539EB-31ED-406E-8FAB-3434185C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80E02-DD6C-460F-8FC5-936BB5D0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20F18-71F2-4172-BC2E-F39542ED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4DAC6-AA45-48A2-9390-12A73C06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D1AA5-BE66-41E9-A401-06C7DBA2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BE72F-7DE2-4795-952D-87C08231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ACD60-2153-4AE8-B5BD-35D99B6A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EC42-DBC9-4A26-B4A7-772577F5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AB3EF-92A9-4E3C-8D58-C0D4B093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37343-799D-4CAD-BF30-BD4862C7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95D37-80F5-41C2-A18B-7880A594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FCD47-C089-432C-A63B-C8D7A019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3FD18-5A2E-4FA5-997B-A8738DD9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3B194-A56C-49BF-A674-D7020BC7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F8ABD-9204-4430-A769-FE6A0DEC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41430-27A2-4FB5-A39C-A1B63390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C2F4B-977B-496F-AC78-BC97B94C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81AE7-69B7-4773-BE28-D6061FA9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7B5F-4CAE-41BC-B4E4-F30E25F3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5494C-9FD8-4352-8988-EA55C107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5F256-D4DC-46DA-AADA-8AC26D6B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C6DFB-B951-4D14-8D58-96B53A27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D566E-559A-44BB-8A5B-340C6E49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75A17-2688-4ECF-8CD6-6A821048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C2947-D2E8-40A4-AB4A-68928C31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959BF-458B-4F03-B5F4-A5AE309B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5F3DD-4A64-441C-B69F-560F208A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52B28-286E-4617-BA22-EEF1DB13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0468A-9CE7-4E69-87DC-8B420D87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78E1-F3B1-470C-8BB4-98555F3D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C339C-89F5-4FD7-935A-E30BD5D9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EA587-A88A-4DD6-9268-20988728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7A43C-2436-4738-B3A0-BD804AC9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0D7FF-DFF4-4DAC-9611-C9E5BA58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820FF-62A2-4412-9FE7-0D77201C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D8F6-27BA-4798-9E8A-BAD4E110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E206-6028-4B92-AC30-47DD233C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7F78-663B-408F-837A-D27934D8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7E72-FB78-4B52-9F67-647F3239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47FD-64F5-4D62-8C83-5BACA2B5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38EA-3C6F-443F-995D-84451D9B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00FA-C1C3-412E-8BFF-1B579405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7D1A-68AA-41D8-8EEF-98C2CAA9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E839-A504-4ED8-8CCF-B54D24E2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7C6A-5414-4DF8-AF6C-7C19FC0A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A00B-6504-4A80-893E-A4971921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6FB35-AEC3-4ACE-8F41-EDDCF682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FF89C-4CDC-4FE1-9AE3-C0D888BD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7BD32-7DB1-4521-99CB-EA3D139D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8B6CA-09AB-4C8A-A6AC-53EAD4F3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8E9DA-C5FA-411F-B8DD-A72CCD28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19D6-F953-4F07-AE1F-2F6DF42E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C8DE6-C2FC-468B-8978-344EEFE8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7417F-01F3-4DF3-8DBB-B53530E7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2B181-9C11-4013-BC8C-B42B56FE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DCCDF-E166-4AD0-A001-DF21B516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964E8-6494-471E-B751-0E196144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8EDBA-8FDE-4C18-A4C1-4B6F5A6A2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34537-895C-4DF6-ADF0-467D9236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F0DFA-4478-414B-9814-66E42766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73395-3F95-4576-8654-1A0D093A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5451F-5EBB-42F5-9946-83F8B1EA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3326-3BA2-4493-B962-4B6225AE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3FCCF-A72E-4904-B3B6-C490BC06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181AF-B5F5-4546-99FB-18BB2043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B7CED-FE6D-445D-9C98-3566E548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97EB9-DD3A-4D81-ACDE-31E356FB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21504-F9DA-4118-BE0C-A6E8A8D4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3D841-5192-48F0-A83A-D33EBDB7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292DA-48D7-4014-8876-6E7DD8B6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5C1AA-3E20-4FA5-8434-DF88294E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65AD5-F073-4378-8A12-A761EF22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E9A27-0AD3-420F-B315-9AE476FF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FCA8-6D97-4598-9F5E-15DDD3E2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B8D17-BA6F-4580-A6D5-4B90557D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8228F-A906-4BC1-86E2-0DF021CD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E8044-C30F-483E-8429-20DCB8F1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229D1-7F7A-423D-A343-C039F61F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44E43-3F1B-4945-9BF2-0B9D4A30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01DAD-1F98-4ABB-9CEE-2E366C3B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9BBC8-E5F1-45CD-A14D-2AC3FE22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58C1C-4EE8-4808-9050-9220BF71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A1DF3-42A0-494A-AC82-1C9114D4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A7FE0-A473-4C31-B54C-E5C12B7B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F65C-B15A-4CF4-B520-9B96B77E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1CEBA-4D3A-4E8D-8F2F-210DEC97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3269E-9350-41E4-95C6-1F43FE35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6F62A-CC6A-423D-85D0-2D641C07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F0663-E9B8-4F39-B992-55250A26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CD611-F32B-408E-A0FA-0CC752CA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38C2F-7AD7-40D5-BB75-5BF71154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9C99E-0BF0-4061-BD90-834950C7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06DE1-1155-415F-BAA6-C8966B37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96CEB-AA5B-42BE-9AA2-47FA2961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E1C43-E90C-4189-8CFB-CE928939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BC0F-F25F-42B5-9973-ED87438F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B2925-115B-4A85-9210-6D39C0B8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A7E2C-547E-4497-BD16-E561DEA4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DEC1C-CA97-4566-B018-112FAA17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C117D-2862-44C2-82A5-7C4EDEB4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A9A67-B25B-419A-BFED-369F7076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F966D-4610-47FF-B8D4-B0D59E46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A27C1-14E6-4D9B-9434-8EB6FA5C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3AAE0-60FD-495D-88CD-1C6D7B07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DB1C2-67F5-4A9B-9727-A9C8EE1C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AA1B4-5B52-4CB9-8019-53470176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51D2-CCD3-40AD-A010-6D6A9BF0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602B1-C44F-4620-8FD4-7E867BF4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FDE9F-01DC-4F60-AF1D-C791BC1D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63192-D956-465A-86C2-5C51E06F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A5BFE-551B-4225-ACCE-6B5C96EE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173F8-2776-4E41-9458-D24CCFB1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0095E-2D7E-49EF-BBA1-560E0B28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3BC10-05DD-4B19-B445-81AD5BF2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334E6-997F-49CA-B454-DFFE7779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02CFC-9942-434C-9351-BB51BC42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A9721-5488-4311-B116-B69F4012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957A-C9B5-4025-A729-87787886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C4BBC-644B-4526-A439-095F1B3E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A026D-C488-4FF5-97D1-51E5D44A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3DEDE-76C9-4EC8-A4A2-F6461464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A0B7D-C3F0-4674-A64C-AF9E4F54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EEE5C-CD3D-4E1A-8C5D-ADDB3DCA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127BA-CA94-4563-83AD-D80A8B4A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7E616-67DA-4D3B-A753-310336CA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1CC62-8787-4158-A15D-3712CB0B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FE859-A5A4-4E47-A8FE-A2A7F1FE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9C07D-E0B8-474B-BA60-7343EE5C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F172-2846-4962-B3D4-CB4101013FD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dt" idx="28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37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767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769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770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771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5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9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86" name="PlaceHolder 3"/>
          <p:cNvSpPr>
            <a:spLocks noGrp="1"/>
          </p:cNvSpPr>
          <p:nvPr>
            <p:ph type="ftr" idx="29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sldNum" idx="30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6382-3B1F-47E2-96BB-6BE3584373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825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3BA2-D932-4514-95D7-BE1790B5C6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869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ftr" idx="3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233A-0D6D-4AD4-841C-4EB0FBC47FF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47A1-2867-4A4D-A4BC-49D66561891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B6EE-F976-47A6-9CB1-C59ADE45912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CC4F-C347-4E40-9804-C1091BDD9C1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5D8A-BDE3-4E61-BB52-E499B5F3FBC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09C2-F4A2-4FE3-9850-61069F5978A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7173-7CD3-4BAA-8635-E72008AAF9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32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41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59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BD52-9E03-44BA-B4AC-C9319F77D1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60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664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25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26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27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BE7B-E53F-4972-BA36-7818DC872E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Лекомцева Елена Юрьевна</a:t>
            </a:r>
            <a:endParaRPr b="0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39280" y="386028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оспитатель высшей квалификационной категории МАДОУ ЦРР – д/с № 21 «Алёнка» г. Гурьевс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5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6840" y="1844640"/>
            <a:ext cx="8147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«Развитие речи детей дошкольного возраста с помощью мнемотаблиц через ознакомление со сказками»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"/>
          <p:cNvSpPr/>
          <p:nvPr/>
        </p:nvSpPr>
        <p:spPr>
          <a:xfrm>
            <a:off x="684360" y="3333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вторская программа Лекомцевой Елены Юрьевн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Мнемотехника – метод наглядного моделирования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383ad"/>
                </a:solidFill>
                <a:latin typeface="Times New Roman"/>
              </a:rPr>
              <a:t>Мнемотаблицы – это схемы, в которые заложена определенная информация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slow" advTm="86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176"/>
                </a:solidFill>
                <a:latin typeface="Times New Roman"/>
              </a:rPr>
              <a:t>Нетрадиционные методы обучения: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383ad"/>
                </a:solidFill>
                <a:latin typeface="Times New Roman"/>
              </a:rPr>
              <a:t>Метод аналогий;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383ad"/>
                </a:solidFill>
                <a:latin typeface="Times New Roman"/>
              </a:rPr>
              <a:t>Моделирование сказки;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383ad"/>
                </a:solidFill>
                <a:latin typeface="Times New Roman"/>
              </a:rPr>
              <a:t>Метод мнемотехники.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slow" advTm="104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1187280" y="2349360"/>
            <a:ext cx="936720" cy="93528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692360" y="3284640"/>
            <a:ext cx="0" cy="15843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899640" y="3716280"/>
            <a:ext cx="792360" cy="5032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92360" y="3716280"/>
            <a:ext cx="863640" cy="4320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1042920" y="4869000"/>
            <a:ext cx="649440" cy="7207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692360" y="4869000"/>
            <a:ext cx="718920" cy="64764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356000" y="3357720"/>
            <a:ext cx="0" cy="15840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 flipV="1">
            <a:off x="3492000" y="3429000"/>
            <a:ext cx="863640" cy="5047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4356000" y="3357720"/>
            <a:ext cx="863640" cy="5760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3635280" y="4941720"/>
            <a:ext cx="720720" cy="7192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356000" y="4941720"/>
            <a:ext cx="792360" cy="5763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740720" y="3500280"/>
            <a:ext cx="0" cy="13687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 flipV="1">
            <a:off x="7236000" y="3860280"/>
            <a:ext cx="504720" cy="730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7740720" y="3860280"/>
            <a:ext cx="647640" cy="730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7236000" y="4869000"/>
            <a:ext cx="504720" cy="43164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740720" y="4869000"/>
            <a:ext cx="647640" cy="7272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42472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383ad"/>
                </a:solidFill>
                <a:latin typeface="Times New Roman"/>
              </a:rPr>
              <a:t>Метод маленьких человечков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Твёрдый                   Жидкий               Газообразный                  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человечек                человечек                человечек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851280" y="2421000"/>
            <a:ext cx="914400" cy="9367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236000" y="2565360"/>
            <a:ext cx="934920" cy="93492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 flipV="1">
            <a:off x="6516720" y="5084640"/>
            <a:ext cx="719280" cy="2160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8388360" y="4941720"/>
            <a:ext cx="0" cy="5032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6659280" y="3860640"/>
            <a:ext cx="576360" cy="36036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8388360" y="3284640"/>
            <a:ext cx="360360" cy="5760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5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35344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383ad"/>
                </a:solidFill>
                <a:latin typeface="Times New Roman"/>
              </a:rPr>
              <a:t>Коллажи;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383ad"/>
                </a:solidFill>
                <a:latin typeface="Times New Roman"/>
              </a:rPr>
              <a:t>Коллаж из сказок;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383ad"/>
                </a:solidFill>
                <a:latin typeface="Times New Roman"/>
              </a:rPr>
              <a:t>Метод придумывания новых названий к известным сказкам.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slow" advTm="40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7138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383ad"/>
                </a:solidFill>
                <a:latin typeface="Times New Roman"/>
              </a:rPr>
              <a:t>Элементы ТРИЗ: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8383a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383ad"/>
                </a:solidFill>
                <a:latin typeface="Times New Roman"/>
              </a:rPr>
              <a:t>Игра «Хорошо-плохо»;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8383a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383ad"/>
                </a:solidFill>
                <a:latin typeface="Times New Roman"/>
              </a:rPr>
              <a:t>Постановка проблемного вопроса;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8383a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383ad"/>
                </a:solidFill>
                <a:latin typeface="Times New Roman"/>
              </a:rPr>
              <a:t>Речевая зарядка;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8383a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383ad"/>
                </a:solidFill>
                <a:latin typeface="Times New Roman"/>
              </a:rPr>
              <a:t>Артикуляционная гимнастика.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 spd="slow" advTm="203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ы работы с родителя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Ежедневные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Беседы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Индивидуальные беседы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Индивидуальные консультации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Групповые консультации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екомендации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Еженедельные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стный журнал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апка-передвижка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исьменные консультации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 advTm="41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жемесячны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ыставка методической литературы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ыставка совместных работ детей и родителей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«круглый» стол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Открытые занятия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роки доброты, семейного досуга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азвлечения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раздники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Мини-газеты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slow" advTm="9000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7885080" cy="59770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7885080" cy="56278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7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58560" y="1412640"/>
            <a:ext cx="6870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Тема: «Развитие речи детей через ознакомление со сказками с помощью мнемотехники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27000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7885080" cy="59770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7812000" cy="57610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7885080" cy="5638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7885080" cy="597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Лариса Борисовна Фесюкова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7777440" cy="4896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«Дети становятся лучше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ли хуже не сами по себе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 в зависимости от того, что происходит с нами. Лучше становимся мы – лучше становятся и дети. Не надо воспитывать детей – становитесь лучше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4" name=""/>
          <p:cNvGrpSpPr/>
          <p:nvPr/>
        </p:nvGrpSpPr>
        <p:grpSpPr>
          <a:xfrm>
            <a:off x="251280" y="765720"/>
            <a:ext cx="8641080" cy="5254560"/>
            <a:chOff x="251280" y="765720"/>
            <a:chExt cx="8641080" cy="5254560"/>
          </a:xfrm>
        </p:grpSpPr>
        <p:cxnSp>
          <p:nvCxnSpPr>
            <p:cNvPr id="915" name="_s158766"/>
            <p:cNvCxnSpPr>
              <a:stCxn id="916" idx="0"/>
              <a:endCxn id="917" idx="2"/>
            </p:cNvCxnSpPr>
            <p:nvPr/>
          </p:nvCxnSpPr>
          <p:spPr>
            <a:xfrm flipV="1" rot="16200000">
              <a:off x="5655960" y="723960"/>
              <a:ext cx="605160" cy="3131640"/>
            </a:xfrm>
            <a:prstGeom prst="bentConnector3">
              <a:avLst>
                <a:gd name="adj1" fmla="val 188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8" name="_s158765"/>
            <p:cNvCxnSpPr>
              <a:stCxn id="919" idx="0"/>
              <a:endCxn id="917" idx="2"/>
            </p:cNvCxnSpPr>
            <p:nvPr/>
          </p:nvCxnSpPr>
          <p:spPr>
            <a:xfrm flipH="1" flipV="1" rot="5400000">
              <a:off x="4072320" y="2271240"/>
              <a:ext cx="605160" cy="37440"/>
            </a:xfrm>
            <a:prstGeom prst="bentConnector3">
              <a:avLst>
                <a:gd name="adj1" fmla="val 188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0" name="_s158764"/>
            <p:cNvCxnSpPr>
              <a:stCxn id="921" idx="0"/>
              <a:endCxn id="917" idx="2"/>
            </p:cNvCxnSpPr>
            <p:nvPr/>
          </p:nvCxnSpPr>
          <p:spPr>
            <a:xfrm flipH="1" flipV="1" rot="5400000">
              <a:off x="2595960" y="794880"/>
              <a:ext cx="605160" cy="2989800"/>
            </a:xfrm>
            <a:prstGeom prst="bentConnector3">
              <a:avLst>
                <a:gd name="adj1" fmla="val 188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7" name="_s158760"/>
            <p:cNvSpPr/>
            <p:nvPr/>
          </p:nvSpPr>
          <p:spPr>
            <a:xfrm>
              <a:off x="2194560" y="765720"/>
              <a:ext cx="4392360" cy="12218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55800" bIns="55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mic Sans MS"/>
                </a:rPr>
                <a:t>Развитие реч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_s158761"/>
            <p:cNvSpPr/>
            <p:nvPr/>
          </p:nvSpPr>
          <p:spPr>
            <a:xfrm>
              <a:off x="251280" y="2592360"/>
              <a:ext cx="2305080" cy="3355920"/>
            </a:xfrm>
            <a:custGeom>
              <a:avLst/>
              <a:gdLst>
                <a:gd name="textAreaLeft" fmla="*/ 112320 w 2305080"/>
                <a:gd name="textAreaRight" fmla="*/ 2192760 w 2305080"/>
                <a:gd name="textAreaTop" fmla="*/ 112320 h 3355920"/>
                <a:gd name="textAreaBottom" fmla="*/ 3243600 h 3355920"/>
              </a:gdLst>
              <a:ahLst/>
              <a:rect l="textAreaLeft" t="textAreaTop" r="textAreaRight" b="textAreaBottom"/>
              <a:pathLst>
                <a:path w="21600" h="31445">
                  <a:moveTo>
                    <a:pt x="3600" y="0"/>
                  </a:moveTo>
                  <a:arcTo wR="3600" hR="3600" stAng="16200000" swAng="-5400000"/>
                  <a:lnTo>
                    <a:pt x="0" y="27845"/>
                  </a:lnTo>
                  <a:arcTo wR="3600" hR="3600" stAng="10800000" swAng="-5400000"/>
                  <a:lnTo>
                    <a:pt x="18000" y="314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55800" bIns="55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связано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с развитием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мышлени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_s158762"/>
            <p:cNvSpPr/>
            <p:nvPr/>
          </p:nvSpPr>
          <p:spPr>
            <a:xfrm>
              <a:off x="2772000" y="2592360"/>
              <a:ext cx="3168000" cy="3427920"/>
            </a:xfrm>
            <a:custGeom>
              <a:avLst/>
              <a:gdLst>
                <a:gd name="textAreaLeft" fmla="*/ 154440 w 3168000"/>
                <a:gd name="textAreaRight" fmla="*/ 3013560 w 3168000"/>
                <a:gd name="textAreaTop" fmla="*/ 154440 h 3427920"/>
                <a:gd name="textAreaBottom" fmla="*/ 3273480 h 3427920"/>
              </a:gdLst>
              <a:ahLst/>
              <a:rect l="textAreaLeft" t="textAreaTop" r="textAreaRight" b="textAreaBottom"/>
              <a:pathLst>
                <a:path w="21600" h="23372">
                  <a:moveTo>
                    <a:pt x="3600" y="0"/>
                  </a:moveTo>
                  <a:arcTo wR="3600" hR="3600" stAng="16200000" swAng="-5400000"/>
                  <a:lnTo>
                    <a:pt x="0" y="19772"/>
                  </a:lnTo>
                  <a:arcTo wR="3600" hR="3600" stAng="10800000" swAng="-5400000"/>
                  <a:lnTo>
                    <a:pt x="18000" y="233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55800" bIns="55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помогает определя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уровни умственного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эстетического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эмоциональн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состояния ребён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_s158763"/>
            <p:cNvSpPr/>
            <p:nvPr/>
          </p:nvSpPr>
          <p:spPr>
            <a:xfrm>
              <a:off x="6156000" y="2592360"/>
              <a:ext cx="2736360" cy="3355920"/>
            </a:xfrm>
            <a:custGeom>
              <a:avLst/>
              <a:gdLst>
                <a:gd name="textAreaLeft" fmla="*/ 133560 w 2736360"/>
                <a:gd name="textAreaRight" fmla="*/ 2602800 w 2736360"/>
                <a:gd name="textAreaTop" fmla="*/ 133560 h 3355920"/>
                <a:gd name="textAreaBottom" fmla="*/ 3222360 h 3355920"/>
              </a:gdLst>
              <a:ahLst/>
              <a:rect l="textAreaLeft" t="textAreaTop" r="textAreaRight" b="textAreaBottom"/>
              <a:pathLst>
                <a:path w="21600" h="26490">
                  <a:moveTo>
                    <a:pt x="3600" y="0"/>
                  </a:moveTo>
                  <a:arcTo wR="3600" hR="3600" stAng="16200000" swAng="-5400000"/>
                  <a:lnTo>
                    <a:pt x="0" y="22890"/>
                  </a:lnTo>
                  <a:arcTo wR="3600" hR="3600" stAng="10800000" swAng="-5400000"/>
                  <a:lnTo>
                    <a:pt x="18000" y="264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55800" bIns="55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создает услов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для нравственн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воспита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 advTm="42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2881440" cy="417672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2"/>
          <a:stretch/>
        </p:blipFill>
        <p:spPr>
          <a:xfrm>
            <a:off x="3132000" y="1700280"/>
            <a:ext cx="2952720" cy="396072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3"/>
          <a:stretch/>
        </p:blipFill>
        <p:spPr>
          <a:xfrm>
            <a:off x="6156360" y="2205000"/>
            <a:ext cx="2879640" cy="3959280"/>
          </a:xfrm>
          <a:prstGeom prst="rect">
            <a:avLst/>
          </a:prstGeom>
          <a:ln w="0">
            <a:noFill/>
          </a:ln>
        </p:spPr>
      </p:pic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33"/>
                </a:solidFill>
                <a:latin typeface="Garamond"/>
              </a:rPr>
              <a:t>Используемая литература: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 spd="slow" advTm="18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" descr=""/>
          <p:cNvPicPr/>
          <p:nvPr/>
        </p:nvPicPr>
        <p:blipFill>
          <a:blip r:embed="rId1"/>
          <a:stretch/>
        </p:blipFill>
        <p:spPr>
          <a:xfrm>
            <a:off x="4932360" y="1052640"/>
            <a:ext cx="3887640" cy="504036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81636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6840" y="1844640"/>
            <a:ext cx="8147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«Развитие речи детей дошкольного возраста с помощью мнемотаблиц через ознакомление со сказками»</a:t>
            </a:r>
            <a:br>
              <a:rPr sz="3400"/>
            </a:b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Цель программы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звитие речи у детей через ознакомление со сказками с помощью мнемотехн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"/>
          <p:cNvSpPr/>
          <p:nvPr/>
        </p:nvSpPr>
        <p:spPr>
          <a:xfrm>
            <a:off x="684360" y="3333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вторская программа Лекомцевой Елены Юрьевн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дачи программы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Обучающи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ить детей рассказыванию знакомой сказки с опорой на наглядность (мнемодорожку, мнемотаблицу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ить моделированию сказки, составлению нового сюжета знакомой сказк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разовывать множественное число существительных, слова с уменьшительно-ласкательным значением, подбирать синонимы, антонимы, однокоренные слов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вивать умение составлять письмо, телеграмму, записк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ить строить модель любого вещест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41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звивающи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азвитие познавательных психических процессов: памяти, внимания, мышления, умственной активности, наблюдательности, сообразительност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овершенствовать развитие коммуникативных умений и навыков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ормирование умения сравнивать, выделять существенные признак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4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спитательны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оспитание любви к народным сказкам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овершенствовать эмоциональную сферу детей; умение сопереживать и понимать эмоциональное состояние другого человека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оспитание добрых чувств, чувства дружбы, коллективизма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вивать любовь к добру (не проходить мимо чужой беды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оспитывать желание с интересом и внимательно слушать чтение литературного произведе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4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11-16T18:07:43Z</dcterms:modified>
  <cp:revision>18</cp:revision>
  <dc:subject/>
  <dc:title>PowerPoint Presentation</dc:title>
</cp:coreProperties>
</file>