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F6C-06CB-488B-8481-D4717B5A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508-A737-4846-A14C-1EA3C4CB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E3EA9-43E6-4874-B466-8E26947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85824-DB09-4D03-A83B-A32885D4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BDECF-25E9-4F0C-AB2D-0FE85A22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3D379-985B-43D6-9365-2B80C759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8AEA8-996A-41D0-B54E-208FC57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CC50C-9483-4E76-96B8-15A4F031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CFDFE-58A0-4699-8705-19EE8A1F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DD963-82B6-45A6-B746-51C326F9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5A65E-28A5-4AF8-8D41-B135658A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F7837-0E2A-4218-AF39-A78D1342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6D7-B598-4F9F-8701-822CB181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62A90-091A-4C3C-9897-E16B3445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935A6-FDD8-4CE0-A5C0-335B64C7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80915-16C5-42D5-BA90-33E223FA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3D771-95F4-4973-8A6B-54942F9C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0B4A0-89FE-4C4C-A687-F76070E7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BE15A-5E58-40C4-BB9C-D532CC6F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F1698-4A25-4D1E-B042-3C4B35B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03F52-6E53-4849-B528-CDBAA4A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8EB12-4BE9-4047-AD36-53FF8008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CC2D5-E553-43CD-8933-CF55A5FE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C04-C39E-465E-9D4B-D3927163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5A6EF-3390-4516-BDBA-5F7E71A1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57C70-39AC-4E32-B9D8-4D5D410E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73B51-FDCF-4AE9-B3CC-E3EA248B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2861C-DFE7-403D-970C-FB99405A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D4ACC-83E6-4B76-9C19-B0D43E69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EB667-6553-45D3-8E1C-85D4A5E3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ABCA0-416C-4A54-888C-C7A775F1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78F2A-F98C-4993-B0FB-EC32B98A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762A3-F25F-4C25-AB8D-4E23420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EBFA4-6E48-4637-995A-72FD429E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9B53-6D94-4E1C-A18D-6278BAB6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D6DCE-2F58-4B57-8B5C-1158895C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7055E-5B6A-4E1E-98C6-539CD028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0A84-31ED-405E-A075-DBF4505C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67168-3799-4261-B3AA-FD48904D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39BB2-AD59-4514-9419-18D9EFD6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65A78-ABC1-436C-AF2F-4360286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B489D-C878-4467-BCCE-296DF991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82544-803B-4F56-A977-E3DB4FCD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F8E60-C7A0-4961-BA66-85C62F84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B1238-F413-4192-9438-5593210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7DDA-C5C0-4863-9C4B-969B444A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A73CA-F662-43F1-80F8-A6055EC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81732-76C2-4A05-88CB-5F93E662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FBACB-E0CB-4DCD-9FB3-2889D7C8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E1CDE-1ED1-4FA6-8263-4C94D942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F5B21-6D2D-4D7A-9BCD-1FF6BA8A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D8E2-AD5E-4634-9EE4-85207655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DC82-CFD0-43BA-B7BE-8C2FC0CB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5E0A-E16E-46A7-9734-30F6F653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1725-EB38-4170-A834-93B7838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3C85-D14C-4E65-B1EA-F2147EC9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84E-563F-4009-B9BF-6D53A81E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BF49-0543-4559-A5F4-D7ABF9A9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02F8-D95D-4C1B-9A58-9515C99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FAA4-031C-4D3D-AE1F-F9024758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9AE4-716E-4910-87D4-A48E9E4F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7801-0405-47EE-AC12-11498950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23D2-DBB7-4616-9C2A-76EF132F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08B4-E72C-44AF-96AD-1BDB6172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6DA0-7ECB-4E04-9310-1E6D120E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6FB4-A325-4681-A81D-C64D5F91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90A9-C954-4864-948E-FAE7A254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122-30FA-49BA-8601-0C81A76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8D7F-3C8C-4201-900A-4704345C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B067-A279-4AEF-BEAB-89F2278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2D62-42F4-48D4-9ABF-F491B8D7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AACA-39CA-4A40-A897-EA268E6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90D7-C541-4E4B-A958-3B65F61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8981-5933-49E4-86B1-40EAE46B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01D8-C82E-486F-81A7-1C2B928C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AFE7-6FDB-449A-B321-A34D679D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98AD-ED4D-463F-9FAD-202FAE78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0317-CBA8-4221-A627-0D2408DD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CC8-C1D8-4AF3-9D81-FFD0B274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4F78-8097-4E27-8FA9-A8CCF4C6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9FAE-B875-46F2-9977-281C82A1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F4BDE-5052-472D-80FF-BBB17C5F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D1B2-0573-4ACB-95B5-8A8DD2E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F75D-AABE-491E-ADD2-A54A3570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EE50F-6D57-48EC-B528-CB9F8B7E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348C-CB6C-4C57-A539-5115994C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7BD10-05F0-4601-B969-FFBEC973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7E07-33FA-471A-AE4A-5A748BFD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13A23-DCB9-4460-97D0-BA8F4E2B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B0D-9278-4CB5-8BCF-39D1E3DE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C8EF-96F2-4AA4-8493-40E033B4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758B6-2CE5-4701-96A0-A7C8484C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5ABF6-6829-49EE-8AEC-348F7CC4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094E-3199-4739-A923-4A115DB2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73E0-5E28-43A7-9B4A-BAD117AC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6BFF7-FFAB-43C1-BD06-E336D08D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B2A26-6BBB-435C-A226-49547A5A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0404B-EA75-4B55-8B1C-57C34FD8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6A0F-5118-4BEF-9D52-ED0FBAD7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8A2AD-5115-4E99-AFA5-3CEA73AB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A5C-4410-42DD-BFA8-8E2B9D3F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6395-9646-4AB2-A2D8-E1FF4F5D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138F4-28F2-4C36-99B0-EB1997A1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8E46E-4E6F-43F6-8703-46F209AC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E2C24-8869-4DFC-9294-2EBA420E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3F770-3BDB-4616-AF35-5196285C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BD959-DD62-4AF8-A64C-127AF059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C4D5C-06C2-4EBF-AEF8-ADE59A95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E06F3-7E22-4E10-B3FA-EC05480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BEEB-1B24-48BC-BF34-F27D909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067C5-BBB9-47CD-AB22-AF5D192F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EB7-A968-499F-AB17-AAF9B6D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6C07-7DEB-46C6-8968-B22E646D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099D3-76AE-4987-89F6-2631BCE0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2E6E9-116B-4A65-8C34-9B93BB9A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780DD-709C-4908-B6A4-2E7582AE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AC443-6261-4653-8D8E-98D78673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28311-D295-4B39-815B-6CBDE633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2D94-FD3F-45E1-9AAD-3E238D09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C3383-E2A3-4860-A862-E428000D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96F2-C6D1-46DB-B791-B692B273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4AD6E-DBA4-48E4-89F5-8F5D5C73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174-078A-41E3-8EDB-41A18B53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7F9FD-2C96-486B-A3B0-43ECF81D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EBF4F-DEDE-4F64-80C2-26DF90BF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64D50-24D5-4157-AB52-683DC491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90724-E8ED-4091-A964-8C0D8A8E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F82BD-D6F8-4E0A-8E63-C8466EC6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4D6B9-1777-49FD-AF9E-0500A380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69FD-0912-4CF6-88DE-410DF856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EC562-35BC-4369-B26F-2EC64809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E3A9E-38D3-4232-82CF-E1E5E289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95F26-686C-48D0-AC82-BB943131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4D7-C671-4117-9D89-E91E6DD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C0D1A-9695-4F94-B5C4-851EEA4B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678C3-B1E2-4E30-888E-58B8732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38145-452A-44A9-A80F-B7948D7B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1F91B-4162-43DD-81EC-2CE90D72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F2FD9-DC87-4FB3-8516-8DE98A74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8AE38-4737-472C-B4D8-4BAD2E62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CE886-091E-4D2A-ACFB-3F34E671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CF8E1-46BE-43F7-BD54-8E9746CF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7E794-2012-4C81-A845-B04D1096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AC712-B3F0-4F82-83EB-7CAF0985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C766-E933-4816-A8F4-A131CA43E18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28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37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767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5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6" name="PlaceHolder 3"/>
          <p:cNvSpPr>
            <a:spLocks noGrp="1"/>
          </p:cNvSpPr>
          <p:nvPr>
            <p:ph type="ftr" idx="2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sldNum" idx="3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B5B1-9C20-4F36-B2A6-1DC660FA36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825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1C3D-B22E-40B9-B672-386ADD1F3F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869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ftr" idx="3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C1A3-5F27-4F3D-A9B4-24C62FE2E3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F03E-C7B1-47E2-97FC-C3B2285F1AB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A353-04E2-44C6-9C5E-8894CAF6CD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B38B-BE86-4E5E-BB9C-3B7D56363F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8BC0-3619-445D-93FE-321C3CF77A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36B6-48DC-4F5E-B79C-D11D29D385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DD1C-186C-4566-A548-2937B3B2E5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32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1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59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FAFE-B0C0-4B66-B7D8-28E5BBF15A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0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664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25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26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27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7D18-0844-4E28-B922-CEE063C2A7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Лекомцева Елена Юрьевна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атель высшей квалификационной категории МАДОУ ЦРР – д/с № 21 «Алёнка» г. Гурьев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84464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«Развитие речи детей дошкольного возраста с помощью мнемотаблиц через ознакомление со сказками»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"/>
          <p:cNvSpPr/>
          <p:nvPr/>
        </p:nvSpPr>
        <p:spPr>
          <a:xfrm>
            <a:off x="684360" y="333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вторская программа Лекомцевой Елены Юрьев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Мнемотехника – метод наглядного моделирования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383ad"/>
                </a:solidFill>
                <a:latin typeface="Times New Roman"/>
              </a:rPr>
              <a:t>Мнемотаблицы – это схемы, в которые заложена определенная информация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 advTm="86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Нетрадиционные методы обуче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Метод аналогий;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Моделирование сказки;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Метод мнемотехники.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 advTm="104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187280" y="2349360"/>
            <a:ext cx="936720" cy="9352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92360" y="3284640"/>
            <a:ext cx="0" cy="15843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899640" y="3716280"/>
            <a:ext cx="792360" cy="503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92360" y="3716280"/>
            <a:ext cx="863640" cy="432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1042920" y="4869000"/>
            <a:ext cx="649440" cy="7207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92360" y="4869000"/>
            <a:ext cx="718920" cy="6476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6000" y="3357720"/>
            <a:ext cx="0" cy="1584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3492000" y="3429000"/>
            <a:ext cx="863640" cy="5047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356000" y="3357720"/>
            <a:ext cx="863640" cy="57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635280" y="4941720"/>
            <a:ext cx="720720" cy="719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356000" y="4941720"/>
            <a:ext cx="792360" cy="5763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740720" y="3500280"/>
            <a:ext cx="0" cy="13687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7236000" y="3860280"/>
            <a:ext cx="504720" cy="730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7740720" y="3860280"/>
            <a:ext cx="647640" cy="730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7236000" y="4869000"/>
            <a:ext cx="504720" cy="4316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740720" y="4869000"/>
            <a:ext cx="647640" cy="727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4247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Метод маленьких человечков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Твёрдый                   Жидкий               Газообразный              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человечек                человечек                человечек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51280" y="2421000"/>
            <a:ext cx="914400" cy="9367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236000" y="2565360"/>
            <a:ext cx="934920" cy="9349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 flipV="1">
            <a:off x="6516720" y="5084640"/>
            <a:ext cx="719280" cy="21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88360" y="4941720"/>
            <a:ext cx="0" cy="503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659280" y="3860640"/>
            <a:ext cx="576360" cy="3603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8388360" y="3284640"/>
            <a:ext cx="360360" cy="57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5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Коллажи;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Коллаж из сказок;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Метод придумывания новых названий к известным сказкам.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 advTm="4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Элементы ТРИЗ: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383a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Игра «Хорошо-плохо»;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383a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Постановка проблемного вопроса;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383a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Речевая зарядка;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383a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Артикуляционная гимнастика.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 advTm="203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ы работы с родителя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жедневные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се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дивидуальные бесе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дивидуальные консульт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рупповые консульт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комендаци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женедельные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стный журна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апка-передвижк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сьменные консультаци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 advTm="41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жемесячны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ыставка методической литерату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ыставка совместных работ детей и родителей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«круглый» сто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ткрытые занят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роки доброты, семейного досуг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влеч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раздник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и-газет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 advTm="9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8850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7885080" cy="56278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7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6870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Тема: «Развитие речи детей через ознакомление со сказками с помощью мнемотехники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7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78850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7812000" cy="57610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788508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88508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Лариса Борисовна Фесюков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7777440" cy="489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Дети становятся лучш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ли хуже не сами по себе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в зависимости от того, что происходит с нами. Лучше становимся мы – лучше становятся и дети. Не надо воспитывать детей – становитесь лучше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"/>
          <p:cNvGrpSpPr/>
          <p:nvPr/>
        </p:nvGrpSpPr>
        <p:grpSpPr>
          <a:xfrm>
            <a:off x="251280" y="765720"/>
            <a:ext cx="8641080" cy="5254560"/>
            <a:chOff x="251280" y="765720"/>
            <a:chExt cx="8641080" cy="5254560"/>
          </a:xfrm>
        </p:grpSpPr>
        <p:cxnSp>
          <p:nvCxnSpPr>
            <p:cNvPr id="915" name="_s158766"/>
            <p:cNvCxnSpPr>
              <a:stCxn id="916" idx="0"/>
              <a:endCxn id="917" idx="2"/>
            </p:cNvCxnSpPr>
            <p:nvPr/>
          </p:nvCxnSpPr>
          <p:spPr>
            <a:xfrm flipV="1" rot="16200000">
              <a:off x="5655960" y="723960"/>
              <a:ext cx="605160" cy="3131640"/>
            </a:xfrm>
            <a:prstGeom prst="bentConnector3">
              <a:avLst>
                <a:gd name="adj1" fmla="val 188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8" name="_s158765"/>
            <p:cNvCxnSpPr>
              <a:stCxn id="919" idx="0"/>
              <a:endCxn id="917" idx="2"/>
            </p:cNvCxnSpPr>
            <p:nvPr/>
          </p:nvCxnSpPr>
          <p:spPr>
            <a:xfrm flipH="1" flipV="1" rot="5400000">
              <a:off x="4072320" y="2271240"/>
              <a:ext cx="605160" cy="37440"/>
            </a:xfrm>
            <a:prstGeom prst="bentConnector3">
              <a:avLst>
                <a:gd name="adj1" fmla="val 188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0" name="_s158764"/>
            <p:cNvCxnSpPr>
              <a:stCxn id="921" idx="0"/>
              <a:endCxn id="917" idx="2"/>
            </p:cNvCxnSpPr>
            <p:nvPr/>
          </p:nvCxnSpPr>
          <p:spPr>
            <a:xfrm flipH="1" flipV="1" rot="5400000">
              <a:off x="2595960" y="794880"/>
              <a:ext cx="605160" cy="2989800"/>
            </a:xfrm>
            <a:prstGeom prst="bentConnector3">
              <a:avLst>
                <a:gd name="adj1" fmla="val 188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7" name="_s158760"/>
            <p:cNvSpPr/>
            <p:nvPr/>
          </p:nvSpPr>
          <p:spPr>
            <a:xfrm>
              <a:off x="2194560" y="765720"/>
              <a:ext cx="4392360" cy="1221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Развитие реч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_s158761"/>
            <p:cNvSpPr/>
            <p:nvPr/>
          </p:nvSpPr>
          <p:spPr>
            <a:xfrm>
              <a:off x="251280" y="2592360"/>
              <a:ext cx="2305080" cy="3355920"/>
            </a:xfrm>
            <a:custGeom>
              <a:avLst/>
              <a:gdLst>
                <a:gd name="textAreaLeft" fmla="*/ 112320 w 2305080"/>
                <a:gd name="textAreaRight" fmla="*/ 2192760 w 2305080"/>
                <a:gd name="textAreaTop" fmla="*/ 112320 h 3355920"/>
                <a:gd name="textAreaBottom" fmla="*/ 3243600 h 3355920"/>
              </a:gdLst>
              <a:ahLst/>
              <a:rect l="textAreaLeft" t="textAreaTop" r="textAreaRight" b="textAreaBottom"/>
              <a:pathLst>
                <a:path w="21600" h="31445">
                  <a:moveTo>
                    <a:pt x="3600" y="0"/>
                  </a:moveTo>
                  <a:arcTo wR="3600" hR="3600" stAng="16200000" swAng="-5400000"/>
                  <a:lnTo>
                    <a:pt x="0" y="27845"/>
                  </a:lnTo>
                  <a:arcTo wR="3600" hR="3600" stAng="10800000" swAng="-5400000"/>
                  <a:lnTo>
                    <a:pt x="18000" y="31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связано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с развитием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мышле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_s158762"/>
            <p:cNvSpPr/>
            <p:nvPr/>
          </p:nvSpPr>
          <p:spPr>
            <a:xfrm>
              <a:off x="2772000" y="2592360"/>
              <a:ext cx="3168000" cy="3427920"/>
            </a:xfrm>
            <a:custGeom>
              <a:avLst/>
              <a:gdLst>
                <a:gd name="textAreaLeft" fmla="*/ 154440 w 3168000"/>
                <a:gd name="textAreaRight" fmla="*/ 3013560 w 3168000"/>
                <a:gd name="textAreaTop" fmla="*/ 154440 h 3427920"/>
                <a:gd name="textAreaBottom" fmla="*/ 3273480 h 3427920"/>
              </a:gdLst>
              <a:ahLst/>
              <a:rect l="textAreaLeft" t="textAreaTop" r="textAreaRight" b="textAreaBottom"/>
              <a:pathLst>
                <a:path w="21600" h="23372">
                  <a:moveTo>
                    <a:pt x="3600" y="0"/>
                  </a:moveTo>
                  <a:arcTo wR="3600" hR="3600" stAng="16200000" swAng="-5400000"/>
                  <a:lnTo>
                    <a:pt x="0" y="19772"/>
                  </a:lnTo>
                  <a:arcTo wR="3600" hR="3600" stAng="10800000" swAng="-5400000"/>
                  <a:lnTo>
                    <a:pt x="18000" y="23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помогает определя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уровни умственн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эстетическог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эмоциональ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состояния ребён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_s158763"/>
            <p:cNvSpPr/>
            <p:nvPr/>
          </p:nvSpPr>
          <p:spPr>
            <a:xfrm>
              <a:off x="6156000" y="2592360"/>
              <a:ext cx="2736360" cy="3355920"/>
            </a:xfrm>
            <a:custGeom>
              <a:avLst/>
              <a:gdLst>
                <a:gd name="textAreaLeft" fmla="*/ 133560 w 2736360"/>
                <a:gd name="textAreaRight" fmla="*/ 2602800 w 2736360"/>
                <a:gd name="textAreaTop" fmla="*/ 133560 h 3355920"/>
                <a:gd name="textAreaBottom" fmla="*/ 3222360 h 3355920"/>
              </a:gdLst>
              <a:ahLst/>
              <a:rect l="textAreaLeft" t="textAreaTop" r="textAreaRight" b="textAreaBottom"/>
              <a:pathLst>
                <a:path w="21600" h="26490">
                  <a:moveTo>
                    <a:pt x="3600" y="0"/>
                  </a:moveTo>
                  <a:arcTo wR="3600" hR="3600" stAng="16200000" swAng="-5400000"/>
                  <a:lnTo>
                    <a:pt x="0" y="22890"/>
                  </a:lnTo>
                  <a:arcTo wR="3600" hR="3600" stAng="10800000" swAng="-5400000"/>
                  <a:lnTo>
                    <a:pt x="18000" y="264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создает усло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нравствен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воспит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42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881440" cy="41767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2952720" cy="39607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6156360" y="2205000"/>
            <a:ext cx="2879640" cy="395928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Используемая литература: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 advTm="18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3887640" cy="50403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8163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184464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«Развитие речи детей дошкольного возраста с помощью мнемотаблиц через ознакомление со сказками»</a:t>
            </a:r>
            <a:br>
              <a:rPr sz="34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Цель программ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звитие речи у детей через ознакомление со сказками с помощью мнемотехн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333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вторская программа Лекомцевой Елены Юрьев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чи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бучающ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ь детей рассказыванию знакомой сказки с опорой на наглядность (мнемодорожку, мнемотаблицу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ь моделированию сказки, составлению нового сюжета знакомой сказ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ывать множественное число существительных, слова с уменьшительно-ласкательным значением, подбирать синонимы, антонимы, однокоренные сл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вать умение составлять письмо, телеграмму, записк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ь строить модель любого ве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1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вивающ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витие познавательных психических процессов: памяти, внимания, мышления, умственной активности, наблюдательности, сообразитель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вершенствовать развитие коммуникативных умений и навык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ирование умения сравнивать, выделять существенные призна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4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спитательны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итание любви к народным сказка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вершенствовать эмоциональную сферу детей; умение сопереживать и понимать эмоциональное состояние другого человек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итание добрых чувств, чувства дружбы, коллективизм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вивать любовь к добру (не проходить мимо чужой беды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итывать желание с интересом и внимательно слушать чтение литературного произвед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4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11-16T18:07:43Z</dcterms:modified>
  <cp:revision>18</cp:revision>
  <dc:subject/>
  <dc:title>PowerPoint Presentation</dc:title>
</cp:coreProperties>
</file>