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7BF2-6F77-48E6-9CCB-9BF786D1D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CD36-81BF-4969-A0C1-7A59A155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CA20-9E91-45E5-9524-7ADDD021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6126-4A11-42ED-986A-E66313B2A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D141-7F10-4051-B292-C070BB029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8132-2897-456C-A9E1-D9461213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6166-A6F0-454A-A609-15F14750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F48C-0C21-4D36-B07C-7C90EBCB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5EF6-4276-4535-8755-29F05E62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0922-0BB6-4F19-9A57-7DC95B1F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EBFA-E8B2-4DA1-832C-81DB940D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96F9-D36C-499F-8386-A22D022F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3C21-9BEA-414E-859A-11291F08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C37D-971A-4932-9B16-961D0C09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666F-6DE4-4A1E-8D27-6EB81F0B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67C6-A8EA-43DA-80CE-6EB321CD3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5B25-8DA4-4185-B600-D93AAAA9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B212-CDAA-4A10-A619-8C4CE097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F40C-3F11-4F2B-A423-D3215807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9F60-F8DB-419E-8E27-B1B938AF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0D4E-4864-4D97-9694-B3E147F0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1403-5A4C-40CC-8865-8FC3C283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98B7-C730-4B3A-BCA9-44D5970A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46FA-18D0-44E4-B9D0-84A9B0C9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B8F8-B14D-477C-AD14-ABED609ACC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D6DF-C198-4159-8B53-230101DDEA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1143000"/>
            <a:ext cx="83822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Times New Roman"/>
              </a:rPr>
              <a:t>Консультация для родителей </a:t>
            </a:r>
            <a:br>
              <a:rPr sz="5400"/>
            </a:br>
            <a:r>
              <a:rPr b="1" lang="ru-RU" sz="5400" spc="-1" strike="noStrike">
                <a:solidFill>
                  <a:srgbClr val="ccecff"/>
                </a:solidFill>
                <a:latin typeface="Times New Roman"/>
              </a:rPr>
              <a:t>«Роль сказки в развитии и воспитании дошкольников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оль сказок в развити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детей заключается еще и в том, что она закладывает предпосылки критического мышления ребенка, учит понимать, что не все, что говорят взрослые, является 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«истиной в последней инстанции»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Но при этом важно понимать, что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казку нужно не просто рассказывать ребенк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а постоянно комментировать то, о чем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ассказывает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Не надо много слов, иногда достаточно мимики, интонации, тяжелого вздоха, покачивания головой. И тогда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казк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станет замечательным средством обучения малыша правилам безопас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тские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казк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их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оль в воспита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се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одител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имеющие детей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ошкольников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знают, как дети любят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казк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одители выходят из себ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читая в сотый раз одну и ту же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казк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которую ребенок знает наизусть. При этом пропуск куска текста вызывает негодующие крики 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ребенк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 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«Мама, а ты пропустила, как петушок звал котика на помощь!»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Что же это за феномен – любовь детей к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казк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и в чем заключается их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оль в воспитани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 Попробуем вместе разобраться в этом вопрос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чему дети любят сказ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мнению психологов, дети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ошкольног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возраста с трудом отличают реальность от вымысла, ведь вся их жизнь проходит в мире конкретных 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веще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вот кровать, игрушка, мама, молоко в чашке. Ребенок понимает, что есть вещи вне его поля 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зрен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например, дача или мамина работа. Но на дачу или мамину работу можно приехать, они существуют на самом деле. А где находится Солнечный город, в котором живет Незнайка или Волшебный лес, ребенку трудно представить. Поэтому волшебное действие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азк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происходит прямо в комнате, где мама читает эту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азк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И ребенок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спринимает сказку как реальност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например, просит не читать дальше, если ему страшно. Благодаря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азк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ребенок переживает, захватывающие приключения и совершает путешествия, не выходя из до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ит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речи и фантазии при помощи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каз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ение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казо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расширяет словарный запас ребенка и помогает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итию реч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Слушая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казк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ребенок знакомится с народным фольклором, запоминает пословицы и поговорки (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Не садись не в свои сани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 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Нет лучшего дружка, чем родная матушка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. Не случайно педагоги и логопеды применяют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казкотерапи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для занятий с детьми, имеющими задержки речевого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ит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казочные образы помогают развивать детскую фантази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Ставя себя на место положительного героя, ребенок может вступить в бой с врагом 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заросли крапивы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помощи волшебного меча 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палки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или отправиться на Марс в ракете из сдвинутых стульев. Психологи говорят, что фантазия помогает ребенку в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итии интеллект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поэтому фантазировать ребенку очень полез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тение сказки как вариант общения с родител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того чтобы ребенок внимательно и с удовольствием слушал чтение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казк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лучше всего выбрать время перед сном, когда ребенок устал и не будет вертеться, желая побегать и попрыгать. Чтение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казк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– это общение с ребенком через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казк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при котором мы соприкасаемся с внутренним миром ребенка. Чтение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казк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детям – это необходимая нравственная, духовная работа, которая не менее важна, чем питание и сон ребенка. Поэтому неправильно поступают те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одител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которые заменяют чтение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казк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просмотром мультиков или прослушиванием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казки в аудиозапис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язь любимого персонажа с характером реб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бор любимого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казочног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персонажа ребенком дает повод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дителям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уматься о детских проблемах и страхах. Например, если любимый герой – Гадкий Утенок, стоит задуматься и выяснить, не является ли ваш ребенок предметом нападок и насмешек в детском коллективе, не чувствует ли там себя одиноким, не таким как все. Если любимый герой Незнайка – это тоже повод задуматься, почему вашему ребенку нравится ленивый, глупый и неряшливый персонаж.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спитание детей сказками состоит в т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что нередко сами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дител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по ходу чтения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казки дают свою оценку сказочным героя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Например, говорят, что лиса хитрая, а волк простофиля, верит ей, или, наоборот, лиса умница, обманула глупого волка. Эти комментарии тоже очень влияют на нравственное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спита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детей и формирование у них системы ценност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беда добра над злом как важный воспитательный моме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оспитание детей сказками убеждает на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что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казк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являются для детей уроками нравственности.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казочны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герои наделены смелостью, красотой, трудолюбием, честностью, любовью к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один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казки показывают детя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что бывает, если герои обманывают или поступают не по совести. Из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казки ребенок узнае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что дружба помогает победить зло и что зло всегда бывает наказано. Благодаря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казк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ребенок узнает, что добро всегда сильнее зла, и это помогает ему в дальнейшей жизни идти дорогою добра и мыслить позитив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И нельзя без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казки нам прожить друзь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дь со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казко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проще верить в чуде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дь со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казкой легч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отыскать нам пу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маленькое сердце, дверцу распахнуть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много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споминани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из детства хороших и добрых, связано у нас именно со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казкам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где живут добрые и злые герои. При помощи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казочных герое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взрослые могут заинтересовать ребёнка, произвести на него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спитательны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эффект и даже решить какую-либо психологическую проблему. Чтение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казо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даёт очень много маленьким и взрослым, помогает им сблизиться духовно. Через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казк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легче объяснить малышу что такое 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хорошо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и что такое 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плохо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Ведь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казочны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сонажи бывают очень 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азным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добрыми и злыми, хитрыми и завистливыми, ласковыми и грубыми. С помощью таких персонажей мы можем показать детям, плохое и хорошее, как можно и нужно поступать, и как вовсе нельзя, в определённых жизненных ситуаци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азк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– это способ общения с малышом на понятном и доступном ему языке, это первые маленькие безопасные уроки жизни. В нашей работе с детьми младшего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ошкольного возраст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мы используем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азки очень част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так как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азк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являются неотъемлемым элементом в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спитании дете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Читая и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сказывая сказк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виваетс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внутренний мир ребёнка. Дети, которым с раннего детства читают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азк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быстрее начинают говорить.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азк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учат детей сравнивать, сопереживать, помогают формировать основы поведения и общения,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виваю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фантазию и воображение ребёнка, связную речь и мышление, внимание, память, мимику лица, жесты, а так же его творческий потенциал. Работая с маленькими детьми, мы очень часто использую русские народные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азк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которые не только читаем и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сказывае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но ещё и показываем с помощью кукольного театра – это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«Репка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Колобок»,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«Курочка ряба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«Маша и медведь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и т. д.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дь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казк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и внутренний мир ребёнка неотделимы друг от друга. Поэтому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каз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вляется необходимым этап в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витии дет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этапом который формирует запас жизненной прочности, или является некой библиотекой жизненных ситуаций. Мы очень рады, что в нашем детском саду неделя мая посвящена театрализованной деятельности, так как она близка и понятна ребенку, доставляет радость,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вива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ображение и фантазию, способствует творческому и речевому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витию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ребенка и формированию основы его личностной культу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спитательные возможности сказки огромн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ее тематика не ограничена и может удовлетворить любые интересы и желания ребенка. Участвуя в ней, дети знакомятся с окружающим миром — через образы, краски, звуки, музыку. Умело, поставленные вопросы побуждают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ошколят думат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анализировать, делать выводы и обобщения. В процессе работы над выразительностью реплик персонажей, собственных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казывани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активизируется словарь ребенка, совершенствуется звуковая культура речи. В результате ребенок познает мир умом и сердцем, выражая свое отношение к добру и злу; познает радость, связанную с преодолением трудностей общения, неуверенности в себ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дагоги и психологи отмечают неоценимую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оль сказок в развитии дете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казк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любима детьми всех возрастов, так как при ее прослушивании ребенок получает возможность стать энергетическим центром творческой деятельности. Он находится не просто в роли пассивного наблюдателя, а становится создателем своих собственных оригинальных образов и примеряет их на себя. Это позволяет малышу испытать себя на храбрость и стойкость, осознать добро и зло, выработать свой собственный стиль поведения в той или иной ситу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ль сказок в развит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детей младшего возраста трудно переоценить.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каз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ствует становлению мировоззрения ребенка и знакомит детей с простейшей моделью мироустройства, обогащает предметный и социальный опыт малыша, способствует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ити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комбинаторной способности ума. Не всегда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спитательное значение сказк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представлено открыто. В некоторых случаях, наоборот, даже может показаться, что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каз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несет в себе отрицательную смысловую нагрузку, пропагандирует жестокость, насилие, подавление личности. Это и колобок, съеденный лисой, и униженная Золушка, и выгнанный из собственного домика зайчик. Однако,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казк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с печальным окончанием для малышей вовсе не случайны. Из них ребенок получает представление о том, что дом – это защита, а внешний мир может быть опасным, и если ты еще мал и слаб, то туда до поры до времени тебе ходить одному не над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казк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представляя собой своеобразный ужастик, призвана насторожить малыша, заложить на основе базового доверия к миру еще и здоровую недоверчивость к чужим и сладким словам.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оспринимая сказк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ребенок начинает осознавать, что внешняя привлекательность, ласковые слова другого не могут быть ширмой, прячущей 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«гнилую»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душу.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казк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формирует фундамент безопасности для 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малыше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нельзя убегать от мамы, нельзя идти с чужим дядей, нельзя открывать дверь незнакомцам и т. 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0-11-16T09:04:1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