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B61D-C85F-439B-A16B-C4B710FFC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D904-90BC-4F6D-8077-8BE560088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A881-3AE2-44C5-A3D7-2ADEBC2FC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E7FC-7BB6-4083-8C13-13C571790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C4F83-3FF0-4E99-90D1-BADD9066C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E634C-F826-498A-949C-5E1846976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8C86F-A85C-41ED-A4FA-A7A277943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58B63-FE93-4AA5-8446-D6EF4E0C9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35B16-930B-474C-BF46-F74382CAE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01399-292D-4A58-938F-477473197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0DB51-6840-42B2-B748-56097B288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8101-1709-46BD-A1F6-603129CFE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5A0DD-D3C8-4BE4-9BF3-8A2790DF2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3374C-889C-497C-9F17-440AC9179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4C023-23F4-4DDE-9466-B2975EDDC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37263-F042-40E8-A6C2-BC82A3B9F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64C19-A793-481F-9D79-3DDE7877E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4E0E-A6C9-4E70-8B36-5156AEBF7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FDBC-B32E-4BC4-827E-0F57ECC6C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4EEC-5988-4223-B809-1DB392890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4789-3849-4485-AFD8-92D4D77C8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C06C-BDA5-47E4-9CDB-08BEFE3C9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BCF9-A077-4155-8850-6A547D35E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BE89-253E-4E95-86BA-978C09277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C61DF-46BE-45B2-81EF-ED1026CF99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C838A-3A41-47EF-8DD4-992B2F579D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52280" y="1143000"/>
            <a:ext cx="838224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ecff"/>
                </a:solidFill>
                <a:latin typeface="Times New Roman"/>
              </a:rPr>
              <a:t>Консультация для родителей </a:t>
            </a:r>
            <a:br>
              <a:rPr sz="5400"/>
            </a:br>
            <a:r>
              <a:rPr b="1" lang="ru-RU" sz="5400" spc="-1" strike="noStrike">
                <a:solidFill>
                  <a:srgbClr val="ccecff"/>
                </a:solidFill>
                <a:latin typeface="Times New Roman"/>
              </a:rPr>
              <a:t>«Роль сказки в развитии и воспитании дошкольников»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380880" y="45720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Роль сказок в развитии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детей заключается еще и в том, что она закладывает предпосылки критического мышления ребенка, учит понимать, что не все, что говорят взрослые, является 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«истиной в последней инстанции»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Но при этом важно понимать, что 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сказку нужно не просто рассказывать ребенку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а постоянно комментировать то, о чем 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рассказываете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Не надо много слов, иногда достаточно мимики, интонации, тяжелого вздоха, покачивания головой. И тогда 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сказка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станет замечательным средством обучения малыша правилам безопасност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533520" y="22824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етские 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сказки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их 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роль в воспитан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се 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родители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имеющие детей-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дошкольников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знают, как дети любят 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сказки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 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Родители выходят из себя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читая в сотый раз одну и ту же 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сказку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которую ребенок знает наизусть. При этом пропуск куска текста вызывает негодующие крики 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ребенка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 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«Мама, а ты пропустила, как петушок звал котика на помощь!»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Что же это за феномен – любовь детей к 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сказке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и в чем заключается их 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роль в воспитании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? Попробуем вместе разобраться в этом вопрос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533520" y="4572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очему дети любят сказки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 мнению психологов, дети 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дошкольного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возраста с трудом отличают реальность от вымысла, ведь вся их жизнь проходит в мире конкретных 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веще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вот кровать, игрушка, мама, молоко в чашке. Ребенок понимает, что есть вещи вне его поля 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зрени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например, дача или мамина работа. Но на дачу или мамину работу можно приехать, они существуют на самом деле. А где находится Солнечный город, в котором живет Незнайка или Волшебный лес, ребенку трудно представить. Поэтому волшебное действие 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казки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происходит прямо в комнате, где мама читает эту 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казку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И ребенок 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оспринимает сказку как реальность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например, просит не читать дальше, если ему страшно. Благодаря 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казке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ребенок переживает, захватывающие приключения и совершает путешествия, не выходя из дом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533520" y="30456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азвитие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речи и фантазии при помощи 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казо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тение 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казок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расширяет словарный запас ребенка и помогает 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азвитию реч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 Слушая 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казку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ребенок знакомится с народным фольклором, запоминает пословицы и поговорки (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«Не садись не в свои сани»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 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«Нет лучшего дружка, чем родная матушка»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). Не случайно педагоги и логопеды применяют 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казкотерапию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для занятий с детьми, имеющими задержки речевого 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азвития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казочные образы помогают развивать детскую фантазию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 Ставя себя на место положительного героя, ребенок может вступить в бой с врагом 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(заросли крапивы)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 помощи волшебного меча 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(палки)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или отправиться на Марс в ракете из сдвинутых стульев. Психологи говорят, что фантазия помогает ребенку в 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азвитии интеллект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поэтому фантазировать ребенку очень полезн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Чтение сказки как вариант общения с родителям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ля того чтобы ребенок внимательно и с удовольствием слушал чтение 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сказки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лучше всего выбрать время перед сном, когда ребенок устал и не будет вертеться, желая побегать и попрыгать. Чтение 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сказки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– это общение с ребенком через 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сказку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при котором мы соприкасаемся с внутренним миром ребенка. Чтение 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сказки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детям – это необходимая нравственная, духовная работа, которая не менее важна, чем питание и сон ребенка. Поэтому неправильно поступают те 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родители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которые заменяют чтение 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сказки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просмотром мультиков или прослушиванием 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сказки в аудиозаписи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вязь любимого персонажа с характером ребен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ыбор любимого 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казочного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персонажа ребенком дает повод 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одителям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думаться о детских проблемах и страхах. Например, если любимый герой – Гадкий Утенок, стоит задуматься и выяснить, не является ли ваш ребенок предметом нападок и насмешек в детском коллективе, не чувствует ли там себя одиноким, не таким как все. Если любимый герой Незнайка – это тоже повод задуматься, почему вашему ребенку нравится ленивый, глупый и неряшливый персонаж. 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оспитание детей сказками состоит в том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что нередко сами 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одител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по ходу чтения 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казки дают свою оценку сказочным героям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 Например, говорят, что лиса хитрая, а волк простофиля, верит ей, или, наоборот, лиса умница, обманула глупого волка. Эти комментарии тоже очень влияют на нравственное 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оспитание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детей и формирование у них системы ценносте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380880" y="2282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Победа добра над злом как важный воспитательный момен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Воспитание детей сказками убеждает нас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что 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сказки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являются для детей уроками нравственности. 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Сказочные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герои наделены смелостью, красотой, трудолюбием, честностью, любовью к 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Родине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 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Сказки показывают детям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что бывает, если герои обманывают или поступают не по совести. Из 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сказки ребенок узнает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что дружба помогает победить зло и что зло всегда бывает наказано. Благодаря 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сказке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ребенок узнает, что добро всегда сильнее зла, и это помогает ему в дальнейшей жизни идти дорогою добра и мыслить позитивн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«И нельзя без 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сказки нам прожить друзья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едь со 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сказкой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проще верить в чудес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едь со 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сказкой легче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отыскать нам пут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 маленькое сердце, дверцу распахнуть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304920" y="4568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к много 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оспоминаний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из детства хороших и добрых, связано у нас именно со 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казкам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где живут добрые и злые герои. При помощи 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казочных героев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взрослые могут заинтересовать ребёнка, произвести на него 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оспитательный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эффект и даже решить какую-либо психологическую проблему. Чтение 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казок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даёт очень много маленьким и взрослым, помогает им сблизиться духовно. Через 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казку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легче объяснить малышу что такое 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«хорошо»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и что такое 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«плохо»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 Ведь 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казочные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ерсонажи бывают очень 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разным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: добрыми и злыми, хитрыми и завистливыми, ласковыми и грубыми. С помощью таких персонажей мы можем показать детям, плохое и хорошее, как можно и нужно поступать, и как вовсе нельзя, в определённых жизненных ситуация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304920" y="38088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казк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– это способ общения с малышом на понятном и доступном ему языке, это первые маленькие безопасные уроки жизни. В нашей работе с детьми младшего 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дошкольного возраст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мы используем 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казки очень часто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так как 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казки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являются неотъемлемым элементом в 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оспитании дете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Читая и 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рассказывая сказки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 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развиваетс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внутренний мир ребёнка. Дети, которым с раннего детства читают 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казки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быстрее начинают говорить. 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казки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учат детей сравнивать, сопереживать, помогают формировать основы поведения и общения, 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развивают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фантазию и воображение ребёнка, связную речь и мышление, внимание, память, мимику лица, жесты, а так же его творческий потенциал. Работая с маленькими детьми, мы очень часто использую русские народные 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казки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которые не только читаем и 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рассказывае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но ещё и показываем с помощью кукольного театра – это 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«Репка»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Колобок», 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«Курочка ряба»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 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«Маша и медведь»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и т. д.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533520" y="304920"/>
            <a:ext cx="82296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едь 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казк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 и внутренний мир ребёнка неотделимы друг от друга. Поэтому 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казк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является необходимым этап в 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азвитии детей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 этапом который формирует запас жизненной прочности, или является некой библиотекой жизненных ситуаций. Мы очень рады, что в нашем детском саду неделя мая посвящена театрализованной деятельности, так как она близка и понятна ребенку, доставляет радость, 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азвивает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оображение и фантазию, способствует творческому и речевому 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азвитию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 ребенка и формированию основы его личностной культур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оспитательные возможности сказки огромны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ее тематика не ограничена и может удовлетворить любые интересы и желания ребенка. Участвуя в ней, дети знакомятся с окружающим миром — через образы, краски, звуки, музыку. Умело, поставленные вопросы побуждают 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дошколят думать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анализировать, делать выводы и обобщения. В процессе работы над выразительностью реплик персонажей, собственных 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ысказывани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активизируется словарь ребенка, совершенствуется звуковая культура речи. В результате ребенок познает мир умом и сердцем, выражая свое отношение к добру и злу; познает радость, связанную с преодолением трудностей общения, неуверенности в себ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едагоги и психологи отмечают неоценимую 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роль сказок в развитии детей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 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Сказка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любима детьми всех возрастов, так как при ее прослушивании ребенок получает возможность стать энергетическим центром творческой деятельности. Он находится не просто в роли пассивного наблюдателя, а становится создателем своих собственных оригинальных образов и примеряет их на себя. Это позволяет малышу испытать себя на храбрость и стойкость, осознать добро и зло, выработать свой собственный стиль поведения в той или иной ситуац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оль сказок в развити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детей младшего возраста трудно переоценить. 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казк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пособствует становлению мировоззрения ребенка и знакомит детей с простейшей моделью мироустройства, обогащает предметный и социальный опыт малыша, способствует 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азвитию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комбинаторной способности ума. Не всегда 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оспитательное значение сказк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представлено открыто. В некоторых случаях, наоборот, даже может показаться, что 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казк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несет в себе отрицательную смысловую нагрузку, пропагандирует жестокость, насилие, подавление личности. Это и колобок, съеденный лисой, и униженная Золушка, и выгнанный из собственного домика зайчик. Однако, 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казк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с печальным окончанием для малышей вовсе не случайны. Из них ребенок получает представление о том, что дом – это защита, а внешний мир может быть опасным, и если ты еще мал и слаб, то туда до поры до времени тебе ходить одному не над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Сказка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представляя собой своеобразный ужастик, призвана насторожить малыша, заложить на основе базового доверия к миру еще и здоровую недоверчивость к чужим и сладким словам. 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Воспринимая сказку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ребенок начинает осознавать, что внешняя привлекательность, ласковые слова другого не могут быть ширмой, прячущей 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«гнилую»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душу. 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Сказка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формирует фундамент безопасности для 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малышей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нельзя убегать от мамы, нельзя идти с чужим дядей, нельзя открывать дверь незнакомцам и т. п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20-11-16T09:04:13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