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11.jpeg" ContentType="image/jpeg"/>
  <Override PartName="/ppt/media/image9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4.gif" ContentType="image/gi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DE6-8F50-49D5-8B25-E0576898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725-6DCE-4053-94DA-D6C0A164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5F2-61D1-47A9-B705-9E84B5BB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C98-1608-4FF5-A800-0907B3CA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1795-D654-4F65-B05B-5010C515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7654-C694-4B44-B71C-0D41A6A1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DD15-0C1D-4ACA-9FC7-DA295E96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2743-9FBB-4456-B18B-ED21154E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A13A-D8E9-4B2D-BDAA-173D038A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BC22-13AB-4F34-9A61-A8F0825B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8E63-F125-49AB-8383-94D55015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2D0-7EE2-43F4-BE63-19E77705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B18F-C93C-419B-AB50-E992DF62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D6F2-58B1-4932-AC09-3DFEA631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84FB-2378-4CA6-9E13-0797D0AA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6671-E359-4CE0-B88D-17ADBB53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ECD9-F3CC-4D6E-8BD0-9CE8B032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EFB-9FFA-4F64-A4F5-586F4D94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09E-A116-478D-8604-E04C994A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CA3-8228-446A-ABCA-E3FAA41E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163-9A0B-4D8F-9FB5-20E39393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CF7-376F-497E-8F72-EDCAD5F0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F89-A1FB-4CCA-B60E-E78B61DE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787-EDE3-4749-BA24-A5B53515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" name="Line 4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Line 5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Line 6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" name="Line 7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Line 8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" name="Line 9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" name="Line 10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" name="Line 11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" name="Line 1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1" name="Line 1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2" name="Line 1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3" name="Line 1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" name="Line 1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5" name="Line 1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00CD-2D9B-4722-9CC9-827A734A2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29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1" descr="water"/>
          <p:cNvPicPr/>
          <p:nvPr/>
        </p:nvPicPr>
        <p:blipFill>
          <a:blip r:embed="rId2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2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1" name="Freeform 6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" name="Line 8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0" name="Line 1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2" name="Line 1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3" name="Line 1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91" name="Group 30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31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94" name="Rectangle 33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6" name="Rectangle 35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97" name="Picture 37" descr="water"/>
          <p:cNvPicPr/>
          <p:nvPr/>
        </p:nvPicPr>
        <p:blipFill>
          <a:blip r:embed="rId2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B9C3-13CD-4686-BE1C-529DCE56B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ой дом – </a:t>
            </a:r>
            <a:r>
              <a:rPr b="1" lang="ru-RU" sz="4800" spc="-1" strike="noStrike">
                <a:solidFill>
                  <a:srgbClr val="e7b016"/>
                </a:solidFill>
                <a:latin typeface="Arial"/>
              </a:rPr>
              <a:t>Златоуст</a:t>
            </a:r>
            <a:r>
              <a:rPr b="0" lang="ru-RU" sz="4800" spc="-1" strike="noStrike">
                <a:solidFill>
                  <a:srgbClr val="e7b016"/>
                </a:solidFill>
                <a:latin typeface="Arial"/>
              </a:rPr>
              <a:t>!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228600" y="4495680"/>
            <a:ext cx="208764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228600" y="4495680"/>
            <a:ext cx="10666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42" name="Picture 5" descr="G:\Златоуст\zlatoust.png"/>
          <p:cNvPicPr/>
          <p:nvPr/>
        </p:nvPicPr>
        <p:blipFill>
          <a:blip r:embed="rId1"/>
          <a:stretch/>
        </p:blipFill>
        <p:spPr>
          <a:xfrm>
            <a:off x="6446880" y="2819520"/>
            <a:ext cx="2544840" cy="1695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Рисунок5"/>
          <p:cNvPicPr/>
          <p:nvPr/>
        </p:nvPicPr>
        <p:blipFill>
          <a:blip r:embed="rId2"/>
          <a:stretch/>
        </p:blipFill>
        <p:spPr>
          <a:xfrm rot="12420600">
            <a:off x="6230520" y="315360"/>
            <a:ext cx="866880" cy="803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Рисунок5"/>
          <p:cNvPicPr/>
          <p:nvPr/>
        </p:nvPicPr>
        <p:blipFill>
          <a:blip r:embed="rId3"/>
          <a:stretch/>
        </p:blipFill>
        <p:spPr>
          <a:xfrm rot="12420600">
            <a:off x="363240" y="5919120"/>
            <a:ext cx="866880" cy="803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Рисунок5"/>
          <p:cNvPicPr/>
          <p:nvPr/>
        </p:nvPicPr>
        <p:blipFill>
          <a:blip r:embed="rId4"/>
          <a:stretch/>
        </p:blipFill>
        <p:spPr>
          <a:xfrm rot="12420600">
            <a:off x="826920" y="380520"/>
            <a:ext cx="866880" cy="8035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5334120" y="452772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Средняя группа </a:t>
            </a:r>
            <a:endParaRPr b="0" lang="en-US" sz="2800" spc="-1" strike="noStrike">
              <a:solidFill>
                <a:srgbClr val="000000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МАДОУ д/с №98</a:t>
            </a:r>
            <a:endParaRPr b="0" lang="en-US" sz="2800" spc="-1" strike="noStrike">
              <a:solidFill>
                <a:srgbClr val="000000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Воспитатели:</a:t>
            </a:r>
            <a:endParaRPr b="0" lang="en-US" sz="2800" spc="-1" strike="noStrike">
              <a:solidFill>
                <a:srgbClr val="000000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Худякова ЕА</a:t>
            </a:r>
            <a:endParaRPr b="0" lang="en-US" sz="2800" spc="-1" strike="noStrike">
              <a:solidFill>
                <a:srgbClr val="000000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Моторина НА</a:t>
            </a:r>
            <a:endParaRPr b="0" lang="en-US" sz="2800" spc="-1" strike="noStrike">
              <a:solidFill>
                <a:srgbClr val="000000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934320" cy="520092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sp>
        <p:nvSpPr>
          <p:cNvPr id="170" name="TextBox 2"/>
          <p:cNvSpPr/>
          <p:nvPr/>
        </p:nvSpPr>
        <p:spPr>
          <a:xfrm>
            <a:off x="533520" y="0"/>
            <a:ext cx="7391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Знакомство с русским национальным костюмом, знакомство с другими национальностями проживающими в нашем городе. </a:t>
            </a:r>
            <a:endParaRPr b="0" lang="en-US" sz="16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В данной игре можно подобрать пару мужского и женского национального костюма разных народов, назвать национальности проживающими в нашем городе. </a:t>
            </a:r>
            <a:endParaRPr b="0" lang="en-US" sz="1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1" name="Рисунок 1" descr=""/>
          <p:cNvPicPr/>
          <p:nvPr/>
        </p:nvPicPr>
        <p:blipFill>
          <a:blip r:embed="rId2"/>
          <a:stretch/>
        </p:blipFill>
        <p:spPr>
          <a:xfrm>
            <a:off x="122400" y="4419720"/>
            <a:ext cx="97452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343400" cy="4800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3" name="Рисунок 2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5130720" cy="3848400"/>
          </a:xfrm>
          <a:prstGeom prst="rect">
            <a:avLst/>
          </a:prstGeom>
          <a:ln w="57240">
            <a:solidFill>
              <a:srgbClr val="fbed2c"/>
            </a:solidFill>
            <a:miter/>
          </a:ln>
        </p:spPr>
      </p:pic>
      <p:sp>
        <p:nvSpPr>
          <p:cNvPr id="174" name="TextBox 3"/>
          <p:cNvSpPr/>
          <p:nvPr/>
        </p:nvSpPr>
        <p:spPr>
          <a:xfrm>
            <a:off x="5029200" y="68580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Знакомство с нашим городом,  его 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достопримечательностями, гербом, мэром города, 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через альбомы для рассматривания, 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через игру «Найди фрагмент».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3"/>
          <a:stretch/>
        </p:blipFill>
        <p:spPr>
          <a:xfrm>
            <a:off x="1414440" y="5181480"/>
            <a:ext cx="1387440" cy="151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010120" cy="64771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sp>
        <p:nvSpPr>
          <p:cNvPr id="177" name="TextBox 2"/>
          <p:cNvSpPr/>
          <p:nvPr/>
        </p:nvSpPr>
        <p:spPr>
          <a:xfrm>
            <a:off x="6019920" y="1295280"/>
            <a:ext cx="2927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Знакомство с Уральскими писателями и их произведениями.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Знакомство с нашей страной Россией и флагом нашей страны</a:t>
            </a:r>
            <a:r>
              <a:rPr b="0" lang="ru-RU" sz="1400" spc="-1" strike="noStrike">
                <a:solidFill>
                  <a:srgbClr val="000000"/>
                </a:solidFill>
                <a:latin typeface="Castellar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2"/>
          <a:stretch/>
        </p:blipFill>
        <p:spPr>
          <a:xfrm>
            <a:off x="6019920" y="3962520"/>
            <a:ext cx="2360520" cy="258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118360" cy="5562360"/>
          </a:xfrm>
          <a:prstGeom prst="rect">
            <a:avLst/>
          </a:prstGeom>
          <a:ln w="57240">
            <a:solidFill>
              <a:srgbClr val="ff4a4a"/>
            </a:solidFill>
            <a:miter/>
          </a:ln>
        </p:spPr>
      </p:pic>
      <p:sp>
        <p:nvSpPr>
          <p:cNvPr id="148" name="TextBox 3"/>
          <p:cNvSpPr/>
          <p:nvPr/>
        </p:nvSpPr>
        <p:spPr>
          <a:xfrm>
            <a:off x="380880" y="228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Закрепление профессий детского сада, их профессиональными обязанностями, через магнитную настольную игру.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1371600" y="1103400"/>
            <a:ext cx="7620120" cy="564048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150" name="TextBox 2"/>
          <p:cNvSpPr/>
          <p:nvPr/>
        </p:nvSpPr>
        <p:spPr>
          <a:xfrm>
            <a:off x="22860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Закрепление профессий нашего города, через разрезные картинки и настольные игры.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848720" cy="58867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sp>
        <p:nvSpPr>
          <p:cNvPr id="152" name="TextBox 2"/>
          <p:cNvSpPr/>
          <p:nvPr/>
        </p:nvSpPr>
        <p:spPr>
          <a:xfrm>
            <a:off x="1676520" y="60516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Знакомство с зимними видами спорта популярные в нашем городе, через дидактические картинки и загадки.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3486240" cy="4648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54" name="Рисунок 2" descr=""/>
          <p:cNvPicPr/>
          <p:nvPr/>
        </p:nvPicPr>
        <p:blipFill>
          <a:blip r:embed="rId2"/>
          <a:stretch/>
        </p:blipFill>
        <p:spPr>
          <a:xfrm>
            <a:off x="4191120" y="2514600"/>
            <a:ext cx="4800600" cy="3886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55" name="TextBox 3"/>
          <p:cNvSpPr/>
          <p:nvPr/>
        </p:nvSpPr>
        <p:spPr>
          <a:xfrm>
            <a:off x="4038480" y="1219320"/>
            <a:ext cx="4953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Знакомство с разными видами насекомых   нашего города и наших лесов, их местом обитания.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56" name="Рисунок 1" descr=""/>
          <p:cNvPicPr/>
          <p:nvPr/>
        </p:nvPicPr>
        <p:blipFill>
          <a:blip r:embed="rId3"/>
          <a:stretch/>
        </p:blipFill>
        <p:spPr>
          <a:xfrm>
            <a:off x="1514520" y="5334120"/>
            <a:ext cx="1219320" cy="133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4195800" cy="32004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158" name="Рисунок 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370320" cy="2527560"/>
          </a:xfrm>
          <a:prstGeom prst="rect">
            <a:avLst/>
          </a:prstGeom>
          <a:ln w="57240">
            <a:solidFill>
              <a:srgbClr val="ff0909"/>
            </a:solidFill>
            <a:miter/>
          </a:ln>
        </p:spPr>
      </p:pic>
      <p:sp>
        <p:nvSpPr>
          <p:cNvPr id="159" name="TextBox 3"/>
          <p:cNvSpPr/>
          <p:nvPr/>
        </p:nvSpPr>
        <p:spPr>
          <a:xfrm>
            <a:off x="4267080" y="76212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stellar"/>
              </a:rPr>
              <a:t>Закрепление домашних животных и диких, проживающих в лесной полосе Златоуста, их местом обитания, их питании, пользе для человека, закрепление названий их детенышей, через созданный лэпбук, разрезные картинки.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60" name="Рисунок 4" descr=""/>
          <p:cNvPicPr/>
          <p:nvPr/>
        </p:nvPicPr>
        <p:blipFill>
          <a:blip r:embed="rId3"/>
          <a:stretch/>
        </p:blipFill>
        <p:spPr>
          <a:xfrm>
            <a:off x="5003640" y="3200400"/>
            <a:ext cx="3810240" cy="3200400"/>
          </a:xfrm>
          <a:prstGeom prst="rect">
            <a:avLst/>
          </a:prstGeom>
          <a:ln w="57240">
            <a:solidFill>
              <a:srgbClr val="fbed2c"/>
            </a:solidFill>
            <a:miter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534520" cy="54100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sp>
        <p:nvSpPr>
          <p:cNvPr id="162" name="TextBox 2"/>
          <p:cNvSpPr/>
          <p:nvPr/>
        </p:nvSpPr>
        <p:spPr>
          <a:xfrm>
            <a:off x="1447920" y="601992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Закрепление</a:t>
            </a: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названий зимующих и перелетных птиц нашего города, через многофункциональную настольную игру. 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8480" cy="3029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64" name="Рисунок 2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5549760" cy="4317840"/>
          </a:xfrm>
          <a:prstGeom prst="rect">
            <a:avLst/>
          </a:prstGeom>
          <a:ln w="57240">
            <a:solidFill>
              <a:srgbClr val="ff0909"/>
            </a:solidFill>
            <a:miter/>
          </a:ln>
        </p:spPr>
      </p:pic>
      <p:sp>
        <p:nvSpPr>
          <p:cNvPr id="165" name="TextBox 3"/>
          <p:cNvSpPr/>
          <p:nvPr/>
        </p:nvSpPr>
        <p:spPr>
          <a:xfrm>
            <a:off x="4648320" y="609480"/>
            <a:ext cx="41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Закрепление названий транспорта, его видах (личный, строительный,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пассажирский,  водный, воздушный, космический, специальный</a:t>
            </a:r>
            <a:r>
              <a:rPr b="0" lang="ru-RU" sz="1200" spc="-1" strike="noStrike">
                <a:solidFill>
                  <a:srgbClr val="000000"/>
                </a:solidFill>
                <a:latin typeface="Castellar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через игровой лэпбук</a:t>
            </a:r>
            <a:r>
              <a:rPr b="0" lang="ru-RU" sz="1200" spc="-1" strike="noStrike">
                <a:solidFill>
                  <a:srgbClr val="000000"/>
                </a:solidFill>
                <a:latin typeface="Castellar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66" name="Рисунок 1" descr=""/>
          <p:cNvPicPr/>
          <p:nvPr/>
        </p:nvPicPr>
        <p:blipFill>
          <a:blip r:embed="rId3"/>
          <a:stretch/>
        </p:blipFill>
        <p:spPr>
          <a:xfrm>
            <a:off x="609480" y="3941640"/>
            <a:ext cx="1828800" cy="2003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939960" y="1523880"/>
            <a:ext cx="7061040" cy="508644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168" name="TextBox 2"/>
          <p:cNvSpPr/>
          <p:nvPr/>
        </p:nvSpPr>
        <p:spPr>
          <a:xfrm>
            <a:off x="533520" y="152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Знакомство детей с бытом и традициями русского народа, учимся различать современный дом и русскую избу, размещаем и закрепляем названия предметов старины и современной техники по своим местам. 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>www.themegallery.com</dc:creator>
  <dc:description/>
  <dc:language>en-US</dc:language>
  <cp:lastModifiedBy>Пользователь</cp:lastModifiedBy>
  <dcterms:modified xsi:type="dcterms:W3CDTF">2020-03-15T09:04:42Z</dcterms:modified>
  <cp:revision>79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280000000000010290110207f7000400038000</vt:lpwstr>
  </property>
</Properties>
</file>