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0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31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6.wmf" ContentType="image/x-wmf"/>
  <Override PartName="/ppt/media/image23.jpeg" ContentType="image/jpeg"/>
  <Override PartName="/ppt/media/image21.jpeg" ContentType="image/jpeg"/>
  <Override PartName="/ppt/media/image2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13F-F6A0-4793-9B4F-851C0C28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1CB-D2E0-494F-886D-7D4DF3F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28B-C231-41C7-AC43-77FE1B37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916-B359-445D-A7FB-E0D12346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32C3-439C-4213-9E88-A28121E2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689D-7DE6-4C62-8928-BB312BA0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E406-1CF0-4F38-B164-8612FDA6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507D-92C6-4A68-A079-88279549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7993-5935-42E9-B2A6-D085041C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39A4-CED3-47B9-A15B-F0750063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E8FF-3E56-4645-BF1D-E4C3E55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167-F6D2-4AD2-9F8F-B843DC06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1B0-8A19-444F-A4BA-45A8DBB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C16-3E6B-407A-A519-1674BBC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D1AA-3FA4-404C-87F3-0F2D6B6C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939C-41E9-4F6D-9BA6-0DEA1CE3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DCD3-95E0-45F8-A47E-83CF05D9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6DEB-CB2B-4ADD-ACAA-9D05F664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663F-DC34-4DC2-80D8-FE538051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767A-8135-4CEC-A82B-80410462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A9A37-1296-45B6-A4D0-A053BB66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A1A7C-ECC9-44BF-A19D-6DB436A5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FDD-E941-4264-B51A-72C4CD77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02DC-C148-4E47-A842-4C90F7C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630C0-2359-439C-9F55-CCDB8298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6F6E-7743-4258-B00B-B0977ED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93AA-658F-41B6-AEA2-00A79AE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CE2D-D5EB-41C9-BA50-34DBD994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783B-4C51-40EC-AB7A-1505005C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41F6-66A0-4605-A4D5-2A20256E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75B9-F4E2-44CB-AD68-86CC33D2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38E1C-A85A-461A-8045-5CE1D5AE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34EC2-D0C5-4725-8836-48B669BE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3F7-EB0A-4B0A-842D-7578CA0A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37826-C5FC-4875-AC9F-E4695F54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02C1-6DEA-4FF1-9094-FDBCFA30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85B75-5A76-44D1-A72F-57362C64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11A1-7CD2-4BE4-9D77-76FC4DE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A571-7636-449F-A77C-0C1F6680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AECA0-2F17-48EA-A6DC-147C90D4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728C0-CDD0-4A8E-8AB0-E652072F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8EFA-ED05-4143-B439-36B0F338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B893-747B-420B-9832-21572F92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BC875-2BA0-4345-967F-011DCF7F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335-D934-41D2-B7E2-EFFE2292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2CAF-FBDC-4ED5-83EF-408A11EC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E099-A284-46E8-9639-619299DA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94DEA-E2E4-487C-BBD5-56A4A7E3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22A42-ED1F-4F90-968C-0FA11CF8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53F6-EBFB-487B-8DF3-62DA2EC1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7B139-CE27-496E-9554-0A38A23D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E526-0329-4B20-943F-D24BD89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D959F-AF9C-4A29-9307-82C3D25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48BC9-D4C3-47A3-AB65-3018C0D9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2A48-8C73-4F6C-B749-9AE54A07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743-5AB1-445A-92D3-F4DABEF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EC28-3892-4F51-9C52-1AF80FC5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8E7C4-9977-40D1-8E45-A6D58126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7392-15BA-45CF-B394-04E72B4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51B4-6E9D-4610-9ACD-B0A7EB14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A30B-B427-4D15-B278-41E0083F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0401-2179-4255-B3E6-C77C5720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2E1D2-DD96-4F4C-B5C6-8051E969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22215-FAB0-44BF-83BA-49C01C00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3D3EB-E52E-4D6B-926F-FFEA94C2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ED336-13BC-4C96-8508-2105427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B70-79B3-42E9-8A7C-7042A05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A1CE4-8B1B-484C-B34B-88181192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34C83-B40F-41CA-8C4B-1DA02545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B6945-2E15-4419-9987-3322E868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505-1C9D-43FA-B617-8A461ADD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890-E2F4-4B06-93E2-86C2472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F70B-8EA7-4998-B214-66C53177CA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4C6E-9EFB-4FAE-B193-2D8D5430AA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5EE8-B855-45EE-B5D7-D29166402E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35CC-5E70-49FE-90CA-975D56411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380F-3D7D-4A5D-B2FC-B77CC3B0EA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14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73BD-8A45-45FF-A787-85E101E8FE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5"/>
          <p:cNvSpPr txBox="1"/>
          <p:nvPr/>
        </p:nvSpPr>
        <p:spPr>
          <a:xfrm>
            <a:off x="682560" y="836640"/>
            <a:ext cx="77770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ИЛИ  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60" name="Picture 8" descr="j0428113"/>
          <p:cNvPicPr/>
          <p:nvPr/>
        </p:nvPicPr>
        <p:blipFill>
          <a:blip r:embed="rId1"/>
          <a:stretch/>
        </p:blipFill>
        <p:spPr>
          <a:xfrm>
            <a:off x="539640" y="260280"/>
            <a:ext cx="1446480" cy="1562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32000" y="4581360"/>
            <a:ext cx="4032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КСШ №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Н. Ралдуг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ублицистически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ера общения – агитационно-массовая деятельность, информационные или аналитические передачи по телевидению и радио, выступления на собраниях, статьи в газ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определенного воздействия на мысли или чувства людей, с целью заинтересовать их или в чем-либо убе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429809"/>
          <p:cNvPicPr/>
          <p:nvPr/>
        </p:nvPicPr>
        <p:blipFill>
          <a:blip r:embed="rId1"/>
          <a:stretch/>
        </p:blipFill>
        <p:spPr>
          <a:xfrm>
            <a:off x="7308720" y="260280"/>
            <a:ext cx="1648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митинг 2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970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3" name="Picture 6" descr="митинг 5"/>
          <p:cNvPicPr/>
          <p:nvPr/>
        </p:nvPicPr>
        <p:blipFill>
          <a:blip r:embed="rId2"/>
          <a:stretch/>
        </p:blipFill>
        <p:spPr>
          <a:xfrm>
            <a:off x="250920" y="333360"/>
            <a:ext cx="3657600" cy="28209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4" name="Picture 7" descr="митинг 4"/>
          <p:cNvPicPr/>
          <p:nvPr/>
        </p:nvPicPr>
        <p:blipFill>
          <a:blip r:embed="rId3"/>
          <a:stretch/>
        </p:blipFill>
        <p:spPr>
          <a:xfrm>
            <a:off x="4572000" y="260280"/>
            <a:ext cx="4392720" cy="291780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5" name="Picture 8" descr="митинг 1"/>
          <p:cNvPicPr/>
          <p:nvPr/>
        </p:nvPicPr>
        <p:blipFill>
          <a:blip r:embed="rId4"/>
          <a:stretch/>
        </p:blipFill>
        <p:spPr>
          <a:xfrm>
            <a:off x="5364000" y="4121280"/>
            <a:ext cx="3527640" cy="264636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pic>
        <p:nvPicPr>
          <p:cNvPr id="306" name="Picture 4" descr="митинг 3"/>
          <p:cNvPicPr/>
          <p:nvPr/>
        </p:nvPicPr>
        <p:blipFill>
          <a:blip r:embed="rId5"/>
          <a:stretch/>
        </p:blipFill>
        <p:spPr>
          <a:xfrm>
            <a:off x="2825640" y="1341360"/>
            <a:ext cx="3492720" cy="36910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публицистическ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тив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 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зиция, сущность, явлени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влеченные слова с общественно-политическим значением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уманность, прогресс, народность, гласность, миролюбивы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зительность и эмоцион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 и уст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удожествен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художественные произведения: роман, рассказ, поэма, новелла, стихотворение, повесть, эссе, балл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я функция  – эстетическ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j0428113"/>
          <p:cNvPicPr/>
          <p:nvPr/>
        </p:nvPicPr>
        <p:blipFill>
          <a:blip r:embed="rId1"/>
          <a:stretch/>
        </p:blipFill>
        <p:spPr>
          <a:xfrm>
            <a:off x="7164360" y="18900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бал 1"/>
          <p:cNvPicPr/>
          <p:nvPr/>
        </p:nvPicPr>
        <p:blipFill>
          <a:blip r:embed="rId1"/>
          <a:stretch/>
        </p:blipFill>
        <p:spPr>
          <a:xfrm>
            <a:off x="2003400" y="189000"/>
            <a:ext cx="5135760" cy="385128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3" name="Picture 5" descr="бал 2"/>
          <p:cNvPicPr/>
          <p:nvPr/>
        </p:nvPicPr>
        <p:blipFill>
          <a:blip r:embed="rId2"/>
          <a:stretch/>
        </p:blipFill>
        <p:spPr>
          <a:xfrm>
            <a:off x="179280" y="2276640"/>
            <a:ext cx="2932200" cy="4349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4" name="Picture 6" descr="бал 5"/>
          <p:cNvPicPr/>
          <p:nvPr/>
        </p:nvPicPr>
        <p:blipFill>
          <a:blip r:embed="rId3"/>
          <a:stretch/>
        </p:blipFill>
        <p:spPr>
          <a:xfrm>
            <a:off x="4572000" y="3284640"/>
            <a:ext cx="4248000" cy="31860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15" name="Picture 7" descr="бал 4"/>
          <p:cNvPicPr/>
          <p:nvPr/>
        </p:nvPicPr>
        <p:blipFill>
          <a:blip r:embed="rId4"/>
          <a:stretch/>
        </p:blipFill>
        <p:spPr>
          <a:xfrm>
            <a:off x="2627280" y="2565360"/>
            <a:ext cx="3097080" cy="179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художествен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раз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нижная лексика: высокие слова, которые придают речи торжествен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моционально-экспрессивная оценка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краснодушие, донкихотство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положи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едантичный, манерность, личина, продажный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отрицательная оцен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вторская индивидуа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Разговорный 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людей в быту, беседы в семье, выяснение отношений, обсуждение планов, дружеское 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при неофициальном бытовом, повседневном общении между людьми в заранее не подготовленной устной реч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j0428123"/>
          <p:cNvPicPr/>
          <p:nvPr/>
        </p:nvPicPr>
        <p:blipFill>
          <a:blip r:embed="rId1"/>
          <a:stretch/>
        </p:blipFill>
        <p:spPr>
          <a:xfrm rot="20538600">
            <a:off x="7380000" y="0"/>
            <a:ext cx="15256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разговор 1"/>
          <p:cNvPicPr/>
          <p:nvPr/>
        </p:nvPicPr>
        <p:blipFill>
          <a:blip r:embed="rId1"/>
          <a:stretch/>
        </p:blipFill>
        <p:spPr>
          <a:xfrm>
            <a:off x="250920" y="189000"/>
            <a:ext cx="3085920" cy="35352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322" name="Picture 7" descr="худ"/>
          <p:cNvPicPr/>
          <p:nvPr/>
        </p:nvPicPr>
        <p:blipFill>
          <a:blip r:embed="rId2"/>
          <a:stretch/>
        </p:blipFill>
        <p:spPr>
          <a:xfrm>
            <a:off x="3203640" y="1557360"/>
            <a:ext cx="3255840" cy="4176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323" name="Picture 5" descr="разговор 2"/>
          <p:cNvPicPr/>
          <p:nvPr/>
        </p:nvPicPr>
        <p:blipFill>
          <a:blip r:embed="rId3"/>
          <a:stretch/>
        </p:blipFill>
        <p:spPr>
          <a:xfrm>
            <a:off x="6300720" y="3213000"/>
            <a:ext cx="2625840" cy="3429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разговорн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полнота выражения и эмоциона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говорно-бытовые слова и форм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ратец, сестрица, вымахал, прыг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ценочная лексик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ко выражена стилистическая окраска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очурка, отличный, прекрасный, чудесный, превосходный, скверный, гадкий, наглы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ниженные слова, которые находятся за пределами литературной лекс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уст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j0428109"/>
          <p:cNvPicPr/>
          <p:nvPr/>
        </p:nvPicPr>
        <p:blipFill>
          <a:blip r:embed="rId1"/>
          <a:stretch/>
        </p:blipFill>
        <p:spPr>
          <a:xfrm>
            <a:off x="7451640" y="5445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3"/>
          <p:cNvSpPr/>
          <p:nvPr/>
        </p:nvSpPr>
        <p:spPr>
          <a:xfrm>
            <a:off x="642960" y="285840"/>
            <a:ext cx="81439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пражнение № 8 § 2,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ktoreshit.ru/images/gdz/book/gdz-russkij-yazik-8-klass-razumovskaya_1.jpg"/>
          <p:cNvPicPr/>
          <p:nvPr/>
        </p:nvPicPr>
        <p:blipFill>
          <a:blip r:embed="rId1"/>
          <a:stretch/>
        </p:blipFill>
        <p:spPr>
          <a:xfrm>
            <a:off x="500040" y="2714760"/>
            <a:ext cx="3214800" cy="3857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08.od.ua/data/category/tetradi/tetradi.jpg"/>
          <p:cNvPicPr/>
          <p:nvPr/>
        </p:nvPicPr>
        <p:blipFill>
          <a:blip r:embed="rId2"/>
          <a:stretch/>
        </p:blipFill>
        <p:spPr>
          <a:xfrm>
            <a:off x="4786200" y="2714760"/>
            <a:ext cx="4071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497800" cy="44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ти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– это выбор языковых средств, связанный с определенной сферой общественной деятельности, целью речевого общения и составом его носителей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Что такое стил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Organization Chart 5"/>
          <p:cNvGrpSpPr/>
          <p:nvPr/>
        </p:nvGrpSpPr>
        <p:grpSpPr>
          <a:xfrm>
            <a:off x="324000" y="404640"/>
            <a:ext cx="8494920" cy="5832360"/>
            <a:chOff x="324000" y="404640"/>
            <a:chExt cx="8494920" cy="5832360"/>
          </a:xfrm>
        </p:grpSpPr>
        <p:cxnSp>
          <p:nvCxnSpPr>
            <p:cNvPr id="265" name="_s1028"/>
            <p:cNvCxnSpPr>
              <a:stCxn id="266" idx="1"/>
              <a:endCxn id="267" idx="2"/>
            </p:cNvCxnSpPr>
            <p:nvPr/>
          </p:nvCxnSpPr>
          <p:spPr>
            <a:xfrm rot="10800000">
              <a:off x="2283480" y="2121480"/>
              <a:ext cx="654120" cy="3774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8" name="_s1029"/>
            <p:cNvCxnSpPr>
              <a:stCxn id="269" idx="1"/>
              <a:endCxn id="267" idx="2"/>
            </p:cNvCxnSpPr>
            <p:nvPr/>
          </p:nvCxnSpPr>
          <p:spPr>
            <a:xfrm rot="10800000">
              <a:off x="2283480" y="2121480"/>
              <a:ext cx="654120" cy="2746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0" name="_s1030"/>
            <p:cNvCxnSpPr>
              <a:stCxn id="271" idx="1"/>
              <a:endCxn id="267" idx="2"/>
            </p:cNvCxnSpPr>
            <p:nvPr/>
          </p:nvCxnSpPr>
          <p:spPr>
            <a:xfrm rot="10800000">
              <a:off x="2283480" y="2121480"/>
              <a:ext cx="654120" cy="1715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2" name="_s1031"/>
            <p:cNvCxnSpPr>
              <a:stCxn id="273" idx="1"/>
              <a:endCxn id="267" idx="2"/>
            </p:cNvCxnSpPr>
            <p:nvPr/>
          </p:nvCxnSpPr>
          <p:spPr>
            <a:xfrm rot="10800000">
              <a:off x="2283480" y="2121480"/>
              <a:ext cx="654120" cy="687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4" name="_s1032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5541480" y="119880"/>
              <a:ext cx="346320" cy="228816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7" name="_s1033"/>
            <p:cNvCxnSpPr>
              <a:stCxn id="267" idx="0"/>
              <a:endCxn id="276" idx="2"/>
            </p:cNvCxnSpPr>
            <p:nvPr/>
          </p:nvCxnSpPr>
          <p:spPr>
            <a:xfrm flipH="1" flipV="1" rot="5400000">
              <a:off x="3254040" y="120600"/>
              <a:ext cx="346320" cy="2287080"/>
            </a:xfrm>
            <a:prstGeom prst="bentConnector3">
              <a:avLst>
                <a:gd name="adj1" fmla="val 499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6" name="_s1034"/>
            <p:cNvSpPr/>
            <p:nvPr/>
          </p:nvSpPr>
          <p:spPr>
            <a:xfrm>
              <a:off x="2610360" y="40464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ИЛИ РЕЧ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035"/>
            <p:cNvSpPr/>
            <p:nvPr/>
          </p:nvSpPr>
          <p:spPr>
            <a:xfrm>
              <a:off x="32400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НИЖ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6"/>
            <p:cNvSpPr/>
            <p:nvPr/>
          </p:nvSpPr>
          <p:spPr>
            <a:xfrm>
              <a:off x="4898160" y="1434960"/>
              <a:ext cx="392076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ГОВОР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7"/>
            <p:cNvSpPr/>
            <p:nvPr/>
          </p:nvSpPr>
          <p:spPr>
            <a:xfrm>
              <a:off x="2937600" y="2465640"/>
              <a:ext cx="3915720" cy="6868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АУЧ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1038"/>
            <p:cNvSpPr/>
            <p:nvPr/>
          </p:nvSpPr>
          <p:spPr>
            <a:xfrm>
              <a:off x="2937600" y="349632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ФИЦИАЛЬНО-ДЕЛОВ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039"/>
            <p:cNvSpPr/>
            <p:nvPr/>
          </p:nvSpPr>
          <p:spPr>
            <a:xfrm>
              <a:off x="2937600" y="4524120"/>
              <a:ext cx="3915720" cy="684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УБЛИЦИС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040"/>
            <p:cNvSpPr/>
            <p:nvPr/>
          </p:nvSpPr>
          <p:spPr>
            <a:xfrm>
              <a:off x="2937600" y="5552640"/>
              <a:ext cx="3915720" cy="684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УДОЖЕСТВЕН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22" descr="j0428125"/>
          <p:cNvPicPr/>
          <p:nvPr/>
        </p:nvPicPr>
        <p:blipFill>
          <a:blip r:embed="rId1"/>
          <a:stretch/>
        </p:blipFill>
        <p:spPr>
          <a:xfrm>
            <a:off x="539640" y="189000"/>
            <a:ext cx="136692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фициально-делово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общение граждан с учрежде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в документах, отчетах, заявлениях, доверенностях, деловых письмах, приказах и зак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–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ит для передачи информации в сфере 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j0428127"/>
          <p:cNvPicPr/>
          <p:nvPr/>
        </p:nvPicPr>
        <p:blipFill>
          <a:blip r:embed="rId1"/>
          <a:stretch/>
        </p:blipFill>
        <p:spPr>
          <a:xfrm>
            <a:off x="7812000" y="189000"/>
            <a:ext cx="10591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дел"/>
          <p:cNvPicPr/>
          <p:nvPr/>
        </p:nvPicPr>
        <p:blipFill>
          <a:blip r:embed="rId1"/>
          <a:stretch/>
        </p:blipFill>
        <p:spPr>
          <a:xfrm rot="20665800">
            <a:off x="3276360" y="404640"/>
            <a:ext cx="2590560" cy="25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3" name="Picture 6" descr="дел"/>
          <p:cNvPicPr/>
          <p:nvPr/>
        </p:nvPicPr>
        <p:blipFill>
          <a:blip r:embed="rId2"/>
          <a:stretch/>
        </p:blipFill>
        <p:spPr>
          <a:xfrm rot="20741400">
            <a:off x="468000" y="549000"/>
            <a:ext cx="2698560" cy="37749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4" name="Picture 7" descr="дел"/>
          <p:cNvPicPr/>
          <p:nvPr/>
        </p:nvPicPr>
        <p:blipFill>
          <a:blip r:embed="rId3"/>
          <a:stretch/>
        </p:blipFill>
        <p:spPr>
          <a:xfrm rot="20824200">
            <a:off x="395280" y="3715920"/>
            <a:ext cx="2700360" cy="27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5" name="Picture 5" descr="дел"/>
          <p:cNvPicPr/>
          <p:nvPr/>
        </p:nvPicPr>
        <p:blipFill>
          <a:blip r:embed="rId4"/>
          <a:stretch/>
        </p:blipFill>
        <p:spPr>
          <a:xfrm>
            <a:off x="6227640" y="189000"/>
            <a:ext cx="2664000" cy="2663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86" name="Picture 8" descr="дел"/>
          <p:cNvPicPr/>
          <p:nvPr/>
        </p:nvPicPr>
        <p:blipFill>
          <a:blip r:embed="rId5"/>
          <a:stretch/>
        </p:blipFill>
        <p:spPr>
          <a:xfrm rot="1364400">
            <a:off x="5940000" y="2636640"/>
            <a:ext cx="2367000" cy="38052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87" name="Picture 9" descr="офис"/>
          <p:cNvPicPr/>
          <p:nvPr/>
        </p:nvPicPr>
        <p:blipFill>
          <a:blip r:embed="rId6"/>
          <a:stretch/>
        </p:blipFill>
        <p:spPr>
          <a:xfrm>
            <a:off x="3132000" y="2608200"/>
            <a:ext cx="3024360" cy="29797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Для официально-делового стиля характерно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тк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эмоциональность излож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андартизированные словосочета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ва-терм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истически нейтральная лекс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сика, отражающая официально-деловые отношения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ленум, сессия, реш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нцеляризмы: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слушать доклад, зачитать решение, входящий номе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учный сти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ера общения – научная  деятельность (написание специальных учебников, научных статей, конспектов, курсовых рабо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евая ситуация 1/м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состоит в том, чтобы дать точное и ясное представление о научных понят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j0428105"/>
          <p:cNvPicPr/>
          <p:nvPr/>
        </p:nvPicPr>
        <p:blipFill>
          <a:blip r:embed="rId1"/>
          <a:stretch/>
        </p:blipFill>
        <p:spPr>
          <a:xfrm>
            <a:off x="7164360" y="0"/>
            <a:ext cx="17524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доклад 1"/>
          <p:cNvPicPr/>
          <p:nvPr/>
        </p:nvPicPr>
        <p:blipFill>
          <a:blip r:embed="rId1"/>
          <a:stretch/>
        </p:blipFill>
        <p:spPr>
          <a:xfrm>
            <a:off x="4932360" y="353880"/>
            <a:ext cx="3772080" cy="2691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294" name="Picture 6" descr="доклад 2"/>
          <p:cNvPicPr/>
          <p:nvPr/>
        </p:nvPicPr>
        <p:blipFill>
          <a:blip r:embed="rId2"/>
          <a:stretch/>
        </p:blipFill>
        <p:spPr>
          <a:xfrm>
            <a:off x="4859280" y="3321000"/>
            <a:ext cx="4057560" cy="30434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5" name="Picture 7" descr="доклал 5"/>
          <p:cNvPicPr/>
          <p:nvPr/>
        </p:nvPicPr>
        <p:blipFill>
          <a:blip r:embed="rId3"/>
          <a:stretch/>
        </p:blipFill>
        <p:spPr>
          <a:xfrm>
            <a:off x="250920" y="260280"/>
            <a:ext cx="4321080" cy="32400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296" name="Picture 8" descr="доклад 6"/>
          <p:cNvPicPr/>
          <p:nvPr/>
        </p:nvPicPr>
        <p:blipFill>
          <a:blip r:embed="rId4"/>
          <a:stretch/>
        </p:blipFill>
        <p:spPr>
          <a:xfrm>
            <a:off x="250920" y="3716280"/>
            <a:ext cx="4105080" cy="2952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ля научного стиля характерно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кость и логичность излож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каза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сутствие выражения эмоц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минологическая лексик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техн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ентрифуг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медицин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ентг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нгвист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уффик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кономические термины: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барте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ая форма речи – письменн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7:56:27Z</dcterms:created>
  <dc:creator>user33</dc:creator>
  <dc:description/>
  <dc:language>en-US</dc:language>
  <cp:lastModifiedBy>Наташа</cp:lastModifiedBy>
  <dcterms:modified xsi:type="dcterms:W3CDTF">2016-09-21T15:12:04Z</dcterms:modified>
  <cp:revision>51</cp:revision>
  <dc:subject/>
  <dc:title>Слайд 1</dc:title>
</cp:coreProperties>
</file>