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0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31.jpeg" ContentType="image/jpeg"/>
  <Override PartName="/ppt/media/image32.jpeg" ContentType="image/jpeg"/>
  <Override PartName="/ppt/media/image11.wmf" ContentType="image/x-wmf"/>
  <Override PartName="/ppt/media/image5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3.jpeg" ContentType="image/jpeg"/>
  <Override PartName="/ppt/media/image21.jpeg" ContentType="image/jpeg"/>
  <Override PartName="/ppt/media/image2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14B-326A-497F-8254-7F4D2529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767-4D96-4418-BF44-465CB0C7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587-B429-4F6C-94FB-719C68F7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280-43B9-4751-B2BA-5C2388A6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53FB-A65F-41E8-96B3-50DE9F75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3195-A34D-41DA-A3FF-DE58839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B409-8684-4ECF-87C5-E28CF43C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220C-AF35-4D75-B2B7-8FB51FF8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B5B9-77B0-4692-9E12-D364BC87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1582-E07F-4174-A0E6-5878EF4F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E529-69F4-4B51-9DBD-5B49BB72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664-721A-4FFD-9E61-15FF8D4A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94AA-C0D4-4AC1-BB32-DEF71693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F86E-BE49-4674-9941-51BE6088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014E-70A5-4942-90CE-FE3FA293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0240-C70B-41D6-B7B5-4271131C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C061-3A0C-43A8-A96F-11BD13FB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D931-CE90-4F16-8BCE-C4C3A048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C87B-0D9C-4723-B7A3-E95415A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2B41-BF9B-4468-9FB1-D3BC0379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27B1-4F18-4DAC-A38C-64FE6D3C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81C3-7D3D-4C40-A459-8D917324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EDF-1F6F-4389-865F-20B00725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0AE0-23ED-4456-ACB3-002836B0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38811-C9AD-48A9-897D-C7B9BA1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55F2-8791-42EC-A3EC-090655B2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EDBE-4F64-4C15-89EF-E45F7FF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8046-C7AA-425B-90FD-80911380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E8CB-955F-4B57-B8E8-B8945441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627B5-D31D-41AE-8F36-E9135908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E0389-6FD9-45F7-9ED1-3FB9C3AF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FC70-95E9-4585-A9DF-FC567D9C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454AC-F730-478B-BE6E-E168EED3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726-3A19-4F80-88A5-202900DF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614D-6B07-436F-840F-3CE658F2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B342-DC79-4B58-A6EA-FF66A1AE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CA076-C681-4A67-BFBC-8E2C8833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7D935-597D-42B4-9B6D-253D25BC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3084C-6634-41D7-B7B6-C80134A4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CD196-5DF7-45D4-8A28-F55EF604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DCFA-A010-4C5D-83C3-2173E538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E3D8-4947-4867-8574-E0FEEA53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CF99A-E567-469C-BE6E-0B5E571E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8E36-DCC1-4FCF-8B7B-D910672E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F0B-DA74-4075-B5B4-58DDFA1B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7381-FF06-4382-A35E-9F673AA9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C871B-CA71-44E5-B821-D0DA88C4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9D55D-FC12-476A-A7B1-85A28E58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6B9E-6E8D-48CE-A522-698FA293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F316B-526E-4042-AB4B-27102C07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2519-20A1-4BAF-9747-5D1D85FB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85E91-38E6-4302-A2AC-40703C6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DB426-45FC-45C2-8D3B-092CBC1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E0BDD-9F58-4690-BDB6-4AD5FA33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F079B-53E9-4878-899A-62B301E2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186-3A44-4453-BCDD-BFE978CB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25F1-5534-40FD-9AEA-446DB095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2189C-9F41-4B02-8EA8-2B16BDD7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D7CE8-828D-4EFB-9E84-FDCCAE34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708B5-47A6-400A-ACCE-4077819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6B43-6C03-42DF-B2D2-19B6682B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F0DCF-B84B-45CD-AF6B-EB13EEBF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F2355-4E75-4A54-9AD5-75E250CF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D21FC-CC51-4840-B785-FEA629E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81E77-B208-4B5E-BF39-521B52EA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05947-A4A8-45F8-A3D7-9647AA90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9A5-C36A-4A59-9266-5FC5AC2B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119B6-FF44-4660-B7D7-E71353FE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7514-3294-4921-B701-77E08055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C4BB7-D34D-4580-8EBC-F53C0B40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CB1-8DB2-4476-AC4F-B8AED36E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501-6066-4C67-956A-4B4EF722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8580-0A5C-4349-99F3-AA025B7EBC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F36C-202A-4A64-A5DE-A0AC6B9B6F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0C28-8569-4D57-B518-2A72A1ED05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2A2-92DB-4F7F-AF2D-3837711457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DD4E-8679-4438-9987-97516F08A77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1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9467-3167-4587-B3EB-46996A9B6E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5"/>
          <p:cNvSpPr txBox="1"/>
          <p:nvPr/>
        </p:nvSpPr>
        <p:spPr>
          <a:xfrm>
            <a:off x="682560" y="836640"/>
            <a:ext cx="77770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ИЛИ   РЕ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60" name="Picture 8" descr="j0428113"/>
          <p:cNvPicPr/>
          <p:nvPr/>
        </p:nvPicPr>
        <p:blipFill>
          <a:blip r:embed="rId1"/>
          <a:stretch/>
        </p:blipFill>
        <p:spPr>
          <a:xfrm>
            <a:off x="539640" y="260280"/>
            <a:ext cx="1446480" cy="1562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32000" y="4581360"/>
            <a:ext cx="4032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БОУ КСШ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Н. Ралдуг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ублицистически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общения – агитационно-массовая деятельность, информационные или аналитические передачи по телевидению и радио, выступления на собраниях, статьи в газе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ая ситуация – 1/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определенного воздействия на мысли или чувства людей, с целью заинтересовать их или в чем-либо убед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429809"/>
          <p:cNvPicPr/>
          <p:nvPr/>
        </p:nvPicPr>
        <p:blipFill>
          <a:blip r:embed="rId1"/>
          <a:stretch/>
        </p:blipFill>
        <p:spPr>
          <a:xfrm>
            <a:off x="7308720" y="260280"/>
            <a:ext cx="1648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5" descr="митинг 2"/>
          <p:cNvPicPr/>
          <p:nvPr/>
        </p:nvPicPr>
        <p:blipFill>
          <a:blip r:embed="rId1"/>
          <a:stretch/>
        </p:blipFill>
        <p:spPr>
          <a:xfrm>
            <a:off x="324000" y="3573360"/>
            <a:ext cx="3960720" cy="29703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3" name="Picture 6" descr="митинг 5"/>
          <p:cNvPicPr/>
          <p:nvPr/>
        </p:nvPicPr>
        <p:blipFill>
          <a:blip r:embed="rId2"/>
          <a:stretch/>
        </p:blipFill>
        <p:spPr>
          <a:xfrm>
            <a:off x="250920" y="333360"/>
            <a:ext cx="3657600" cy="28209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4" name="Picture 7" descr="митинг 4"/>
          <p:cNvPicPr/>
          <p:nvPr/>
        </p:nvPicPr>
        <p:blipFill>
          <a:blip r:embed="rId3"/>
          <a:stretch/>
        </p:blipFill>
        <p:spPr>
          <a:xfrm>
            <a:off x="4572000" y="260280"/>
            <a:ext cx="4392720" cy="291780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5" name="Picture 8" descr="митинг 1"/>
          <p:cNvPicPr/>
          <p:nvPr/>
        </p:nvPicPr>
        <p:blipFill>
          <a:blip r:embed="rId4"/>
          <a:stretch/>
        </p:blipFill>
        <p:spPr>
          <a:xfrm>
            <a:off x="5364000" y="4121280"/>
            <a:ext cx="3527640" cy="26463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6" name="Picture 4" descr="митинг 3"/>
          <p:cNvPicPr/>
          <p:nvPr/>
        </p:nvPicPr>
        <p:blipFill>
          <a:blip r:embed="rId5"/>
          <a:stretch/>
        </p:blipFill>
        <p:spPr>
          <a:xfrm>
            <a:off x="2825640" y="1341360"/>
            <a:ext cx="3492720" cy="36910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публицистическ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тив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каза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нижная лексика 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зиция, сущность, явле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леченные слова с общественно-политическим значением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уманность, прогресс, народность, гласность, миролюбив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зительность и эмоциона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моционально-экспрессив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 и уст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Художественный 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художественные произведения: роман, рассказ, поэма, новелла, стихотворение, повесть, эссе, балла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функция  – эстетическ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j0428113"/>
          <p:cNvPicPr/>
          <p:nvPr/>
        </p:nvPicPr>
        <p:blipFill>
          <a:blip r:embed="rId1"/>
          <a:stretch/>
        </p:blipFill>
        <p:spPr>
          <a:xfrm>
            <a:off x="7164360" y="189000"/>
            <a:ext cx="1752480" cy="18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бал 1"/>
          <p:cNvPicPr/>
          <p:nvPr/>
        </p:nvPicPr>
        <p:blipFill>
          <a:blip r:embed="rId1"/>
          <a:stretch/>
        </p:blipFill>
        <p:spPr>
          <a:xfrm>
            <a:off x="2003400" y="189000"/>
            <a:ext cx="5135760" cy="3851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3" name="Picture 5" descr="бал 2"/>
          <p:cNvPicPr/>
          <p:nvPr/>
        </p:nvPicPr>
        <p:blipFill>
          <a:blip r:embed="rId2"/>
          <a:stretch/>
        </p:blipFill>
        <p:spPr>
          <a:xfrm>
            <a:off x="179280" y="2276640"/>
            <a:ext cx="2932200" cy="43495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4" name="Picture 6" descr="бал 5"/>
          <p:cNvPicPr/>
          <p:nvPr/>
        </p:nvPicPr>
        <p:blipFill>
          <a:blip r:embed="rId3"/>
          <a:stretch/>
        </p:blipFill>
        <p:spPr>
          <a:xfrm>
            <a:off x="4572000" y="3284640"/>
            <a:ext cx="4248000" cy="318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5" name="Picture 7" descr="бал 4"/>
          <p:cNvPicPr/>
          <p:nvPr/>
        </p:nvPicPr>
        <p:blipFill>
          <a:blip r:embed="rId4"/>
          <a:stretch/>
        </p:blipFill>
        <p:spPr>
          <a:xfrm>
            <a:off x="2627280" y="2565360"/>
            <a:ext cx="3097080" cy="179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3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художественн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нижная лексика: высокие слова, которые придают речи торжествен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моционально-экспрессивная оценка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екраснодушие, донкихотство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положитель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едантичный, манерность, личина, продажный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отрицатель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ская индивидуа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зговорный 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общение людей в быту, беседы в семье, выяснение отношений, обсуждение планов, дружеское 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при неофициальном бытовом, повседневном общении между людьми в заранее не подготовленной устной реч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j0428123"/>
          <p:cNvPicPr/>
          <p:nvPr/>
        </p:nvPicPr>
        <p:blipFill>
          <a:blip r:embed="rId1"/>
          <a:stretch/>
        </p:blipFill>
        <p:spPr>
          <a:xfrm rot="20538600">
            <a:off x="7380000" y="0"/>
            <a:ext cx="15256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разговор 1"/>
          <p:cNvPicPr/>
          <p:nvPr/>
        </p:nvPicPr>
        <p:blipFill>
          <a:blip r:embed="rId1"/>
          <a:stretch/>
        </p:blipFill>
        <p:spPr>
          <a:xfrm>
            <a:off x="250920" y="189000"/>
            <a:ext cx="3085920" cy="35352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322" name="Picture 7" descr="худ"/>
          <p:cNvPicPr/>
          <p:nvPr/>
        </p:nvPicPr>
        <p:blipFill>
          <a:blip r:embed="rId2"/>
          <a:stretch/>
        </p:blipFill>
        <p:spPr>
          <a:xfrm>
            <a:off x="3203640" y="1557360"/>
            <a:ext cx="3255840" cy="4176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23" name="Picture 5" descr="разговор 2"/>
          <p:cNvPicPr/>
          <p:nvPr/>
        </p:nvPicPr>
        <p:blipFill>
          <a:blip r:embed="rId3"/>
          <a:stretch/>
        </p:blipFill>
        <p:spPr>
          <a:xfrm>
            <a:off x="6300720" y="3213000"/>
            <a:ext cx="2625840" cy="3429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разговорн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лнота выражения и эмоциона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говорно-бытовые слова и форм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ратец, сестрица, вымахал, прыг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рко выражена стилистическая окраска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чурка, отличный, прекрасный, чудесный, превосходный, скверный, гадкий, наглы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иженные слова, которые находятся за пределами литературной лекси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ая форма речи – уст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j0428109"/>
          <p:cNvPicPr/>
          <p:nvPr/>
        </p:nvPicPr>
        <p:blipFill>
          <a:blip r:embed="rId1"/>
          <a:stretch/>
        </p:blipFill>
        <p:spPr>
          <a:xfrm>
            <a:off x="7451640" y="5445000"/>
            <a:ext cx="1297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3"/>
          <p:cNvSpPr/>
          <p:nvPr/>
        </p:nvSpPr>
        <p:spPr>
          <a:xfrm>
            <a:off x="642960" y="285840"/>
            <a:ext cx="81439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пражнение № 8 § 2,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ktoreshit.ru/images/gdz/book/gdz-russkij-yazik-8-klass-razumovskaya_1.jpg"/>
          <p:cNvPicPr/>
          <p:nvPr/>
        </p:nvPicPr>
        <p:blipFill>
          <a:blip r:embed="rId1"/>
          <a:stretch/>
        </p:blipFill>
        <p:spPr>
          <a:xfrm>
            <a:off x="500040" y="2714760"/>
            <a:ext cx="3214800" cy="3857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08.od.ua/data/category/tetradi/tetradi.jpg"/>
          <p:cNvPicPr/>
          <p:nvPr/>
        </p:nvPicPr>
        <p:blipFill>
          <a:blip r:embed="rId2"/>
          <a:stretch/>
        </p:blipFill>
        <p:spPr>
          <a:xfrm>
            <a:off x="4786200" y="2714760"/>
            <a:ext cx="4071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49780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тил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– это выбор языковых средств, связанный с определенной сферой общественной деятельности, целью речевого общения и составом его носителей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619280" y="76500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Что такое стил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Organization Chart 5"/>
          <p:cNvGrpSpPr/>
          <p:nvPr/>
        </p:nvGrpSpPr>
        <p:grpSpPr>
          <a:xfrm>
            <a:off x="324000" y="404640"/>
            <a:ext cx="8494920" cy="5832360"/>
            <a:chOff x="324000" y="404640"/>
            <a:chExt cx="8494920" cy="5832360"/>
          </a:xfrm>
        </p:grpSpPr>
        <p:cxnSp>
          <p:nvCxnSpPr>
            <p:cNvPr id="265" name="_s1028"/>
            <p:cNvCxnSpPr>
              <a:stCxn id="266" idx="1"/>
              <a:endCxn id="267" idx="2"/>
            </p:cNvCxnSpPr>
            <p:nvPr/>
          </p:nvCxnSpPr>
          <p:spPr>
            <a:xfrm rot="10800000">
              <a:off x="2283480" y="2121480"/>
              <a:ext cx="654120" cy="377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8" name="_s1029"/>
            <p:cNvCxnSpPr>
              <a:stCxn id="269" idx="1"/>
              <a:endCxn id="267" idx="2"/>
            </p:cNvCxnSpPr>
            <p:nvPr/>
          </p:nvCxnSpPr>
          <p:spPr>
            <a:xfrm rot="10800000">
              <a:off x="2283480" y="2121480"/>
              <a:ext cx="654120" cy="2746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1030"/>
            <p:cNvCxnSpPr>
              <a:stCxn id="271" idx="1"/>
              <a:endCxn id="267" idx="2"/>
            </p:cNvCxnSpPr>
            <p:nvPr/>
          </p:nvCxnSpPr>
          <p:spPr>
            <a:xfrm rot="10800000">
              <a:off x="2283480" y="2121480"/>
              <a:ext cx="654120" cy="1715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2" name="_s1031"/>
            <p:cNvCxnSpPr>
              <a:stCxn id="273" idx="1"/>
              <a:endCxn id="267" idx="2"/>
            </p:cNvCxnSpPr>
            <p:nvPr/>
          </p:nvCxnSpPr>
          <p:spPr>
            <a:xfrm rot="10800000">
              <a:off x="2283480" y="2121480"/>
              <a:ext cx="654120" cy="687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4" name="_s1032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5541480" y="119880"/>
              <a:ext cx="346320" cy="2288160"/>
            </a:xfrm>
            <a:prstGeom prst="bentConnector3">
              <a:avLst>
                <a:gd name="adj1" fmla="val 499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7" name="_s1033"/>
            <p:cNvCxnSpPr>
              <a:stCxn id="267" idx="0"/>
              <a:endCxn id="276" idx="2"/>
            </p:cNvCxnSpPr>
            <p:nvPr/>
          </p:nvCxnSpPr>
          <p:spPr>
            <a:xfrm flipH="1" flipV="1" rot="5400000">
              <a:off x="3254040" y="120600"/>
              <a:ext cx="346320" cy="2287080"/>
            </a:xfrm>
            <a:prstGeom prst="bentConnector3">
              <a:avLst>
                <a:gd name="adj1" fmla="val 499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6" name="_s1034"/>
            <p:cNvSpPr/>
            <p:nvPr/>
          </p:nvSpPr>
          <p:spPr>
            <a:xfrm>
              <a:off x="2610360" y="40464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ИЛИ РЕЧ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035"/>
            <p:cNvSpPr/>
            <p:nvPr/>
          </p:nvSpPr>
          <p:spPr>
            <a:xfrm>
              <a:off x="324000" y="143496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КНИЖ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6"/>
            <p:cNvSpPr/>
            <p:nvPr/>
          </p:nvSpPr>
          <p:spPr>
            <a:xfrm>
              <a:off x="4898160" y="143496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ГОВОР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37"/>
            <p:cNvSpPr/>
            <p:nvPr/>
          </p:nvSpPr>
          <p:spPr>
            <a:xfrm>
              <a:off x="2937600" y="2465640"/>
              <a:ext cx="391572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УЧ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038"/>
            <p:cNvSpPr/>
            <p:nvPr/>
          </p:nvSpPr>
          <p:spPr>
            <a:xfrm>
              <a:off x="2937600" y="3496320"/>
              <a:ext cx="3915720" cy="68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ФИЦИАЛЬНО-ДЕЛОВ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039"/>
            <p:cNvSpPr/>
            <p:nvPr/>
          </p:nvSpPr>
          <p:spPr>
            <a:xfrm>
              <a:off x="2937600" y="4524120"/>
              <a:ext cx="3915720" cy="684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УБЛИЦИС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040"/>
            <p:cNvSpPr/>
            <p:nvPr/>
          </p:nvSpPr>
          <p:spPr>
            <a:xfrm>
              <a:off x="2937600" y="5552640"/>
              <a:ext cx="3915720" cy="68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ХУДОЖЕСТВЕН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22" descr="j0428125"/>
          <p:cNvPicPr/>
          <p:nvPr/>
        </p:nvPicPr>
        <p:blipFill>
          <a:blip r:embed="rId1"/>
          <a:stretch/>
        </p:blipFill>
        <p:spPr>
          <a:xfrm>
            <a:off x="539640" y="189000"/>
            <a:ext cx="13669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фициально-делово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общение граждан с учрежде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в документах, отчетах, заявлениях, доверенностях, деловых письмах, приказах и зако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–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ит для передачи информации в сфере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j0428127"/>
          <p:cNvPicPr/>
          <p:nvPr/>
        </p:nvPicPr>
        <p:blipFill>
          <a:blip r:embed="rId1"/>
          <a:stretch/>
        </p:blipFill>
        <p:spPr>
          <a:xfrm>
            <a:off x="7812000" y="189000"/>
            <a:ext cx="1059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дел"/>
          <p:cNvPicPr/>
          <p:nvPr/>
        </p:nvPicPr>
        <p:blipFill>
          <a:blip r:embed="rId1"/>
          <a:stretch/>
        </p:blipFill>
        <p:spPr>
          <a:xfrm rot="20665800">
            <a:off x="3276360" y="404640"/>
            <a:ext cx="2590560" cy="259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3" name="Picture 6" descr="дел"/>
          <p:cNvPicPr/>
          <p:nvPr/>
        </p:nvPicPr>
        <p:blipFill>
          <a:blip r:embed="rId2"/>
          <a:stretch/>
        </p:blipFill>
        <p:spPr>
          <a:xfrm rot="20741400">
            <a:off x="468000" y="549000"/>
            <a:ext cx="2698560" cy="37749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84" name="Picture 7" descr="дел"/>
          <p:cNvPicPr/>
          <p:nvPr/>
        </p:nvPicPr>
        <p:blipFill>
          <a:blip r:embed="rId3"/>
          <a:stretch/>
        </p:blipFill>
        <p:spPr>
          <a:xfrm rot="20824200">
            <a:off x="395280" y="3715920"/>
            <a:ext cx="2700360" cy="27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5" name="Picture 5" descr="дел"/>
          <p:cNvPicPr/>
          <p:nvPr/>
        </p:nvPicPr>
        <p:blipFill>
          <a:blip r:embed="rId4"/>
          <a:stretch/>
        </p:blipFill>
        <p:spPr>
          <a:xfrm>
            <a:off x="6227640" y="189000"/>
            <a:ext cx="2664000" cy="266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6" name="Picture 8" descr="дел"/>
          <p:cNvPicPr/>
          <p:nvPr/>
        </p:nvPicPr>
        <p:blipFill>
          <a:blip r:embed="rId5"/>
          <a:stretch/>
        </p:blipFill>
        <p:spPr>
          <a:xfrm rot="1364400">
            <a:off x="5940000" y="2636640"/>
            <a:ext cx="2367000" cy="38052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87" name="Picture 9" descr="офис"/>
          <p:cNvPicPr/>
          <p:nvPr/>
        </p:nvPicPr>
        <p:blipFill>
          <a:blip r:embed="rId6"/>
          <a:stretch/>
        </p:blipFill>
        <p:spPr>
          <a:xfrm>
            <a:off x="3132000" y="2608200"/>
            <a:ext cx="3024360" cy="2979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официально-делов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тк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эмоциональность излож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ндартизированные словосочета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ова-терми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илистически нейтраль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сика, отражающая официально-деловые отношения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ленум, сессия, реш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нцеляризмы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слушать доклад, зачитать решение, входящий ном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учны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научная  деятельность (написание специальных учебников, научных статей, конспектов, курсовых рабо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состоит в том, чтобы дать точное и ясное представление о научных понят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j0428105"/>
          <p:cNvPicPr/>
          <p:nvPr/>
        </p:nvPicPr>
        <p:blipFill>
          <a:blip r:embed="rId1"/>
          <a:stretch/>
        </p:blipFill>
        <p:spPr>
          <a:xfrm>
            <a:off x="7164360" y="0"/>
            <a:ext cx="17524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" descr="доклад 1"/>
          <p:cNvPicPr/>
          <p:nvPr/>
        </p:nvPicPr>
        <p:blipFill>
          <a:blip r:embed="rId1"/>
          <a:stretch/>
        </p:blipFill>
        <p:spPr>
          <a:xfrm>
            <a:off x="4932360" y="353880"/>
            <a:ext cx="3772080" cy="26910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94" name="Picture 6" descr="доклад 2"/>
          <p:cNvPicPr/>
          <p:nvPr/>
        </p:nvPicPr>
        <p:blipFill>
          <a:blip r:embed="rId2"/>
          <a:stretch/>
        </p:blipFill>
        <p:spPr>
          <a:xfrm>
            <a:off x="4859280" y="3321000"/>
            <a:ext cx="4057560" cy="30434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295" name="Picture 7" descr="доклал 5"/>
          <p:cNvPicPr/>
          <p:nvPr/>
        </p:nvPicPr>
        <p:blipFill>
          <a:blip r:embed="rId3"/>
          <a:stretch/>
        </p:blipFill>
        <p:spPr>
          <a:xfrm>
            <a:off x="250920" y="260280"/>
            <a:ext cx="4321080" cy="3240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296" name="Picture 8" descr="доклад 6"/>
          <p:cNvPicPr/>
          <p:nvPr/>
        </p:nvPicPr>
        <p:blipFill>
          <a:blip r:embed="rId4"/>
          <a:stretch/>
        </p:blipFill>
        <p:spPr>
          <a:xfrm>
            <a:off x="250920" y="3716280"/>
            <a:ext cx="4105080" cy="2952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ля научного стиля характерно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кость и логичность излож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азате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выражения эмоц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ологическая лексик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техн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центрифуг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медицин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ентг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нгвист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уффик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артер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7:56:27Z</dcterms:created>
  <dc:creator>user33</dc:creator>
  <dc:description/>
  <dc:language>en-US</dc:language>
  <cp:lastModifiedBy>Наташа</cp:lastModifiedBy>
  <dcterms:modified xsi:type="dcterms:W3CDTF">2016-09-21T15:12:04Z</dcterms:modified>
  <cp:revision>51</cp:revision>
  <dc:subject/>
  <dc:title>Слайд 1</dc:title>
</cp:coreProperties>
</file>