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8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B80-F45D-4352-944C-2BA60B2F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E10-A228-4133-9E3F-3F2C3FB3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A5C-EA29-4423-865E-EEE69A52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304-E84C-40B2-BBE8-CA6AA80F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1487-672A-4556-A657-10B80EEE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45B1-1711-4D16-A4CC-3B8DD71E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17CE-882B-4E14-A426-8CAF4E01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02B8-2099-4279-9F39-4BC7CD8D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C4FC-4C5C-4BF3-8564-5680D4B3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FD5D-9EBF-4765-80E3-DB491EAD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CC9E-E4D5-40D8-8C05-6EADAF9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BD1-4272-460D-B47A-55671980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FCA7-74B0-4370-B355-81FB03FF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FB5-5D92-4E2E-A305-F936E935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7869-3473-4D55-89DC-82CEEA76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BBAD-944A-43DC-9A63-6D7B6D42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B606-5277-4C93-99BC-61F27AC3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73F-7388-43CC-9D8B-A13395FB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A86-E76E-4B8B-B98D-9EA3A368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0E7E-9E23-4849-BF33-50D262C4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44E-2205-42C3-BC23-E6B0CC9F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29A-4297-45D7-9D30-F20B4DB9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53B-9488-42C4-8317-6F62EAF8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E1A-25A3-4E2D-B81F-AFCE8B5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C28F-9CB4-460B-A51D-B49EB52F39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6DF7-892D-4EC3-9B38-83D1238096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714240" y="2428920"/>
            <a:ext cx="742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Урок   русского  языка  в  6 кла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98280" y="13644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мотрите на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28760" y="107172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39640" y="620640"/>
            <a:ext cx="25196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т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воз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д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ртолетч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135840" y="1576440"/>
            <a:ext cx="25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5353200" y="692280"/>
            <a:ext cx="274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рабанщ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риль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мен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арщ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"/>
          <p:cNvSpPr/>
          <p:nvPr/>
        </p:nvSpPr>
        <p:spPr>
          <a:xfrm flipV="1">
            <a:off x="1763640" y="691920"/>
            <a:ext cx="287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2050920" y="692280"/>
            <a:ext cx="14472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 flipV="1">
            <a:off x="1763640" y="691920"/>
            <a:ext cx="287280" cy="21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2050920" y="692280"/>
            <a:ext cx="21744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285840" y="3571920"/>
            <a:ext cx="8316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Что обозначает в этих словах –чик (щик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6" descr=""/>
          <p:cNvPicPr/>
          <p:nvPr/>
        </p:nvPicPr>
        <p:blipFill>
          <a:blip r:embed="rId1"/>
          <a:stretch/>
        </p:blipFill>
        <p:spPr>
          <a:xfrm>
            <a:off x="681120" y="3000240"/>
            <a:ext cx="846288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7"/>
          <p:cNvSpPr/>
          <p:nvPr/>
        </p:nvSpPr>
        <p:spPr>
          <a:xfrm>
            <a:off x="0" y="4429080"/>
            <a:ext cx="938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значает человека по профессии и роду заня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анализируйте эти слова. Какие закономерности  существуют в их написан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7164360" y="83664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7236000" y="1341360"/>
            <a:ext cx="21564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0"/>
          <p:cNvSpPr/>
          <p:nvPr/>
        </p:nvSpPr>
        <p:spPr>
          <a:xfrm>
            <a:off x="7308720" y="1916280"/>
            <a:ext cx="216000" cy="142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7308720" y="249228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3"/>
          <p:cNvSpPr/>
          <p:nvPr/>
        </p:nvSpPr>
        <p:spPr>
          <a:xfrm>
            <a:off x="2340000" y="69228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24"/>
          <p:cNvSpPr/>
          <p:nvPr/>
        </p:nvSpPr>
        <p:spPr>
          <a:xfrm>
            <a:off x="2340000" y="126828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5"/>
          <p:cNvSpPr/>
          <p:nvPr/>
        </p:nvSpPr>
        <p:spPr>
          <a:xfrm>
            <a:off x="2195640" y="1844640"/>
            <a:ext cx="21564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>
            <a:off x="2340000" y="2349360"/>
            <a:ext cx="21600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8"/>
          <p:cNvSpPr/>
          <p:nvPr/>
        </p:nvSpPr>
        <p:spPr>
          <a:xfrm flipH="1">
            <a:off x="7093080" y="191628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9"/>
          <p:cNvSpPr/>
          <p:nvPr/>
        </p:nvSpPr>
        <p:spPr>
          <a:xfrm flipH="1">
            <a:off x="7020000" y="134136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31"/>
          <p:cNvSpPr/>
          <p:nvPr/>
        </p:nvSpPr>
        <p:spPr>
          <a:xfrm flipH="1">
            <a:off x="6948360" y="83664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33"/>
          <p:cNvSpPr/>
          <p:nvPr/>
        </p:nvSpPr>
        <p:spPr>
          <a:xfrm flipH="1">
            <a:off x="7093080" y="249228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34"/>
          <p:cNvSpPr/>
          <p:nvPr/>
        </p:nvSpPr>
        <p:spPr>
          <a:xfrm flipH="1">
            <a:off x="2124000" y="234936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35"/>
          <p:cNvSpPr/>
          <p:nvPr/>
        </p:nvSpPr>
        <p:spPr>
          <a:xfrm flipH="1">
            <a:off x="1979640" y="184464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36"/>
          <p:cNvSpPr/>
          <p:nvPr/>
        </p:nvSpPr>
        <p:spPr>
          <a:xfrm flipH="1">
            <a:off x="2124000" y="1268280"/>
            <a:ext cx="217440" cy="1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37"/>
          <p:cNvSpPr/>
          <p:nvPr/>
        </p:nvSpPr>
        <p:spPr>
          <a:xfrm flipH="1">
            <a:off x="2124000" y="692280"/>
            <a:ext cx="217440" cy="14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39"/>
          <p:cNvSpPr/>
          <p:nvPr/>
        </p:nvSpPr>
        <p:spPr>
          <a:xfrm>
            <a:off x="6786720" y="3571920"/>
            <a:ext cx="215640" cy="1429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40"/>
          <p:cNvSpPr/>
          <p:nvPr/>
        </p:nvSpPr>
        <p:spPr>
          <a:xfrm>
            <a:off x="7358040" y="3643200"/>
            <a:ext cx="289080" cy="144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 flipH="1">
            <a:off x="6572160" y="3571920"/>
            <a:ext cx="216000" cy="144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 flipH="1">
            <a:off x="7072200" y="3643200"/>
            <a:ext cx="287280" cy="2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840360" cy="2232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403280" y="549360"/>
            <a:ext cx="489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читаем правил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(учебник, стр. 1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879480" y="344808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95280" y="2852640"/>
            <a:ext cx="82803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суффиксе существительных -чик(-щик) после букв д-т, з-с, ж пишется буква 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остальных случаях пишется буква щ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ик (смазать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менщик (не на д-т, з-с, ж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 flipH="1">
            <a:off x="3851280" y="5157720"/>
            <a:ext cx="21744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 flipH="1">
            <a:off x="3348000" y="5805360"/>
            <a:ext cx="217440" cy="1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3564000" y="5805360"/>
            <a:ext cx="21600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>
            <a:off x="4067280" y="5157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3780000" y="558972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4"/>
          <p:cNvSpPr/>
          <p:nvPr/>
        </p:nvSpPr>
        <p:spPr>
          <a:xfrm>
            <a:off x="3564000" y="566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5"/>
          <p:cNvSpPr/>
          <p:nvPr/>
        </p:nvSpPr>
        <p:spPr>
          <a:xfrm>
            <a:off x="3564000" y="5589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6"/>
          <p:cNvSpPr/>
          <p:nvPr/>
        </p:nvSpPr>
        <p:spPr>
          <a:xfrm>
            <a:off x="5219640" y="5589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7"/>
          <p:cNvSpPr/>
          <p:nvPr/>
        </p:nvSpPr>
        <p:spPr>
          <a:xfrm>
            <a:off x="5219640" y="566100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8"/>
          <p:cNvSpPr/>
          <p:nvPr/>
        </p:nvSpPr>
        <p:spPr>
          <a:xfrm>
            <a:off x="3276720" y="6237360"/>
            <a:ext cx="21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>
            <a:off x="3059280" y="623736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3059280" y="63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1"/>
          <p:cNvSpPr/>
          <p:nvPr/>
        </p:nvSpPr>
        <p:spPr>
          <a:xfrm>
            <a:off x="5219640" y="6237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22"/>
          <p:cNvSpPr/>
          <p:nvPr/>
        </p:nvSpPr>
        <p:spPr>
          <a:xfrm>
            <a:off x="5219640" y="630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23"/>
          <p:cNvSpPr/>
          <p:nvPr/>
        </p:nvSpPr>
        <p:spPr>
          <a:xfrm>
            <a:off x="5867280" y="6237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24"/>
          <p:cNvSpPr/>
          <p:nvPr/>
        </p:nvSpPr>
        <p:spPr>
          <a:xfrm>
            <a:off x="5867280" y="630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25"/>
          <p:cNvSpPr/>
          <p:nvPr/>
        </p:nvSpPr>
        <p:spPr>
          <a:xfrm>
            <a:off x="6588000" y="6237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63"/>
          <p:cNvSpPr/>
          <p:nvPr/>
        </p:nvSpPr>
        <p:spPr>
          <a:xfrm>
            <a:off x="4140360" y="2708280"/>
            <a:ext cx="96192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65"/>
          <p:cNvSpPr/>
          <p:nvPr/>
        </p:nvSpPr>
        <p:spPr>
          <a:xfrm>
            <a:off x="2124000" y="1916280"/>
            <a:ext cx="3960720" cy="388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67"/>
          <p:cNvSpPr/>
          <p:nvPr/>
        </p:nvSpPr>
        <p:spPr>
          <a:xfrm>
            <a:off x="2195640" y="1125360"/>
            <a:ext cx="4321080" cy="3745080"/>
          </a:xfrm>
          <a:prstGeom prst="pie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68"/>
          <p:cNvSpPr/>
          <p:nvPr/>
        </p:nvSpPr>
        <p:spPr>
          <a:xfrm>
            <a:off x="3851280" y="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69"/>
          <p:cNvSpPr/>
          <p:nvPr/>
        </p:nvSpPr>
        <p:spPr>
          <a:xfrm>
            <a:off x="6084720" y="1844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0"/>
          <p:cNvSpPr/>
          <p:nvPr/>
        </p:nvSpPr>
        <p:spPr>
          <a:xfrm>
            <a:off x="5796000" y="4076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72"/>
          <p:cNvSpPr/>
          <p:nvPr/>
        </p:nvSpPr>
        <p:spPr>
          <a:xfrm>
            <a:off x="2124000" y="4221000"/>
            <a:ext cx="9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3"/>
          <p:cNvSpPr/>
          <p:nvPr/>
        </p:nvSpPr>
        <p:spPr>
          <a:xfrm>
            <a:off x="1131840" y="1844640"/>
            <a:ext cx="10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74"/>
          <p:cNvSpPr/>
          <p:nvPr/>
        </p:nvSpPr>
        <p:spPr>
          <a:xfrm>
            <a:off x="0" y="5589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 остальных случаях –щи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75"/>
          <p:cNvSpPr/>
          <p:nvPr/>
        </p:nvSpPr>
        <p:spPr>
          <a:xfrm flipV="1">
            <a:off x="3708360" y="256500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76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77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78"/>
          <p:cNvSpPr/>
          <p:nvPr/>
        </p:nvSpPr>
        <p:spPr>
          <a:xfrm flipH="1">
            <a:off x="3635280" y="2565360"/>
            <a:ext cx="720720" cy="36036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79"/>
          <p:cNvSpPr/>
          <p:nvPr/>
        </p:nvSpPr>
        <p:spPr>
          <a:xfrm flipH="1">
            <a:off x="7164360" y="5445000"/>
            <a:ext cx="649440" cy="360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80"/>
          <p:cNvSpPr/>
          <p:nvPr/>
        </p:nvSpPr>
        <p:spPr>
          <a:xfrm>
            <a:off x="7812000" y="5445000"/>
            <a:ext cx="505080" cy="36036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изкультминутка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у-ка, школьник,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ватит сидеть!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мя пришло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стать. Чуть вспоте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543800" cy="450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ифровой диктант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люч для проверки: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,2,1,1,2,2,1,1,1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301680" y="2133720"/>
            <a:ext cx="815796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рабанчики яростно колотили в бараб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бывав у заказщиков, Саша зашел на минутку к сест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ижнем буфетчик рассчитал ме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олеблющимся мосткам сновали грузщ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чие передавали сменчикам ста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естянчики работали на глазах всей ул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7027920" cy="16560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7"/>
          <p:cNvSpPr/>
          <p:nvPr/>
        </p:nvSpPr>
        <p:spPr>
          <a:xfrm>
            <a:off x="1476360" y="54936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играем в коррек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0" name="AutoShape 13"/>
          <p:cNvCxnSpPr/>
          <p:nvPr/>
        </p:nvCxnSpPr>
        <p:spPr>
          <a:xfrm flipV="1">
            <a:off x="1763640" y="227628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1" name="AutoShape 14"/>
          <p:cNvCxnSpPr/>
          <p:nvPr/>
        </p:nvCxnSpPr>
        <p:spPr>
          <a:xfrm flipV="1">
            <a:off x="2843280" y="278100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2" name="AutoShape 15"/>
          <p:cNvCxnSpPr/>
          <p:nvPr/>
        </p:nvCxnSpPr>
        <p:spPr>
          <a:xfrm flipV="1">
            <a:off x="5940360" y="371592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3" name="AutoShape 16"/>
          <p:cNvCxnSpPr/>
          <p:nvPr/>
        </p:nvCxnSpPr>
        <p:spPr>
          <a:xfrm flipV="1">
            <a:off x="4066920" y="4149360"/>
            <a:ext cx="21636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4" name="AutoShape 17"/>
          <p:cNvCxnSpPr/>
          <p:nvPr/>
        </p:nvCxnSpPr>
        <p:spPr>
          <a:xfrm flipV="1">
            <a:off x="1692000" y="4581000"/>
            <a:ext cx="21636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315" name="Rectangle 20"/>
          <p:cNvSpPr/>
          <p:nvPr/>
        </p:nvSpPr>
        <p:spPr>
          <a:xfrm>
            <a:off x="2916360" y="249228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1"/>
          <p:cNvSpPr/>
          <p:nvPr/>
        </p:nvSpPr>
        <p:spPr>
          <a:xfrm>
            <a:off x="6157800" y="33577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1909440" y="1844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4213080" y="37893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1836720" y="4292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27"/>
          <p:cNvSpPr/>
          <p:nvPr/>
        </p:nvSpPr>
        <p:spPr>
          <a:xfrm>
            <a:off x="2700360" y="357336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8"/>
          <p:cNvSpPr/>
          <p:nvPr/>
        </p:nvSpPr>
        <p:spPr>
          <a:xfrm flipH="1">
            <a:off x="2916000" y="3141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29"/>
          <p:cNvSpPr/>
          <p:nvPr/>
        </p:nvSpPr>
        <p:spPr>
          <a:xfrm>
            <a:off x="3059280" y="3141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280360" cy="1125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2700360" y="98100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дведём итог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285840" y="1428840"/>
            <a:ext cx="7292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нового узнали на уроке о суффиксах имен существитель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же пишется суффикс -чик (-щик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задания выполнять было легко и интересно? Что вызвало затрудн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441360" y="4529160"/>
            <a:ext cx="84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машнее задание: учебник стр.1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 группа- упр.24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 группа-составить связный текст на тему «Новостройки нашего се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07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 СОТРУДНИЧЕСТВО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40096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нгвистическая разминк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ая игра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Мешки со словам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"/>
          <p:cNvSpPr/>
          <p:nvPr/>
        </p:nvSpPr>
        <p:spPr>
          <a:xfrm>
            <a:off x="2124000" y="568440"/>
            <a:ext cx="40896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7991640" cy="45896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684360" y="-171360"/>
            <a:ext cx="5472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00"/>
                </a:solidFill>
                <a:latin typeface="Arial"/>
              </a:rPr>
              <a:t>Что такое суффикс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333600" y="2836440"/>
            <a:ext cx="2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395280" y="4653000"/>
            <a:ext cx="8353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0000"/>
                </a:solidFill>
                <a:uFillTx/>
                <a:latin typeface="Arial"/>
              </a:rPr>
              <a:t>Суффикс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– значимая часть слова, которая находится после корня и обычно служит для образования новых сл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1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3090600" cy="1550880"/>
          </a:xfrm>
          <a:prstGeom prst="rect">
            <a:avLst/>
          </a:prstGeom>
          <a:ln w="0">
            <a:noFill/>
          </a:ln>
        </p:spPr>
      </p:pic>
      <p:sp>
        <p:nvSpPr>
          <p:cNvPr id="219" name="WordArt 22"/>
          <p:cNvSpPr txBox="1"/>
          <p:nvPr/>
        </p:nvSpPr>
        <p:spPr>
          <a:xfrm>
            <a:off x="1476360" y="3573360"/>
            <a:ext cx="177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помн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суффикс имеет свое определенное значение, учит нас видеть характер сл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но ли по суффиксу определить часть речи, в которой он используется?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лексическое значение могут иметь суффиксы?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1714680" y="2071800"/>
            <a:ext cx="5572080" cy="44290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тель-     -ер-      -ник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  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чик-  -щик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-ушк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онок-                                                 -ся-  -ыва-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ек-                                                   -л-   -ну-   -а-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ик-                                                    --ова- - ива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 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-лив-   -чив- -оват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                  </a:t>
            </a:r>
            <a:r>
              <a:rPr b="0" lang="ru-RU" sz="1600" spc="-1" strike="noStrike">
                <a:solidFill>
                  <a:srgbClr val="003457"/>
                </a:solidFill>
                <a:latin typeface="Calibri"/>
              </a:rPr>
              <a:t>-ов-   - ев-  -ин-  -енн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8001000" cy="121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Фотогалерея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*Кто изображен на этой иллюстрации?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Рисунок 2" descr="contractors-workers-people_~k5720845.jpg"/>
          <p:cNvPicPr/>
          <p:nvPr/>
        </p:nvPicPr>
        <p:blipFill>
          <a:blip r:embed="rId1"/>
          <a:stretch/>
        </p:blipFill>
        <p:spPr>
          <a:xfrm>
            <a:off x="285840" y="2071800"/>
            <a:ext cx="45720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IE162-040.jpg"/>
          <p:cNvPicPr/>
          <p:nvPr/>
        </p:nvPicPr>
        <p:blipFill>
          <a:blip r:embed="rId1"/>
          <a:stretch/>
        </p:blipFill>
        <p:spPr>
          <a:xfrm rot="20685000">
            <a:off x="252360" y="510840"/>
            <a:ext cx="3363840" cy="23749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welder-working-bridge_~K17-190295.jpg"/>
          <p:cNvPicPr/>
          <p:nvPr/>
        </p:nvPicPr>
        <p:blipFill>
          <a:blip r:embed="rId2"/>
          <a:stretch/>
        </p:blipFill>
        <p:spPr>
          <a:xfrm rot="1246800">
            <a:off x="5200200" y="428760"/>
            <a:ext cx="2819520" cy="24238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0010.jpg"/>
          <p:cNvPicPr/>
          <p:nvPr/>
        </p:nvPicPr>
        <p:blipFill>
          <a:blip r:embed="rId3"/>
          <a:stretch/>
        </p:blipFill>
        <p:spPr>
          <a:xfrm rot="1313400">
            <a:off x="360000" y="3846600"/>
            <a:ext cx="3084480" cy="2527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boy_playing_snaredrum.gif"/>
          <p:cNvPicPr/>
          <p:nvPr/>
        </p:nvPicPr>
        <p:blipFill>
          <a:blip r:embed="rId4"/>
          <a:stretch/>
        </p:blipFill>
        <p:spPr>
          <a:xfrm rot="1217400">
            <a:off x="5621040" y="35938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931._Извозчик_на_Стромынке_.jpg"/>
          <p:cNvPicPr/>
          <p:nvPr/>
        </p:nvPicPr>
        <p:blipFill>
          <a:blip r:embed="rId5"/>
          <a:stretch/>
        </p:blipFill>
        <p:spPr>
          <a:xfrm>
            <a:off x="2286000" y="2428920"/>
            <a:ext cx="3589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29680" cy="629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пишите слово </a:t>
            </a:r>
            <a:r>
              <a:rPr b="0" i="1" lang="ru-RU" sz="4400" spc="-1" strike="noStrike">
                <a:solidFill>
                  <a:srgbClr val="66ff33"/>
                </a:solidFill>
                <a:latin typeface="Arial"/>
              </a:rPr>
              <a:t>извоз…к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ую орфографическую проблему вы обнаружили? В какой части слова она находится?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формулируйте тему нашего сегодняшнего уро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2556000" y="3357720"/>
            <a:ext cx="3887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843280" y="1773360"/>
            <a:ext cx="3529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писание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2843280" y="285264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ффикса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2916360" y="4076640"/>
            <a:ext cx="352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66ff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чик (-щик)</a:t>
            </a:r>
            <a:endParaRPr b="0" lang="en-US" sz="1800" spc="1" strike="noStrike">
              <a:ln w="28440">
                <a:solidFill>
                  <a:srgbClr val="66ff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1" descr="person-working_~k7558522.jpg"/>
          <p:cNvPicPr/>
          <p:nvPr/>
        </p:nvPicPr>
        <p:blipFill>
          <a:blip r:embed="rId1"/>
          <a:stretch/>
        </p:blipFill>
        <p:spPr>
          <a:xfrm rot="21259200">
            <a:off x="285840" y="571320"/>
            <a:ext cx="3452760" cy="31762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helicopter-pictures20.jpg"/>
          <p:cNvPicPr/>
          <p:nvPr/>
        </p:nvPicPr>
        <p:blipFill>
          <a:blip r:embed="rId2"/>
          <a:stretch/>
        </p:blipFill>
        <p:spPr>
          <a:xfrm rot="19975200">
            <a:off x="4014720" y="826560"/>
            <a:ext cx="4438800" cy="332928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edson-alberta-canada_~1875351.jpg"/>
          <p:cNvPicPr/>
          <p:nvPr/>
        </p:nvPicPr>
        <p:blipFill>
          <a:blip r:embed="rId3"/>
          <a:stretch/>
        </p:blipFill>
        <p:spPr>
          <a:xfrm rot="21066600">
            <a:off x="2887560" y="3381120"/>
            <a:ext cx="2100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49:40Z</dcterms:created>
  <dc:creator>Dmitry</dc:creator>
  <dc:description/>
  <dc:language>en-US</dc:language>
  <cp:lastModifiedBy>физика</cp:lastModifiedBy>
  <dcterms:modified xsi:type="dcterms:W3CDTF">2011-11-29T19:18:49Z</dcterms:modified>
  <cp:revision>207</cp:revision>
  <dc:subject/>
  <dc:title>Слайд 1</dc:title>
</cp:coreProperties>
</file>