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8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A23-C977-43FE-8AA0-7069D1AF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0DC-4641-4028-8AF6-24205A7E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F41-623A-42E3-A89B-9B12599C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B1A-3946-4E3D-B970-391AAF21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943F-3A43-478C-A0AB-EC183B0C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990-5823-44E6-8A35-BC29C5C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8926-C439-47A5-AE62-69AB4BD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B910-55DB-4D31-863A-77D89BBB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3816-71F9-4E44-A637-CEF21C50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D8E2-123C-4DCE-9D6A-4D827E4F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7B6E-3F1A-4E28-AA69-2D38D53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5C0-BACB-4C5F-B5E5-821AFEB4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5566-8874-4A02-A0F0-360CE79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84DB-98CC-4CD6-B668-2B85EB6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8EE7-33DE-4DC0-9C22-68FA8FD0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9D2-8B19-4175-9C73-45D55598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59B7-E699-40A8-B67F-E9992AA4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79B-9646-4927-925E-661465DF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CBB-CF1A-4228-B56F-2843BB09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965-75C9-4FB5-A715-4EED9AC3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462-5C10-4012-979D-5608D09D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CA9-A996-42CB-B3F6-0D51BDF8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A3F-A948-4763-A18C-1C3ED5BF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186-2AC3-4EFE-8366-D5AA39B2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99D7-4380-4965-B08C-532FEF289A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04CE-7404-405C-9EFF-5C779E3F92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714240" y="2428920"/>
            <a:ext cx="742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Урок   русского  языка  в  6 кла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98280" y="13644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мотрите на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28760" y="107172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620640"/>
            <a:ext cx="2519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воз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д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толет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35840" y="157644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353200" y="692280"/>
            <a:ext cx="274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рабанщ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риль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ен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ар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1763640" y="691920"/>
            <a:ext cx="287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2050920" y="692280"/>
            <a:ext cx="144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 flipV="1">
            <a:off x="1763640" y="691920"/>
            <a:ext cx="287280" cy="21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050920" y="692280"/>
            <a:ext cx="21744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85840" y="3571920"/>
            <a:ext cx="8316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Что обозначает в этих словах –чик (щик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681120" y="3000240"/>
            <a:ext cx="846288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7"/>
          <p:cNvSpPr/>
          <p:nvPr/>
        </p:nvSpPr>
        <p:spPr>
          <a:xfrm>
            <a:off x="0" y="4429080"/>
            <a:ext cx="938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значает человека по профессии и роду зан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анализируйте эти слова. Какие закономерности  существуют в их написа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7164360" y="83664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7236000" y="1341360"/>
            <a:ext cx="21564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0"/>
          <p:cNvSpPr/>
          <p:nvPr/>
        </p:nvSpPr>
        <p:spPr>
          <a:xfrm>
            <a:off x="7308720" y="1916280"/>
            <a:ext cx="21600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7308720" y="2492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2340000" y="692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2340000" y="1268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5"/>
          <p:cNvSpPr/>
          <p:nvPr/>
        </p:nvSpPr>
        <p:spPr>
          <a:xfrm>
            <a:off x="2195640" y="1844640"/>
            <a:ext cx="21564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>
            <a:off x="2340000" y="234936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 flipH="1">
            <a:off x="7093080" y="191628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9"/>
          <p:cNvSpPr/>
          <p:nvPr/>
        </p:nvSpPr>
        <p:spPr>
          <a:xfrm flipH="1">
            <a:off x="7020000" y="134136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1"/>
          <p:cNvSpPr/>
          <p:nvPr/>
        </p:nvSpPr>
        <p:spPr>
          <a:xfrm flipH="1">
            <a:off x="6948360" y="83664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 flipH="1">
            <a:off x="7093080" y="249228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4"/>
          <p:cNvSpPr/>
          <p:nvPr/>
        </p:nvSpPr>
        <p:spPr>
          <a:xfrm flipH="1">
            <a:off x="2124000" y="234936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5"/>
          <p:cNvSpPr/>
          <p:nvPr/>
        </p:nvSpPr>
        <p:spPr>
          <a:xfrm flipH="1">
            <a:off x="1979640" y="184464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6"/>
          <p:cNvSpPr/>
          <p:nvPr/>
        </p:nvSpPr>
        <p:spPr>
          <a:xfrm flipH="1">
            <a:off x="2124000" y="126828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7"/>
          <p:cNvSpPr/>
          <p:nvPr/>
        </p:nvSpPr>
        <p:spPr>
          <a:xfrm flipH="1">
            <a:off x="2124000" y="69228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6786720" y="3571920"/>
            <a:ext cx="215640" cy="142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7358040" y="3643200"/>
            <a:ext cx="289080" cy="144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 flipH="1">
            <a:off x="6572160" y="3571920"/>
            <a:ext cx="216000" cy="14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 flipH="1">
            <a:off x="7072200" y="3643200"/>
            <a:ext cx="287280" cy="2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0360" cy="2232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403280" y="549360"/>
            <a:ext cx="489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читаем правил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(учебник, стр. 1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879480" y="344808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95280" y="2852640"/>
            <a:ext cx="82803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уффиксе существительных -чик(-щик) после букв д-т, з-с, ж пишется буква 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стальных случаях пишется буква 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ик (смазат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менщик (не на д-т, з-с, ж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 flipH="1">
            <a:off x="3851280" y="5157720"/>
            <a:ext cx="2174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H="1">
            <a:off x="3348000" y="5805360"/>
            <a:ext cx="217440" cy="1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564000" y="5805360"/>
            <a:ext cx="21600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4067280" y="5157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3780000" y="5589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4"/>
          <p:cNvSpPr/>
          <p:nvPr/>
        </p:nvSpPr>
        <p:spPr>
          <a:xfrm>
            <a:off x="356400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56400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6"/>
          <p:cNvSpPr/>
          <p:nvPr/>
        </p:nvSpPr>
        <p:spPr>
          <a:xfrm>
            <a:off x="521964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7"/>
          <p:cNvSpPr/>
          <p:nvPr/>
        </p:nvSpPr>
        <p:spPr>
          <a:xfrm>
            <a:off x="521964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3276720" y="6237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>
            <a:off x="3059280" y="6237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3059280" y="63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521964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2"/>
          <p:cNvSpPr/>
          <p:nvPr/>
        </p:nvSpPr>
        <p:spPr>
          <a:xfrm>
            <a:off x="521964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586728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4"/>
          <p:cNvSpPr/>
          <p:nvPr/>
        </p:nvSpPr>
        <p:spPr>
          <a:xfrm>
            <a:off x="586728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5"/>
          <p:cNvSpPr/>
          <p:nvPr/>
        </p:nvSpPr>
        <p:spPr>
          <a:xfrm>
            <a:off x="6588000" y="623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63"/>
          <p:cNvSpPr/>
          <p:nvPr/>
        </p:nvSpPr>
        <p:spPr>
          <a:xfrm>
            <a:off x="4140360" y="2708280"/>
            <a:ext cx="96192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65"/>
          <p:cNvSpPr/>
          <p:nvPr/>
        </p:nvSpPr>
        <p:spPr>
          <a:xfrm>
            <a:off x="2124000" y="1916280"/>
            <a:ext cx="3960720" cy="388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67"/>
          <p:cNvSpPr/>
          <p:nvPr/>
        </p:nvSpPr>
        <p:spPr>
          <a:xfrm>
            <a:off x="2195640" y="1125360"/>
            <a:ext cx="4321080" cy="3745080"/>
          </a:xfrm>
          <a:prstGeom prst="pie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68"/>
          <p:cNvSpPr/>
          <p:nvPr/>
        </p:nvSpPr>
        <p:spPr>
          <a:xfrm>
            <a:off x="3851280" y="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69"/>
          <p:cNvSpPr/>
          <p:nvPr/>
        </p:nvSpPr>
        <p:spPr>
          <a:xfrm>
            <a:off x="6084720" y="1844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0"/>
          <p:cNvSpPr/>
          <p:nvPr/>
        </p:nvSpPr>
        <p:spPr>
          <a:xfrm>
            <a:off x="5796000" y="4076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72"/>
          <p:cNvSpPr/>
          <p:nvPr/>
        </p:nvSpPr>
        <p:spPr>
          <a:xfrm>
            <a:off x="2124000" y="4221000"/>
            <a:ext cx="9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3"/>
          <p:cNvSpPr/>
          <p:nvPr/>
        </p:nvSpPr>
        <p:spPr>
          <a:xfrm>
            <a:off x="1131840" y="1844640"/>
            <a:ext cx="10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4"/>
          <p:cNvSpPr/>
          <p:nvPr/>
        </p:nvSpPr>
        <p:spPr>
          <a:xfrm>
            <a:off x="0" y="5589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 остальных случаях –щ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75"/>
          <p:cNvSpPr/>
          <p:nvPr/>
        </p:nvSpPr>
        <p:spPr>
          <a:xfrm flipV="1">
            <a:off x="3708360" y="256500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76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77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8"/>
          <p:cNvSpPr/>
          <p:nvPr/>
        </p:nvSpPr>
        <p:spPr>
          <a:xfrm flipH="1">
            <a:off x="3635280" y="2565360"/>
            <a:ext cx="720720" cy="36036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79"/>
          <p:cNvSpPr/>
          <p:nvPr/>
        </p:nvSpPr>
        <p:spPr>
          <a:xfrm flipH="1">
            <a:off x="7164360" y="5445000"/>
            <a:ext cx="649440" cy="360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80"/>
          <p:cNvSpPr/>
          <p:nvPr/>
        </p:nvSpPr>
        <p:spPr>
          <a:xfrm>
            <a:off x="7812000" y="5445000"/>
            <a:ext cx="505080" cy="360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изкультминутка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у-ка, школьник,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ватит сидеть!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мя пришло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стать. Чуть вспоте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543800" cy="450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ифровой диктант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 для проверки: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,2,1,1,2,2,1,1,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301680" y="2133720"/>
            <a:ext cx="815796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абанчики яростно колотили в бараб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бывав у заказщиков, Саша зашел на минутку к сес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ижнем буфетчик рассчитал ме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олеблющимся мосткам сновали грузщ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чие передавали сменчикам ста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естянчики работали на глазах всей ул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7027920" cy="1656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7"/>
          <p:cNvSpPr/>
          <p:nvPr/>
        </p:nvSpPr>
        <p:spPr>
          <a:xfrm>
            <a:off x="1476360" y="54936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играем в корре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AutoShape 13"/>
          <p:cNvCxnSpPr/>
          <p:nvPr/>
        </p:nvCxnSpPr>
        <p:spPr>
          <a:xfrm flipV="1">
            <a:off x="1763640" y="227628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1" name="AutoShape 14"/>
          <p:cNvCxnSpPr/>
          <p:nvPr/>
        </p:nvCxnSpPr>
        <p:spPr>
          <a:xfrm flipV="1">
            <a:off x="2843280" y="278100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2" name="AutoShape 15"/>
          <p:cNvCxnSpPr/>
          <p:nvPr/>
        </p:nvCxnSpPr>
        <p:spPr>
          <a:xfrm flipV="1">
            <a:off x="5940360" y="371592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3" name="AutoShape 16"/>
          <p:cNvCxnSpPr/>
          <p:nvPr/>
        </p:nvCxnSpPr>
        <p:spPr>
          <a:xfrm flipV="1">
            <a:off x="4066920" y="414936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4" name="AutoShape 17"/>
          <p:cNvCxnSpPr/>
          <p:nvPr/>
        </p:nvCxnSpPr>
        <p:spPr>
          <a:xfrm flipV="1">
            <a:off x="1692000" y="458100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315" name="Rectangle 20"/>
          <p:cNvSpPr/>
          <p:nvPr/>
        </p:nvSpPr>
        <p:spPr>
          <a:xfrm>
            <a:off x="2916360" y="24922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1"/>
          <p:cNvSpPr/>
          <p:nvPr/>
        </p:nvSpPr>
        <p:spPr>
          <a:xfrm>
            <a:off x="6157800" y="335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909440" y="1844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213080" y="378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1836720" y="4292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2700360" y="3573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291600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29"/>
          <p:cNvSpPr/>
          <p:nvPr/>
        </p:nvSpPr>
        <p:spPr>
          <a:xfrm>
            <a:off x="305928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280360" cy="1125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2700360" y="98100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ведём ит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85840" y="1428840"/>
            <a:ext cx="7292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нового узнали на уроке о суффиксах имен существитель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же пишется суффикс -чик (-щик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задания выполнять было легко и интересно? Что вызвало затрудн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41360" y="4529160"/>
            <a:ext cx="84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машнее задание: учебник стр.1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 группа- упр.24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группа-составить связный текст на тему «Новостройки нашего се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07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 СОТРУДНИЧЕСТВО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нгвистическая разминк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ая игра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Мешки со словам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"/>
          <p:cNvSpPr/>
          <p:nvPr/>
        </p:nvSpPr>
        <p:spPr>
          <a:xfrm>
            <a:off x="2124000" y="568440"/>
            <a:ext cx="40896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7991640" cy="4589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684360" y="-171360"/>
            <a:ext cx="5472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Что такое суффик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333600" y="2836440"/>
            <a:ext cx="2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395280" y="4653000"/>
            <a:ext cx="8353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Суффикс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– значимая часть слова, которая находится после корня и обычно служит для образования нов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090600" cy="15508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22"/>
          <p:cNvSpPr txBox="1"/>
          <p:nvPr/>
        </p:nvSpPr>
        <p:spPr>
          <a:xfrm>
            <a:off x="1476360" y="3573360"/>
            <a:ext cx="177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суффикс имеет свое определенное значение, учит нас видеть характер сл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о ли по суффиксу определить часть речи, в которой он используется?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лексическое значение могут иметь суффиксы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1714680" y="2071800"/>
            <a:ext cx="5572080" cy="44290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тель-     -ер-      -ник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чик-  -щик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-ушк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онок-                                                 -ся-  -ыва-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ек-                                                   -л-   -ну-   -а-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ик-                                                    --ова- - ива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-лив-   -чив- -оват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ов-   - ев-  -ин-  -ен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001000" cy="121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Фотогалерея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*Кто изображен на этой иллюстрации?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Рисунок 2" descr="contractors-workers-people_~k5720845.jpg"/>
          <p:cNvPicPr/>
          <p:nvPr/>
        </p:nvPicPr>
        <p:blipFill>
          <a:blip r:embed="rId1"/>
          <a:stretch/>
        </p:blipFill>
        <p:spPr>
          <a:xfrm>
            <a:off x="285840" y="2071800"/>
            <a:ext cx="4572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E162-040.jpg"/>
          <p:cNvPicPr/>
          <p:nvPr/>
        </p:nvPicPr>
        <p:blipFill>
          <a:blip r:embed="rId1"/>
          <a:stretch/>
        </p:blipFill>
        <p:spPr>
          <a:xfrm rot="20685000">
            <a:off x="252360" y="510840"/>
            <a:ext cx="3363840" cy="23749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welder-working-bridge_~K17-190295.jpg"/>
          <p:cNvPicPr/>
          <p:nvPr/>
        </p:nvPicPr>
        <p:blipFill>
          <a:blip r:embed="rId2"/>
          <a:stretch/>
        </p:blipFill>
        <p:spPr>
          <a:xfrm rot="1246800">
            <a:off x="5200200" y="428760"/>
            <a:ext cx="2819520" cy="24238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0010.jpg"/>
          <p:cNvPicPr/>
          <p:nvPr/>
        </p:nvPicPr>
        <p:blipFill>
          <a:blip r:embed="rId3"/>
          <a:stretch/>
        </p:blipFill>
        <p:spPr>
          <a:xfrm rot="1313400">
            <a:off x="360000" y="3846600"/>
            <a:ext cx="3084480" cy="2527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boy_playing_snaredrum.gif"/>
          <p:cNvPicPr/>
          <p:nvPr/>
        </p:nvPicPr>
        <p:blipFill>
          <a:blip r:embed="rId4"/>
          <a:stretch/>
        </p:blipFill>
        <p:spPr>
          <a:xfrm rot="1217400">
            <a:off x="5621040" y="35938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931._Извозчик_на_Стромынке_.jpg"/>
          <p:cNvPicPr/>
          <p:nvPr/>
        </p:nvPicPr>
        <p:blipFill>
          <a:blip r:embed="rId5"/>
          <a:stretch/>
        </p:blipFill>
        <p:spPr>
          <a:xfrm>
            <a:off x="2286000" y="2428920"/>
            <a:ext cx="3589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29680" cy="629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пишите слово </a:t>
            </a:r>
            <a:r>
              <a:rPr b="0" i="1" lang="ru-RU" sz="4400" spc="-1" strike="noStrike">
                <a:solidFill>
                  <a:srgbClr val="66ff33"/>
                </a:solidFill>
                <a:latin typeface="Arial"/>
              </a:rPr>
              <a:t>извоз…к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ую орфографическую проблему вы обнаружили? В какой части слова она находится?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формулируйте тему нашего сегодняшнего уро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2556000" y="3357720"/>
            <a:ext cx="3887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843280" y="1773360"/>
            <a:ext cx="3529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писание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2843280" y="285264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ффикса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2916360" y="4076640"/>
            <a:ext cx="352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чик (-щик)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person-working_~k7558522.jpg"/>
          <p:cNvPicPr/>
          <p:nvPr/>
        </p:nvPicPr>
        <p:blipFill>
          <a:blip r:embed="rId1"/>
          <a:stretch/>
        </p:blipFill>
        <p:spPr>
          <a:xfrm rot="21259200">
            <a:off x="285840" y="571320"/>
            <a:ext cx="3452760" cy="31762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helicopter-pictures20.jpg"/>
          <p:cNvPicPr/>
          <p:nvPr/>
        </p:nvPicPr>
        <p:blipFill>
          <a:blip r:embed="rId2"/>
          <a:stretch/>
        </p:blipFill>
        <p:spPr>
          <a:xfrm rot="19975200">
            <a:off x="4014720" y="826560"/>
            <a:ext cx="4438800" cy="33292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edson-alberta-canada_~1875351.jpg"/>
          <p:cNvPicPr/>
          <p:nvPr/>
        </p:nvPicPr>
        <p:blipFill>
          <a:blip r:embed="rId3"/>
          <a:stretch/>
        </p:blipFill>
        <p:spPr>
          <a:xfrm rot="21066600">
            <a:off x="2887560" y="3381120"/>
            <a:ext cx="2100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49:40Z</dcterms:created>
  <dc:creator>Dmitry</dc:creator>
  <dc:description/>
  <dc:language>en-US</dc:language>
  <cp:lastModifiedBy>физика</cp:lastModifiedBy>
  <dcterms:modified xsi:type="dcterms:W3CDTF">2011-11-29T19:18:49Z</dcterms:modified>
  <cp:revision>207</cp:revision>
  <dc:subject/>
  <dc:title>Слайд 1</dc:title>
</cp:coreProperties>
</file>