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CA7DDC-42C6-4C72-A577-DC5BBF7A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400" y="8686080"/>
            <a:ext cx="2971800" cy="45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01C4F0B9-C7E9-4651-B8CE-FDAF548D21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7DF-7A66-4B0F-81A0-4E7D1BE8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60A-7CD8-4A1E-897A-63322EAD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024-4029-42AF-89EF-A317F38DE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951-68E3-4ACE-8C1B-8220F04B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57D02-EB74-4A9D-8C3A-5C163793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1B498-2494-4968-965D-3FF3D7B6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178A9-9940-44B4-94D5-4F582DC5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F243-7FFE-46E8-8C22-E140017E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C670-B98A-4BCC-9050-1D3776E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FEF6A-3389-4733-B6FA-CAE5E8BE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3487E-E11B-4F56-89E2-B9E5F909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F56-7507-41EA-BDD8-E7859F69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2339A-31D3-4CCC-B7A9-D4CA455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D9FC-E924-4BD4-8963-477FC63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A7459-AAFE-4531-BED5-6AE60EC3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A8EEF-8D52-4275-B964-D3F9BCF1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E1C7A-4A78-4A8B-9DC1-660E625A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7E37-E85D-4A61-A9AC-990A8E28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2B54-42B5-41DF-BA95-6605FA01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ED07-2A4B-4A04-9DD3-A288BD28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D155-7224-4E98-B1FE-52361DF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DF3D-5FA2-4003-A025-CBBC4128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AD3-4839-48AC-BD24-3755D6B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F3D0-5335-4FA3-A977-881F392D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7EA1C-C4FE-46CC-8CDE-6B1A19F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3EFB-328B-42B9-A402-EB306756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25B5-F02C-459C-82EC-74C75F6C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169E-9570-4B97-888A-BF63DE20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5D2E-4DCF-43F3-9707-8F7BC61F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DF07-92D8-4DF5-870A-640F958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5319A-B7F2-4A3F-A98D-F015A794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FFA6D-50B8-40D1-8DAA-C0A804D1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842026-8843-41FA-A853-8B40191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737-E82B-48AB-8D46-8180C588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FE8E3-C69D-4097-8996-459C6DA6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CBF02-C010-4526-838E-03A9B8E9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4C123-7A0C-492F-9EBA-B1002439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256C1-6A57-4EEC-AF1C-09EFE0AD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31706-0628-41B3-A7DA-6564E4AB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18F61-F908-4054-9A56-91C931C4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BC25E-9CD0-49E7-B433-5CCA31B7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349F4-52E3-4429-BBF4-9D5EB2B9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B7FB5-E745-41D2-B732-8C7EA4DF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FE91-475F-4713-AA6C-25F2C7F0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844-3827-4DC8-9A19-6E791C20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B37B-16D5-4126-8DC8-E58A082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C6FB-7587-4C71-AD32-92B1FD37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6EE8-A11E-4AF1-9FA1-AF5FBEA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4A38-5CAB-4E4B-8F82-12F25D9F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B977-7C3D-47FF-9EE8-14370AC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3CDA-F3A3-49A5-9206-239AC41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3BAE8-DEB8-4BDA-8F9D-DE5B144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AF32C-28D4-4DC8-B299-456EF1CF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75E40-C708-4268-859D-32851BB1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6D6F-61F2-4F4D-8889-A34C9320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369-35FD-4A67-9BB3-4E9C90DC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33A79-D699-45C2-A9F0-0E3BBE54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5FA-959B-4BAC-A64A-24F26DFA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61D-1830-4B75-81CB-A38FA0C2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92F-7A33-4792-84A1-6F103CD7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37FD46-5781-4523-84AD-C3CD610ECA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5AE22E-9BB3-44C2-87B9-A04FA095F0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D20E6C-57BF-47B5-A197-CFB33D375E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9A684F-8FF1-4AB9-8F61-F6501A92B4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8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4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536CC0-B085-47B4-84C7-8F6F15D8B8B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357280" y="357120"/>
            <a:ext cx="6171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chemeClr val="accent3"/>
                </a:solidFill>
                <a:latin typeface="Century Schoolbook"/>
              </a:rPr>
              <a:t>Технология продуктивного чтения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058080" y="548640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городнова С.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читель нача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классов МОУ «СОШ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г. Катав – Иванов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32420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i="1" lang="ru-RU" sz="2000" spc="-1" strike="noStrike" cap="small">
                <a:solidFill>
                  <a:schemeClr val="accent3"/>
                </a:solidFill>
                <a:latin typeface="Century Schoolbook"/>
              </a:rPr>
              <a:t>Диалог" обучающихся с автором литературного произведения – это прием работы с текстом во время его чтения. 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74671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йне важно научить учеников видеть в тексте прямые и скрытые авторские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опросы. Как правило, писатель сам на них и отвечает. В любом случае эти вопросы требуют остановки, обдумывания, ответов-предположений и далее – проверки их точности по ходу дальнейшего чт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и переходе детей от совместного обучающего чтения с учителем к самостоятельному чтению педагогу важно помочь им научиться самостоятельно вести "диалог с автором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итель должен стараться "включать" творческое воображение обучающихся. Дети по деталям повествования и отдельным фразам в речи героев могут спрогнозировать, что может случиться дальше, как будут развиваться события, чем может закончиться произведение или его часть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ча учителя – научить детей задавать вопросы автору по ходу чтения. Это вопросы, ответы на которые они могут узнать в процессе чтения, например: "Чем это можно объяснить?..", "Что из этого следует?..", "Что сейчас случится?..", "Почему именно так?..", "Для чего?..", "Кто такой?.."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озникающие вопросы предполагают появление ответов-предположений и самопроверку по ходу дальнейшего чт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омментированное чтение 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 – это чтение, сопровождающееся пояснением, толкованием текста в форме объяснений, рассуждений, предположени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 используется преимущественно во время перечитывания текста, для того чтобы показать, каким мог бы быть наш "диалог с автором", обеспечить "погружение" в текст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ировать текст нужно в том месте, где это действительно необходимо, а не после того как предложение или фрагмент дочитаны до конца. Поэтому чтение ребенка можно прервать в любой момент. Ни в коем случае нельзя прерывать чтение ребенка словами: "Стоп!", "Достаточно!", "Хватит!", "Остановись здесь!" и т. п. Прерывание чтения ребенка должно происходить естественно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Приемы прерывания чтения обучающихся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френ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повтор слова, словосочетания вслед за ребенком), за которым следует комментарий или вопрос к обучающимся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ключение" воображе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детей, например, такими словами: "Представьте себе…", "Увидели?..", "Представили?..";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формулировка максимально "свернутого", "сжатого" вопрос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не предполагающего дальнейшей беседы, например: "Догадались, почему?"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ментарии учителя должны быть краткими и динамичными. Комментарий не должен превращаться в бесед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е нужно требовать от детей развернутых ответов, пусть они будут краткими, но наполненными эмоция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746712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r>
              <a:rPr b="1" i="1" lang="ru-RU" sz="4400" spc="-1" strike="noStrike" cap="small">
                <a:solidFill>
                  <a:schemeClr val="accent3"/>
                </a:solidFill>
                <a:latin typeface="Century Schoolbook"/>
              </a:rPr>
              <a:t>Методические приемы организации продуктивного чтения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Отсроченная отгад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74671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 начале урока учитель задаёт загадку, (сообщает удивительный факт), разгадка которой (ключик для понимания) будет открыта на уроке при работе над новым материалом.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Задай вопрос 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746712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С чего начинается осмысление учеником учебного материала?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- Когда он задает себе вопросы: 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«Что это…?» «Почему…?», «Зачем это мне нужно…?» и т.п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Составь задание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746712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анный приём очень эффективен при самостоятельной работе с учебником. Ученики “приподнимаются” над учебным материалом, выполняют “роль учителя”, конструируя учебные задачи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убик Блум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 замечательном американском педагоге Бенджамине Блуме обычно говорят, как об авторе известной «Таксономии учебных целей». Но он же является и автором нескольких приёмов педагогической техники. Один из них «Кубик Блума»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гранях кубика написаны начала вопросов: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Почему», «Объясни», «Назови», «Предложи», «Придумай», «Поделись»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итель (или ученик) бросает кубик. Необходимо сформулировать вопрос к учебному материалу по той грани, на которую выпадет кубик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Аналитик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286080"/>
            <a:ext cx="7467120" cy="31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Более сложной может стать работа учеников не с текстом учебника, а с хрестоматией, другими дополнительными материалами. И тут необходимо так продумать задание, чтобы работа выполнялась учениками не механически, а творческ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Драмогерменевтика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643120"/>
            <a:ext cx="746712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ажно как можно быстрее усвоить значение незнакомых слов, и не только уяснить, а применить в нестандартных ситуациях. Приём «драмогерменевтика» я назвала бы ещё «пребыванием в содержании». Тогда термин (незнакомое слово) усваивается учащимися гораздо быстрее и глубже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60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 </a:t>
            </a:r>
            <a:br>
              <a:rPr sz="3000"/>
            </a:br>
            <a:r>
              <a:rPr b="1" i="1" lang="ru-RU" sz="3000" spc="-1" strike="noStrike" cap="small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Чтение – это окошко, через которое дети видят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и познают мир и самих себя.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Оно открывается перед ребёнком лишь тогда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когда, наряду с чтением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одновременно с ним и даже раньше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чем впервые раскрыта книга,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 начинается кропотливая работа над словами.</a:t>
            </a:r>
            <a:br>
              <a:rPr sz="3000"/>
            </a:br>
            <a:r>
              <a:rPr b="1" lang="ru-RU" sz="3000" spc="-1" strike="noStrike" cap="small">
                <a:solidFill>
                  <a:schemeClr val="accent3"/>
                </a:solidFill>
                <a:latin typeface="Century Schoolbook"/>
              </a:rPr>
              <a:t>В.А. Сухомлинский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Пометки на полях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3214800"/>
            <a:ext cx="7467120" cy="32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Ещё один вариант самостоятельного изучения нового материала. Этот эффективный приём является ключевым в известной технологии критического мышлени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Вывод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менение нового подхода к организации урока литературного чтения с использованием технологии продуктивного чтения способствует более эффективному развитию устной речи школьников, повышает качество работы по совершенствованию правильности, беглости, сознательности чтения, стимулирует интерес учащихся к уроку литературного чтени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Урок в 1 классе</a:t>
            </a:r>
            <a:br>
              <a:rPr sz="3000"/>
            </a:b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«Произведения  В.Г. Сутеева»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9" name="Picture 2" descr="F:\Фотографии\IMG_0005.jpg"/>
          <p:cNvPicPr/>
          <p:nvPr/>
        </p:nvPicPr>
        <p:blipFill>
          <a:blip r:embed="rId1"/>
          <a:stretch/>
        </p:blipFill>
        <p:spPr>
          <a:xfrm>
            <a:off x="2571840" y="1643040"/>
            <a:ext cx="4643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Фрагменты уро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1" name="Picture 2" descr="F:\Фотографии\IMG_0003.jpg"/>
          <p:cNvPicPr/>
          <p:nvPr/>
        </p:nvPicPr>
        <p:blipFill>
          <a:blip r:embed="rId1"/>
          <a:stretch/>
        </p:blipFill>
        <p:spPr>
          <a:xfrm>
            <a:off x="500040" y="1714320"/>
            <a:ext cx="3657240" cy="450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F:\Фотографии\IMG_0006.jpg"/>
          <p:cNvPicPr/>
          <p:nvPr/>
        </p:nvPicPr>
        <p:blipFill>
          <a:blip r:embed="rId2"/>
          <a:stretch/>
        </p:blipFill>
        <p:spPr>
          <a:xfrm>
            <a:off x="5786280" y="1600200"/>
            <a:ext cx="2428560" cy="45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6000" spc="-1" strike="noStrike" cap="small">
                <a:solidFill>
                  <a:schemeClr val="accent3"/>
                </a:solidFill>
                <a:latin typeface="Century Schoolbook"/>
              </a:rPr>
              <a:t>Желаю успехов!</a:t>
            </a:r>
            <a:endParaRPr b="0" lang="ru-RU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7571880" cy="14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ctr">
              <a:lnSpc>
                <a:spcPct val="15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Какие  УУД  формирует</a:t>
            </a:r>
            <a:br>
              <a:rPr sz="3200"/>
            </a:b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технология продуктивного чтения?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41280" y="1808280"/>
            <a:ext cx="7659360" cy="4608000"/>
          </a:xfrm>
          <a:prstGeom prst="rect">
            <a:avLst/>
          </a:prstGeom>
          <a:solidFill>
            <a:schemeClr val="bg1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Коммуникативные – формулировать свою позицию (интерпретация), адекватно понимать собеседника (автора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знавательные – извлекать информацию из тек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Личностные – в случае если анализ текста порождает оценочные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гулятивные – умение работать по плану (алгоритму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746712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0000"/>
          </a:bodyPr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Технология продуктивного чтения резко отличается от традиционной технологии передачи ученику готового знания. Теперь учитель организовывает исследовательскую работу детей так, что они сами «додумываются» до решения ключевой проблемы урока и сами могут объяснить, как действовать в новых условиях. Учитель становится учителем – партнёром, наблюдателем и вдумчивым наставником, помогающим каждому ученику выстроить собственный вектор личностного развития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   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Действия учеников становятся более активными, творческими и самостоятельными, а роль учителя всё более сводится к «режиссированию» этой активной, познавательной деятельности учащихся. Творчески раскрепощённые и эмоционально настроенные дети глубже чувствуют и понимают прочитанное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Перед учителями начальных классов стоит задача не только приобщить младших школьников к чтению в целом, но и обучить их вдумчивому, аналитическому чтению. Справиться с этой задачей поможет использование педагогами в работе приемов продуктивного чтения.</a:t>
            </a:r>
            <a:endParaRPr b="0" lang="ru-RU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34720" indent="-234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Использование этих приемов предусматривается и в рамках технологии формирования типа правильной читательской деятельности (продуктивного чтения), разработанной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ором Н.Н. Светловско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chemeClr val="accent3"/>
                </a:solidFill>
                <a:latin typeface="Century Schoolbook"/>
              </a:rPr>
              <a:t>Этапы работы с текстом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928960"/>
            <a:ext cx="7467120" cy="35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 этап. Работа с текстом до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 этап. Работа с текстом во время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 этап. Работа с текстом после чтения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chemeClr val="accent3"/>
                </a:solidFill>
                <a:latin typeface="Century Schoolbook"/>
              </a:rPr>
              <a:t>Этап 1. Работа с текстом до чтения</a:t>
            </a:r>
            <a:r>
              <a:rPr b="1" i="1" lang="ru-RU" sz="3200" spc="-1" strike="noStrike" cap="small">
                <a:solidFill>
                  <a:srgbClr val="575f6d"/>
                </a:solidFill>
                <a:latin typeface="Century Schoolbook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накомство с новым произведением начинается с предвосхищения, предугадывания предстоящего чтения. Ученики пытаются определить направленность текста – смысловую, тематическую, эмоциональную, выделить героев по названию произведения, имени автора, ключевым словам, иллюстрациям. (Разве не так мы, взрослые, выбираем книги в магазине или библиотеке?) Всё это происходит с опорой на читательский опыт. Данный этап завершается  постановкой целей урока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 cap="small">
                <a:solidFill>
                  <a:schemeClr val="accent3"/>
                </a:solidFill>
                <a:latin typeface="Century Schoolbook"/>
              </a:rPr>
              <a:t>Этап 2. Работа с текстом во время чтения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Первичное чтение текста. Самостоятельное чтение (дома или в классе), чтение-слушание, комбинированное чтение (на выбор учителя) с учетом особенностей текста, возрастных и индивидуальных возможностей учащихся. Выявление первичного восприятия текста, например: с помощью беседы, фиксации первичных впечатлений, письменных ответов на вопросы и т. д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Перечитывание текста. Медленное "вдумчивое" повторное чтение всего текста или его отдельных фрагментов. Постановка вопросов к тексту и к автору. Комментирование текста. Постановка уточняющих вопросов к каждой его смысловой част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Беседа по содержанию текста. Обобщение прочитанного. Выявление совпадений предположений обучающихся о содержании литературного произведения с окончательными выводами по тексту. Обращение (в случае необходимости) к отдельным фрагментам текста, выразительное чтение. Постановка к тексту обобщающих вопрос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Этап 3. Работа с текстом после чтения.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 Концептуальная (смысловая) беседа по тексту. Коллективное обсуждение прочитанного, дискуссия. Соотнесение читательских интерпретаций произведения с авторской позицией. Формулирование основной идеи текста или совокупности его главных смыслов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Знакомство с писателем. Беседа о личности писателя. Работа с материалами учебника, дополнительными источниками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. Работа с заглавием, иллюстрациями. Обсуждение смысла заглавия, иллюстраций к произведению. Беседа об особенностях восприятия литературного произведения разными людьми на примере сравнения видения художника-иллюстратора с видением обучающихся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7680" indent="-2476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4. Творческие задания для учащихся. Задания должны быть направлены на выявление эмоционального отношения детей к литературному произведению, осмысление школьниками содержания т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ста, развитие у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их воображения и т. д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000" spc="-1" strike="noStrike" cap="small">
                <a:solidFill>
                  <a:schemeClr val="accent3"/>
                </a:solidFill>
                <a:latin typeface="Century Schoolbook"/>
              </a:rPr>
              <a:t>Эффективные приёмы анализа художественного текст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3071880"/>
            <a:ext cx="7467120" cy="34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«Диалог с автором»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омментированное чтение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218</TotalTime>
  <Application>LibreOffice/7.4.7.2$Linux_X86_64 LibreOffice_project/40$Build-2</Application>
  <AppVersion>15.0000</AppVersion>
  <Words>1184</Words>
  <Paragraphs>7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4:21:57Z</dcterms:created>
  <dc:creator>Admin</dc:creator>
  <dc:description/>
  <dc:language>en-US</dc:language>
  <cp:lastModifiedBy>Admin</cp:lastModifiedBy>
  <dcterms:modified xsi:type="dcterms:W3CDTF">2020-11-16T14:04:21Z</dcterms:modified>
  <cp:revision>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