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4D6454-2040-4459-9A20-B1ADEF9F5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400" y="8686080"/>
            <a:ext cx="2971800" cy="45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1240851C-F630-4818-9081-754EFB7410E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34E0-C0DD-42CD-8E64-01B78174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55D3-DBE6-4F70-8972-A2CF5F72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04EF-FB72-4F34-8DC2-A70B2AFF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830B-B985-411B-B80D-CC3F799D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DB309-8A0E-471F-818C-73CD1843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92A82-88F0-481D-8A6F-D0510013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72765-80C1-467B-BCEB-CB171694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B9BE6-9900-4AED-B9E9-D57B2228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81FFD-4151-459F-B1F2-B7A31D0F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DEE43-F03E-4FD1-8601-6B963EBE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0F8BA-AD4F-4051-8EF6-E5298E1E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A9A0-3113-4C6E-B035-A3CFE590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D5747-DCC3-4129-A74C-72CBAC0E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DA351-78A0-4AEC-B7C1-4A834A75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EC8D2-08FD-4608-909E-E9A1447E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7C900-411D-45AD-BA7C-E408F2EB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DF7E0-D5A2-4FC1-B451-04043FF6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F8E0E-13CC-451A-A75E-B949569C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16D65-D87E-4B1E-A814-98D58945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A477B-F69B-419D-9FC3-62CC143A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165EB-06C1-429C-8EDE-5289465E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63506-7A93-4D5B-A873-1B15EE2E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2FCB-0699-4A66-8E84-22D00BBC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30D19-B759-472D-A1E7-4AF258B7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D5A2F-0972-4A50-9AE6-BA173CEB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6017F-F56A-41A8-8E09-2808A0CC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7E5A1-F1AB-4C4F-842E-19457B3C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03D0F-2A33-486A-BE5B-E4F9C643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AD7AE-49E5-40A1-A88F-C53A80A3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79757-8324-431B-8D80-47386BEC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DA8187-230F-43FF-A796-620EA5E1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5968B2-E028-461F-B2A4-C05F2749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6D44E8-D2BF-440B-9F2C-DE326A0A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A13A-CC64-4A04-9DE5-8893BAC1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9E388C-3656-4174-A4AB-E3C2A24F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92A76A-F371-487D-8FA9-0ED764B6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5EB5E8-C461-4BFE-9B93-E95AB6BB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9401C8-3EE6-49A0-BB75-B36BE528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6C5B98-2B09-40A2-A333-009AD2BD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B885FE-E063-40AF-BC62-35D6A03F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B07F79-FBDC-4E4F-A38A-562D1946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F77456-FDA2-49D1-97DA-5D88D02D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48A553-7849-4AC6-A2D1-16A4B6C0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68D7A-6807-4725-9E9A-C5C34888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9E67-F377-4922-8C13-5F341217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D4F1D-BB60-477A-94BC-A406E9E6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43987-946A-47A3-A225-C5FE03C0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FAD9C-D086-4920-89A4-17F62EDE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BA3F5-ABCE-43EF-BB4C-32847392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0938C-846F-4EFC-B822-ADB50F35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28C20-3F37-453F-BF3C-A00A0744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977AF-92AD-4535-96A2-4DBEFDDC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9DED6-9011-4698-A78F-602C48B5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D7D55-4D71-401A-BD24-E9B60EAE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2E1FD-26C7-4539-A478-4CA4FC20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23AF-57F8-4233-B437-5D21EDDA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CF628-D66C-4B8D-8063-8C869AC9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003F-6409-42F2-B245-7953B70F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014F-5ED0-46E0-8739-DFC01946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2E9-C89E-4B25-81A1-1AE1127A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Прямоугольник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Овал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Прямоугольник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Прямоугольник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Прямоугольник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Прямая соединительная линия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Прямая соединительная линия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fe8637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Прямая соединительная линия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Прямая соединительная линия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fe8637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Прямая соединительная линия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Прямая соединительная линия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Прямоугольник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Овал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Овал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Овал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Овал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Овал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698ADD4-F90A-4DBD-826D-E9138176B71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25F4A79-605E-4419-ABD4-46D2C6F91ED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D567D55-D555-4801-A832-65CE8E73B3C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1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2A8FAAD-07D7-4FD5-813E-7AB26C37713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12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8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3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4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7289801-AA43-4008-BC56-06A7E53D216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3657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body"/>
          </p:nvPr>
        </p:nvSpPr>
        <p:spPr>
          <a:xfrm>
            <a:off x="4270320" y="1600200"/>
            <a:ext cx="3657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357280" y="357120"/>
            <a:ext cx="61718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cap="small">
                <a:solidFill>
                  <a:schemeClr val="accent3"/>
                </a:solidFill>
                <a:latin typeface="Century Schoolbook"/>
              </a:rPr>
              <a:t>Технология продуктивного чтения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058080" y="5486400"/>
            <a:ext cx="6171840" cy="13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Загороднова С.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учитель началь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классов МОУ «СОШ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г. Катав – Ивановс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7324200" cy="77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16000"/>
          </a:bodyPr>
          <a:p>
            <a:pPr indent="0" algn="ctr">
              <a:lnSpc>
                <a:spcPct val="100000"/>
              </a:lnSpc>
              <a:buNone/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i="1" lang="ru-RU" sz="2000" spc="-1" strike="noStrike" cap="small">
                <a:solidFill>
                  <a:schemeClr val="accent3"/>
                </a:solidFill>
                <a:latin typeface="Century Schoolbook"/>
              </a:rPr>
              <a:t>Диалог" обучающихся с автором литературного произведения – это прием работы с текстом во время его чтения. 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74671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0000"/>
          </a:bodyPr>
          <a:p>
            <a:pPr marL="234720" indent="-234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айне важно научить учеников видеть в тексте прямые и скрытые авторские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опросы. Как правило, писатель сам на них и отвечает. В любом случае эти вопросы требуют остановки, обдумывания, ответов-предположений и далее – проверки их точности по ходу дальнейшего чтения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и переходе детей от совместного обучающего чтения с учителем к самостоятельному чтению педагогу важно помочь им научиться самостоятельно вести "диалог с автором»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Учитель должен стараться "включать" творческое воображение обучающихся. Дети по деталям повествования и отдельным фразам в речи героев могут спрогнозировать, что может случиться дальше, как будут развиваться события, чем может закончиться произведение или его часть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дача учителя – научить детей задавать вопросы автору по ходу чтения. Это вопросы, ответы на которые они могут узнать в процессе чтения, например: "Чем это можно объяснить?..", "Что из этого следует?..", "Что сейчас случится?..", "Почему именно так?..", "Для чего?..", "Кто такой?.."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озникающие вопросы предполагают появление ответов-предположений и самопроверку по ходу дальнейшего чтения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 cap="small">
                <a:solidFill>
                  <a:schemeClr val="accent3"/>
                </a:solidFill>
                <a:latin typeface="Century Schoolbook"/>
              </a:rPr>
              <a:t>Комментированное чтение 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0"/>
          </a:bodyPr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мментированное чтение – это чтение, сопровождающееся пояснением, толкованием текста в форме объяснений, рассуждений, предположений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мментированное чтение используется преимущественно во время перечитывания текста, для того чтобы показать, каким мог бы быть наш "диалог с автором", обеспечить "погружение" в текст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мментировать текст нужно в том месте, где это действительно необходимо, а не после того как предложение или фрагмент дочитаны до конца. Поэтому чтение ребенка можно прервать в любой момент. Ни в коем случае нельзя прерывать чтение ребенка словами: "Стоп!", "Достаточно!", "Хватит!", "Остановись здесь!" и т. п. Прерывание чтения ребенка должно происходить естественно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000" spc="-1" strike="noStrike" cap="small">
                <a:solidFill>
                  <a:schemeClr val="accent3"/>
                </a:solidFill>
                <a:latin typeface="Century Schoolbook"/>
              </a:rPr>
              <a:t>Приемы прерывания чтения обучающихся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рефрен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(повтор слова, словосочетания вслед за ребенком), за которым следует комментарий или вопрос к обучающимся;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"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включение" воображения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детей, например, такими словами: "Представьте себе…", "Увидели?..", "Представили?..";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формулировка максимально "свернутого", "сжатого" вопрос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, не предполагающего дальнейшей беседы, например: "Догадались, почему?"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мментарии учителя должны быть краткими и динамичными. Комментарий не должен превращаться в беседу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е нужно требовать от детей развернутых ответов, пусть они будут краткими, но наполненными эмоциями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746712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r>
              <a:rPr b="1" i="1" lang="ru-RU" sz="4400" spc="-1" strike="noStrike" cap="small">
                <a:solidFill>
                  <a:schemeClr val="accent3"/>
                </a:solidFill>
                <a:latin typeface="Century Schoolbook"/>
              </a:rPr>
              <a:t>Методические приемы организации продуктивного чтения</a:t>
            </a:r>
            <a:endParaRPr b="0" lang="ru-RU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000" spc="-1" strike="noStrike" cap="small">
                <a:solidFill>
                  <a:schemeClr val="accent3"/>
                </a:solidFill>
                <a:latin typeface="Century Schoolbook"/>
              </a:rPr>
              <a:t>Отсроченная отгад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2643120"/>
            <a:ext cx="746712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 начале урока учитель задаёт загадку, (сообщает удивительный факт), разгадка которой (ключик для понимания) будет открыта на уроке при работе над новым материалом. 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 cap="small">
                <a:solidFill>
                  <a:schemeClr val="accent3"/>
                </a:solidFill>
                <a:latin typeface="Century Schoolbook"/>
              </a:rPr>
              <a:t>Задай вопрос 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746712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 чего начинается осмысление учеником учебного материала?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- Когда он задает себе вопросы: 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«Что это…?» «Почему…?», «Зачем это мне нужно…?» и т.п.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 cap="small">
                <a:solidFill>
                  <a:schemeClr val="accent3"/>
                </a:solidFill>
                <a:latin typeface="Century Schoolbook"/>
              </a:rPr>
              <a:t>Составь задание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928960"/>
            <a:ext cx="7467120" cy="35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Данный приём очень эффективен при самостоятельной работе с учебником. Ученики “приподнимаются” над учебным материалом, выполняют “роль учителя”, конструируя учебные задачи.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 cap="small">
                <a:solidFill>
                  <a:schemeClr val="accent3"/>
                </a:solidFill>
                <a:latin typeface="Century Schoolbook"/>
              </a:rPr>
              <a:t>Кубик Блума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 замечательном американском педагоге Бенджамине Блуме обычно говорят, как об авторе известной «Таксономии учебных целей». Но он же является и автором нескольких приёмов педагогической техники. Один из них «Кубик Блума»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а гранях кубика написаны начала вопросов: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Почему», «Объясни», «Назови», «Предложи», «Придумай», «Поделись»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Учитель (или ученик) бросает кубик. Необходимо сформулировать вопрос к учебному материалу по той грани, на которую выпадет кубик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 cap="small">
                <a:solidFill>
                  <a:schemeClr val="accent3"/>
                </a:solidFill>
                <a:latin typeface="Century Schoolbook"/>
              </a:rPr>
              <a:t>Аналитик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3286080"/>
            <a:ext cx="7467120" cy="31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олее сложной может стать работа учеников не с текстом учебника, а с хрестоматией, другими дополнительными материалами. И тут необходимо так продумать задание, чтобы работа выполнялась учениками не механически, а творчески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 cap="small">
                <a:solidFill>
                  <a:schemeClr val="accent3"/>
                </a:solidFill>
                <a:latin typeface="Century Schoolbook"/>
              </a:rPr>
              <a:t>Драмогерменевтика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643120"/>
            <a:ext cx="746712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ажно как можно быстрее усвоить значение незнакомых слов, и не только уяснить, а применить в нестандартных ситуациях. Приём «драмогерменевтика» я назвала бы ещё «пребыванием в содержании». Тогда термин (незнакомое слово) усваивается учащимися гораздо быстрее и глубже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60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 </a:t>
            </a:r>
            <a:br>
              <a:rPr sz="3000"/>
            </a:br>
            <a:r>
              <a:rPr b="1" i="1" lang="ru-RU" sz="3000" spc="-1" strike="noStrike" cap="small">
                <a:solidFill>
                  <a:srgbClr val="575f6d"/>
                </a:solidFill>
                <a:latin typeface="Century Schoolbook"/>
              </a:rPr>
              <a:t> </a:t>
            </a:r>
            <a:r>
              <a:rPr b="1" i="1" lang="ru-RU" sz="3000" spc="-1" strike="noStrike" cap="small">
                <a:solidFill>
                  <a:schemeClr val="accent3"/>
                </a:solidFill>
                <a:latin typeface="Century Schoolbook"/>
              </a:rPr>
              <a:t>Чтение – это окошко, через которое дети видят</a:t>
            </a:r>
            <a:br>
              <a:rPr sz="3000"/>
            </a:br>
            <a:r>
              <a:rPr b="1" i="1" lang="ru-RU" sz="3000" spc="-1" strike="noStrike" cap="small">
                <a:solidFill>
                  <a:schemeClr val="accent3"/>
                </a:solidFill>
                <a:latin typeface="Century Schoolbook"/>
              </a:rPr>
              <a:t> и познают мир и самих себя.</a:t>
            </a:r>
            <a:br>
              <a:rPr sz="3000"/>
            </a:br>
            <a:r>
              <a:rPr b="1" i="1" lang="ru-RU" sz="3000" spc="-1" strike="noStrike" cap="small">
                <a:solidFill>
                  <a:schemeClr val="accent3"/>
                </a:solidFill>
                <a:latin typeface="Century Schoolbook"/>
              </a:rPr>
              <a:t>Оно открывается перед ребёнком лишь тогда,</a:t>
            </a:r>
            <a:br>
              <a:rPr sz="3000"/>
            </a:br>
            <a:r>
              <a:rPr b="1" i="1" lang="ru-RU" sz="3000" spc="-1" strike="noStrike" cap="small">
                <a:solidFill>
                  <a:schemeClr val="accent3"/>
                </a:solidFill>
                <a:latin typeface="Century Schoolbook"/>
              </a:rPr>
              <a:t>когда, наряду с чтением,</a:t>
            </a:r>
            <a:br>
              <a:rPr sz="3000"/>
            </a:br>
            <a:r>
              <a:rPr b="1" i="1" lang="ru-RU" sz="3000" spc="-1" strike="noStrike" cap="small">
                <a:solidFill>
                  <a:schemeClr val="accent3"/>
                </a:solidFill>
                <a:latin typeface="Century Schoolbook"/>
              </a:rPr>
              <a:t> одновременно с ним и даже раньше,</a:t>
            </a:r>
            <a:br>
              <a:rPr sz="3000"/>
            </a:br>
            <a:r>
              <a:rPr b="1" i="1" lang="ru-RU" sz="3000" spc="-1" strike="noStrike" cap="small">
                <a:solidFill>
                  <a:schemeClr val="accent3"/>
                </a:solidFill>
                <a:latin typeface="Century Schoolbook"/>
              </a:rPr>
              <a:t>чем впервые раскрыта книга,</a:t>
            </a:r>
            <a:br>
              <a:rPr sz="3000"/>
            </a:br>
            <a:r>
              <a:rPr b="1" i="1" lang="ru-RU" sz="3000" spc="-1" strike="noStrike" cap="small">
                <a:solidFill>
                  <a:schemeClr val="accent3"/>
                </a:solidFill>
                <a:latin typeface="Century Schoolbook"/>
              </a:rPr>
              <a:t> начинается кропотливая работа над словами.</a:t>
            </a:r>
            <a:br>
              <a:rPr sz="3000"/>
            </a:br>
            <a:r>
              <a:rPr b="1" lang="ru-RU" sz="3000" spc="-1" strike="noStrike" cap="small">
                <a:solidFill>
                  <a:schemeClr val="accent3"/>
                </a:solidFill>
                <a:latin typeface="Century Schoolbook"/>
              </a:rPr>
              <a:t>В.А. Сухомлинский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 cap="small">
                <a:solidFill>
                  <a:schemeClr val="accent3"/>
                </a:solidFill>
                <a:latin typeface="Century Schoolbook"/>
              </a:rPr>
              <a:t>Пометки на полях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3214800"/>
            <a:ext cx="74671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Ещё один вариант самостоятельного изучения нового материала. Этот эффективный приём является ключевым в известной технологии критического мышления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 cap="small">
                <a:solidFill>
                  <a:schemeClr val="accent3"/>
                </a:solidFill>
                <a:latin typeface="Century Schoolbook"/>
              </a:rPr>
              <a:t>Вывод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рименение нового подхода к организации урока литературного чтения с использованием технологии продуктивного чтения способствует более эффективному развитию устной речи школьников, повышает качество работы по совершенствованию правильности, беглости, сознательности чтения, стимулирует интерес учащихся к уроку литературного чтени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000" spc="-1" strike="noStrike" cap="small">
                <a:solidFill>
                  <a:schemeClr val="accent3"/>
                </a:solidFill>
                <a:latin typeface="Century Schoolbook"/>
              </a:rPr>
              <a:t>Урок в 1 классе</a:t>
            </a:r>
            <a:br>
              <a:rPr sz="3000"/>
            </a:br>
            <a:r>
              <a:rPr b="1" i="1" lang="ru-RU" sz="3000" spc="-1" strike="noStrike" cap="small">
                <a:solidFill>
                  <a:schemeClr val="accent3"/>
                </a:solidFill>
                <a:latin typeface="Century Schoolbook"/>
              </a:rPr>
              <a:t>«Произведения  В.Г. Сутеева»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99" name="Picture 2" descr="F:\Фотографии\IMG_0005.jpg"/>
          <p:cNvPicPr/>
          <p:nvPr/>
        </p:nvPicPr>
        <p:blipFill>
          <a:blip r:embed="rId1"/>
          <a:stretch/>
        </p:blipFill>
        <p:spPr>
          <a:xfrm>
            <a:off x="2571840" y="1643040"/>
            <a:ext cx="46432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000" spc="-1" strike="noStrike" cap="small">
                <a:solidFill>
                  <a:schemeClr val="accent3"/>
                </a:solidFill>
                <a:latin typeface="Century Schoolbook"/>
              </a:rPr>
              <a:t>Фрагменты уро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01" name="Picture 2" descr="F:\Фотографии\IMG_0003.jpg"/>
          <p:cNvPicPr/>
          <p:nvPr/>
        </p:nvPicPr>
        <p:blipFill>
          <a:blip r:embed="rId1"/>
          <a:stretch/>
        </p:blipFill>
        <p:spPr>
          <a:xfrm>
            <a:off x="500040" y="1714320"/>
            <a:ext cx="3657240" cy="45021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F:\Фотографии\IMG_0006.jpg"/>
          <p:cNvPicPr/>
          <p:nvPr/>
        </p:nvPicPr>
        <p:blipFill>
          <a:blip r:embed="rId2"/>
          <a:stretch/>
        </p:blipFill>
        <p:spPr>
          <a:xfrm>
            <a:off x="5786280" y="1600200"/>
            <a:ext cx="2428560" cy="45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6000" spc="-1" strike="noStrike" cap="small">
                <a:solidFill>
                  <a:schemeClr val="accent3"/>
                </a:solidFill>
                <a:latin typeface="Century Schoolbook"/>
              </a:rPr>
              <a:t>Желаю успехов!</a:t>
            </a:r>
            <a:endParaRPr b="0" lang="ru-RU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7571880" cy="14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9000"/>
          </a:bodyPr>
          <a:p>
            <a:pPr indent="0" algn="ctr">
              <a:lnSpc>
                <a:spcPct val="150000"/>
              </a:lnSpc>
              <a:buNone/>
            </a:pPr>
            <a:r>
              <a:rPr b="1" i="1" lang="ru-RU" sz="3200" spc="-1" strike="noStrike" cap="small">
                <a:solidFill>
                  <a:schemeClr val="accent3"/>
                </a:solidFill>
                <a:latin typeface="Century Schoolbook"/>
              </a:rPr>
              <a:t>Какие  УУД  формирует</a:t>
            </a:r>
            <a:br>
              <a:rPr sz="3200"/>
            </a:br>
            <a:r>
              <a:rPr b="1" i="1" lang="ru-RU" sz="3200" spc="-1" strike="noStrike" cap="small">
                <a:solidFill>
                  <a:schemeClr val="accent3"/>
                </a:solidFill>
                <a:latin typeface="Century Schoolbook"/>
              </a:rPr>
              <a:t>технология продуктивного чтения?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341280" y="1808280"/>
            <a:ext cx="7659360" cy="4608000"/>
          </a:xfrm>
          <a:prstGeom prst="rect">
            <a:avLst/>
          </a:prstGeom>
          <a:solidFill>
            <a:schemeClr val="bg1"/>
          </a:soli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33520" indent="-53352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Коммуникативные – формулировать свою позицию (интерпретация), адекватно понимать собеседника (автор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знавательные – извлекать информацию из текс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Личностные – в случае если анализ текста порождает оценочные су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Регулятивные – умение работать по плану (алгоритму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500040"/>
            <a:ext cx="7467120" cy="59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0000"/>
          </a:bodyPr>
          <a:p>
            <a:pPr marL="234720" indent="-234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Технология продуктивного чтения резко отличается от традиционной технологии передачи ученику готового знания. Теперь учитель организовывает исследовательскую работу детей так, что они сами «додумываются» до решения ключевой проблемы урока и сами могут объяснить, как действовать в новых условиях. Учитель становится учителем – партнёром, наблюдателем и вдумчивым наставником, помогающим каждому ученику выстроить собственный вектор личностного развития.</a:t>
            </a:r>
            <a:endParaRPr b="0" lang="ru-RU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   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Действия учеников становятся более активными, творческими и самостоятельными, а роль учителя всё более сводится к «режиссированию» этой активной, познавательной деятельности учащихся. Творчески раскрепощённые и эмоционально настроенные дети глубже чувствуют и понимают прочитанное.</a:t>
            </a:r>
            <a:endParaRPr b="0" lang="ru-RU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еред учителями начальных классов стоит задача не только приобщить младших школьников к чтению в целом, но и обучить их вдумчивому, аналитическому чтению. Справиться с этой задачей поможет использование педагогами в работе приемов продуктивного чтения.</a:t>
            </a:r>
            <a:endParaRPr b="0" lang="ru-RU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Использование этих приемов предусматривается и в рамках технологии формирования типа правильной читательской деятельности (продуктивного чтения), разработанной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фессором Н.Н. Светловской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 cap="small">
                <a:solidFill>
                  <a:schemeClr val="accent3"/>
                </a:solidFill>
                <a:latin typeface="Century Schoolbook"/>
              </a:rPr>
              <a:t>Этапы работы с текстом</a:t>
            </a:r>
            <a:endParaRPr b="0" lang="ru-RU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928960"/>
            <a:ext cx="7467120" cy="35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1 этап. Работа с текстом до чтения.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2 этап. Работа с текстом во время чтения.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3 этап. Работа с текстом после чтения.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 cap="small">
                <a:solidFill>
                  <a:schemeClr val="accent3"/>
                </a:solidFill>
                <a:latin typeface="Century Schoolbook"/>
              </a:rPr>
              <a:t>Этап 1. Работа с текстом до чтения</a:t>
            </a:r>
            <a:r>
              <a:rPr b="1" i="1" lang="ru-RU" sz="3200" spc="-1" strike="noStrike" cap="small">
                <a:solidFill>
                  <a:srgbClr val="575f6d"/>
                </a:solidFill>
                <a:latin typeface="Century Schoolbook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накомство с новым произведением начинается с предвосхищения, предугадывания предстоящего чтения. Ученики пытаются определить направленность текста – смысловую, тематическую, эмоциональную, выделить героев по названию произведения, имени автора, ключевым словам, иллюстрациям. (Разве не так мы, взрослые, выбираем книги в магазине или библиотеке?) Всё это происходит с опорой на читательский опыт. Данный этап завершается  постановкой целей урока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2800" spc="-1" strike="noStrike" cap="small">
                <a:solidFill>
                  <a:schemeClr val="accent3"/>
                </a:solidFill>
                <a:latin typeface="Century Schoolbook"/>
              </a:rPr>
              <a:t>Этап 2. Работа с текстом во время чтения.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0"/>
          </a:bodyPr>
          <a:p>
            <a:pPr marL="247680" indent="-2476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1. Первичное чтение текста. Самостоятельное чтение (дома или в классе), чтение-слушание, комбинированное чтение (на выбор учителя) с учетом особенностей текста, возрастных и индивидуальных возможностей учащихся. Выявление первичного восприятия текста, например: с помощью беседы, фиксации первичных впечатлений, письменных ответов на вопросы и т. д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7680" indent="-2476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. Перечитывание текста. Медленное "вдумчивое" повторное чтение всего текста или его отдельных фрагментов. Постановка вопросов к тексту и к автору. Комментирование текста. Постановка уточняющих вопросов к каждой его смысловой части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7680" indent="-2476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. Беседа по содержанию текста. Обобщение прочитанного. Выявление совпадений предположений обучающихся о содержании литературного произведения с окончательными выводами по тексту. Обращение (в случае необходимости) к отдельным фрагментам текста, выразительное чтение. Постановка к тексту обобщающих вопросов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3000" spc="-1" strike="noStrike" cap="small">
                <a:solidFill>
                  <a:schemeClr val="accent3"/>
                </a:solidFill>
                <a:latin typeface="Century Schoolbook"/>
              </a:rPr>
              <a:t>Этап 3. Работа с текстом после чтения.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0"/>
          </a:bodyPr>
          <a:p>
            <a:pPr marL="247680" indent="-2476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1. Концептуальная (смысловая) беседа по тексту. Коллективное обсуждение прочитанного, дискуссия. Соотнесение читательских интерпретаций произведения с авторской позицией. Формулирование основной идеи текста или совокупности его главных смыслов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7680" indent="-2476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. Знакомство с писателем. Беседа о личности писателя. Работа с материалами учебника, дополнительными источниками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7680" indent="-2476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. Работа с заглавием, иллюстрациями. Обсуждение смысла заглавия, иллюстраций к произведению. Беседа об особенностях восприятия литературного произведения разными людьми на примере сравнения видения художника-иллюстратора с видением обучающихся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7680" indent="-2476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4. Творческие задания для учащихся. Задания должны быть направлены на выявление эмоционального отношения детей к литературному произведению, осмысление школьниками содержания т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ста, развитие у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их воображения и т. д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000" spc="-1" strike="noStrike" cap="small">
                <a:solidFill>
                  <a:schemeClr val="accent3"/>
                </a:solidFill>
                <a:latin typeface="Century Schoolbook"/>
              </a:rPr>
              <a:t>Эффективные приёмы анализа художественного текст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7467120" cy="34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«Диалог с автором»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омментированное чтение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218</TotalTime>
  <Application>LibreOffice/7.4.7.2$Linux_X86_64 LibreOffice_project/40$Build-2</Application>
  <AppVersion>15.0000</AppVersion>
  <Words>1184</Words>
  <Paragraphs>7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04:21:57Z</dcterms:created>
  <dc:creator>Admin</dc:creator>
  <dc:description/>
  <dc:language>en-US</dc:language>
  <cp:lastModifiedBy>Admin</cp:lastModifiedBy>
  <dcterms:modified xsi:type="dcterms:W3CDTF">2020-11-16T14:04:21Z</dcterms:modified>
  <cp:revision>3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4</vt:r8>
  </property>
</Properties>
</file>