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chimes.wav" ContentType="audio/x-wav"/>
  <Override PartName="/ppt/media/image29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41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2.png" ContentType="image/png"/>
  <Override PartName="/ppt/media/image48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7DE-846A-424A-BD79-63E9FDC2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092-F1EF-4CCA-B152-9359051C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042-4BE1-4C0A-9A97-D0824C86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2B6-5E95-475A-846F-A1E8F886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257D-C6C3-46F5-850B-1622EDE2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D91B-458E-47EA-AF6D-B3E55557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4663-5B1C-4601-96BB-F1E0322B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5542-9BD4-41BE-9974-1A49BA3F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8A68-7C33-4E05-9F89-4A3ABD62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9484-BA97-4DE2-A195-892325EF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35BA-2C23-4B67-BF4B-68634D7B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DB0-CADD-4074-A19D-AE0991F7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FDD8-2701-4C2D-B41A-11001AA7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784E-9C69-4DF3-9CC1-BA937981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E940-DFBB-439C-8CC6-F95CA204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8C09-8F34-4426-AAFF-47392023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9BB2-B89A-4B3A-8E19-9FA6D067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185-0F42-4D1F-A8CD-3A3E591A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D75-03F3-4892-A69A-D22F3FFD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3B5-CB3D-4F25-8BE0-6BDC5E46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C8A-7564-447C-B5F6-CE79C015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547-9C26-4EE0-9DED-67FE0E16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B87-281A-484D-BBA4-BCB0BDB0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674-9E6F-4721-B6A4-2B767336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1f1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4D9D-B125-45CE-9797-F49E328F3C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1f1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22A2-3A44-4C51-9656-A1363A99BC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image" Target="../media/image32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image" Target="../media/image33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5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6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8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1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5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6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8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6.xml"/><Relationship Id="rId6" Type="http://schemas.openxmlformats.org/officeDocument/2006/relationships/image" Target="../media/image4.png"/><Relationship Id="rId7" Type="http://schemas.openxmlformats.org/officeDocument/2006/relationships/slide" Target="slide7.xml"/><Relationship Id="rId8" Type="http://schemas.openxmlformats.org/officeDocument/2006/relationships/image" Target="../media/image5.png"/><Relationship Id="rId9" Type="http://schemas.openxmlformats.org/officeDocument/2006/relationships/slide" Target="slide8.xml"/><Relationship Id="rId10" Type="http://schemas.openxmlformats.org/officeDocument/2006/relationships/image" Target="../media/image6.png"/><Relationship Id="rId11" Type="http://schemas.openxmlformats.org/officeDocument/2006/relationships/slide" Target="slide9.xml"/><Relationship Id="rId12" Type="http://schemas.openxmlformats.org/officeDocument/2006/relationships/image" Target="../media/image7.png"/><Relationship Id="rId13" Type="http://schemas.openxmlformats.org/officeDocument/2006/relationships/slide" Target="slide10.xml"/><Relationship Id="rId14" Type="http://schemas.openxmlformats.org/officeDocument/2006/relationships/image" Target="../media/image8.png"/><Relationship Id="rId15" Type="http://schemas.openxmlformats.org/officeDocument/2006/relationships/slide" Target="slide11.xml"/><Relationship Id="rId16" Type="http://schemas.openxmlformats.org/officeDocument/2006/relationships/image" Target="../media/image9.png"/><Relationship Id="rId17" Type="http://schemas.openxmlformats.org/officeDocument/2006/relationships/slide" Target="slide12.xml"/><Relationship Id="rId18" Type="http://schemas.openxmlformats.org/officeDocument/2006/relationships/image" Target="../media/image10.png"/><Relationship Id="rId19" Type="http://schemas.openxmlformats.org/officeDocument/2006/relationships/slide" Target="slide13.xml"/><Relationship Id="rId20" Type="http://schemas.openxmlformats.org/officeDocument/2006/relationships/image" Target="../media/image11.png"/><Relationship Id="rId21" Type="http://schemas.openxmlformats.org/officeDocument/2006/relationships/slide" Target="slide14.xml"/><Relationship Id="rId22" Type="http://schemas.openxmlformats.org/officeDocument/2006/relationships/image" Target="../media/image12.png"/><Relationship Id="rId23" Type="http://schemas.openxmlformats.org/officeDocument/2006/relationships/slide" Target="slide15.xml"/><Relationship Id="rId24" Type="http://schemas.openxmlformats.org/officeDocument/2006/relationships/image" Target="../media/image13.png"/><Relationship Id="rId25" Type="http://schemas.openxmlformats.org/officeDocument/2006/relationships/slide" Target="slide16.xml"/><Relationship Id="rId26" Type="http://schemas.openxmlformats.org/officeDocument/2006/relationships/image" Target="../media/image14.png"/><Relationship Id="rId27" Type="http://schemas.openxmlformats.org/officeDocument/2006/relationships/slide" Target="slide17.xml"/><Relationship Id="rId28" Type="http://schemas.openxmlformats.org/officeDocument/2006/relationships/image" Target="../media/image15.png"/><Relationship Id="rId29" Type="http://schemas.openxmlformats.org/officeDocument/2006/relationships/slide" Target="slide18.xml"/><Relationship Id="rId30" Type="http://schemas.openxmlformats.org/officeDocument/2006/relationships/image" Target="../media/image16.png"/><Relationship Id="rId31" Type="http://schemas.openxmlformats.org/officeDocument/2006/relationships/slide" Target="slide19.xml"/><Relationship Id="rId32" Type="http://schemas.openxmlformats.org/officeDocument/2006/relationships/image" Target="../media/image17.png"/><Relationship Id="rId33" Type="http://schemas.openxmlformats.org/officeDocument/2006/relationships/slide" Target="slide20.xml"/><Relationship Id="rId34" Type="http://schemas.openxmlformats.org/officeDocument/2006/relationships/image" Target="../media/image18.png"/><Relationship Id="rId35" Type="http://schemas.openxmlformats.org/officeDocument/2006/relationships/slide" Target="slide21.xml"/><Relationship Id="rId36" Type="http://schemas.openxmlformats.org/officeDocument/2006/relationships/image" Target="../media/image19.png"/><Relationship Id="rId37" Type="http://schemas.openxmlformats.org/officeDocument/2006/relationships/slide" Target="slide22.xml"/><Relationship Id="rId38" Type="http://schemas.openxmlformats.org/officeDocument/2006/relationships/image" Target="../media/image20.png"/><Relationship Id="rId39" Type="http://schemas.openxmlformats.org/officeDocument/2006/relationships/slide" Target="slide23.xml"/><Relationship Id="rId40" Type="http://schemas.openxmlformats.org/officeDocument/2006/relationships/image" Target="../media/image21.png"/><Relationship Id="rId41" Type="http://schemas.openxmlformats.org/officeDocument/2006/relationships/slide" Target="slide24.xml"/><Relationship Id="rId42" Type="http://schemas.openxmlformats.org/officeDocument/2006/relationships/image" Target="../media/image22.png"/><Relationship Id="rId43" Type="http://schemas.openxmlformats.org/officeDocument/2006/relationships/slide" Target="slide25.xml"/><Relationship Id="rId44" Type="http://schemas.openxmlformats.org/officeDocument/2006/relationships/image" Target="../media/image23.png"/><Relationship Id="rId45" Type="http://schemas.openxmlformats.org/officeDocument/2006/relationships/slide" Target="slide26.xml"/><Relationship Id="rId46" Type="http://schemas.openxmlformats.org/officeDocument/2006/relationships/image" Target="../media/image24.png"/><Relationship Id="rId47" Type="http://schemas.openxmlformats.org/officeDocument/2006/relationships/slide" Target="slide27.xml"/><Relationship Id="rId48" Type="http://schemas.openxmlformats.org/officeDocument/2006/relationships/image" Target="../media/image25.png"/><Relationship Id="rId4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9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image" Target="../media/image30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31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ahoma"/>
              </a:rPr>
              <a:t>ИСТОРИЧЕСКАЯ ВИКТОРИНА «Путешествие в Древнюю Кубань»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564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191280" y="5229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ила иг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0"/>
            <a:ext cx="91440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no Pro Subhead"/>
              </a:rPr>
              <a:t>МАОУ-СОШ №  20г. Армавир, п. Завет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no Pro Subhead"/>
              </a:rPr>
              <a:t>Авакян Светлана Серге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95280" y="1341360"/>
            <a:ext cx="8353440" cy="115092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Стоянка, где были найдены остатки искуственного жилища…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5796000" y="3141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AutoShape 6"/>
          <p:cNvSpPr/>
          <p:nvPr/>
        </p:nvSpPr>
        <p:spPr>
          <a:xfrm rot="10800000">
            <a:off x="5148360" y="4508280"/>
            <a:ext cx="3311280" cy="1152360"/>
          </a:xfrm>
          <a:prstGeom prst="wedgeRectCallout">
            <a:avLst>
              <a:gd name="adj1" fmla="val 2731"/>
              <a:gd name="adj2" fmla="val 11597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ль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19" descr="Рисунок7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2" descr="http://www.meet-intl-ministries.org/kenya-ancientman.jpg"/>
          <p:cNvPicPr/>
          <p:nvPr/>
        </p:nvPicPr>
        <p:blipFill>
          <a:blip r:embed="rId3"/>
          <a:stretch/>
        </p:blipFill>
        <p:spPr>
          <a:xfrm>
            <a:off x="684360" y="2997360"/>
            <a:ext cx="3590640" cy="26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0" y="1341360"/>
            <a:ext cx="9036000" cy="115092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К какому типу хозяйства относятся земледелие и скотоводство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796000" y="263700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AutoShape 6"/>
          <p:cNvSpPr/>
          <p:nvPr/>
        </p:nvSpPr>
        <p:spPr>
          <a:xfrm rot="10800000">
            <a:off x="4427280" y="4292640"/>
            <a:ext cx="4537080" cy="1728720"/>
          </a:xfrm>
          <a:prstGeom prst="wedgeRectCallout">
            <a:avLst>
              <a:gd name="adj1" fmla="val 1532"/>
              <a:gd name="adj2" fmla="val 107324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оизводяще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7" name="Picture 19" descr="Рисунок8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1"/>
          <p:cNvSpPr/>
          <p:nvPr/>
        </p:nvSpPr>
        <p:spPr>
          <a:xfrm>
            <a:off x="3868200" y="4560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9" name="Рисунок 1" descr=""/>
          <p:cNvPicPr/>
          <p:nvPr/>
        </p:nvPicPr>
        <p:blipFill>
          <a:blip r:embed="rId3"/>
          <a:stretch/>
        </p:blipFill>
        <p:spPr>
          <a:xfrm>
            <a:off x="219240" y="2554200"/>
            <a:ext cx="39909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nodeType="clickEffect" fill="hold">
                      <p:stCondLst>
                        <p:cond delay="0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акая археологическая культура получила свое название от города, рядом с которым нашли первое захоронение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6300720" y="3068640"/>
            <a:ext cx="187164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AutoShape 6"/>
          <p:cNvSpPr/>
          <p:nvPr/>
        </p:nvSpPr>
        <p:spPr>
          <a:xfrm rot="10800000">
            <a:off x="5154120" y="4437000"/>
            <a:ext cx="3311640" cy="1224000"/>
          </a:xfrm>
          <a:prstGeom prst="wedgeRectCallout">
            <a:avLst>
              <a:gd name="adj1" fmla="val 1148"/>
              <a:gd name="adj2" fmla="val 113810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айкоп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Picture 19" descr="Рисунок9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" descr=""/>
          <p:cNvPicPr/>
          <p:nvPr/>
        </p:nvPicPr>
        <p:blipFill>
          <a:blip r:embed="rId2"/>
          <a:stretch/>
        </p:blipFill>
        <p:spPr>
          <a:xfrm>
            <a:off x="230040" y="3246480"/>
            <a:ext cx="2252880" cy="28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0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акое занятие человека возникло из охот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5796000" y="3213000"/>
            <a:ext cx="194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AutoShape 6"/>
          <p:cNvSpPr/>
          <p:nvPr/>
        </p:nvSpPr>
        <p:spPr>
          <a:xfrm rot="10800000">
            <a:off x="5148360" y="4508280"/>
            <a:ext cx="3311280" cy="1152360"/>
          </a:xfrm>
          <a:prstGeom prst="wedgeRectCallout">
            <a:avLst>
              <a:gd name="adj1" fmla="val 10351"/>
              <a:gd name="adj2" fmla="val 10798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котовод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19" descr="Рисунок10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0" descr="99"/>
          <p:cNvPicPr/>
          <p:nvPr/>
        </p:nvPicPr>
        <p:blipFill>
          <a:blip r:embed="rId2"/>
          <a:stretch/>
        </p:blipFill>
        <p:spPr>
          <a:xfrm>
            <a:off x="468360" y="2852640"/>
            <a:ext cx="4464000" cy="28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106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Звериный» стиль украшения характерен для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5724360" y="2852640"/>
            <a:ext cx="194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6"/>
          <p:cNvSpPr/>
          <p:nvPr/>
        </p:nvSpPr>
        <p:spPr>
          <a:xfrm rot="10800000">
            <a:off x="3708000" y="4508640"/>
            <a:ext cx="5435640" cy="1512720"/>
          </a:xfrm>
          <a:prstGeom prst="wedgeRectCallout">
            <a:avLst>
              <a:gd name="adj1" fmla="val 333"/>
              <a:gd name="adj2" fmla="val 11597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киф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" name="Picture 19" descr="Рисунок11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1" descr=""/>
          <p:cNvPicPr/>
          <p:nvPr/>
        </p:nvPicPr>
        <p:blipFill>
          <a:blip r:embed="rId2"/>
          <a:stretch/>
        </p:blipFill>
        <p:spPr>
          <a:xfrm>
            <a:off x="174600" y="2709720"/>
            <a:ext cx="3173400" cy="21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nodeType="clickEffect" fill="hold">
                      <p:stCondLst>
                        <p:cond delay="0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ый, внесший большой вклад в исследование дольменов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5867280" y="3213000"/>
            <a:ext cx="194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AutoShape 6"/>
          <p:cNvSpPr/>
          <p:nvPr/>
        </p:nvSpPr>
        <p:spPr>
          <a:xfrm rot="10800000">
            <a:off x="4716000" y="4508280"/>
            <a:ext cx="4319640" cy="1152360"/>
          </a:xfrm>
          <a:prstGeom prst="wedgeRectCallout">
            <a:avLst>
              <a:gd name="adj1" fmla="val 1773"/>
              <a:gd name="adj2" fmla="val 10936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ладимир Иванович Морков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19" descr="Рисунок12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21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22"/>
          <p:cNvSpPr/>
          <p:nvPr/>
        </p:nvSpPr>
        <p:spPr>
          <a:xfrm>
            <a:off x="0" y="49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Рисунок 1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241360" cy="30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0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ремя образования Боспорского цар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5867280" y="3357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AutoShape 6"/>
          <p:cNvSpPr/>
          <p:nvPr/>
        </p:nvSpPr>
        <p:spPr>
          <a:xfrm rot="10800000">
            <a:off x="5148360" y="4581000"/>
            <a:ext cx="3311280" cy="1079640"/>
          </a:xfrm>
          <a:prstGeom prst="wedgeRectCallout">
            <a:avLst>
              <a:gd name="adj1" fmla="val 5125"/>
              <a:gd name="adj2" fmla="val 10014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480 г. до н.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19" descr="Рисунок13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22"/>
          <p:cNvSpPr/>
          <p:nvPr/>
        </p:nvSpPr>
        <p:spPr>
          <a:xfrm>
            <a:off x="0" y="0"/>
            <a:ext cx="1981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2" name="Рисунок 1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3868920" cy="29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0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0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335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еления переселенцев из другой страны или област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5796000" y="3141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AutoShape 6"/>
          <p:cNvSpPr/>
          <p:nvPr/>
        </p:nvSpPr>
        <p:spPr>
          <a:xfrm rot="10800000">
            <a:off x="5148360" y="4437000"/>
            <a:ext cx="3311280" cy="1224000"/>
          </a:xfrm>
          <a:prstGeom prst="wedgeRectCallout">
            <a:avLst>
              <a:gd name="adj1" fmla="val 4745"/>
              <a:gd name="adj2" fmla="val 109532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оло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Picture 19" descr="Рисунок14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1" descr=""/>
          <p:cNvPicPr/>
          <p:nvPr/>
        </p:nvPicPr>
        <p:blipFill>
          <a:blip r:embed="rId2"/>
          <a:stretch/>
        </p:blipFill>
        <p:spPr>
          <a:xfrm>
            <a:off x="380880" y="3357720"/>
            <a:ext cx="388800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0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7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458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395280" y="1341360"/>
            <a:ext cx="8353440" cy="86364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Бронза –это сплав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6084720" y="299736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AutoShape 6"/>
          <p:cNvSpPr/>
          <p:nvPr/>
        </p:nvSpPr>
        <p:spPr>
          <a:xfrm rot="10800000">
            <a:off x="5508720" y="4437000"/>
            <a:ext cx="3311280" cy="1224000"/>
          </a:xfrm>
          <a:prstGeom prst="wedgeRectCallout">
            <a:avLst>
              <a:gd name="adj1" fmla="val 3546"/>
              <a:gd name="adj2" fmla="val 101879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еди и ол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Picture 19" descr="Рисунок15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1" descr=""/>
          <p:cNvPicPr/>
          <p:nvPr/>
        </p:nvPicPr>
        <p:blipFill>
          <a:blip r:embed="rId2"/>
          <a:stretch/>
        </p:blipFill>
        <p:spPr>
          <a:xfrm>
            <a:off x="960480" y="3164040"/>
            <a:ext cx="4022640" cy="25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0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питывание тело умершего веществами, препятсвующими его разложению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5867280" y="3141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AutoShape 6"/>
          <p:cNvSpPr/>
          <p:nvPr/>
        </p:nvSpPr>
        <p:spPr>
          <a:xfrm rot="10800000">
            <a:off x="4967280" y="4436640"/>
            <a:ext cx="3781440" cy="1368360"/>
          </a:xfrm>
          <a:prstGeom prst="wedgeRectCallout">
            <a:avLst>
              <a:gd name="adj1" fmla="val 1148"/>
              <a:gd name="adj2" fmla="val 10498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Бальзам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Picture 19" descr="Рисунок16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" descr=""/>
          <p:cNvPicPr/>
          <p:nvPr/>
        </p:nvPicPr>
        <p:blipFill>
          <a:blip r:embed="rId2"/>
          <a:stretch/>
        </p:blipFill>
        <p:spPr>
          <a:xfrm>
            <a:off x="179280" y="2843280"/>
            <a:ext cx="4429080" cy="29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nodeType="clickEffect" fill="hold">
                      <p:stCondLst>
                        <p:cond delay="0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0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631" nodeType="clickEffect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2916360" y="404640"/>
            <a:ext cx="33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ahoma"/>
              </a:rPr>
              <a:t>Правила иг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ahoma"/>
              <a:ea typeface="Tahom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4000" y="1773360"/>
            <a:ext cx="84960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ыбери ячейку с номером и щёлкни по ней мышк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Прочитай вопро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. Через 3 секунды после появления вопроса запускается тайме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ремя на обдумывание – 10 секунд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5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После звукового сигнала дай устный отве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6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Для проверки щелкните мышью по слову «Ответ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7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Чтобы продолжить игру, щёлкни мышк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 кнопке «Продолжить игру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6">
            <a:hlinkClick r:id="rId3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ча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395280" y="1341360"/>
            <a:ext cx="8353440" cy="1008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Глиняный сосуд с округлым или вытянутым туловом, двумя вертикальными ручками и узким горл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5796000" y="3068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AutoShape 6"/>
          <p:cNvSpPr/>
          <p:nvPr/>
        </p:nvSpPr>
        <p:spPr>
          <a:xfrm rot="10800000">
            <a:off x="5148360" y="4437000"/>
            <a:ext cx="3311280" cy="1224000"/>
          </a:xfrm>
          <a:prstGeom prst="wedgeRectCallout">
            <a:avLst>
              <a:gd name="adj1" fmla="val 5509"/>
              <a:gd name="adj2" fmla="val 11160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мфо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19" descr="Рисунок17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" descr=""/>
          <p:cNvPicPr/>
          <p:nvPr/>
        </p:nvPicPr>
        <p:blipFill>
          <a:blip r:embed="rId2"/>
          <a:stretch/>
        </p:blipFill>
        <p:spPr>
          <a:xfrm>
            <a:off x="210960" y="2781360"/>
            <a:ext cx="2127600" cy="33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6" dur="indefinite" restart="never" nodeType="tmRoot">
          <p:childTnLst>
            <p:seq>
              <p:cTn id="1637" dur="indefinite" nodeType="mainSeq">
                <p:childTnLst>
                  <p:par>
                    <p:cTn id="1638" nodeType="clickEffect" fill="hold">
                      <p:stCondLst>
                        <p:cond delay="0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роткий, железный меч скифов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5940360" y="3213000"/>
            <a:ext cx="194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AutoShape 6"/>
          <p:cNvSpPr/>
          <p:nvPr/>
        </p:nvSpPr>
        <p:spPr>
          <a:xfrm rot="10800000">
            <a:off x="5148360" y="4365720"/>
            <a:ext cx="3311280" cy="1295280"/>
          </a:xfrm>
          <a:prstGeom prst="wedgeRectCallout">
            <a:avLst>
              <a:gd name="adj1" fmla="val 5078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кин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19" descr="Рисунок18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" descr=""/>
          <p:cNvPicPr/>
          <p:nvPr/>
        </p:nvPicPr>
        <p:blipFill>
          <a:blip r:embed="rId2"/>
          <a:stretch/>
        </p:blipFill>
        <p:spPr>
          <a:xfrm>
            <a:off x="271440" y="2975040"/>
            <a:ext cx="370512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nodeType="clickEffect" fill="hold">
                      <p:stCondLst>
                        <p:cond delay="0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1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5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806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611280" y="1341360"/>
            <a:ext cx="8353440" cy="1224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й современный пункт находится на месте древнегреческой колонии Гермонасс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5796000" y="3213000"/>
            <a:ext cx="194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6"/>
          <p:cNvSpPr/>
          <p:nvPr/>
        </p:nvSpPr>
        <p:spPr>
          <a:xfrm rot="10800000">
            <a:off x="5148360" y="4508280"/>
            <a:ext cx="3311280" cy="1152360"/>
          </a:xfrm>
          <a:prstGeom prst="wedgeRectCallout">
            <a:avLst>
              <a:gd name="adj1" fmla="val 717"/>
              <a:gd name="adj2" fmla="val 112532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ница Тама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9" name="Picture 19" descr="Рисунок19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70" name="Рисунок 1" descr=""/>
          <p:cNvPicPr/>
          <p:nvPr/>
        </p:nvPicPr>
        <p:blipFill>
          <a:blip r:embed="rId2"/>
          <a:stretch/>
        </p:blipFill>
        <p:spPr>
          <a:xfrm>
            <a:off x="55440" y="2781360"/>
            <a:ext cx="453888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nodeType="clickEffect" fill="hold">
                      <p:stCondLst>
                        <p:cond delay="0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1341360"/>
            <a:ext cx="896472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 буквальном переводе с кельтского слово 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дольмен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означает…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5724360" y="3141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AutoShape 6"/>
          <p:cNvSpPr/>
          <p:nvPr/>
        </p:nvSpPr>
        <p:spPr>
          <a:xfrm rot="10800000">
            <a:off x="5148360" y="4508280"/>
            <a:ext cx="3311280" cy="1152360"/>
          </a:xfrm>
          <a:prstGeom prst="wedgeRectCallout">
            <a:avLst>
              <a:gd name="adj1" fmla="val 6324"/>
              <a:gd name="adj2" fmla="val 112532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аменный ст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7" name="Picture 19" descr="Рисунок20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1" descr=""/>
          <p:cNvPicPr/>
          <p:nvPr/>
        </p:nvPicPr>
        <p:blipFill>
          <a:blip r:embed="rId2"/>
          <a:stretch/>
        </p:blipFill>
        <p:spPr>
          <a:xfrm>
            <a:off x="196920" y="2819520"/>
            <a:ext cx="4572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1" dur="indefinite" restart="never" nodeType="tmRoot">
          <p:childTnLst>
            <p:seq>
              <p:cTn id="1862" dur="indefinite" nodeType="mainSeq">
                <p:childTnLst>
                  <p:par>
                    <p:cTn id="1863" nodeType="clickEffect" fill="hold">
                      <p:stCondLst>
                        <p:cond delay="0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8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395280" y="1309680"/>
            <a:ext cx="8353440" cy="1224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Как называется инструмент для ароматических смесей и смол, которую племена катакомбной культуры клали рядом с покойником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5867280" y="3141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AutoShape 6"/>
          <p:cNvSpPr/>
          <p:nvPr/>
        </p:nvSpPr>
        <p:spPr>
          <a:xfrm rot="10800000">
            <a:off x="5183280" y="4437000"/>
            <a:ext cx="3311280" cy="1224000"/>
          </a:xfrm>
          <a:prstGeom prst="wedgeRectCallout">
            <a:avLst>
              <a:gd name="adj1" fmla="val 7138"/>
              <a:gd name="adj2" fmla="val 10836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курильниц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5" name="Picture 19" descr="Рисунок22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" descr=""/>
          <p:cNvPicPr/>
          <p:nvPr/>
        </p:nvPicPr>
        <p:blipFill>
          <a:blip r:embed="rId2"/>
          <a:stretch/>
        </p:blipFill>
        <p:spPr>
          <a:xfrm>
            <a:off x="395280" y="3308400"/>
            <a:ext cx="230364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nodeType="clickEffect" fill="hold">
                      <p:stCondLst>
                        <p:cond delay="0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9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1197000"/>
            <a:ext cx="914400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Вера в существование в природе сверхъестественных сил называется…</a:t>
            </a: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5867280" y="3284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AutoShape 6"/>
          <p:cNvSpPr/>
          <p:nvPr/>
        </p:nvSpPr>
        <p:spPr>
          <a:xfrm rot="10800000">
            <a:off x="5148360" y="4437000"/>
            <a:ext cx="3311280" cy="1224000"/>
          </a:xfrm>
          <a:prstGeom prst="wedgeRectCallout">
            <a:avLst>
              <a:gd name="adj1" fmla="val 4310"/>
              <a:gd name="adj2" fmla="val 96430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елиги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3" name="Picture 19" descr="Рисунок23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2" descr="http://img-fotki.yandex.ru/get/2/my-archives.0/0_1abe0_bd121ea_XL"/>
          <p:cNvPicPr/>
          <p:nvPr/>
        </p:nvPicPr>
        <p:blipFill>
          <a:blip r:embed="rId2"/>
          <a:stretch/>
        </p:blipFill>
        <p:spPr>
          <a:xfrm>
            <a:off x="1258920" y="2637000"/>
            <a:ext cx="2592360" cy="330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5" dur="indefinite" restart="never" nodeType="tmRoot">
          <p:childTnLst>
            <p:seq>
              <p:cTn id="1966" dur="indefinite" nodeType="mainSeq">
                <p:childTnLst>
                  <p:par>
                    <p:cTn id="1967" nodeType="clickEffect" fill="hold">
                      <p:stCondLst>
                        <p:cond delay="0"/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0" y="1125360"/>
            <a:ext cx="9036000" cy="1440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ahoma"/>
              </a:rPr>
              <a:t>Главным занятием оседлых меотских племен было….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5796000" y="263700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AutoShape 6"/>
          <p:cNvSpPr/>
          <p:nvPr/>
        </p:nvSpPr>
        <p:spPr>
          <a:xfrm rot="10800000">
            <a:off x="4788000" y="3933360"/>
            <a:ext cx="4356000" cy="1798920"/>
          </a:xfrm>
          <a:prstGeom prst="wedgeRectCallout">
            <a:avLst>
              <a:gd name="adj1" fmla="val -16625"/>
              <a:gd name="adj2" fmla="val 102268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земледел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1" name="Picture 19" descr="Рисунок24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1" descr=""/>
          <p:cNvPicPr/>
          <p:nvPr/>
        </p:nvPicPr>
        <p:blipFill>
          <a:blip r:embed="rId2"/>
          <a:stretch/>
        </p:blipFill>
        <p:spPr>
          <a:xfrm>
            <a:off x="231840" y="3068640"/>
            <a:ext cx="43038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nodeType="clickEffect" fill="hold">
                      <p:stCondLst>
                        <p:cond delay="0"/>
                      </p:stCondLst>
                      <p:childTnLst>
                        <p:par>
                          <p:cTn id="2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евнегреческий историк, прозванный «отцом истори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5651640" y="3068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AutoShape 6"/>
          <p:cNvSpPr/>
          <p:nvPr/>
        </p:nvSpPr>
        <p:spPr>
          <a:xfrm rot="10800000">
            <a:off x="5148360" y="4437000"/>
            <a:ext cx="3311280" cy="1224000"/>
          </a:xfrm>
          <a:prstGeom prst="wedgeRectCallout">
            <a:avLst>
              <a:gd name="adj1" fmla="val 9537"/>
              <a:gd name="adj2" fmla="val 11277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Герод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9" name="Picture 19" descr="Рисунок25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21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" name="Рисунок 1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2519640" cy="30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1" dur="indefinite" restart="never" nodeType="tmRoot">
          <p:childTnLst>
            <p:seq>
              <p:cTn id="2072" dur="indefinite" nodeType="mainSeq">
                <p:childTnLst>
                  <p:par>
                    <p:cTn id="2073" nodeType="clickEffect" fill="hold">
                      <p:stCondLst>
                        <p:cond delay="0"/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8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2189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Рисунок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Рисунок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Рисунок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7672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Рисунок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1636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Рисунок5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15636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Рисунок6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60104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Рисунок7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9528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Рисунок8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83528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Рисунок9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327672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Рисунок10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71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Рисунок11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615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Рисунок12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759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Рисунок13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9528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Рисунок14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183528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Рисунок15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27672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Рисунок16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471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Рисунок17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615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Рисунок18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759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Рисунок19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39528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3" descr="Рисунок20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183528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4" descr="Рисунок22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327672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5" descr="Рисунок23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471636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Рисунок24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615636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7" descr="Рисунок25">
            <a:hlinkClick r:id="rId47" action="ppaction://hlinksldjump"/>
          </p:cNvPr>
          <p:cNvPicPr/>
          <p:nvPr/>
        </p:nvPicPr>
        <p:blipFill>
          <a:blip r:embed="rId48"/>
          <a:stretch/>
        </p:blipFill>
        <p:spPr>
          <a:xfrm>
            <a:off x="7596360" y="4579920"/>
            <a:ext cx="1255680" cy="12556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8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29">
            <a:hlinkClick r:id="" action="ppaction://hlinkshowjump?jump=endshow"/>
          </p:cNvPr>
          <p:cNvSpPr/>
          <p:nvPr/>
        </p:nvSpPr>
        <p:spPr>
          <a:xfrm>
            <a:off x="7740720" y="623736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73f1ac"/>
          </a:solidFill>
          <a:ln w="0">
            <a:noFill/>
          </a:ln>
          <a:effectLst>
            <a:outerShdw dist="17819" dir="2700000" blurRad="0" rotWithShape="0">
              <a:srgbClr val="4591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908000" y="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0" y="1052640"/>
            <a:ext cx="914400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Следы древнейших людей, живших более 2 миллионов лет назад, были обнаружены археологами 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867280" y="3213000"/>
            <a:ext cx="194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10"/>
          <p:cNvSpPr/>
          <p:nvPr/>
        </p:nvSpPr>
        <p:spPr>
          <a:xfrm rot="10800000">
            <a:off x="5148360" y="4437000"/>
            <a:ext cx="3311280" cy="1224000"/>
          </a:xfrm>
          <a:prstGeom prst="wedgeRectCallout">
            <a:avLst>
              <a:gd name="adj1" fmla="val 4745"/>
              <a:gd name="adj2" fmla="val 96430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Восточной Афри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21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22">
            <a:hlinkClick r:id="rId2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25" descr="http://forum.ngs.ru/preview/forum/upload_files/304b627f7ddc225ad8e94bd10997da81_09713ea7ff248846996d9493f2a27377_131607981891_800px.jpg"/>
          <p:cNvPicPr/>
          <p:nvPr/>
        </p:nvPicPr>
        <p:blipFill>
          <a:blip r:embed="rId3"/>
          <a:stretch/>
        </p:blipFill>
        <p:spPr>
          <a:xfrm>
            <a:off x="611280" y="2565360"/>
            <a:ext cx="2230200" cy="33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4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акой металл стал использоваться человеком первым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5796000" y="3213000"/>
            <a:ext cx="194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8"/>
          <p:cNvSpPr/>
          <p:nvPr/>
        </p:nvSpPr>
        <p:spPr>
          <a:xfrm rot="10800000">
            <a:off x="5148360" y="4437000"/>
            <a:ext cx="3311280" cy="1224000"/>
          </a:xfrm>
          <a:prstGeom prst="wedgeRectCallout">
            <a:avLst>
              <a:gd name="adj1" fmla="val 13949"/>
              <a:gd name="adj2" fmla="val 99671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ед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20" descr="Рисунок2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1" descr="mhtml:file://F:\первчел\история%20первобытных%20времен33.mht!http://prehistoryforkids.archeologia.ru/33/74.gif"/>
          <p:cNvPicPr/>
          <p:nvPr/>
        </p:nvPicPr>
        <p:blipFill>
          <a:blip r:embed="rId3"/>
          <a:stretch/>
        </p:blipFill>
        <p:spPr>
          <a:xfrm>
            <a:off x="755640" y="2781360"/>
            <a:ext cx="3456000" cy="29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1125360"/>
            <a:ext cx="9144000" cy="1440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Термин, используемый для обозначения поселений первобытных людей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5724360" y="3141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AutoShape 8"/>
          <p:cNvSpPr/>
          <p:nvPr/>
        </p:nvSpPr>
        <p:spPr>
          <a:xfrm rot="10800000">
            <a:off x="5110200" y="4508640"/>
            <a:ext cx="3744720" cy="1224000"/>
          </a:xfrm>
          <a:prstGeom prst="wedgeRectCallout">
            <a:avLst>
              <a:gd name="adj1" fmla="val 3495"/>
              <a:gd name="adj2" fmla="val 10836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тоя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20" descr="Рисунок3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21">
            <a:hlinkClick r:id="rId2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Рисунок 22" descr=""/>
          <p:cNvPicPr/>
          <p:nvPr/>
        </p:nvPicPr>
        <p:blipFill>
          <a:blip r:embed="rId3"/>
          <a:stretch/>
        </p:blipFill>
        <p:spPr>
          <a:xfrm>
            <a:off x="108000" y="2924280"/>
            <a:ext cx="49752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460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1125360"/>
            <a:ext cx="9144000" cy="151164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Средний каменный век…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724360" y="3141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6"/>
          <p:cNvSpPr/>
          <p:nvPr/>
        </p:nvSpPr>
        <p:spPr>
          <a:xfrm rot="10800000">
            <a:off x="5148000" y="4437000"/>
            <a:ext cx="3816360" cy="1224000"/>
          </a:xfrm>
          <a:prstGeom prst="wedgeRectCallout">
            <a:avLst>
              <a:gd name="adj1" fmla="val 6759"/>
              <a:gd name="adj2" fmla="val 110569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езоли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18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19" descr="Рисунок4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3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4189320" cy="267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50920" y="1125360"/>
            <a:ext cx="8353440" cy="136872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мершие млекопитающие семейства слонов, покрытые шерстью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5867280" y="3213000"/>
            <a:ext cx="194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AutoShape 6"/>
          <p:cNvSpPr/>
          <p:nvPr/>
        </p:nvSpPr>
        <p:spPr>
          <a:xfrm rot="10800000">
            <a:off x="5148360" y="4437000"/>
            <a:ext cx="3311280" cy="1224000"/>
          </a:xfrm>
          <a:prstGeom prst="wedgeRectCallout">
            <a:avLst>
              <a:gd name="adj1" fmla="val 7953"/>
              <a:gd name="adj2" fmla="val 100712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амон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19" descr="Рисунок5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2"/>
          <p:cNvSpPr/>
          <p:nvPr/>
        </p:nvSpPr>
        <p:spPr>
          <a:xfrm>
            <a:off x="3620880" y="4137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Рисунок 1" descr=""/>
          <p:cNvPicPr/>
          <p:nvPr/>
        </p:nvPicPr>
        <p:blipFill>
          <a:blip r:embed="rId3"/>
          <a:stretch/>
        </p:blipFill>
        <p:spPr>
          <a:xfrm>
            <a:off x="628560" y="2997360"/>
            <a:ext cx="412776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0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95280" y="1341360"/>
            <a:ext cx="8353440" cy="792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Наука, изучающая прошлое по вещественным источникам…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5796000" y="3141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AutoShape 6"/>
          <p:cNvSpPr/>
          <p:nvPr/>
        </p:nvSpPr>
        <p:spPr>
          <a:xfrm rot="10800000">
            <a:off x="5111280" y="4437000"/>
            <a:ext cx="3311640" cy="1224000"/>
          </a:xfrm>
          <a:prstGeom prst="wedgeRectCallout">
            <a:avLst>
              <a:gd name="adj1" fmla="val 4361"/>
              <a:gd name="adj2" fmla="val 101879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рхеоло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" name="Picture 19" descr="Рисунок6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" descr=""/>
          <p:cNvPicPr/>
          <p:nvPr/>
        </p:nvPicPr>
        <p:blipFill>
          <a:blip r:embed="rId3"/>
          <a:stretch/>
        </p:blipFill>
        <p:spPr>
          <a:xfrm>
            <a:off x="379440" y="315108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829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9:03:40Z</dcterms:created>
  <dc:creator>СЕРГЕЙ</dc:creator>
  <dc:description/>
  <dc:language>en-US</dc:language>
  <cp:lastModifiedBy>Andranik</cp:lastModifiedBy>
  <dcterms:modified xsi:type="dcterms:W3CDTF">2020-11-14T12:03:02Z</dcterms:modified>
  <cp:revision>117</cp:revision>
  <dc:subject/>
  <dc:title>Слайд 1</dc:title>
</cp:coreProperties>
</file>