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385D-932A-47F9-B859-47BC747D9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32C5-8BF9-4F91-B705-4D44069A9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BA7-E893-4FAF-98EE-55744D8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47F-417D-4D82-86B2-8966BBC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914-F817-4F0E-A456-8F928253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A6D-25D4-4C77-9674-6C60F6E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F56-0875-4FE0-8240-6748460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BC0-B8A5-48B7-AE36-DD541E1A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DE3-89C1-4549-BCD1-3928B5A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5FD-70C3-40A5-A257-C3B8D1D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635-2BD8-4C94-8239-ABC2679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10C-E107-42DF-BE96-98DF763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FDC-9A79-4B51-A0D5-DFBED23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C79-87F2-4CFD-907F-EDAAC5E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0D30-106E-4EED-B517-B40C266CF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2133360"/>
            <a:ext cx="8358120" cy="14698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реугольники: задачи, которые могли бы быть теоремам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151840" cy="90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324000" y="260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йон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а поиска и открыт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848360" cy="3716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0" y="4697280"/>
            <a:ext cx="282888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431640" y="3600"/>
            <a:ext cx="871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 И еще одна задача из учебн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Mincho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еометрия 7-9 классы. Л.С. Атанася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33336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ерждение о квадрате биссектрисы любого угла треуголь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95280" y="98100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драт биссектрисы любого угла треугольника равен разности произведений сторон треугольника, образующих избранный угол и отрезков, на которые биссектриса делит третью сторону тре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190680" cy="2521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067280" y="447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BD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MS Mincho"/>
              </a:rPr>
              <a:t>²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= AB*BC - AD*D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400" y="231840"/>
            <a:ext cx="8186760" cy="591192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место заклю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 Я не волшебник, я только учусь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проектом помогла мне понять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Не боги горшки обжигают!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это значит, что в будущем, когда получу образование, я смогу открывать неоткрытые факты, может быть, в том числе  и теор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"/>
          <p:cNvSpPr/>
          <p:nvPr/>
        </p:nvSpPr>
        <p:spPr>
          <a:xfrm>
            <a:off x="395280" y="1557360"/>
            <a:ext cx="828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реугольники равны, то их периметры также равны. (№ 1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метрия: 7 класс: учебник для общеобразовательных организаций. А.Г. Мерзляк,  В.Б. Полонский,  М.С. Якир./ – М.:Вентана –Граф:20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755640" y="26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468360" y="3284640"/>
            <a:ext cx="7632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сота треугольника совпадает с одной из его сторон, то такой треугольник прямоугольный. (№ 147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1396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11280" y="476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 учеб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8360" y="299736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– теор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11280" y="378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ямоугольном треугольнике высоты пересекаются в вершине прямого угла. (№ 148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3416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611280" y="33336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 учеб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755640" y="299736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- Теор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68360" y="404640"/>
            <a:ext cx="770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Середины сторон равнобедренного треугольника являются вершинами равнобедренного треугольника.(№ 22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. Угол между биссектрисами смежных углов прямой. (№271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В прямоугольном треугольнике середина гипотенузы является центром описанной окружности. (№56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43080" y="689040"/>
            <a:ext cx="8550000" cy="561960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треуголь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геометрические задачи на применение определения и свойств треугольников, методы и приёмы их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сравнение, обобщение, аналогии, изучение литературных и Интернет-ресурсов, анализ и классификация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Цель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зучить свойства треугольников, найти задачи, которые можно сформулировать как  теоремы, показать эффективность применения таких задач, составить сборник некоторых задач, которые могли бы стать теоремами для учащихся на ОГЭ,  Е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4000" y="404640"/>
            <a:ext cx="8135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исслед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ие задачи, связанные с треугольниками, очень содержательны и встречаются во многих задач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ь моей работ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йти такие задачи, которые могли бы быть теоремами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етод работ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иск  и  решение  задач, которые можно применять при решении других задач, как теоремы,  в различных сборни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92232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1.   Задачи о высоте и медиане прямоугольного треугольни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214280"/>
            <a:ext cx="8462880" cy="516744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, с острым углом в 30° высота и медиана, проведенные из вершины прямого угла, делят прямой угол  на три равные ча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70080" y="142920"/>
            <a:ext cx="6002640" cy="662616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Доказательств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ассмотрим  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медиана, поэтом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центр окружности описанной около прямоугольного треугольни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= 60°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K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вносторонний.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медиана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ссмотрим прямоугольный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M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В= 30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30°+ 60°= 90°– свойство острых углов прямоугольного треугольни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– биссектрис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поэт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МСВ</a:t>
            </a:r>
            <a:r>
              <a:rPr b="0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= 3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 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= 90° –60°= 30°.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K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MC</a:t>
            </a:r>
            <a:r>
              <a:rPr b="0" i="1" lang="ru-RU" sz="24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рав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тверждение доказано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333360"/>
            <a:ext cx="34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71280" y="2571840"/>
            <a:ext cx="2857680" cy="403200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 Box 15"/>
          <p:cNvSpPr/>
          <p:nvPr/>
        </p:nvSpPr>
        <p:spPr>
          <a:xfrm>
            <a:off x="214200" y="357120"/>
            <a:ext cx="257184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В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Forte"/>
                <a:ea typeface="Arial"/>
              </a:rPr>
              <a:t> =30</a:t>
            </a:r>
            <a:r>
              <a:rPr b="0" lang="en-US" sz="3200" spc="-1" strike="noStrike">
                <a:solidFill>
                  <a:srgbClr val="000000"/>
                </a:solidFill>
                <a:latin typeface="Forte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Если в прямоугольном треугольнике высота и медиана, проведенные к гипотенузе делят прямой угол на равные части, то у этого треугольника острые углы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30</a:t>
            </a: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°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 и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Brush Script MT"/>
              </a:rPr>
              <a:t>°</a:t>
            </a:r>
            <a:r>
              <a:rPr b="1" lang="ru-RU" sz="4400" spc="-1" strike="noStrike">
                <a:solidFill>
                  <a:srgbClr val="000000"/>
                </a:solidFill>
                <a:latin typeface="Brush Script M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68480" y="517320"/>
            <a:ext cx="6204240" cy="591156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Forte"/>
                <a:ea typeface="ＭＳ Ｐゴシック"/>
              </a:rPr>
              <a:t>Доказатель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прямоугольном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АВС:  СМ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высот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К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– медиа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(К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А=КС=КВ).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равнобедренном 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В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М -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высота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следовательно,  и медиана.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МК=МВ=0,5ВК=0,5В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   прямоугольном </a:t>
            </a:r>
            <a:r>
              <a:rPr b="0" lang="el-GR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Δ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МС  катет МВ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равен половине гипотенузы   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ВС ,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поэтому угол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МСВ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3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,  тогда угол </a:t>
            </a:r>
            <a:r>
              <a:rPr b="1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МВС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=6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Острые углы треугольника: </a:t>
            </a:r>
            <a:r>
              <a:rPr b="1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3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и </a:t>
            </a:r>
            <a:r>
              <a:rPr b="0" i="1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60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°</a:t>
            </a:r>
            <a:r>
              <a:rPr b="0" lang="ru-RU" sz="3000" spc="-1" strike="noStrike">
                <a:solidFill>
                  <a:srgbClr val="000000"/>
                </a:solidFill>
                <a:latin typeface="Forte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112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1280" y="2500200"/>
            <a:ext cx="2681280" cy="37832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7" name="Text Box 6"/>
          <p:cNvSpPr/>
          <p:nvPr/>
        </p:nvSpPr>
        <p:spPr>
          <a:xfrm>
            <a:off x="142920" y="368280"/>
            <a:ext cx="264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ямоугольном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В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СК, КС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С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величины острых углов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42560" y="213840"/>
            <a:ext cx="8715240" cy="6272280"/>
          </a:xfrm>
          <a:prstGeom prst="rect">
            <a:avLst/>
          </a:prstGeom>
          <a:solidFill>
            <a:srgbClr val="ffffff">
              <a:alpha val="51000"/>
            </a:srgbClr>
          </a:solidFill>
          <a:ln w="2844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1. Исследование задач на применение свойств треугольн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, которые могли бы стать теорем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иссектриса прямого угла в любом прямоугольном треугольнике с неравными катетами делит пополам угол между медианой и высотой, проведенными к гипотену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19280" y="115560"/>
            <a:ext cx="5724360" cy="6527880"/>
          </a:xfrm>
          <a:prstGeom prst="rect">
            <a:avLst/>
          </a:prstGeom>
          <a:solidFill>
            <a:srgbClr val="ffffff">
              <a:alpha val="51000"/>
            </a:srgbClr>
          </a:solidFill>
          <a:ln w="25560">
            <a:solidFill>
              <a:srgbClr val="0070c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медиана прямоугольного треугольни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 – биссектриса,  АК – высо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Forte"/>
                <a:ea typeface="ＭＳ Ｐゴシック"/>
              </a:rPr>
              <a:t>Доказатель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BN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равнобедрен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тр окружности, описанный около треугольник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В = </a:t>
            </a:r>
            <a:r>
              <a:rPr b="0" lang="ar-SA" sz="2000" spc="-1" strike="noStrike">
                <a:solidFill>
                  <a:srgbClr val="000000"/>
                </a:solidFill>
                <a:latin typeface="Forte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умма острых углов прямоугольного треугольника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K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прямоугольный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высота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 условию), следовательно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AC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биссектриса прямого угл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ے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45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°</a:t>
            </a:r>
            <a:r>
              <a:rPr b="0" i="1" lang="ru-RU" sz="2000" spc="-1" strike="noStrike">
                <a:solidFill>
                  <a:srgbClr val="000000"/>
                </a:solidFill>
                <a:latin typeface="Forte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&lt; АСВ = 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,  значит  &lt; КАС = 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(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)=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 = 45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α.  Э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 значит, чт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биссектриса прямого угла прямоугольного треугольника делит пополам угол между медианой и высотой, проведенными к гипотенуз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79280" y="33336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4000" y="126828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3066840" cy="53402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7T18:29:26Z</dcterms:created>
  <dc:creator>Home</dc:creator>
  <dc:description/>
  <dc:language>en-US</dc:language>
  <cp:lastModifiedBy>Нина</cp:lastModifiedBy>
  <dcterms:modified xsi:type="dcterms:W3CDTF">2020-09-29T13:46:01Z</dcterms:modified>
  <cp:revision>42</cp:revision>
  <dc:subject/>
  <dc:title>Слайд 1</dc:title>
</cp:coreProperties>
</file>