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EBF-28CF-4928-AAFB-83C09DEC2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C9CC-1C20-4F58-8352-0774D8662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A32-19D9-42BA-82B5-F95C84BB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82A-C62B-45CE-9E70-CE6441FD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21E-517E-4249-ACC0-16E0CABA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02DC-027B-442C-8010-D09EF01B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C1B-60B5-4FD2-BBDC-8585AB36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5E9-6F4B-4818-A030-721B9C96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F06-92FD-4FAA-8966-91C4DD03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2A3-0E35-4089-BD84-8255B3F8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8E1-8339-47BF-BE35-A3DEE8FB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D40-A8D6-44CB-9F9F-B5643CBA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E33-B56B-4CF4-A0EB-C514462D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803-A987-4712-81BF-D64D9D61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FA31-FDA0-4D7A-B530-0DC9997CF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3360"/>
            <a:ext cx="8358120" cy="146988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реугольники: задачи, которые могли бы быть теоремам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438120" y="981000"/>
            <a:ext cx="8151840" cy="90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324000" y="260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йон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Школа поиска и открыт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848360" cy="371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0" y="4697280"/>
            <a:ext cx="2828880" cy="2160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31640" y="3600"/>
            <a:ext cx="871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2. И еще одна задача из учебн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Mincho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еометрия 7-9 классы. Л.С. Атанася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24000" y="33336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верждение о квадрате биссектрисы любого угла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95280" y="98100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вадрат биссектрисы любого угла треугольника равен разности произведений сторон треугольника, образующих избранный угол и отрезков, на которые биссектриса делит третью сторону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190680" cy="2521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4067280" y="4473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B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²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= AB*BC - AD*D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8400" y="231840"/>
            <a:ext cx="8186760" cy="5911920"/>
          </a:xfrm>
          <a:prstGeom prst="rect">
            <a:avLst/>
          </a:prstGeom>
          <a:solidFill>
            <a:srgbClr val="ffffff">
              <a:alpha val="51000"/>
            </a:srgbClr>
          </a:solidFill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место заклю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Я не волшебник, я только учусь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над проектом помогла мне понять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Не боги горшки обжигают!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это значит, что в будущем, когда получу образование, я смогу открывать неоткрытые факты, может быть, в том числе  и теор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8"/>
          <p:cNvSpPr/>
          <p:nvPr/>
        </p:nvSpPr>
        <p:spPr>
          <a:xfrm>
            <a:off x="395280" y="1557360"/>
            <a:ext cx="8280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реугольники равны, то их периметры также равны. (№ 1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метрия: 7 класс: учебник для общеобразовательных организаций. А.Г. Мерзляк,  В.Б. Полонский,  М.С. Якир./ – М.:Вентана –Граф:20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755640" y="260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468360" y="3284640"/>
            <a:ext cx="7632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сота треугольника совпадает с одной из его сторон, то такой треугольник прямоугольный. (№ 147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13960" cy="1511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11280" y="4762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из учеб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8360" y="2997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– теор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11280" y="3789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ямоугольном треугольнике высоты пересекаются в вершине прямого угла. (№ 14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3416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611280" y="33336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из учеб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755640" y="29973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- Теор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468360" y="404640"/>
            <a:ext cx="770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Середины сторон равнобедренного треугольника являются вершинами равнобедренного треугольника.(№ 22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Угол между биссектрисами смежных углов прямой. (№271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В прямоугольном треугольнике середина гипотенузы является центром описанной окружности. (№56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43080" y="689040"/>
            <a:ext cx="8550000" cy="561960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треуголь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геометрические задачи на применение определения и свойств треугольников, методы и приёмы их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 сравнение, обобщение, аналогии, изучение литературных и Интернет-ресурсов, анализ и классификация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Цель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зучить свойства треугольников, найти задачи, которые можно сформулировать как  теоремы, показать эффективность применения таких задач, составить сборник некоторых задач, которые могли бы стать теоремами для учащихся на ОГЭ,  ЕГ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24000" y="404640"/>
            <a:ext cx="8135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исслед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ие задачи, связанные с треугольниками, очень содержательны и встречаются во многих зада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ь моей работ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йти такие задачи, которые могли бы быть теоремами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тод работ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иск  и  решение  задач, которые можно применять при решении других задач, как теоремы,  в различных сборни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92232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1.   Задачи о высоте и медиане прямоугольного треугольни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214280"/>
            <a:ext cx="8462880" cy="516744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, с острым углом в 30° высота и медиана, проведенные из вершины прямого угла, делят прямой угол  на три равные ча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70080" y="142920"/>
            <a:ext cx="6002640" cy="662616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Доказательст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Рассмотрим  Δ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K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медиана, поэтом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центр окружности описанной около прямоугольного треугольни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= 60°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K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вносторонний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медиана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смотрим прямоугольный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В= 30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30°+ 60°= 90°– свойство острых углов прямоугольного треугольник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биссектрис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поэто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МСВ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= 3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K 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= 90° –60°= 30°.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K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MC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рав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Утверждение доказано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333360"/>
            <a:ext cx="34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1"/>
          <a:stretch/>
        </p:blipFill>
        <p:spPr>
          <a:xfrm>
            <a:off x="71280" y="2571840"/>
            <a:ext cx="2857680" cy="403200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2" name="Text Box 15"/>
          <p:cNvSpPr/>
          <p:nvPr/>
        </p:nvSpPr>
        <p:spPr>
          <a:xfrm>
            <a:off x="214200" y="357120"/>
            <a:ext cx="257184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В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orte"/>
                <a:cs typeface="Arial"/>
              </a:rPr>
              <a:t>ے</a:t>
            </a:r>
            <a:r>
              <a:rPr b="0" lang="ru-RU" sz="3200" spc="-1" strike="noStrike">
                <a:solidFill>
                  <a:srgbClr val="000000"/>
                </a:solidFill>
                <a:latin typeface="Forte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Forte"/>
                <a:ea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Forte"/>
                <a:ea typeface="Arial"/>
              </a:rPr>
              <a:t> =30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Если в прямоугольном треугольнике высота и медиана, проведенные к гипотенузе делят прямой угол на равные части, то у этого треугольника острые углы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30</a:t>
            </a:r>
            <a:r>
              <a:rPr b="1" lang="en-US" sz="4400" spc="-1" strike="noStrike">
                <a:solidFill>
                  <a:srgbClr val="000000"/>
                </a:solidFill>
                <a:latin typeface="Brush Script MT"/>
              </a:rPr>
              <a:t>°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 и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Brush Script MT"/>
              </a:rPr>
              <a:t>°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68480" y="517320"/>
            <a:ext cx="6204240" cy="591156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Forte"/>
                <a:ea typeface="ＭＳ Ｐゴシック"/>
              </a:rPr>
              <a:t>Доказатель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  прямоугольном </a:t>
            </a:r>
            <a:r>
              <a:rPr b="0" lang="el-GR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Δ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АВС:  СМ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высот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К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– медиан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(К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А=КС=КВ).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  равнобедренном  </a:t>
            </a:r>
            <a:r>
              <a:rPr b="0" lang="el-GR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Δ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В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М -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высот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ледовательно,  и медиана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МК=МВ=0,5ВК=0,5В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   прямоугольном </a:t>
            </a:r>
            <a:r>
              <a:rPr b="0" lang="el-GR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Δ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МС  катет МВ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равен половине гипотенузы   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С , 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поэтому угол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МСВ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30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,  тогда угол </a:t>
            </a:r>
            <a:r>
              <a:rPr b="1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МВС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=60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Острые углы треугольника: </a:t>
            </a:r>
            <a:r>
              <a:rPr b="1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30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60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12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1280" y="2500200"/>
            <a:ext cx="2681280" cy="37832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7" name="Text Box 6"/>
          <p:cNvSpPr/>
          <p:nvPr/>
        </p:nvSpPr>
        <p:spPr>
          <a:xfrm>
            <a:off x="142920" y="368280"/>
            <a:ext cx="264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ямоугольном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С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СК, КС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С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величины острых углов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42560" y="213840"/>
            <a:ext cx="8715240" cy="6272280"/>
          </a:xfrm>
          <a:prstGeom prst="rect">
            <a:avLst/>
          </a:prstGeom>
          <a:solidFill>
            <a:srgbClr val="ffffff">
              <a:alpha val="51000"/>
            </a:srgbClr>
          </a:solidFill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1. Исследование задач на применение свойств треуг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, которые могли бы стать теорем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иссектриса прямого угла в любом прямоугольном треугольнике с неравными катетами делит пополам угол между медианой и высотой, проведенными к гипотенуз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19280" y="115560"/>
            <a:ext cx="5724360" cy="652788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едиана прямоугольного треугольни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 – биссектриса,  АК – высо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Forte"/>
                <a:ea typeface="ＭＳ Ｐゴシック"/>
              </a:rPr>
              <a:t>Доказатель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BN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равнобедрен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тр окружности, описанный около треугольник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orte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В = </a:t>
            </a:r>
            <a:r>
              <a:rPr b="0" lang="ar-SA" sz="2000" spc="-1" strike="noStrike">
                <a:solidFill>
                  <a:srgbClr val="000000"/>
                </a:solidFill>
                <a:latin typeface="Forte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N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=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умма острых углов прямоугольного треугольника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K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рямоугольный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высота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условию), следовательно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A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биссектриса прямого угл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45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45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45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&lt; АСВ = 9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α,  значит  &lt; КАС = 9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(9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α)=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 = 45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α.  Э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о значит, чт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биссектриса прямого угла прямоугольного треугольника делит пополам угол между медианой и высотой, проведенными к гипотенуз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79280" y="33336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24000" y="126828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3066840" cy="53402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8:29:26Z</dcterms:created>
  <dc:creator>Home</dc:creator>
  <dc:description/>
  <dc:language>en-US</dc:language>
  <cp:lastModifiedBy>Нина</cp:lastModifiedBy>
  <dcterms:modified xsi:type="dcterms:W3CDTF">2020-09-29T13:46:01Z</dcterms:modified>
  <cp:revision>42</cp:revision>
  <dc:subject/>
  <dc:title>Слайд 1</dc:title>
</cp:coreProperties>
</file>