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F1A-DFB1-4C40-93FB-ADDA9A0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D1A-541A-44B3-A17A-CD99935E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D83-6615-4A85-BF6C-5101B63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FD8-F9B3-49A8-894A-74CFD747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194-6654-40BF-A9E0-1CD294D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5FF-308C-4CDB-BDF0-44B32F7E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7BD-5CE4-4FB8-92C7-5E452EC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7B2-B12A-417C-8D0D-55D8ECC1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F09-B12E-4E29-8281-BEA5923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F88-D3EE-4C23-9AD2-93D3E71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EEF-BD4E-4E09-B4F9-48718FF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8CD-F6C4-402E-94DE-1CAEEAB7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D6C-04C8-4693-8DF3-F5BE682B6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Der 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Beruf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4133880" y="3429000"/>
            <a:ext cx="3962520" cy="2643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"/>
          <p:cNvPicPr/>
          <p:nvPr/>
        </p:nvPicPr>
        <p:blipFill>
          <a:blip r:embed="rId10"/>
          <a:stretch/>
        </p:blipFill>
        <p:spPr>
          <a:xfrm>
            <a:off x="863640" y="1460520"/>
            <a:ext cx="2463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5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3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70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Прямоугольник 3" descr=""/>
          <p:cNvPicPr/>
          <p:nvPr/>
        </p:nvPicPr>
        <p:blipFill>
          <a:blip r:embed="rId6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1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5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3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50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1"/>
          <p:cNvSpPr/>
          <p:nvPr/>
        </p:nvSpPr>
        <p:spPr>
          <a:xfrm>
            <a:off x="990720" y="228600"/>
            <a:ext cx="77216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жду работами отступаем 2 ли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 (на немецк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мотрите видеоурок по ссыл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s://www.youtube.com/watch?v=g3oQkhwp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фессии на немец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шите немецкие слова и предложения из видеоурока  в тетрадь и выуч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ите письменно в тетради задание из электронного учебни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стр.64 упр.11/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; упр.12/а )</a:t>
            </a: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 немецкие профессии из учебника, напишите их русский перевод. Выучите сделанные записи.         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16T14:58:55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