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C90-50C5-4532-80CD-93DA8433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1F1-16F0-4D5A-B13C-7AFC3ED7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1C2-4BF0-4B22-B96C-1FCD3877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162-F7F3-49FC-B19F-221940CD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0D5-C923-469E-955B-E414121B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6FF-59D6-4200-8A3B-885077E6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37A-4101-425F-A225-E967AD41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6B3-2A63-44E3-97C4-9A36CBA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B95-C082-45D3-B132-3273D311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628-5751-4B67-97A5-37A6AE7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696-D7B8-4605-B9A4-889A5B32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B34-33D0-4C0D-BF3B-2ECF286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C500-110F-4C6B-BD13-B55EE8802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87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Прямоугольник 1" descr=""/>
          <p:cNvPicPr/>
          <p:nvPr/>
        </p:nvPicPr>
        <p:blipFill>
          <a:blip r:embed="rId6"/>
          <a:stretch/>
        </p:blipFill>
        <p:spPr>
          <a:xfrm>
            <a:off x="1066680" y="-12600"/>
            <a:ext cx="6858000" cy="1566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7"/>
          <a:stretch/>
        </p:blipFill>
        <p:spPr>
          <a:xfrm>
            <a:off x="646200" y="3730680"/>
            <a:ext cx="2938320" cy="175572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6"/>
          <p:cNvSpPr/>
          <p:nvPr/>
        </p:nvSpPr>
        <p:spPr>
          <a:xfrm>
            <a:off x="3581280" y="1447920"/>
            <a:ext cx="5067360" cy="495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81280" y="1600200"/>
            <a:ext cx="48592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262673"/>
                </a:solidFill>
                <a:uFillTx/>
                <a:latin typeface="Arial"/>
              </a:rPr>
              <a:t>Thema</a:t>
            </a:r>
            <a:r>
              <a:rPr b="1" lang="ru-RU" sz="3200" spc="-1" strike="noStrike" u="sng">
                <a:solidFill>
                  <a:srgbClr val="262673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Der 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Beruf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.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»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8"/>
          <a:stretch/>
        </p:blipFill>
        <p:spPr>
          <a:xfrm>
            <a:off x="689040" y="6022800"/>
            <a:ext cx="2895480" cy="7066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9"/>
          <a:stretch/>
        </p:blipFill>
        <p:spPr>
          <a:xfrm>
            <a:off x="4133880" y="3429000"/>
            <a:ext cx="3962520" cy="2643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"/>
          <p:cNvPicPr/>
          <p:nvPr/>
        </p:nvPicPr>
        <p:blipFill>
          <a:blip r:embed="rId10"/>
          <a:stretch/>
        </p:blipFill>
        <p:spPr>
          <a:xfrm>
            <a:off x="863640" y="1460520"/>
            <a:ext cx="2463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25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33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70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Прямоугольник 3" descr=""/>
          <p:cNvPicPr/>
          <p:nvPr/>
        </p:nvPicPr>
        <p:blipFill>
          <a:blip r:embed="rId6"/>
          <a:stretch/>
        </p:blipFill>
        <p:spPr>
          <a:xfrm>
            <a:off x="536400" y="304920"/>
            <a:ext cx="8114040" cy="920520"/>
          </a:xfrm>
          <a:prstGeom prst="rect">
            <a:avLst/>
          </a:prstGeom>
          <a:ln w="0">
            <a:noFill/>
          </a:ln>
        </p:spPr>
      </p:pic>
      <p:sp>
        <p:nvSpPr>
          <p:cNvPr id="201" name="Скругленный прямоугольник 6"/>
          <p:cNvSpPr/>
          <p:nvPr/>
        </p:nvSpPr>
        <p:spPr>
          <a:xfrm>
            <a:off x="990720" y="1305000"/>
            <a:ext cx="7619760" cy="509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71600" y="12193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ься с Порядком работы (слайд №3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ыучить новый материал. Выполнить письменное задание в тетр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1066680" y="2971800"/>
            <a:ext cx="74678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делать фотографию выполненной в тетради рабо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ить  фото на проверку учителю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товой Т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ой поч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tatandkotova@mail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названии фотографии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указать Фамилию, имя, класс,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ы в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  отправлят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205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13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50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Скругленный прямоугольник 6"/>
          <p:cNvSpPr/>
          <p:nvPr/>
        </p:nvSpPr>
        <p:spPr>
          <a:xfrm>
            <a:off x="863640" y="228600"/>
            <a:ext cx="7594560" cy="647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81"/>
          <p:cNvSpPr/>
          <p:nvPr/>
        </p:nvSpPr>
        <p:spPr>
          <a:xfrm>
            <a:off x="990720" y="228600"/>
            <a:ext cx="77216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рядок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ежду работами отступаем 2 ли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дату в тетради (на немецк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ишите тему урока (слайд№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мотрите видеоурок по ссыл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s://www.youtube.com/watch?v=g3oQkhwpF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фессии на немец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шите немецкие слова и предложения из видеоурока  в тетрадь и выуч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ите письменно в тетради задание из электронного учебни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стр.64 упр.11/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; упр.12/а )</a:t>
            </a: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 немецкие профессии из учебника, напишите их русский перевод. Выучите сделанные записи.          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ный учебник/ Тема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home</cp:lastModifiedBy>
  <dcterms:modified xsi:type="dcterms:W3CDTF">2020-11-16T14:58:55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