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C727-C413-43E2-AA05-FD58679F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942-B4C0-4CEF-A349-65CDC934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587-8521-434A-ADD5-6FB99718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182-705A-4AC1-8CA9-2B53D23F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9A1-AD4E-4BF4-AA31-C2478943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767A-CA5B-46FD-8176-0B0507CB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2D2-E50A-48FA-A3BD-6C1250E2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8084-F438-45CE-AFAC-6041B56D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8B0-E17C-4EB9-9333-208126B2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F52-3FFB-4769-9967-B9A2B85A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B08-EE13-4587-A923-8D6DE82D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603-2974-43E3-9E0E-A4CAA010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2B54-DAAB-4D68-8D63-72DD993287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БДОУ «Детский сад комбинированного вида «Светлячок»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роект</a:t>
            </a:r>
            <a:br>
              <a:rPr sz="24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«Зеленая аптека»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Автор: Крылова А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оспитатель 2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БДОУ «Детский с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комбинированного вида «Светлячо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рганизационный этап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роведение беседы с детьми о лекарственных растениях,  цель: выявить представления детей о лекарственных растениях, заинтересовать пробле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одбор методической и художественн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одбор картин, дидактических игр, музыкального реперту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рганизация клумбы душистых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зработка бесед, сценариев развлечений, викторин, экскурсий, физкультминут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Arial"/>
              </a:rPr>
              <a:t>Реализация проек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Чтение художественн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Художественно – продуктивные виды деятельности: рисование, лепка, аппл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раздники, разв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Бес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Экску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иктор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Дидактические, подвиж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Дыхательная гимнастика, релакс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Домашнее задан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ознавательно – исследовательская 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Наблюдения «Наши душистые друзья»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пыты и исследовательски - поисковая деятельность: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-«Где лучше посадить растения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-«Наблюдаем, как развиваются растения» (зарисова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-«Строение растений, размножение, рост».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Физкультурно – оздоровитель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Подвижные иг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«Цветы и дожд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«Хоровод лекарственных растений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Дыхательная гимнаст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«Аромат цвет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«Одуванчик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Релакс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«Я цвет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«Цветы и ветер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«Цветок – имя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Физкультмину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Мой цвет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Пробуждение цветка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Коммуникатив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9900"/>
                </a:solidFill>
                <a:uFillTx/>
                <a:latin typeface="Arial"/>
              </a:rPr>
              <a:t>Дидактические иг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Я знаю пять цвет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Путешествие на луг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Вершки – кореш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Узнай растен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Определи по запах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9900"/>
                </a:solidFill>
                <a:uFillTx/>
                <a:latin typeface="Arial"/>
              </a:rPr>
              <a:t>Бесе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-     «Зелёная апте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-    «Друг или враг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Что где растет, когда цвете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О пользе лекарственных растен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Какие целебные растения вы знаете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«Какие растения помогают нам справится с простудными заболеваниям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Составление  загадок о лекарственных  расте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Составление мнемо-таблиц о лечебных свойствах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Художественно – творческая 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Занятия по ИЗО деятельно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- «ноготки» - объёмная аппликац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- «Наши душистые друзья» - рисов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- «Цветы на лугу» - пластилиновая живо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Трудовая деятельност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Уход за растениями на клумб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Сбор лекарственных растений для герба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Изготовление мешочков  с душистыми тра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Музыкальная  деятель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Слушание музы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- Ю. Антонов « Не рвите цве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-  В. Моцарт «Цве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-  П.И. Чайковский «Цикл времена года», «Вальс цв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-  Ю.Чичков «Волшебный цветок» «Это называется прир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М. Протасов «Одуванч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Музыкальное развлечение «Звонкий колокольч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Чтение художественной литерат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Ю.Дмитриев «Кто в лесу живёт и что в лесу растё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Н.Павлова «Загадки цв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А.Плешаков «Зелёные страниц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А.Онегов «Тропинка полев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А.Стрижев «Огород на опушк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Н. Рыжова «Травинка – путешественница» «Как Валера за одуванчиком наблюда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Разучивание стихотво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Загадки о раст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Взаимодействие с родителя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Помощь родителей в сборе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Отбор и сортировка семян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Формировать представления детей  о роли растений в оздоровлении и сохранении здоровья человека, создавая условия для ознакомления детей с миром целеб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Обобщающий этап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Диагностика детей старшей  группы по теме «Лекарственные раст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формление мешочков с душистыми тра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формление гербария лекарственных трав и раст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формление выставки «Наши зеленые друз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Результа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сознанное, бережное отношение к лекарственным растени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обретение коммуникативных навыков у дошколь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прочнение контактов « педагог – дети – родител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ост активности родителей в педагогическом проек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овышение готовности родителей к сотрудничеству с педагог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величение времени совместных дел родителей – детей – педагог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копление бесценного материала по теме: «Лекарственные растения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ербарий, плакаты, поделк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формированные знания у дошкольников о разнообразии лекарственных растений нашего рай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богащение словаря дошкольников по теме «Лекарственные растения»: мелисса, календула, шалфей, валериана, разновидности мят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Информационные ресур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. А.В. Кочергина. Сценарий занятий по экологическому воспитанию. - М.: Просвещение,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2. Е.А. Алябьева. Тематические дни и недели в детском саду. – М.: Просвещение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3. Л.А. Владимирская. От осени до осени. – М.: Просвещение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4. Л.И.Иванова. Живая экология. – М.: Просвещение,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5. С.Н. Николаева. Юный эколог. – М.: Просвещение, 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6. К. Люцио. Растительный мир. – М.: ВАКО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7. Н.А.Рыжова. Экологические рассказы, сказки и праздники. – М.: Пресс, 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8. С.Я. Соколов. Справочник по лекарственным растениям. – М. Л – Пресс, 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9. Т.В. Шпотова. Цвет природы. –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Фотоотч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514600" y="18702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F:\работа\ДЛЯ ПРЕЗЕНТАЦИЙ\childrens_roundabout_14.png"/>
          <p:cNvPicPr/>
          <p:nvPr/>
        </p:nvPicPr>
        <p:blipFill>
          <a:blip r:embed="rId2"/>
          <a:stretch/>
        </p:blipFill>
        <p:spPr>
          <a:xfrm>
            <a:off x="6400800" y="152280"/>
            <a:ext cx="1542960" cy="187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F:\работа\ДЛЯ ПРЕЗЕНТАЦИЙ\childrens_roundabout_34.png"/>
          <p:cNvPicPr/>
          <p:nvPr/>
        </p:nvPicPr>
        <p:blipFill>
          <a:blip r:embed="rId3"/>
          <a:stretch/>
        </p:blipFill>
        <p:spPr>
          <a:xfrm>
            <a:off x="990720" y="457200"/>
            <a:ext cx="1288800" cy="1984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Мешочки радос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F:\зеленая аптека\Фото1548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:\зеленая аптека\Фото1550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F:\работа\ДЛЯ ПРЕЗЕНТАЦИЙ\solnyshko_1.2.png"/>
          <p:cNvPicPr/>
          <p:nvPr/>
        </p:nvPicPr>
        <p:blipFill>
          <a:blip r:embed="rId3"/>
          <a:stretch/>
        </p:blipFill>
        <p:spPr>
          <a:xfrm>
            <a:off x="3886200" y="4572000"/>
            <a:ext cx="2403360" cy="243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F:\работа\ДЛЯ ПРЕЗЕНТАЦИЙ\solnyshko_1.2.png"/>
          <p:cNvPicPr/>
          <p:nvPr/>
        </p:nvPicPr>
        <p:blipFill>
          <a:blip r:embed="rId4"/>
          <a:stretch/>
        </p:blipFill>
        <p:spPr>
          <a:xfrm rot="20567400">
            <a:off x="58680" y="758880"/>
            <a:ext cx="1838520" cy="1901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F:\работа\ДЛЯ ПРЕЗЕНТАЦИЙ\solnyshko_1.2.png"/>
          <p:cNvPicPr/>
          <p:nvPr/>
        </p:nvPicPr>
        <p:blipFill>
          <a:blip r:embed="rId5"/>
          <a:stretch/>
        </p:blipFill>
        <p:spPr>
          <a:xfrm rot="1340400">
            <a:off x="6864120" y="853920"/>
            <a:ext cx="2011320" cy="1806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Наши душистые друз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28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Б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295280" y="1943280"/>
            <a:ext cx="1368720" cy="1823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047760" y="1660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РА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3048120" y="2340000"/>
            <a:ext cx="1517400" cy="2025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F:\работа\ДЛЯ ПРЕЗЕНТАЦИЙ\0_7ae69_441fb151_L.png"/>
          <p:cNvPicPr/>
          <p:nvPr/>
        </p:nvPicPr>
        <p:blipFill>
          <a:blip r:embed="rId3"/>
          <a:stretch/>
        </p:blipFill>
        <p:spPr>
          <a:xfrm rot="1126200">
            <a:off x="7581600" y="893880"/>
            <a:ext cx="1542960" cy="1533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F:\работа\ДЛЯ ПРЕЗЕНТАЦИЙ\babochka.png"/>
          <p:cNvPicPr/>
          <p:nvPr/>
        </p:nvPicPr>
        <p:blipFill>
          <a:blip r:embed="rId4"/>
          <a:stretch/>
        </p:blipFill>
        <p:spPr>
          <a:xfrm>
            <a:off x="-380880" y="533520"/>
            <a:ext cx="2179440" cy="281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5"/>
          <a:stretch/>
        </p:blipFill>
        <p:spPr>
          <a:xfrm>
            <a:off x="4876920" y="38098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Задачи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00"/>
                </a:solidFill>
                <a:uFillTx/>
                <a:latin typeface="Arial"/>
              </a:rPr>
              <a:t>Образов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00"/>
                </a:solidFill>
                <a:uFillTx/>
                <a:latin typeface="Arial"/>
              </a:rPr>
              <a:t>расширять и формировать знания детей о лекарственных дикорастущих растениях, их ценности для здоровья, правил поль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Развивающие 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Развивать у дошкольников любознательность, наблюдательность, сенсорные спосо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Развивать речь: обогащать  словарный запас детей, побуждать задавать вопросы, составлять рассказы-описания, сказки, загадки; развивать игровое творчество, смекалку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Воспитательные 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оспитывать коммуникативные навыки, самостоятельность, трудолюбие дошкольников, а также бережное отношение к природе, природному наследию нашего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Участники проекта: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оспитанники подготовительно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Род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Педаг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Музыкаль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Руководитель ФИ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Стратегия осуществления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Проект реализуется в совместной игровой деятельности детей – педагога -  родителей, а также в самостоятельной деятельности каждого участника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Вид проекта: краткосрочный, познавательно-исследователь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Срок реализации: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июнь  - август  2014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Организация предметно – развивающей сре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 игровом уголке – дидактические игры о лекарственных раст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 уголке книги – энциклопедии, альбомы с изображением лекарственных трав и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Этапы осуществления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Организацион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Реализация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Обобщающ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на Крылова</dc:creator>
  <dc:description/>
  <dc:language>en-US</dc:language>
  <cp:lastModifiedBy>ЛУЧИК</cp:lastModifiedBy>
  <dcterms:modified xsi:type="dcterms:W3CDTF">2020-11-16T19:07:3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