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9A6-C166-432C-B480-EEF087D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C05-04B6-4560-B9CC-1EB7B771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7CC-05D2-473B-9A47-8EE9573A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6F8-6B56-48A3-B095-AD4DE37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211-516C-4689-973D-E90E50E4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CFF-0813-43F0-A676-C56F01A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8A4-F443-445C-8D5C-85FE172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7C7-17AD-40B3-BB54-87D3AB6E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666-3D88-437D-B5C3-2A04FE77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35A-B940-4B99-BD16-9AD59B2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369-43E9-4EA9-A6B4-A389AA4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6E5-9409-4B0E-A248-CF06740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381-EB93-493A-8090-5FF02D63F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БДОУ «Детский сад комбинированного вида «Светлячок»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ект</a:t>
            </a:r>
            <a:br>
              <a:rPr sz="24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Зеленая аптека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втор: Крыло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оспитатель 2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БДОУ «Детский с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омбинированного вида «Светляч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рганизационный этап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оведение беседы с детьми о лекарственных растениях,  цель: выявить представления детей о лекарственных растениях, заинтересовать пробл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дбор методической и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дбор картин, дидактических игр, музыкального реперту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рганизация клумбы душист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зработка бесед, сценариев развлечений, викторин, экскурсий, физкультмину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Реализация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удожественно – продуктивные виды деятельности: рисование, лепка, ап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аздники, 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идактические, 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ыхательная гимнастика, релак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омашнее зад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знавательно – исследовательская 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блюдения «Наши душистые друзья»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пыты и исследовательски - поисковая деятельность: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Где лучше посадить растения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Наблюдаем, как развиваются растения» (зарисова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Строение растений, размножение, рост».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Физкультурно – оздорови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движные иг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ы и дожд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Хоровод лекарственных растений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Дыхательная гимнас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Аромат цве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Одуванчик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елакс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Я цве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ы и вете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ок – имя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изкультмину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Мой цве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Пробуждение цветка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ммуника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Я знаю пять цв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Путешествие на лу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Вершки – кореш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Узнай расте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Определи по запах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Бесе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-     «Зелёная апте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-    «Друг или вра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Что где растет, когда цвет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О пользе лекарственных раст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Какие целебные растения вы знаете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Какие растения помогают нам справится с простудными заболевания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Составление  загадок о лекарственных  раст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Составление мнемо-таблиц о лечебных свойствах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Художественно – творческая 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Занятия по ИЗО деятель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ноготки» - объёмная апплик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Наши душистые друзья» - рис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Цветы на лугу» - пластилиновая живо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рудов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ход за растениями на клум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бор лекарственных растений для герба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готовление мешочков  с душистыми тра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узыкальная  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Слушание муз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Ю. Антонов « Не рвите цв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В. Моцарт «Цв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П.И. Чайковский «Цикл времена года», «Вальс цв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Ю.Чичков «Волшебный цветок» «Это называется при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. Протасов «Одуван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узыкальное развлечение «Звонкий колоколь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Ю.Дмитриев «Кто в лесу живёт и что в лесу растё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.Павлова «Загадки цв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Плешаков «Зелёные стран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Онегов «Тропинка полев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Стрижев «Огород на опуш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. Рыжова «Травинка – путешественница» «Как Валера за одуванчиком наблюд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азучивание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гадки о раст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Взаимодействие с родител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омощь родителей в сбор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тбор и сортировка семян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рмировать представления детей  о роли растений в оздоровлении и сохранении здоровья человека, создавая условия для ознакомления детей с миром целеб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бобщающий этап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иагностика детей старшей  группы по теме «Лекарственные раст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мешочков с душистыми тра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гербария лекарственных трав и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выставки «Наши зеленые друз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ознанное, бережное отношение к лекарственным раст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обретение коммуникативных навыков у до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прочнение контактов « педагог – дети – родител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ст активности родителей в педагогическом проек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вышение готовности родителей к сотрудничеству с педагог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величение времени совместных дел родителей – детей – педаг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копление бесценного материала по теме: «Лекарственные растен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рбарий, плакаты, поделк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формированные знания у дошкольников о разнообразии лекарственных растений наше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богащение словаря дошкольников по теме «Лекарственные растения»: мелисса, календула, шалфей, валериана, разновидности мя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А.В. Кочергина. Сценарий занятий по экологическому воспитанию. - М.: Просвещение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Е.А. Алябьева. Тематические дни и недели в детском саду. – М.: Просвещение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 Л.А. Владимирская. От осени до осени. – М.: Просвещение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Л.И.Иванова. Живая экология. – М.: Просвещение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 С.Н. Николаева. Юный эколог. – М.: Просвещение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6. К. Люцио. Растительный мир. – М.: ВАКО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7. Н.А.Рыжова. Экологические рассказы, сказки и праздники. – М.: Пресс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8. С.Я. Соколов. Справочник по лекарственным растениям. – М. Л – Пресс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9. Т.В. Шпотова. Цвет природы. –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Фотоот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514600" y="187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работа\ДЛЯ ПРЕЗЕНТАЦИЙ\childrens_roundabout_14.png"/>
          <p:cNvPicPr/>
          <p:nvPr/>
        </p:nvPicPr>
        <p:blipFill>
          <a:blip r:embed="rId2"/>
          <a:stretch/>
        </p:blipFill>
        <p:spPr>
          <a:xfrm>
            <a:off x="6400800" y="152280"/>
            <a:ext cx="1542960" cy="18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F:\работа\ДЛЯ ПРЕЗЕНТАЦИЙ\childrens_roundabout_34.png"/>
          <p:cNvPicPr/>
          <p:nvPr/>
        </p:nvPicPr>
        <p:blipFill>
          <a:blip r:embed="rId3"/>
          <a:stretch/>
        </p:blipFill>
        <p:spPr>
          <a:xfrm>
            <a:off x="990720" y="457200"/>
            <a:ext cx="128880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Мешочки рад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F:\зеленая аптека\Фото1548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зеленая аптека\Фото155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F:\работа\ДЛЯ ПРЕЗЕНТАЦИЙ\solnyshko_1.2.png"/>
          <p:cNvPicPr/>
          <p:nvPr/>
        </p:nvPicPr>
        <p:blipFill>
          <a:blip r:embed="rId3"/>
          <a:stretch/>
        </p:blipFill>
        <p:spPr>
          <a:xfrm>
            <a:off x="3886200" y="4572000"/>
            <a:ext cx="240336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:\работа\ДЛЯ ПРЕЗЕНТАЦИЙ\solnyshko_1.2.png"/>
          <p:cNvPicPr/>
          <p:nvPr/>
        </p:nvPicPr>
        <p:blipFill>
          <a:blip r:embed="rId4"/>
          <a:stretch/>
        </p:blipFill>
        <p:spPr>
          <a:xfrm rot="20567400">
            <a:off x="58680" y="758880"/>
            <a:ext cx="1838520" cy="190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:\работа\ДЛЯ ПРЕЗЕНТАЦИЙ\solnyshko_1.2.png"/>
          <p:cNvPicPr/>
          <p:nvPr/>
        </p:nvPicPr>
        <p:blipFill>
          <a:blip r:embed="rId5"/>
          <a:stretch/>
        </p:blipFill>
        <p:spPr>
          <a:xfrm rot="1340400">
            <a:off x="6864120" y="853920"/>
            <a:ext cx="2011320" cy="1806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аши душистые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8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295280" y="1943280"/>
            <a:ext cx="1368720" cy="1823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047760" y="1660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Р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3048120" y="2340000"/>
            <a:ext cx="1517400" cy="20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F:\работа\ДЛЯ ПРЕЗЕНТАЦИЙ\0_7ae69_441fb151_L.png"/>
          <p:cNvPicPr/>
          <p:nvPr/>
        </p:nvPicPr>
        <p:blipFill>
          <a:blip r:embed="rId3"/>
          <a:stretch/>
        </p:blipFill>
        <p:spPr>
          <a:xfrm rot="1126200">
            <a:off x="7581600" y="893880"/>
            <a:ext cx="1542960" cy="153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F:\работа\ДЛЯ ПРЕЗЕНТАЦИЙ\babochka.png"/>
          <p:cNvPicPr/>
          <p:nvPr/>
        </p:nvPicPr>
        <p:blipFill>
          <a:blip r:embed="rId4"/>
          <a:stretch/>
        </p:blipFill>
        <p:spPr>
          <a:xfrm>
            <a:off x="-380880" y="533520"/>
            <a:ext cx="2179440" cy="28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расширять и формировать знания детей о лекарственных дикорастущих растениях, их ценности для здоровья, правил 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Развива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вать у дошкольников любознательность, наблюдательность, сенсор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вать речь: обогащать  словарный запас детей, побуждать задавать вопросы, составлять рассказы-описания, сказки, загадки; развивать игровое творчество, смекалку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Воспитательны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оспитывать коммуникативные навыки, самостоятельность, трудолюбие дошкольников, а также бережное отношение к природе, природному наследию наше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Участники проекта: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оспитанники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узыкаль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уководитель Ф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тратегия осуществления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роект реализуется в совместной игровой деятельности детей – педагога -  родителей, а также в самостоятельной деятельности каждого участни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ид проекта: краткосрочный, познавательно-исследователь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рок реализации: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юнь  - август  2014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рганизация предметно – развивающей сре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игровом уголке – дидактические игры о лекарствен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уголке книги – энциклопедии, альбомы с изображением лекарственных трав 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Этапы осуществления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бобщающ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Крылова</dc:creator>
  <dc:description/>
  <dc:language>en-US</dc:language>
  <cp:lastModifiedBy>ЛУЧИК</cp:lastModifiedBy>
  <dcterms:modified xsi:type="dcterms:W3CDTF">2020-11-16T19:07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