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24.jpeg" ContentType="image/jpeg"/>
  <Override PartName="/ppt/media/image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9B99-DCA8-420A-8222-81046C338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BDDD-D62B-4D53-9C9A-4719D6557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FC4B-75F8-466B-9DE4-1961E9F53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C795-9820-4AE7-938A-EFE291B75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78A2-B378-4387-8BF0-4FBF486A6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B090-829F-4029-8590-7B3CFDF2E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C73C-C3DD-404B-9CEE-CB77636F2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C046-1480-4FC5-A532-B82076C16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A15A-3A68-4444-B100-60470AB7D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EB6C-A513-466B-8E4D-4B7B3B88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D580-8D2B-4203-8DC9-1FB1DAF4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E5D9-87A0-4F31-9A3D-98FCAB77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b9b8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FB03F-BAE8-477B-A1CC-482C822E43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364000" y="3573360"/>
            <a:ext cx="378000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539640" algn="just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43080" indent="539640" algn="just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468360" y="1309680"/>
            <a:ext cx="820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зни плодовых семечковых и косточковых культу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Documents and Settings\Admin\Мои документы\Downloads\DSCN3561.JPG"/>
          <p:cNvPicPr/>
          <p:nvPr/>
        </p:nvPicPr>
        <p:blipFill>
          <a:blip r:embed="rId1"/>
          <a:stretch/>
        </p:blipFill>
        <p:spPr>
          <a:xfrm>
            <a:off x="108000" y="3068640"/>
            <a:ext cx="9036000" cy="360036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2" descr=""/>
          <p:cNvPicPr/>
          <p:nvPr/>
        </p:nvPicPr>
        <p:blipFill>
          <a:blip r:embed="rId2"/>
          <a:stretch/>
        </p:blipFill>
        <p:spPr>
          <a:xfrm>
            <a:off x="0" y="-9360"/>
            <a:ext cx="914400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лодовая гниль, монилиоз – 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Monilia fructigen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4" descr="BROWN_02"/>
          <p:cNvPicPr/>
          <p:nvPr/>
        </p:nvPicPr>
        <p:blipFill>
          <a:blip r:embed="rId1"/>
          <a:stretch/>
        </p:blipFill>
        <p:spPr>
          <a:xfrm>
            <a:off x="0" y="1357200"/>
            <a:ext cx="3286080" cy="26434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ImageCache"/>
          <p:cNvPicPr/>
          <p:nvPr/>
        </p:nvPicPr>
        <p:blipFill>
          <a:blip r:embed="rId2"/>
          <a:stretch/>
        </p:blipFill>
        <p:spPr>
          <a:xfrm>
            <a:off x="3071880" y="1285920"/>
            <a:ext cx="2643120" cy="27147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C:\Documents and Settings\Admin\Мои документы\Downloads\DSCN3546.JPG"/>
          <p:cNvPicPr/>
          <p:nvPr/>
        </p:nvPicPr>
        <p:blipFill>
          <a:blip r:embed="rId3"/>
          <a:stretch/>
        </p:blipFill>
        <p:spPr>
          <a:xfrm>
            <a:off x="5786280" y="1357200"/>
            <a:ext cx="3233880" cy="26434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0" y="4286160"/>
            <a:ext cx="914400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лодовая гниль уносит значительную часть урожая уже созревших плодов в саду, а затем в период их хран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ражение происходит в местах повреждения кожицы плодов вредителями, градом, паршой. Поражение начинается с бурого пятна, которое постепенно разрастается; ткань его буреет, размягчается, на поверхности загнившего участка образуются концентрические круги из желтовато-серых подушечек (конидиальное спороношение). При низкой температуре плоды чернеют, буреют и мумифицируютс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онилиальный ожог яблони-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Monilia cinerea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M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mali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-108000" y="1714320"/>
            <a:ext cx="439272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олезнь проявляется в конце цветения. Сначала буреют и засыхают цветки, затем листья, завязи и плодовые  веточ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ерез плодовые веточки мицелий гриба проникает в скелетные ветки и вызывает их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сыха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9"/>
          <p:cNvSpPr/>
          <p:nvPr/>
        </p:nvSpPr>
        <p:spPr>
          <a:xfrm>
            <a:off x="8747280" y="3352680"/>
            <a:ext cx="183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и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5" descr="F:\d ноут\Учебники\Фитопатология\Фото для фиты\Плодовые и ягодные\Монилиальный ожог груш.jpg"/>
          <p:cNvPicPr/>
          <p:nvPr/>
        </p:nvPicPr>
        <p:blipFill>
          <a:blip r:embed="rId1"/>
          <a:stretch/>
        </p:blipFill>
        <p:spPr>
          <a:xfrm>
            <a:off x="4500720" y="1484280"/>
            <a:ext cx="464328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еры защиты от монилиоз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9036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-кратная вырезка побегов, пораженных монилиальным ожогом (при появлении первых признаков  болезни и еще через 30-40 дней после цветения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прыскивание до цветения, в период цветения и формирования плодов фунгицидами: Хорус, Хлорокись меди, Бордоская смес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бор больных плодов. Тщательная перекопка почвы приствольных кругов и вспашка междурядий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бегать механических повреждений. Борьба с насекомы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стойчивые сор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учнистая роса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Podosphaera  leucotrich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сумч.)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Oidium farinosu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конид.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C:\Documents and Settings\Admin\Мои документы\Downloads\DSCN8466.JPG"/>
          <p:cNvPicPr/>
          <p:nvPr/>
        </p:nvPicPr>
        <p:blipFill>
          <a:blip r:embed="rId1"/>
          <a:stretch/>
        </p:blipFill>
        <p:spPr>
          <a:xfrm>
            <a:off x="142920" y="857160"/>
            <a:ext cx="3429000" cy="3503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POWDE_01"/>
          <p:cNvPicPr/>
          <p:nvPr/>
        </p:nvPicPr>
        <p:blipFill>
          <a:blip r:embed="rId2"/>
          <a:stretch/>
        </p:blipFill>
        <p:spPr>
          <a:xfrm>
            <a:off x="142920" y="4500720"/>
            <a:ext cx="2857320" cy="235728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4"/>
          <p:cNvSpPr/>
          <p:nvPr/>
        </p:nvSpPr>
        <p:spPr>
          <a:xfrm>
            <a:off x="3571920" y="1214280"/>
            <a:ext cx="5715000" cy="57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спространена повсеместно, но ареал наибольшей вредоносности - южные районы плодоводства, где снижает урожайность восприимчивых сортов до 50–80%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молодых листьях, соцветиях, плодах - серовато-белый налет мицелия и бесполого спороношения, который охватывает всю верхушечную розетку. Налет уплотняется, буреет и на нем появляется сумчатое спороношение в виде черных точек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лейстотециев. Пораженные листья скручиваются, преждевременно опадают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беги не растут, искривляются и постепенно отмирают.   Плоды с ржавым налетом (сеткой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кубационный период 8-14 дн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еры защиты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стойчивые сор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резка пораженных побег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ничтожение растительных остатк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прыскивания биопрепаратами (Фитоспорин, Витаплан) и фунгицидами (Топаз, Импакт, Тиовит Джет, Байлетон, Скор) при появлении симптомов в период вегетаци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8000" y="259920"/>
            <a:ext cx="91440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жавчина груши –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Gymnosporangium sabina (juniperinum) </a:t>
            </a:r>
            <a:r>
              <a:rPr b="1" lang="ru-RU" sz="2800" spc="-1" strike="noStrike">
                <a:solidFill>
                  <a:srgbClr val="000000"/>
                </a:solidFill>
                <a:latin typeface="Baskerville Old Face"/>
              </a:rPr>
              <a:t>отд.Базидиомице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614376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вухозяйнный с двухгодичным циклом развития. Основной хозяин – можжевельни (казацкий, виргинский, колючий, высокий); промежуточники: груша, айва. Урединиостадии не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вые признаки на листьях груши - в конце апреля-начале мая на верхней стороне листа в виде мелких округлых жёлтых пятен 0,5 мм, которые увеличиваются, становятся желто-оранжевые, на их поверхности становятся заметны черные точки - спермогонии. После цветения с нижней стороны листьев, на побегах, завязях - конусовидные выросты (эции). Эциоспоры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(И2)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рассеиваются ветром и, попав на ветви и хвою можжевельника, при наличии влаги прорастают, образуя мицелий. Весной кора можжевельника растрескивается, участками утолщается, образуется желто-бурая слизь, затем выросты (телиостадия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мицелий и телиоспоры в ветвях можжевельни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C:\Documents and Settings\Admin\Рабочий стол\Ржавчина груши в Частный сад\рис.5.Ржавчина можжевельника Дж.jpg"/>
          <p:cNvPicPr/>
          <p:nvPr/>
        </p:nvPicPr>
        <p:blipFill>
          <a:blip r:embed="rId1"/>
          <a:stretch/>
        </p:blipFill>
        <p:spPr>
          <a:xfrm>
            <a:off x="6199200" y="1143000"/>
            <a:ext cx="2944800" cy="54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Ржавчина груши -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Gymnosporangium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sabinae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int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. (син. 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fuscum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3" descr="E:\рис 1.Проявление парши груши на листьях .jpg"/>
          <p:cNvPicPr/>
          <p:nvPr/>
        </p:nvPicPr>
        <p:blipFill>
          <a:blip r:embed="rId1"/>
          <a:stretch/>
        </p:blipFill>
        <p:spPr>
          <a:xfrm>
            <a:off x="214200" y="1000080"/>
            <a:ext cx="4189680" cy="271476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3" descr=""/>
          <p:cNvPicPr/>
          <p:nvPr/>
        </p:nvPicPr>
        <p:blipFill>
          <a:blip r:embed="rId2"/>
          <a:stretch/>
        </p:blipFill>
        <p:spPr>
          <a:xfrm>
            <a:off x="4929120" y="928800"/>
            <a:ext cx="2916360" cy="24494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E:\рис.3а. ржавчинаГрушина плоде при дальнейшем развитии.jpg"/>
          <p:cNvPicPr/>
          <p:nvPr/>
        </p:nvPicPr>
        <p:blipFill>
          <a:blip r:embed="rId3"/>
          <a:stretch/>
        </p:blipFill>
        <p:spPr>
          <a:xfrm>
            <a:off x="357120" y="3571920"/>
            <a:ext cx="3936960" cy="230328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4" descr=""/>
          <p:cNvPicPr/>
          <p:nvPr/>
        </p:nvPicPr>
        <p:blipFill>
          <a:blip r:embed="rId4"/>
          <a:stretch/>
        </p:blipFill>
        <p:spPr>
          <a:xfrm>
            <a:off x="4857840" y="3214800"/>
            <a:ext cx="3203640" cy="257148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8"/>
          <p:cNvSpPr/>
          <p:nvPr/>
        </p:nvSpPr>
        <p:spPr>
          <a:xfrm>
            <a:off x="428760" y="6072120"/>
            <a:ext cx="83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Gymnosporangium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asiaticum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меет для России статус объекта внешнего карантина и включен с 2015 года в Список 1(А) карантинных патоген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ы защиты от ржавчин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0" y="499680"/>
            <a:ext cx="91440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ирать сорта, в меньшей степени поражаемым ржавчиной (Крупноплодная Сусова, Надежда, Бураковка+Зим. Сусова); в целом ранние сорта более устойчивы, чем поздни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ажать рядом с грушевыми деревьями можжевельник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ить вырезку побегов можжевельника с признаками поражения на хвое и на коре (в начале марта, на 5-10 см ниже пораженного места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овышения иммунитета регулярно через 12-15 дней в течение лета  опрыскивать растения микроудобрениями и иммуностимуляторами (Циркон, Эпин-экстра, Иммуноцитофит и др.), отдельно или в баковых смесях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ыскивать биологическими (Фитоспорин-М, Бактофит, Планриз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химическими препаратами (Бордоская смесь, Абига-Пик, Полирам, Кумулус; Топаз, Хорус, Скор) не менее 3-х обработок после цветения или при обнаружении первых признаков поражения на груше или можжевельнике. Первая обработка проводится во время набухания и распускания почек, вторая — после цветения, третья — при образовании завязи размером с лесной орех (лещину). Четвертую обработку от болезни проводят при достижении завязью размеров грецкого орех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ной и осенью более эффективны препараты меди и обработки раствором мочевины (700 г на 10 л воды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епараты обладают лишь профилактическим действием или снижают интенсивное развитие болезни, подавляя спороношени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арша яблони –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Venturia inaequalis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(сумч.);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Fusicladium dendriticum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(конид.) </a:t>
            </a:r>
            <a:br>
              <a:rPr sz="32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конидии ветром, водой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псевдотеции в Р.О. (опавших листьях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-360" y="2142720"/>
            <a:ext cx="442908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арша – основное заболевание яблони, распространено во всех зонах возделывани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вые сведения о парше появились в 1818 году в Швец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ред от парши  заключается не только в снижении количества и ухудшении качества продукции,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о и в снижении лежкости плодов, ослаблении деревьев. При массовых вспышках болезни  потери товарных  плодов могут достигать 60 – 80%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C:\Documents and Settings\Admin\Мои документы\Downloads\DSCN4591.JPG"/>
          <p:cNvPicPr/>
          <p:nvPr/>
        </p:nvPicPr>
        <p:blipFill>
          <a:blip r:embed="rId1"/>
          <a:stretch/>
        </p:blipFill>
        <p:spPr>
          <a:xfrm>
            <a:off x="4643280" y="2214720"/>
            <a:ext cx="43578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7650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е признаки парши на листьях - в виде желтоватых, затем серо-черных пятен с бархатистым налетом, появляются с начала июня, дальнейшая динамика зависит от количества осадков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явление парши на яблоках - в виде округлых некротических сероватых участков с черно-оливковым налетом споронош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30" descr="C:\Users\emad\Desktop\New folder\-+-¦-Ç-¦-ï-¦ -ü-+-+-+-é-+-+-ï -+-¦-Ç-ê-+ -Å-¦-+-+-+-+.JPG"/>
          <p:cNvPicPr/>
          <p:nvPr/>
        </p:nvPicPr>
        <p:blipFill>
          <a:blip r:embed="rId1"/>
          <a:stretch/>
        </p:blipFill>
        <p:spPr>
          <a:xfrm>
            <a:off x="0" y="3643200"/>
            <a:ext cx="3700440" cy="32148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1" descr=""/>
          <p:cNvPicPr/>
          <p:nvPr/>
        </p:nvPicPr>
        <p:blipFill>
          <a:blip r:embed="rId2"/>
          <a:stretch/>
        </p:blipFill>
        <p:spPr>
          <a:xfrm>
            <a:off x="6305400" y="3857760"/>
            <a:ext cx="2838600" cy="3000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PEAR_02"/>
          <p:cNvPicPr/>
          <p:nvPr/>
        </p:nvPicPr>
        <p:blipFill>
          <a:blip r:embed="rId3"/>
          <a:stretch/>
        </p:blipFill>
        <p:spPr>
          <a:xfrm>
            <a:off x="3500280" y="3643200"/>
            <a:ext cx="284976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1148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арша яблони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-360" y="764640"/>
            <a:ext cx="521964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зревание аскоспор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enturia inaequali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0 до 25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, опт. 12-16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лет аскоспор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enturia inaequali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 2 до 32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, опт. температура 4-16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должительность инкубационного периода парши – 7-19 дн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птимальные условия для прорастания конидий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Fusicladium dendriticum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: температура 16-24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;           увлажнение листьев в течение 5 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" descr="парша яблони, перитеций с сумками"/>
          <p:cNvPicPr/>
          <p:nvPr/>
        </p:nvPicPr>
        <p:blipFill>
          <a:blip r:embed="rId1"/>
          <a:stretch/>
        </p:blipFill>
        <p:spPr>
          <a:xfrm>
            <a:off x="5364000" y="0"/>
            <a:ext cx="3786480" cy="2479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DSC01284"/>
          <p:cNvPicPr/>
          <p:nvPr/>
        </p:nvPicPr>
        <p:blipFill>
          <a:blip r:embed="rId2"/>
          <a:stretch/>
        </p:blipFill>
        <p:spPr>
          <a:xfrm>
            <a:off x="5364000" y="2513160"/>
            <a:ext cx="3735720" cy="1871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10095921"/>
          <p:cNvPicPr/>
          <p:nvPr/>
        </p:nvPicPr>
        <p:blipFill>
          <a:blip r:embed="rId3"/>
          <a:stretch/>
        </p:blipFill>
        <p:spPr>
          <a:xfrm>
            <a:off x="5219640" y="4724280"/>
            <a:ext cx="3959280" cy="21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ры защиты от парш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605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даление Р.О.(опавших листьев), обрезка побег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спользование устойчивых и толерантных сортов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Имрус, Орловим, Орловский пионер, Болотовское, Чистотел, Первинка, Юбиляр, Строевское, Солнышко, Старт, Кандиль Орловский, Орловское Полесье, Прима;  Антоновка обыкновенная, Богатырь, Ветеран, Коричное новое, Спартан, Уэлси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здельные посадки в садах устойчивых и восприимчивых сор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скореняющие опрыскивания кроны и почвы азотными удобрениями 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0% аммиачная селитра, 7% мочевина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спользование биологически активных веществ 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иркон, рибав, фармайод, иммуноцитофит),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которые снижают развитие патогена и стимулируют защитные реакции раст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спользование биопрепаратов: Фитоспорин, Витаплан, Агат 25  в период вегетации 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розовый бутон», 20 дней после цветения, «грецкий орех», за 1 мес. до уборки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спользование фунгицидов в период вегетации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85788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ухосед  и сажистый гриб яблони и груш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08000" y="981000"/>
            <a:ext cx="4881600" cy="585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блюдаются обычно в старых густых заброшенных садах с плохой аэраци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ухосед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На созревших плодах - мелкие одиночные или многочисленные черные точки, похожие на экскременты домовой мухи. Глубоко в мякоть не проникает, поэтому вкусовые качества и лежкость не страдают. Теряется лишь товарный вид яблок и груш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ажистый гриб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задолго до сбора урожая на плодах могут появиться темные сажистые пятна различной величины и формы, могут сливаться в сплошной налет, покрывая плод целиком.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еры борьбы с мухоседом и сажистым грибом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 аналогичны методам борьбы с паршой и проводятся в те же срок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Объект 3" descr=""/>
          <p:cNvPicPr/>
          <p:nvPr/>
        </p:nvPicPr>
        <p:blipFill>
          <a:blip r:embed="rId1"/>
          <a:stretch/>
        </p:blipFill>
        <p:spPr>
          <a:xfrm>
            <a:off x="4989600" y="2276640"/>
            <a:ext cx="39621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4200" y="0"/>
            <a:ext cx="8715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иллостиктоз, или бурая пятнистость листьев —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llostict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.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mali) </a:t>
            </a:r>
            <a:r>
              <a:rPr b="0" lang="ru-RU" sz="1800" spc="-1" strike="noStrike">
                <a:solidFill>
                  <a:srgbClr val="000000"/>
                </a:solidFill>
                <a:latin typeface="Baskerville Old Face"/>
              </a:rPr>
              <a:t>отд. Дейтеромицеты, кл. Целомице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C:\Documents and Settings\Admin\Мои документы\Downloads\DSCN8513.JPG"/>
          <p:cNvPicPr/>
          <p:nvPr/>
        </p:nvPicPr>
        <p:blipFill>
          <a:blip r:embed="rId1"/>
          <a:stretch/>
        </p:blipFill>
        <p:spPr>
          <a:xfrm>
            <a:off x="571680" y="928800"/>
            <a:ext cx="3533760" cy="2571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ALTER_03"/>
          <p:cNvPicPr/>
          <p:nvPr/>
        </p:nvPicPr>
        <p:blipFill>
          <a:blip r:embed="rId2"/>
          <a:stretch/>
        </p:blipFill>
        <p:spPr>
          <a:xfrm>
            <a:off x="4929120" y="928800"/>
            <a:ext cx="3214800" cy="24685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213840" y="3429000"/>
            <a:ext cx="89298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1000"/>
          </a:bodyPr>
          <a:p>
            <a:pPr marL="140400" indent="-140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епториоз груши –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Septoria pirico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0400" indent="-140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конидии ветром. водой, 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 –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псевдотеции и конидии в Р.О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40400" indent="-1404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JAPAN_02"/>
          <p:cNvPicPr/>
          <p:nvPr/>
        </p:nvPicPr>
        <p:blipFill>
          <a:blip r:embed="rId3"/>
          <a:stretch/>
        </p:blipFill>
        <p:spPr>
          <a:xfrm>
            <a:off x="6215040" y="4357800"/>
            <a:ext cx="2590920" cy="2374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"/>
          <p:cNvPicPr/>
          <p:nvPr/>
        </p:nvPicPr>
        <p:blipFill>
          <a:blip r:embed="rId4"/>
          <a:stretch/>
        </p:blipFill>
        <p:spPr>
          <a:xfrm>
            <a:off x="857160" y="4357800"/>
            <a:ext cx="385776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льтернариоз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Alternaria spp.</a:t>
            </a:r>
            <a:br>
              <a:rPr sz="36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д. Несовершенные, кл. Гифомице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4" descr="101999007i1"/>
          <p:cNvPicPr/>
          <p:nvPr/>
        </p:nvPicPr>
        <p:blipFill>
          <a:blip r:embed="rId1"/>
          <a:stretch/>
        </p:blipFill>
        <p:spPr>
          <a:xfrm>
            <a:off x="2928960" y="928800"/>
            <a:ext cx="3532320" cy="294480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3"/>
          <p:cNvSpPr/>
          <p:nvPr/>
        </p:nvSpPr>
        <p:spPr>
          <a:xfrm>
            <a:off x="0" y="378612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нтомоспориоз, буроватость листьев груши -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ntomosporium maculatu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askerville Old Face"/>
              </a:rPr>
              <a:t>отд.Дейтеромицеты, кл. Целоомицеты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ямоугольник 4"/>
          <p:cNvSpPr/>
          <p:nvPr/>
        </p:nvSpPr>
        <p:spPr>
          <a:xfrm>
            <a:off x="0" y="5000760"/>
            <a:ext cx="8929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аще в питомниках на подвоя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листьях, черешках неправильной формы, темно-бурые с буро-черной каймой некрозы. Листья преждевременно желтеют и опадаю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коре побегов темно-бурые некрозы-язвы. На плодах бурые,  черные, неправильной формы некрозы. Плоды деформируютс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конидии, 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 –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конидии и апотеции в Р.О. и побега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ры защиты от пятнистост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8000" y="1483920"/>
            <a:ext cx="90360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даление Р.О. и больных побег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тимальные условия для роста и развития растен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стойчивые сор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рыскивания по первым симптомам фунгицидами (используемыми в борьбе с паршой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1T05:41:25Z</dcterms:created>
  <dc:creator>So_Fi</dc:creator>
  <dc:description/>
  <dc:language>en-US</dc:language>
  <cp:lastModifiedBy>Кристина</cp:lastModifiedBy>
  <dcterms:modified xsi:type="dcterms:W3CDTF">2020-11-17T06:31:31Z</dcterms:modified>
  <cp:revision>340</cp:revision>
  <dc:subject/>
  <dc:title>Болезни можжевельника, их причины, симптомы и меры борьбы.</dc:title>
</cp:coreProperties>
</file>