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2.jpeg" ContentType="image/jpeg"/>
  <Override PartName="/ppt/media/image6.png" ContentType="image/png"/>
  <Override PartName="/ppt/media/image5.jpeg" ContentType="image/jpeg"/>
  <Override PartName="/ppt/media/image26.jpeg" ContentType="image/jpeg"/>
  <Override PartName="/ppt/media/image23.jpeg" ContentType="image/jpeg"/>
  <Override PartName="/ppt/media/image18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6.png" ContentType="image/png"/>
  <Override PartName="/ppt/media/image14.jpeg" ContentType="image/jpeg"/>
  <Override PartName="/ppt/media/image24.jpeg" ContentType="image/jpeg"/>
  <Override PartName="/ppt/media/image3.jpeg" ContentType="image/jpeg"/>
  <Override PartName="/ppt/media/image4.jpeg" ContentType="image/jpeg"/>
  <Override PartName="/ppt/media/image2.png" ContentType="image/png"/>
  <Override PartName="/ppt/media/image2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3865F-77AE-4337-B545-F82F00BF5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92A24-7E8D-4171-A1F5-F6CB7E169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E6156-653A-45D5-9806-F3EDE7D65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05032-9A95-4896-A804-763ABAC7E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A2755-7FAB-42AB-AB96-56FD6F567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86E08-0EDB-46E1-8F06-009217C7E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83DB3-6BD0-43EF-A354-2A316416C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BA5C6-E82B-429E-8BD4-E0BDB2506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4FBAF-355C-4FB6-B5D9-49A930956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19EB8-3DDD-4384-B697-0861C504B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3DE37-B8CF-4F3A-8E89-822F682D0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F2CD1-3C2F-454A-8AFB-AB6DA2CD4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b9b8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0AD7A-2A75-41B1-871C-079318E8DE0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5364000" y="3573360"/>
            <a:ext cx="3780000" cy="23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539640" algn="just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marL="343080" indent="539640" algn="just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Box 7"/>
          <p:cNvSpPr/>
          <p:nvPr/>
        </p:nvSpPr>
        <p:spPr>
          <a:xfrm>
            <a:off x="468360" y="1309680"/>
            <a:ext cx="8207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езни плодовых семечковых и косточковых культур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C:\Documents and Settings\Admin\Мои документы\Downloads\DSCN3561.JPG"/>
          <p:cNvPicPr/>
          <p:nvPr/>
        </p:nvPicPr>
        <p:blipFill>
          <a:blip r:embed="rId1"/>
          <a:stretch/>
        </p:blipFill>
        <p:spPr>
          <a:xfrm>
            <a:off x="108000" y="3068640"/>
            <a:ext cx="9036000" cy="3600360"/>
          </a:xfrm>
          <a:prstGeom prst="rect">
            <a:avLst/>
          </a:prstGeom>
          <a:ln w="0">
            <a:noFill/>
          </a:ln>
        </p:spPr>
      </p:pic>
      <p:pic>
        <p:nvPicPr>
          <p:cNvPr id="44" name="Рисунок 2" descr=""/>
          <p:cNvPicPr/>
          <p:nvPr/>
        </p:nvPicPr>
        <p:blipFill>
          <a:blip r:embed="rId2"/>
          <a:stretch/>
        </p:blipFill>
        <p:spPr>
          <a:xfrm>
            <a:off x="0" y="-9360"/>
            <a:ext cx="9144000" cy="88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Плодовая гниль, монилиоз – </a:t>
            </a:r>
            <a:br>
              <a:rPr sz="3600"/>
            </a:b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Monilia fructigen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4" descr="BROWN_02"/>
          <p:cNvPicPr/>
          <p:nvPr/>
        </p:nvPicPr>
        <p:blipFill>
          <a:blip r:embed="rId1"/>
          <a:stretch/>
        </p:blipFill>
        <p:spPr>
          <a:xfrm>
            <a:off x="0" y="1357200"/>
            <a:ext cx="3286080" cy="26434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8" descr="ImageCache"/>
          <p:cNvPicPr/>
          <p:nvPr/>
        </p:nvPicPr>
        <p:blipFill>
          <a:blip r:embed="rId2"/>
          <a:stretch/>
        </p:blipFill>
        <p:spPr>
          <a:xfrm>
            <a:off x="3071880" y="1285920"/>
            <a:ext cx="2643120" cy="27147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3" descr="C:\Documents and Settings\Admin\Мои документы\Downloads\DSCN3546.JPG"/>
          <p:cNvPicPr/>
          <p:nvPr/>
        </p:nvPicPr>
        <p:blipFill>
          <a:blip r:embed="rId3"/>
          <a:stretch/>
        </p:blipFill>
        <p:spPr>
          <a:xfrm>
            <a:off x="5786280" y="1357200"/>
            <a:ext cx="3233880" cy="264348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0" y="4286160"/>
            <a:ext cx="9144000" cy="25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лодовая гниль уносит значительную часть урожая уже созревших плодов в саду, а затем в период их хранени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Заражение происходит в местах повреждения кожицы плодов вредителями, градом, паршой. Поражение начинается с бурого пятна, которое постепенно разрастается; ткань его буреет, размягчается, на поверхности загнившего участка образуются концентрические круги из желтовато-серых подушечек (конидиальное спороношение). При низкой температуре плоды чернеют, буреют и мумифицируются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Монилиальный ожог яблони- </a:t>
            </a:r>
            <a:br>
              <a:rPr sz="3200"/>
            </a:br>
            <a:r>
              <a:rPr b="1" i="1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Monilia cinerea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M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.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mali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-108000" y="1714320"/>
            <a:ext cx="439272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Болезнь проявляется в конце цветения. Сначала буреют и засыхают цветки, затем листья, завязи и плодовые  веточк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Через плодовые веточки мицелий гриба проникает в скелетные ветки и вызывает их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сыхани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Rectangle 9"/>
          <p:cNvSpPr/>
          <p:nvPr/>
        </p:nvSpPr>
        <p:spPr>
          <a:xfrm>
            <a:off x="8747280" y="3352680"/>
            <a:ext cx="183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их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5" descr="F:\d ноут\Учебники\Фитопатология\Фото для фиты\Плодовые и ягодные\Монилиальный ожог груш.jpg"/>
          <p:cNvPicPr/>
          <p:nvPr/>
        </p:nvPicPr>
        <p:blipFill>
          <a:blip r:embed="rId1"/>
          <a:stretch/>
        </p:blipFill>
        <p:spPr>
          <a:xfrm>
            <a:off x="4500720" y="1484280"/>
            <a:ext cx="464328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Меры защиты от монилиоз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8000" y="1267920"/>
            <a:ext cx="903600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2-кратная вырезка побегов, пораженных монилиальным ожогом (при появлении первых признаков  болезни и еще через 30-40 дней после цветения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прыскивание до цветения, в период цветения и формирования плодов фунгицидами: Хорус, Хлорокись меди, Бордоская смесь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бор больных плодов. Тщательная перекопка почвы приствольных кругов и вспашка междурядий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збегать механических повреждений. Борьба с насекомым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Устойчивые сорт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Мучнистая роса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Podosphaera  leucotricha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сумч.)</a:t>
            </a: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Oidium farinosum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конид.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2" descr="C:\Documents and Settings\Admin\Мои документы\Downloads\DSCN8466.JPG"/>
          <p:cNvPicPr/>
          <p:nvPr/>
        </p:nvPicPr>
        <p:blipFill>
          <a:blip r:embed="rId1"/>
          <a:stretch/>
        </p:blipFill>
        <p:spPr>
          <a:xfrm>
            <a:off x="142920" y="857160"/>
            <a:ext cx="3429000" cy="35038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5" descr="POWDE_01"/>
          <p:cNvPicPr/>
          <p:nvPr/>
        </p:nvPicPr>
        <p:blipFill>
          <a:blip r:embed="rId2"/>
          <a:stretch/>
        </p:blipFill>
        <p:spPr>
          <a:xfrm>
            <a:off x="142920" y="4500720"/>
            <a:ext cx="2857320" cy="2357280"/>
          </a:xfrm>
          <a:prstGeom prst="rect">
            <a:avLst/>
          </a:prstGeom>
          <a:ln w="0">
            <a:noFill/>
          </a:ln>
        </p:spPr>
      </p:pic>
      <p:sp>
        <p:nvSpPr>
          <p:cNvPr id="88" name="Прямоугольник 4"/>
          <p:cNvSpPr/>
          <p:nvPr/>
        </p:nvSpPr>
        <p:spPr>
          <a:xfrm>
            <a:off x="3571920" y="1214280"/>
            <a:ext cx="5715000" cy="57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аспространена повсеместно, но ареал наибольшей вредоносности - южные районы плодоводства, где снижает урожайность восприимчивых сортов до 50–80%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 молодых листьях, соцветиях, плодах - серовато-белый налет мицелия и бесполого спороношения, который охватывает всю верхушечную розетку. Налет уплотняется, буреет и на нем появляется сумчатое спороношение в виде черных точек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лейстотециев. Пораженные листья скручиваются, преждевременно опадают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беги не растут, искривляются и постепенно отмирают.   Плоды с ржавым налетом (сеткой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нкубационный период 8-14 дне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Меры защиты.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стойчивые сорт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ырезка пораженных побегов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ничтожение растительных остатков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прыскивания биопрепаратами (Фитоспорин, Витаплан) и фунгицидами (Топаз, Импакт, Тиовит Джет, Байлетон, Скор) при появлении симптомов в период вегетации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8000" y="259920"/>
            <a:ext cx="914400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Ржавчина груши –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Gymnosporangium sabina (juniperinum) </a:t>
            </a:r>
            <a:r>
              <a:rPr b="1" lang="ru-RU" sz="2800" spc="-1" strike="noStrike">
                <a:solidFill>
                  <a:srgbClr val="000000"/>
                </a:solidFill>
                <a:latin typeface="Baskerville Old Face"/>
              </a:rPr>
              <a:t>отд.Базидиомицет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0" y="1125360"/>
            <a:ext cx="614376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вухозяйнный с двухгодичным циклом развития. Основной хозяин – можжевельни (казацкий, виргинский, колючий, высокий); промежуточники: груша, айва. Урединиостадии нет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ервые признаки на листьях груши - в конце апреля-начале мая на верхней стороне листа в виде мелких округлых жёлтых пятен 0,5 мм, которые увеличиваются, становятся желто-оранжевые, на их поверхности становятся заметны черные точки - спермогонии. После цветения с нижней стороны листьев, на побегах, завязях - конусовидные выросты (эции). Эциоспоры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(И2)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рассеиваются ветром и, попав на ветви и хвою можжевельника, при наличии влаги прорастают, образуя мицелий. Весной кора можжевельника растрескивается, участками утолщается, образуется желто-бурая слизь, затем выросты (телиостадия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– мицелий и телиоспоры в ветвях можжевельник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2" descr="C:\Documents and Settings\Admin\Рабочий стол\Ржавчина груши в Частный сад\рис.5.Ржавчина можжевельника Дж.jpg"/>
          <p:cNvPicPr/>
          <p:nvPr/>
        </p:nvPicPr>
        <p:blipFill>
          <a:blip r:embed="rId1"/>
          <a:stretch/>
        </p:blipFill>
        <p:spPr>
          <a:xfrm>
            <a:off x="6199200" y="1143000"/>
            <a:ext cx="2944800" cy="543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6868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Ржавчина груши - 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Gymnosporangium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sabinae</a:t>
            </a:r>
            <a:r>
              <a:rPr b="0" i="1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Wint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. (син. </a:t>
            </a:r>
            <a:r>
              <a:rPr b="1" i="1" lang="en-US" sz="3600" spc="-1" strike="noStrike">
                <a:solidFill>
                  <a:srgbClr val="000000"/>
                </a:solidFill>
                <a:latin typeface="Calibri"/>
              </a:rPr>
              <a:t>G</a:t>
            </a: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1" i="1" lang="en-US" sz="3600" spc="-1" strike="noStrike">
                <a:solidFill>
                  <a:srgbClr val="000000"/>
                </a:solidFill>
                <a:latin typeface="Calibri"/>
              </a:rPr>
              <a:t>fuscum</a:t>
            </a: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.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3" descr="E:\рис 1.Проявление парши груши на листьях .jpg"/>
          <p:cNvPicPr/>
          <p:nvPr/>
        </p:nvPicPr>
        <p:blipFill>
          <a:blip r:embed="rId1"/>
          <a:stretch/>
        </p:blipFill>
        <p:spPr>
          <a:xfrm>
            <a:off x="214200" y="1000080"/>
            <a:ext cx="4189680" cy="2714760"/>
          </a:xfrm>
          <a:prstGeom prst="rect">
            <a:avLst/>
          </a:prstGeom>
          <a:ln w="0">
            <a:noFill/>
          </a:ln>
        </p:spPr>
      </p:pic>
      <p:pic>
        <p:nvPicPr>
          <p:cNvPr id="94" name="Рисунок 3" descr=""/>
          <p:cNvPicPr/>
          <p:nvPr/>
        </p:nvPicPr>
        <p:blipFill>
          <a:blip r:embed="rId2"/>
          <a:stretch/>
        </p:blipFill>
        <p:spPr>
          <a:xfrm>
            <a:off x="4929120" y="928800"/>
            <a:ext cx="2916360" cy="24494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3" descr="E:\рис.3а. ржавчинаГрушина плоде при дальнейшем развитии.jpg"/>
          <p:cNvPicPr/>
          <p:nvPr/>
        </p:nvPicPr>
        <p:blipFill>
          <a:blip r:embed="rId3"/>
          <a:stretch/>
        </p:blipFill>
        <p:spPr>
          <a:xfrm>
            <a:off x="357120" y="3571920"/>
            <a:ext cx="3936960" cy="2303280"/>
          </a:xfrm>
          <a:prstGeom prst="rect">
            <a:avLst/>
          </a:prstGeom>
          <a:ln w="0">
            <a:noFill/>
          </a:ln>
        </p:spPr>
      </p:pic>
      <p:pic>
        <p:nvPicPr>
          <p:cNvPr id="96" name="Рисунок 4" descr=""/>
          <p:cNvPicPr/>
          <p:nvPr/>
        </p:nvPicPr>
        <p:blipFill>
          <a:blip r:embed="rId4"/>
          <a:stretch/>
        </p:blipFill>
        <p:spPr>
          <a:xfrm>
            <a:off x="4857840" y="3214800"/>
            <a:ext cx="3203640" cy="2571480"/>
          </a:xfrm>
          <a:prstGeom prst="rect">
            <a:avLst/>
          </a:prstGeom>
          <a:ln w="0">
            <a:noFill/>
          </a:ln>
        </p:spPr>
      </p:pic>
      <p:sp>
        <p:nvSpPr>
          <p:cNvPr id="97" name="Прямоугольник 8"/>
          <p:cNvSpPr/>
          <p:nvPr/>
        </p:nvSpPr>
        <p:spPr>
          <a:xfrm>
            <a:off x="428760" y="6072120"/>
            <a:ext cx="835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Gymnosporangium 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asiaticum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меет для России статус объекта внешнего карантина и включен с 2015 года в Список 1(А) карантинных патоген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ры защиты от ржавчины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0" y="499680"/>
            <a:ext cx="914400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бирать сорта, в меньшей степени поражаемым ржавчиной (Крупноплодная Сусова, Надежда, Бураковка+Зим. Сусова); в целом ранние сорта более устойчивы, чем поздни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сажать рядом с грушевыми деревьями можжевельник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одить вырезку побегов можжевельника с признаками поражения на хвое и на коре (в начале марта, на 5-10 см ниже пораженного места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повышения иммунитета регулярно через 12-15 дней в течение лета  опрыскивать растения микроудобрениями и иммуностимуляторами (Циркон, Эпин-экстра, Иммуноцитофит и др.), отдельно или в баковых смесях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ыскивать биологическими (Фитоспорин-М, Бактофит, Планриз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 химическими препаратами (Бордоская смесь, Абига-Пик, Полирам, Кумулус; Топаз, Хорус, Скор) не менее 3-х обработок после цветения или при обнаружении первых признаков поражения на груше или можжевельнике. Первая обработка проводится во время набухания и распускания почек, вторая — после цветения, третья — при образовании завязи размером с лесной орех (лещину). Четвертую обработку от болезни проводят при достижении завязью размеров грецкого орех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сной и осенью более эффективны препараты меди и обработки раствором мочевины (700 г на 10 л воды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епараты обладают лишь профилактическим действием или снижают интенсивное развитие болезни, подавляя спороношение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арша яблони – 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Venturia inaequalis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(сумч.); 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Fusicladium dendriticum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(конид.) </a:t>
            </a:r>
            <a:br>
              <a:rPr sz="32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I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конидии ветром, водой,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 -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псевдотеции в Р.О. (опавших листьях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-360" y="2142720"/>
            <a:ext cx="442908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арша – основное заболевание яблони, распространено во всех зонах возделывания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ервые сведения о парше появились в 1818 году в Швеци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ред от парши  заключается не только в снижении количества и ухудшении качества продукции,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о и в снижении лежкости плодов, ослаблении деревьев. При массовых вспышках болезни  потери товарных  плодов могут достигать 60 – 80%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2" descr="C:\Documents and Settings\Admin\Мои документы\Downloads\DSCN4591.JPG"/>
          <p:cNvPicPr/>
          <p:nvPr/>
        </p:nvPicPr>
        <p:blipFill>
          <a:blip r:embed="rId1"/>
          <a:stretch/>
        </p:blipFill>
        <p:spPr>
          <a:xfrm>
            <a:off x="4643280" y="2214720"/>
            <a:ext cx="435780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-360" y="7650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ые признаки парши на листьях - в виде желтоватых, затем серо-черных пятен с бархатистым налетом, появляются с начала июня, дальнейшая динамика зависит от количества осадков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явление парши на яблоках - в виде округлых некротических сероватых участков с черно-оливковым налетом спороношен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30" descr="C:\Users\emad\Desktop\New folder\-+-¦-Ç-¦-ï-¦ -ü-+-+-+-é-+-+-ï -+-¦-Ç-ê-+ -Å-¦-+-+-+-+.JPG"/>
          <p:cNvPicPr/>
          <p:nvPr/>
        </p:nvPicPr>
        <p:blipFill>
          <a:blip r:embed="rId1"/>
          <a:stretch/>
        </p:blipFill>
        <p:spPr>
          <a:xfrm>
            <a:off x="0" y="3643200"/>
            <a:ext cx="3700440" cy="321480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1" descr=""/>
          <p:cNvPicPr/>
          <p:nvPr/>
        </p:nvPicPr>
        <p:blipFill>
          <a:blip r:embed="rId2"/>
          <a:stretch/>
        </p:blipFill>
        <p:spPr>
          <a:xfrm>
            <a:off x="6305400" y="3857760"/>
            <a:ext cx="2838600" cy="30002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PEAR_02"/>
          <p:cNvPicPr/>
          <p:nvPr/>
        </p:nvPicPr>
        <p:blipFill>
          <a:blip r:embed="rId3"/>
          <a:stretch/>
        </p:blipFill>
        <p:spPr>
          <a:xfrm>
            <a:off x="3500280" y="3643200"/>
            <a:ext cx="2849760" cy="32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51148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арша яблони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-360" y="764640"/>
            <a:ext cx="5219640" cy="609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зревание аскоспор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enturia inaequali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– 0 до 25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°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, опт. 12-16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°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ылет аскоспор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enturia inaequalis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–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т 2 до 32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°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, опт. температура 4-16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°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одолжительность инкубационного периода парши – 7-19 дне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птимальные условия для прорастания конидий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Fusicladium dendriticum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: температура 16-24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°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;           увлажнение листьев в течение 5 ч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5" descr="парша яблони, перитеций с сумками"/>
          <p:cNvPicPr/>
          <p:nvPr/>
        </p:nvPicPr>
        <p:blipFill>
          <a:blip r:embed="rId1"/>
          <a:stretch/>
        </p:blipFill>
        <p:spPr>
          <a:xfrm>
            <a:off x="5364000" y="0"/>
            <a:ext cx="3786480" cy="24796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" descr="DSC01284"/>
          <p:cNvPicPr/>
          <p:nvPr/>
        </p:nvPicPr>
        <p:blipFill>
          <a:blip r:embed="rId2"/>
          <a:stretch/>
        </p:blipFill>
        <p:spPr>
          <a:xfrm>
            <a:off x="5364000" y="2513160"/>
            <a:ext cx="3735720" cy="1871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10095921"/>
          <p:cNvPicPr/>
          <p:nvPr/>
        </p:nvPicPr>
        <p:blipFill>
          <a:blip r:embed="rId3"/>
          <a:stretch/>
        </p:blipFill>
        <p:spPr>
          <a:xfrm>
            <a:off x="5219640" y="4724280"/>
            <a:ext cx="3959280" cy="21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Меры защиты от парш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605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Удаление Р.О.(опавших листьев), обрезка побег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Использование устойчивых и толерантных сортов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Имрус, Орловим, Орловский пионер, Болотовское, Чистотел, Первинка, Юбиляр, Строевское, Солнышко, Старт, Кандиль Орловский, Орловское Полесье, Прима;  Антоновка обыкновенная, Богатырь, Ветеран, Коричное новое, Спартан, Уэлси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Раздельные посадки в садах устойчивых и восприимчивых сорт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Искореняющие опрыскивания кроны и почвы азотными удобрениями (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0% аммиачная селитра, 7% мочевина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Использование биологически активных веществ (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циркон, рибав, фармайод, иммуноцитофит),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которые снижают развитие патогена и стимулируют защитные реакции расте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Использование биопрепаратов: Фитоспорин, Витаплан, Агат 25  в период вегетации (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«розовый бутон», 20 дней после цветения, «грецкий орех», за 1 мес. до уборки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Использование фунгицидов в период вегетации.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8000" y="0"/>
            <a:ext cx="85788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Мухосед  и сажистый гриб яблони и груш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108000" y="981000"/>
            <a:ext cx="4881600" cy="585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блюдаются обычно в старых густых заброшенных садах с плохой аэрацие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Мухосед.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На созревших плодах - мелкие одиночные или многочисленные черные точки, похожие на экскременты домовой мухи. Глубоко в мякоть не проникает, поэтому вкусовые качества и лежкость не страдают. Теряется лишь товарный вид яблок и груш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ажистый гриб.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езадолго до сбора урожая на плодах могут появиться темные сажистые пятна различной величины и формы, могут сливаться в сплошной налет, покрывая плод целиком.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Меры борьбы с мухоседом и сажистым грибом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: аналогичны методам борьбы с паршой и проводятся в те же срок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Объект 3" descr=""/>
          <p:cNvPicPr/>
          <p:nvPr/>
        </p:nvPicPr>
        <p:blipFill>
          <a:blip r:embed="rId1"/>
          <a:stretch/>
        </p:blipFill>
        <p:spPr>
          <a:xfrm>
            <a:off x="4989600" y="2276640"/>
            <a:ext cx="3962160" cy="45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4200" y="0"/>
            <a:ext cx="8715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Филлостиктоз, или бурая пятнистость листьев —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yllosticta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.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mali) </a:t>
            </a:r>
            <a:r>
              <a:rPr b="0" lang="ru-RU" sz="1800" spc="-1" strike="noStrike">
                <a:solidFill>
                  <a:srgbClr val="000000"/>
                </a:solidFill>
                <a:latin typeface="Baskerville Old Face"/>
              </a:rPr>
              <a:t>отд. Дейтеромицеты, кл. Целомицет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3" descr="C:\Documents and Settings\Admin\Мои документы\Downloads\DSCN8513.JPG"/>
          <p:cNvPicPr/>
          <p:nvPr/>
        </p:nvPicPr>
        <p:blipFill>
          <a:blip r:embed="rId1"/>
          <a:stretch/>
        </p:blipFill>
        <p:spPr>
          <a:xfrm>
            <a:off x="571680" y="928800"/>
            <a:ext cx="3533760" cy="25714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3" descr="ALTER_03"/>
          <p:cNvPicPr/>
          <p:nvPr/>
        </p:nvPicPr>
        <p:blipFill>
          <a:blip r:embed="rId2"/>
          <a:stretch/>
        </p:blipFill>
        <p:spPr>
          <a:xfrm>
            <a:off x="4929120" y="928800"/>
            <a:ext cx="3214800" cy="24685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 txBox="1"/>
          <p:nvPr/>
        </p:nvSpPr>
        <p:spPr>
          <a:xfrm>
            <a:off x="213840" y="3429000"/>
            <a:ext cx="8929800" cy="10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1000"/>
          </a:bodyPr>
          <a:p>
            <a:pPr marL="140400" indent="-1404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епториоз груши –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Septoria piricol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40400" indent="-1404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I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конидии ветром. водой, 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 –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псевдотеции и конидии в Р.О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40400" indent="-1404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4" descr="JAPAN_02"/>
          <p:cNvPicPr/>
          <p:nvPr/>
        </p:nvPicPr>
        <p:blipFill>
          <a:blip r:embed="rId3"/>
          <a:stretch/>
        </p:blipFill>
        <p:spPr>
          <a:xfrm>
            <a:off x="6215040" y="4357800"/>
            <a:ext cx="2590920" cy="23749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" descr=""/>
          <p:cNvPicPr/>
          <p:nvPr/>
        </p:nvPicPr>
        <p:blipFill>
          <a:blip r:embed="rId4"/>
          <a:stretch/>
        </p:blipFill>
        <p:spPr>
          <a:xfrm>
            <a:off x="857160" y="4357800"/>
            <a:ext cx="385776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6868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Альтернариоз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i="1" lang="en-US" sz="3600" spc="-1" strike="noStrike">
                <a:solidFill>
                  <a:srgbClr val="000000"/>
                </a:solidFill>
                <a:latin typeface="Calibri"/>
              </a:rPr>
              <a:t>Alternaria spp.</a:t>
            </a:r>
            <a:br>
              <a:rPr sz="36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тд. Несовершенные, кл. Гифомицет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4" descr="101999007i1"/>
          <p:cNvPicPr/>
          <p:nvPr/>
        </p:nvPicPr>
        <p:blipFill>
          <a:blip r:embed="rId1"/>
          <a:stretch/>
        </p:blipFill>
        <p:spPr>
          <a:xfrm>
            <a:off x="2928960" y="928800"/>
            <a:ext cx="3532320" cy="2944800"/>
          </a:xfrm>
          <a:prstGeom prst="rect">
            <a:avLst/>
          </a:prstGeom>
          <a:ln w="0">
            <a:noFill/>
          </a:ln>
        </p:spPr>
      </p:pic>
      <p:sp>
        <p:nvSpPr>
          <p:cNvPr id="70" name="Прямоугольник 3"/>
          <p:cNvSpPr/>
          <p:nvPr/>
        </p:nvSpPr>
        <p:spPr>
          <a:xfrm>
            <a:off x="0" y="378612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Энтомоспориоз, буроватость листьев груши -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ntomosporium maculatum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Baskerville Old Face"/>
              </a:rPr>
              <a:t>отд.Дейтеромицеты, кл. Целоомицеты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Прямоугольник 4"/>
          <p:cNvSpPr/>
          <p:nvPr/>
        </p:nvSpPr>
        <p:spPr>
          <a:xfrm>
            <a:off x="0" y="5000760"/>
            <a:ext cx="8929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аще в питомниках на подвоях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 листьях, черешках неправильной формы, темно-бурые с буро-черной каймой некрозы. Листья преждевременно желтеют и опадают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 коре побегов темно-бурые некрозы-язвы. На плодах бурые,  черные, неправильной формы некрозы. Плоды деформируются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I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конидии, 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 –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конидии и апотеции в Р.О. и побегах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Меры защиты от пятнистосте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8000" y="1483920"/>
            <a:ext cx="903600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даление Р.О. и больных побего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птимальные условия для роста и развития растени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стойчивые сорт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прыскивания по первым симптомам фунгицидами (используемыми в борьбе с паршой)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1T05:41:25Z</dcterms:created>
  <dc:creator>So_Fi</dc:creator>
  <dc:description/>
  <dc:language>en-US</dc:language>
  <cp:lastModifiedBy>Кристина</cp:lastModifiedBy>
  <dcterms:modified xsi:type="dcterms:W3CDTF">2020-11-17T06:31:31Z</dcterms:modified>
  <cp:revision>340</cp:revision>
  <dc:subject/>
  <dc:title>Болезни можжевельника, их причины, симптомы и меры борьбы.</dc:title>
</cp:coreProperties>
</file>