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E5D93-7ABD-43CD-9922-A89CA62FEC55}" type="slidenum">
              <a:rPr b="1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C322D-AC3A-4FFD-85A9-FC5A4061C57E}" type="slidenum">
              <a:rPr b="1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C41B-DEE8-4A75-819A-35698395F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8FA4-96C0-40C3-A95E-517D93C93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04CF-9282-409F-A4C2-43378D3F1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F7E8-79BE-43F1-84E0-EB2D937F5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7052-662F-405E-A171-4F2DD74C8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BA20-070F-44D5-8D2B-52EB2EDF9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CC12-9C4D-493A-8168-3F9D5EF1D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B4D1-810F-4B2B-8E4A-AE1A17788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CC50-DAC1-4387-9A99-14E51F70A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20E0-5767-4ECC-8B42-678C1A482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9C29-503A-4FFA-8527-CF8C68B00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73E1-9F2D-4B6A-8538-E2DF0071D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E91F4-33A7-4CB0-883F-ECD4597313A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1280" y="692280"/>
            <a:ext cx="7772400" cy="65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Segoe Script"/>
                <a:ea typeface="Segoe UI Symbol"/>
              </a:rPr>
              <a:t>Кружок  «Рукодели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995280" y="4292280"/>
            <a:ext cx="475308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Segoe Script"/>
              </a:rPr>
              <a:t>Работу подготовили: Кочкина Елена,  Лелятова  Поли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Segoe Script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Segoe Script"/>
              </a:rPr>
              <a:t>Куратор : Гаврильченко С.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WordArt 10"/>
          <p:cNvSpPr txBox="1"/>
          <p:nvPr/>
        </p:nvSpPr>
        <p:spPr>
          <a:xfrm>
            <a:off x="1979640" y="2276640"/>
            <a:ext cx="669600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006600"/>
                </a:solidFill>
                <a:latin typeface="Segoe Script"/>
              </a:rPr>
              <a:t>Холодный фарфор</a:t>
            </a:r>
            <a:endParaRPr b="1" i="1" lang="en-US" sz="1800" spc="1" strike="noStrike">
              <a:ln w="9360">
                <a:solidFill>
                  <a:srgbClr val="800080"/>
                </a:solidFill>
                <a:miter/>
              </a:ln>
              <a:solidFill>
                <a:srgbClr val="006600"/>
              </a:solidFill>
              <a:latin typeface="Segoe Script"/>
              <a:ea typeface="Segoe Script"/>
            </a:endParaRPr>
          </a:p>
        </p:txBody>
      </p:sp>
      <p:sp>
        <p:nvSpPr>
          <p:cNvPr id="51" name="WordArt 11"/>
          <p:cNvSpPr txBox="1"/>
          <p:nvPr/>
        </p:nvSpPr>
        <p:spPr>
          <a:xfrm>
            <a:off x="684360" y="1557360"/>
            <a:ext cx="770400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69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6600"/>
                  </a:solidFill>
                  <a:miter/>
                </a:ln>
                <a:solidFill>
                  <a:srgbClr val="6666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Segoe Script"/>
              </a:rPr>
              <a:t>Научно-практическая конференция</a:t>
            </a:r>
            <a:endParaRPr b="1" i="1" lang="en-US" sz="1800" spc="1" strike="noStrike">
              <a:ln w="9360">
                <a:solidFill>
                  <a:srgbClr val="006600"/>
                </a:solidFill>
                <a:miter/>
              </a:ln>
              <a:solidFill>
                <a:srgbClr val="6666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Segoe Script"/>
              <a:ea typeface="Segoe Scrip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Содержимое 3" descr="http://img1.liveinternet.ru/images/attach/c/3/75/268/75268113_large_715821_2536thumb500.jpg"/>
          <p:cNvPicPr/>
          <p:nvPr/>
        </p:nvPicPr>
        <p:blipFill>
          <a:blip r:embed="rId1"/>
          <a:stretch/>
        </p:blipFill>
        <p:spPr>
          <a:xfrm rot="21373800">
            <a:off x="350640" y="2125440"/>
            <a:ext cx="4248000" cy="316836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3" descr="S7302673.JPG"/>
          <p:cNvPicPr/>
          <p:nvPr/>
        </p:nvPicPr>
        <p:blipFill>
          <a:blip r:embed="rId2"/>
          <a:stretch/>
        </p:blipFill>
        <p:spPr>
          <a:xfrm>
            <a:off x="4545000" y="1125360"/>
            <a:ext cx="3835440" cy="28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цесс рабо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C:\Users\Администратор\Desktop\PA240012.JPG"/>
          <p:cNvPicPr/>
          <p:nvPr/>
        </p:nvPicPr>
        <p:blipFill>
          <a:blip r:embed="rId1"/>
          <a:stretch/>
        </p:blipFill>
        <p:spPr>
          <a:xfrm>
            <a:off x="4572000" y="4078440"/>
            <a:ext cx="3313080" cy="23223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C:\Users\Администратор\Desktop\PA240011.JPG"/>
          <p:cNvPicPr/>
          <p:nvPr/>
        </p:nvPicPr>
        <p:blipFill>
          <a:blip r:embed="rId2"/>
          <a:stretch/>
        </p:blipFill>
        <p:spPr>
          <a:xfrm>
            <a:off x="684360" y="3916440"/>
            <a:ext cx="3527280" cy="26463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C:\Users\Администратор\Desktop\PA240014.JPG"/>
          <p:cNvPicPr/>
          <p:nvPr/>
        </p:nvPicPr>
        <p:blipFill>
          <a:blip r:embed="rId3"/>
          <a:stretch/>
        </p:blipFill>
        <p:spPr>
          <a:xfrm>
            <a:off x="2771640" y="1052640"/>
            <a:ext cx="3972240" cy="27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3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F:\Е.В\77721294_large_15947423501509m750x740.jpg"/>
          <p:cNvPicPr/>
          <p:nvPr/>
        </p:nvPicPr>
        <p:blipFill>
          <a:blip r:embed="rId1"/>
          <a:stretch/>
        </p:blipFill>
        <p:spPr>
          <a:xfrm>
            <a:off x="611280" y="981000"/>
            <a:ext cx="7921440" cy="49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6699"/>
                </a:solidFill>
                <a:latin typeface="Segoe Script"/>
              </a:rPr>
              <a:t>Полезные совет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Font typeface="Segoe Scrip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Segoe Script"/>
              </a:rPr>
              <a:t>Смажьте руки кремом перед работой с холодным фарфором, чтобы масса сильно не липла к рук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Font typeface="Segoe Scrip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Segoe Script"/>
              </a:rPr>
              <a:t>Холодный фарфор идеально подходит для лепки цветов (в отличии от пластики и соленого теста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Font typeface="Segoe Scrip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Segoe Script"/>
              </a:rPr>
              <a:t>Для более реалистичного цвета цветов кисточкой нанесите сухую пищевую краску, затем подержите над паром от чайника. Фарфор впитает в себя краситель. Наносить его необходимо после того, как цветок уже засты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Font typeface="Segoe Scrip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Segoe Script"/>
              </a:rPr>
              <a:t>Также окрашивать цветы можно и жидкими пищевыми красителями, но недостаток такого способа в том, что цветок получается слишком яркий и нереалистичны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Font typeface="Segoe Scrip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Segoe Script"/>
              </a:rPr>
              <a:t>Акриловые краски можно использовать для более глубокого цве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Font typeface="Segoe Scrip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Segoe Script"/>
              </a:rPr>
              <a:t>Если после работы у вас осталась какая-то часть массы для лепки, её не нужно выбрасывать. Положите «холодный фарфор» в пластиковый контейнер и плотно закройте крышкой. Он прекрасно сохранится в холодильнике до следующего раза, когда вы вновь захотите заняться лепк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0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6600"/>
                </a:solidFill>
                <a:latin typeface="Times New Roman"/>
              </a:rPr>
              <a:t>	</a:t>
            </a:r>
            <a:br>
              <a:rPr sz="2600"/>
            </a:br>
            <a:br>
              <a:rPr sz="2600"/>
            </a:br>
            <a:r>
              <a:rPr b="1" lang="ru-RU" sz="2600" spc="-1" strike="noStrike">
                <a:solidFill>
                  <a:srgbClr val="006600"/>
                </a:solidFill>
                <a:latin typeface="Segoe Script"/>
              </a:rPr>
              <a:t>Основные компоненты холодного фарфора:</a:t>
            </a:r>
            <a:br>
              <a:rPr sz="2600"/>
            </a:br>
            <a:r>
              <a:rPr b="1" lang="ru-RU" sz="2600" spc="-1" strike="noStrike">
                <a:solidFill>
                  <a:srgbClr val="006600"/>
                </a:solidFill>
                <a:latin typeface="Segoe Script"/>
              </a:rPr>
              <a:t>-картофельный крахмал</a:t>
            </a:r>
            <a:br>
              <a:rPr sz="2600"/>
            </a:br>
            <a:r>
              <a:rPr b="1" lang="ru-RU" sz="2600" spc="-1" strike="noStrike">
                <a:solidFill>
                  <a:srgbClr val="006600"/>
                </a:solidFill>
                <a:latin typeface="Segoe Script"/>
              </a:rPr>
              <a:t>- белый клей (ПВА)</a:t>
            </a:r>
            <a:br>
              <a:rPr sz="2600"/>
            </a:br>
            <a:r>
              <a:rPr b="1" lang="ru-RU" sz="2600" spc="-1" strike="noStrike">
                <a:solidFill>
                  <a:srgbClr val="006600"/>
                </a:solidFill>
                <a:latin typeface="Segoe Script"/>
              </a:rPr>
              <a:t>- сода </a:t>
            </a:r>
            <a:br>
              <a:rPr sz="2600"/>
            </a:br>
            <a:r>
              <a:rPr b="1" lang="ru-RU" sz="2600" spc="-1" strike="noStrike">
                <a:solidFill>
                  <a:srgbClr val="006600"/>
                </a:solidFill>
                <a:latin typeface="Segoe Script"/>
              </a:rPr>
              <a:t>- вазелин</a:t>
            </a:r>
            <a:br>
              <a:rPr sz="2600"/>
            </a:br>
            <a:r>
              <a:rPr b="1" lang="ru-RU" sz="2600" spc="-1" strike="noStrike">
                <a:solidFill>
                  <a:srgbClr val="006600"/>
                </a:solidFill>
                <a:latin typeface="Segoe Script"/>
              </a:rPr>
              <a:t>- глицерин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6600"/>
                </a:solidFill>
                <a:latin typeface="Segoe Script"/>
              </a:rPr>
              <a:t>- Лимонная кислот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6600"/>
                </a:solidFill>
                <a:latin typeface="Segoe Script"/>
              </a:rPr>
              <a:t>	</a:t>
            </a:r>
            <a:r>
              <a:rPr b="1" lang="ru-RU" sz="2600" spc="-1" strike="noStrike">
                <a:solidFill>
                  <a:srgbClr val="006600"/>
                </a:solidFill>
                <a:latin typeface="Segoe Script"/>
              </a:rPr>
              <a:t>	</a:t>
            </a:r>
            <a:r>
              <a:rPr b="1" lang="ru-RU" sz="2600" spc="-1" strike="noStrike">
                <a:solidFill>
                  <a:srgbClr val="006600"/>
                </a:solidFill>
                <a:latin typeface="Segoe Script"/>
              </a:rPr>
              <a:t>Благодаря соде и вазелину у холодного фарфора такая гладкая текстура.</a:t>
            </a:r>
            <a:br>
              <a:rPr sz="2600"/>
            </a:br>
            <a:br>
              <a:rPr sz="20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539640" y="2060280"/>
            <a:ext cx="822960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6600"/>
                </a:solidFill>
                <a:latin typeface="Segoe Script"/>
              </a:rPr>
              <a:t>Холодный фарфор - это пластичная масса, идеальная для любых типов работ, масса похожа на пластилин, но намного лучше, так как высыхает и становится твёрдо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Segoe Script"/>
              </a:rPr>
              <a:t>	</a:t>
            </a:r>
            <a:r>
              <a:rPr b="1" lang="ru-RU" sz="2400" spc="-1" strike="noStrike">
                <a:solidFill>
                  <a:srgbClr val="006600"/>
                </a:solidFill>
                <a:latin typeface="Segoe Script"/>
              </a:rPr>
              <a:t>	</a:t>
            </a:r>
            <a:r>
              <a:rPr b="1" lang="ru-RU" sz="2400" spc="-1" strike="noStrike">
                <a:solidFill>
                  <a:srgbClr val="006600"/>
                </a:solidFill>
                <a:latin typeface="Segoe Script"/>
              </a:rPr>
              <a:t>Из холодного фарфора можно лепить всё что угодно, это могут быть цветы, всевозможные статуэтки и т.п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6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0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Segoe Script"/>
              </a:rPr>
              <a:t>Рецепт холодного фарф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1" lang="ru-RU" sz="9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1" lang="ru-RU" sz="2600" spc="-1" strike="noStrike">
                <a:solidFill>
                  <a:srgbClr val="006600"/>
                </a:solidFill>
                <a:latin typeface="Segoe Script"/>
              </a:rPr>
              <a:t>Холодный фарфор так же можно сделать в домашних условиях </a:t>
            </a:r>
            <a:r>
              <a:rPr b="1" lang="en-US" sz="2600" spc="-1" strike="noStrike">
                <a:solidFill>
                  <a:srgbClr val="006600"/>
                </a:solidFill>
                <a:latin typeface="Segoe Script"/>
                <a:ea typeface="굴림"/>
              </a:rPr>
              <a:t>-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4572000" y="2349360"/>
            <a:ext cx="3598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Segoe Script"/>
              </a:rPr>
              <a:t> </a:t>
            </a:r>
            <a:r>
              <a:rPr b="1" lang="ru-RU" sz="2000" spc="-1" strike="noStrike">
                <a:solidFill>
                  <a:srgbClr val="006600"/>
                </a:solidFill>
                <a:latin typeface="Segoe Script"/>
              </a:rPr>
              <a:t>приготовление массы на огне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7" descr="P1030931"/>
          <p:cNvPicPr/>
          <p:nvPr/>
        </p:nvPicPr>
        <p:blipFill>
          <a:blip r:embed="rId1"/>
          <a:stretch/>
        </p:blipFill>
        <p:spPr>
          <a:xfrm>
            <a:off x="5148360" y="3429000"/>
            <a:ext cx="295272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Segoe Script"/>
              </a:rPr>
              <a:t>Ингредиент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4920" y="1773360"/>
            <a:ext cx="403236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Font typeface="Segoe Scrip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Segoe Script"/>
              </a:rPr>
              <a:t>2 чайные кружечки крахмал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Font typeface="Segoe Scrip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Segoe Script"/>
              </a:rPr>
              <a:t>2 чайные кружечки клея П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Font typeface="Segoe Scrip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Segoe Script"/>
              </a:rPr>
              <a:t>1ст ложка лимонной кисло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Font typeface="Segoe Scrip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Segoe Script"/>
              </a:rPr>
              <a:t>2ст ложки глицер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Font typeface="Segoe Scrip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Segoe Script"/>
              </a:rPr>
              <a:t> </a:t>
            </a:r>
            <a:r>
              <a:rPr b="1" lang="ru-RU" sz="2000" spc="-1" strike="noStrike">
                <a:solidFill>
                  <a:srgbClr val="006600"/>
                </a:solidFill>
                <a:latin typeface="Segoe Script"/>
              </a:rPr>
              <a:t>1ст ложка крема для рук (не жирного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Font typeface="Segoe Scrip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Segoe Script"/>
              </a:rPr>
              <a:t>стеклянная миска для микроволновки (кастрюля с антипригарным покрытием для плиты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Font typeface="Segoe Scrip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Segoe Script"/>
              </a:rPr>
              <a:t>деревянная ложка</a:t>
            </a:r>
            <a:br>
              <a:rPr sz="2000"/>
            </a:br>
            <a:r>
              <a:rPr b="1" lang="ru-RU" sz="2000" spc="-1" strike="noStrike">
                <a:solidFill>
                  <a:srgbClr val="0066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P1030920"/>
          <p:cNvPicPr/>
          <p:nvPr/>
        </p:nvPicPr>
        <p:blipFill>
          <a:blip r:embed="rId1"/>
          <a:stretch/>
        </p:blipFill>
        <p:spPr>
          <a:xfrm>
            <a:off x="4500720" y="1844640"/>
            <a:ext cx="4248000" cy="31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спользованные ингредиенты в ходе работ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ston"/>
              </a:rPr>
              <a:t>Расход на продукцию обошлась нам 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st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ston"/>
              </a:rPr>
              <a:t>Клей 140 рубл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st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ston"/>
              </a:rPr>
              <a:t>Крем для рук 56 рубле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st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ston"/>
              </a:rPr>
              <a:t>Глицерин 25 рубле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st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ston"/>
              </a:rPr>
              <a:t>Лимонная кислота 10 рубл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st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ston"/>
              </a:rPr>
              <a:t>Сода пищевая 30 рубле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st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ston"/>
              </a:rPr>
              <a:t>Крахмал 25 рубл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sto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ston"/>
              </a:rPr>
              <a:t>ИТОГО: 286 рубл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4" dur="2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6" dur="2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8" dur="2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0" dur="2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2" dur="2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4" dur="2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6" dur="20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8" dur="20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25400" y="76464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Segoe Script"/>
              </a:rPr>
              <a:t>Приготовление масс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8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6600"/>
                </a:solidFill>
                <a:latin typeface="Segoe Script"/>
              </a:rPr>
              <a:t>Смешать все ингредиенты, кроме крема для рук, в стеклянной миске. Всё хорошо вымесить в однородную масс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P1030899"/>
          <p:cNvPicPr/>
          <p:nvPr/>
        </p:nvPicPr>
        <p:blipFill>
          <a:blip r:embed="rId1"/>
          <a:stretch/>
        </p:blipFill>
        <p:spPr>
          <a:xfrm>
            <a:off x="468360" y="2565360"/>
            <a:ext cx="2519280" cy="18892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P1030903"/>
          <p:cNvPicPr/>
          <p:nvPr/>
        </p:nvPicPr>
        <p:blipFill>
          <a:blip r:embed="rId2"/>
          <a:stretch/>
        </p:blipFill>
        <p:spPr>
          <a:xfrm>
            <a:off x="2411280" y="4149720"/>
            <a:ext cx="2448000" cy="18367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P1030905"/>
          <p:cNvPicPr/>
          <p:nvPr/>
        </p:nvPicPr>
        <p:blipFill>
          <a:blip r:embed="rId3"/>
          <a:stretch/>
        </p:blipFill>
        <p:spPr>
          <a:xfrm>
            <a:off x="4500720" y="2565360"/>
            <a:ext cx="2376360" cy="1782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8" descr="P1030906"/>
          <p:cNvPicPr/>
          <p:nvPr/>
        </p:nvPicPr>
        <p:blipFill>
          <a:blip r:embed="rId4"/>
          <a:stretch/>
        </p:blipFill>
        <p:spPr>
          <a:xfrm>
            <a:off x="6443640" y="4076640"/>
            <a:ext cx="2511360" cy="18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280" y="98064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Segoe Script"/>
              </a:rPr>
              <a:t>Первый способ - приготовление массы на огне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900" spc="-1" strike="noStrike">
                <a:solidFill>
                  <a:srgbClr val="006600"/>
                </a:solidFill>
                <a:latin typeface="Segoe Script"/>
              </a:rPr>
              <a:t>Смешать все ингредиенты, кроме крема для рук, в кастрюле с антипригарным покрытием. Всё хорошо перемешать в однородную массу. Поставить кастрюлю на средний огонь. Постоянно помешивать, пока масса не начнет отлипать от стенок и не скатается в шар. Осторожно, чтобы тонкие плёнки со стенок кастрюли не попали в массу</a:t>
            </a:r>
            <a:r>
              <a:rPr b="1" lang="ru-RU" sz="1900" spc="-1" strike="noStrike">
                <a:solidFill>
                  <a:srgbClr val="006600"/>
                </a:solidFill>
                <a:latin typeface="Times New Roman"/>
              </a:rPr>
              <a:t>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P1030932"/>
          <p:cNvPicPr/>
          <p:nvPr/>
        </p:nvPicPr>
        <p:blipFill>
          <a:blip r:embed="rId1"/>
          <a:stretch/>
        </p:blipFill>
        <p:spPr>
          <a:xfrm>
            <a:off x="2268360" y="4221000"/>
            <a:ext cx="2295720" cy="17226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P1030940"/>
          <p:cNvPicPr/>
          <p:nvPr/>
        </p:nvPicPr>
        <p:blipFill>
          <a:blip r:embed="rId2"/>
          <a:stretch/>
        </p:blipFill>
        <p:spPr>
          <a:xfrm>
            <a:off x="5003640" y="4248000"/>
            <a:ext cx="2224080" cy="16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0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68360" y="691920"/>
            <a:ext cx="8229600" cy="29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100" spc="-1" strike="noStrike">
                <a:solidFill>
                  <a:srgbClr val="006600"/>
                </a:solidFill>
                <a:latin typeface="Segoe Script"/>
              </a:rPr>
              <a:t>Теперь когда холодный фарфор готов, его надо хорошо вымесить руками. Делается это следующим образом: 1ст ложка (без верха) нежирного крема размазывается по мраморной поверхности стола или по другой гладкой рабочей поверхности. Еще горячая масса выкладывается на крем, и теперь руками начинаем месить, как тесто, в течение нескольких минут, чем дольше вы будете месить массу, тем лучше будет с ней работать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P1030937"/>
          <p:cNvPicPr/>
          <p:nvPr/>
        </p:nvPicPr>
        <p:blipFill>
          <a:blip r:embed="rId1"/>
          <a:stretch/>
        </p:blipFill>
        <p:spPr>
          <a:xfrm>
            <a:off x="1042920" y="4508640"/>
            <a:ext cx="2151000" cy="16128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P1030940"/>
          <p:cNvPicPr/>
          <p:nvPr/>
        </p:nvPicPr>
        <p:blipFill>
          <a:blip r:embed="rId2"/>
          <a:stretch/>
        </p:blipFill>
        <p:spPr>
          <a:xfrm>
            <a:off x="3851280" y="4365720"/>
            <a:ext cx="2232000" cy="16747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P1030941"/>
          <p:cNvPicPr/>
          <p:nvPr/>
        </p:nvPicPr>
        <p:blipFill>
          <a:blip r:embed="rId3"/>
          <a:stretch/>
        </p:blipFill>
        <p:spPr>
          <a:xfrm>
            <a:off x="6681960" y="4653000"/>
            <a:ext cx="2232000" cy="16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0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18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8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3T17:28:24Z</dcterms:created>
  <dc:creator>Ахмадуллина</dc:creator>
  <dc:description/>
  <dc:language>en-US</dc:language>
  <cp:lastModifiedBy>XTreme.ws</cp:lastModifiedBy>
  <dcterms:modified xsi:type="dcterms:W3CDTF">2020-11-17T06:46:59Z</dcterms:modified>
  <cp:revision>51</cp:revision>
  <dc:subject/>
  <dc:title>Слайд 1</dc:title>
</cp:coreProperties>
</file>