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7DB1-BA85-4224-A5CE-212FBF1F5737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FCDD-ADC8-49C5-BCA3-106938FD7F41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614B-F404-442F-B437-532D7B3E0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9F29-CDDA-4FF2-91F8-15E5B819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CDAD-31A2-4B18-9ECD-88E8A5A8A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A09E-2FCF-4C6A-AA94-F5EC88F40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2E23-FE47-451D-9C44-DA3D46F2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5243-7B88-4DB4-AC0D-A8DE3DAB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FF21-363D-47A8-A302-2E13B927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DE4D-4B75-4547-9FFD-A04811D3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8613-EB29-40D9-BE4B-CB260B1C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1B22-3234-4009-8EBA-7D9933B2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0D1C-EAF6-4E6F-A775-2545CBE7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50A6-A7E1-4EE8-B8E4-5BFA4541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2F2D-3BB1-435B-8699-C63D54A07C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Segoe Script"/>
                <a:ea typeface="Segoe UI Symbol"/>
              </a:rPr>
              <a:t>Кружок  «Рукодел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95280" y="4292280"/>
            <a:ext cx="4753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Segoe Script"/>
              </a:rPr>
              <a:t>Работу подготовили: Кочкина Елена,  Лелятова  Пол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Segoe Script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Segoe Script"/>
              </a:rPr>
              <a:t>Куратор : Гаврильченко С.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10"/>
          <p:cNvSpPr txBox="1"/>
          <p:nvPr/>
        </p:nvSpPr>
        <p:spPr>
          <a:xfrm>
            <a:off x="1979640" y="2276640"/>
            <a:ext cx="66960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006600"/>
                </a:solidFill>
                <a:latin typeface="Segoe Script"/>
              </a:rPr>
              <a:t>Холодный фарфор</a:t>
            </a:r>
            <a:endParaRPr b="1" i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006600"/>
              </a:solidFill>
              <a:latin typeface="Segoe Script"/>
              <a:ea typeface="Segoe Script"/>
            </a:endParaRPr>
          </a:p>
        </p:txBody>
      </p:sp>
      <p:sp>
        <p:nvSpPr>
          <p:cNvPr id="51" name="WordArt 11"/>
          <p:cNvSpPr txBox="1"/>
          <p:nvPr/>
        </p:nvSpPr>
        <p:spPr>
          <a:xfrm>
            <a:off x="684360" y="1557360"/>
            <a:ext cx="7704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Segoe Script"/>
              </a:rPr>
              <a:t>Научно-практическая конференция</a:t>
            </a:r>
            <a:endParaRPr b="1" i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Segoe Script"/>
              <a:ea typeface="Segoe Scrip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Содержимое 3" descr="http://img1.liveinternet.ru/images/attach/c/3/75/268/75268113_large_715821_2536thumb500.jpg"/>
          <p:cNvPicPr/>
          <p:nvPr/>
        </p:nvPicPr>
        <p:blipFill>
          <a:blip r:embed="rId1"/>
          <a:stretch/>
        </p:blipFill>
        <p:spPr>
          <a:xfrm rot="21373800">
            <a:off x="350640" y="2125440"/>
            <a:ext cx="4248000" cy="31683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3" descr="S7302673.JPG"/>
          <p:cNvPicPr/>
          <p:nvPr/>
        </p:nvPicPr>
        <p:blipFill>
          <a:blip r:embed="rId2"/>
          <a:stretch/>
        </p:blipFill>
        <p:spPr>
          <a:xfrm>
            <a:off x="4545000" y="1125360"/>
            <a:ext cx="383544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цесс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C:\Users\Администратор\Desktop\PA240012.JPG"/>
          <p:cNvPicPr/>
          <p:nvPr/>
        </p:nvPicPr>
        <p:blipFill>
          <a:blip r:embed="rId1"/>
          <a:stretch/>
        </p:blipFill>
        <p:spPr>
          <a:xfrm>
            <a:off x="4572000" y="4078440"/>
            <a:ext cx="3313080" cy="2322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:\Users\Администратор\Desktop\PA240011.JPG"/>
          <p:cNvPicPr/>
          <p:nvPr/>
        </p:nvPicPr>
        <p:blipFill>
          <a:blip r:embed="rId2"/>
          <a:stretch/>
        </p:blipFill>
        <p:spPr>
          <a:xfrm>
            <a:off x="684360" y="3916440"/>
            <a:ext cx="3527280" cy="2646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C:\Users\Администратор\Desktop\PA240014.JPG"/>
          <p:cNvPicPr/>
          <p:nvPr/>
        </p:nvPicPr>
        <p:blipFill>
          <a:blip r:embed="rId3"/>
          <a:stretch/>
        </p:blipFill>
        <p:spPr>
          <a:xfrm>
            <a:off x="2771640" y="1052640"/>
            <a:ext cx="397224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F:\Е.В\77721294_large_15947423501509m750x740.jpg"/>
          <p:cNvPicPr/>
          <p:nvPr/>
        </p:nvPicPr>
        <p:blipFill>
          <a:blip r:embed="rId1"/>
          <a:stretch/>
        </p:blipFill>
        <p:spPr>
          <a:xfrm>
            <a:off x="611280" y="981000"/>
            <a:ext cx="792144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99"/>
                </a:solidFill>
                <a:latin typeface="Segoe Script"/>
              </a:rPr>
              <a:t>Полезные сове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Sego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Segoe Script"/>
              </a:rPr>
              <a:t>Смажьте руки кремом перед работой с холодным фарфором, чтобы масса сильно не липла к рук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Sego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Segoe Script"/>
              </a:rPr>
              <a:t>Холодный фарфор идеально подходит для лепки цветов (в отличии от пластики и соленого тест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Sego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Segoe Script"/>
              </a:rPr>
              <a:t>Для более реалистичного цвета цветов кисточкой нанесите сухую пищевую краску, затем подержите над паром от чайника. Фарфор впитает в себя краситель. Наносить его необходимо после того, как цветок уже засты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Sego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Segoe Script"/>
              </a:rPr>
              <a:t>Также окрашивать цветы можно и жидкими пищевыми красителями, но недостаток такого способа в том, что цветок получается слишком яркий и нереалистичны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Sego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Segoe Script"/>
              </a:rPr>
              <a:t>Акриловые краски можно использовать для более глубокого цв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Sego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Segoe Script"/>
              </a:rPr>
              <a:t>Если после работы у вас осталась какая-то часть массы для лепки, её не нужно выбрасывать. Положите «холодный фарфор» в пластиковый контейнер и плотно закройте крышкой. Он прекрасно сохранится в холодильнике до следующего раза, когда вы вновь захотите заняться леп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	</a:t>
            </a:r>
            <a:br>
              <a:rPr sz="2600"/>
            </a:br>
            <a:br>
              <a:rPr sz="2600"/>
            </a:br>
            <a:r>
              <a:rPr b="1" lang="ru-RU" sz="2600" spc="-1" strike="noStrike">
                <a:solidFill>
                  <a:srgbClr val="006600"/>
                </a:solidFill>
                <a:latin typeface="Segoe Script"/>
              </a:rPr>
              <a:t>Основные компоненты холодного фарфора:</a:t>
            </a:r>
            <a:br>
              <a:rPr sz="2600"/>
            </a:br>
            <a:r>
              <a:rPr b="1" lang="ru-RU" sz="2600" spc="-1" strike="noStrike">
                <a:solidFill>
                  <a:srgbClr val="006600"/>
                </a:solidFill>
                <a:latin typeface="Segoe Script"/>
              </a:rPr>
              <a:t>-картофельный крахмал</a:t>
            </a:r>
            <a:br>
              <a:rPr sz="2600"/>
            </a:br>
            <a:r>
              <a:rPr b="1" lang="ru-RU" sz="2600" spc="-1" strike="noStrike">
                <a:solidFill>
                  <a:srgbClr val="006600"/>
                </a:solidFill>
                <a:latin typeface="Segoe Script"/>
              </a:rPr>
              <a:t>- белый клей (ПВА)</a:t>
            </a:r>
            <a:br>
              <a:rPr sz="2600"/>
            </a:br>
            <a:r>
              <a:rPr b="1" lang="ru-RU" sz="2600" spc="-1" strike="noStrike">
                <a:solidFill>
                  <a:srgbClr val="006600"/>
                </a:solidFill>
                <a:latin typeface="Segoe Script"/>
              </a:rPr>
              <a:t>- сода </a:t>
            </a:r>
            <a:br>
              <a:rPr sz="2600"/>
            </a:br>
            <a:r>
              <a:rPr b="1" lang="ru-RU" sz="2600" spc="-1" strike="noStrike">
                <a:solidFill>
                  <a:srgbClr val="006600"/>
                </a:solidFill>
                <a:latin typeface="Segoe Script"/>
              </a:rPr>
              <a:t>- вазелин</a:t>
            </a:r>
            <a:br>
              <a:rPr sz="2600"/>
            </a:br>
            <a:r>
              <a:rPr b="1" lang="ru-RU" sz="2600" spc="-1" strike="noStrike">
                <a:solidFill>
                  <a:srgbClr val="006600"/>
                </a:solidFill>
                <a:latin typeface="Segoe Script"/>
              </a:rPr>
              <a:t>- глицери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Segoe Script"/>
              </a:rPr>
              <a:t>- Лимонная кисло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Segoe Script"/>
              </a:rPr>
              <a:t>	</a:t>
            </a:r>
            <a:r>
              <a:rPr b="1" lang="ru-RU" sz="2600" spc="-1" strike="noStrike">
                <a:solidFill>
                  <a:srgbClr val="006600"/>
                </a:solidFill>
                <a:latin typeface="Segoe Script"/>
              </a:rPr>
              <a:t>	</a:t>
            </a:r>
            <a:r>
              <a:rPr b="1" lang="ru-RU" sz="2600" spc="-1" strike="noStrike">
                <a:solidFill>
                  <a:srgbClr val="006600"/>
                </a:solidFill>
                <a:latin typeface="Segoe Script"/>
              </a:rPr>
              <a:t>Благодаря соде и вазелину у холодного фарфора такая гладкая текстура.</a:t>
            </a:r>
            <a:br>
              <a:rPr sz="2600"/>
            </a:br>
            <a:br>
              <a:rPr sz="20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9640" y="2060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6600"/>
                </a:solidFill>
                <a:latin typeface="Segoe Script"/>
              </a:rPr>
              <a:t>Холодный фарфор - это пластичная масса, идеальная для любых типов работ, масса похожа на пластилин, но намного лучше, так как высыхает и становится твёрд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Segoe Script"/>
              </a:rPr>
              <a:t>	</a:t>
            </a:r>
            <a:r>
              <a:rPr b="1" lang="ru-RU" sz="2400" spc="-1" strike="noStrike">
                <a:solidFill>
                  <a:srgbClr val="006600"/>
                </a:solidFill>
                <a:latin typeface="Segoe Script"/>
              </a:rPr>
              <a:t>	</a:t>
            </a:r>
            <a:r>
              <a:rPr b="1" lang="ru-RU" sz="2400" spc="-1" strike="noStrike">
                <a:solidFill>
                  <a:srgbClr val="006600"/>
                </a:solidFill>
                <a:latin typeface="Segoe Script"/>
              </a:rPr>
              <a:t>Из холодного фарфора можно лепить всё что угодно, это могут быть цветы, всевозможные статуэтки и т.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Segoe Script"/>
              </a:rPr>
              <a:t>Рецепт холодного фарф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9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2600" spc="-1" strike="noStrike">
                <a:solidFill>
                  <a:srgbClr val="006600"/>
                </a:solidFill>
                <a:latin typeface="Segoe Script"/>
              </a:rPr>
              <a:t>Холодный фарфор так же можно сделать в домашних условиях </a:t>
            </a:r>
            <a:r>
              <a:rPr b="1" lang="en-US" sz="2600" spc="-1" strike="noStrike">
                <a:solidFill>
                  <a:srgbClr val="006600"/>
                </a:solidFill>
                <a:latin typeface="Segoe Script"/>
                <a:ea typeface="굴림"/>
              </a:rPr>
              <a:t>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4572000" y="2349360"/>
            <a:ext cx="359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Segoe Script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Segoe Script"/>
              </a:rPr>
              <a:t>приготовление массы на огн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P1030931"/>
          <p:cNvPicPr/>
          <p:nvPr/>
        </p:nvPicPr>
        <p:blipFill>
          <a:blip r:embed="rId1"/>
          <a:stretch/>
        </p:blipFill>
        <p:spPr>
          <a:xfrm>
            <a:off x="5148360" y="3429000"/>
            <a:ext cx="29527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Segoe Script"/>
              </a:rPr>
              <a:t>Ингредиен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4032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Sego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Segoe Script"/>
              </a:rPr>
              <a:t>2 чайные кружечки крахма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Sego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Segoe Script"/>
              </a:rPr>
              <a:t>2 чайные кружечки клея П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Sego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Segoe Script"/>
              </a:rPr>
              <a:t>1ст ложка лимонной кисл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Sego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Segoe Script"/>
              </a:rPr>
              <a:t>2ст ложки глице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Sego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Segoe Script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Segoe Script"/>
              </a:rPr>
              <a:t>1ст ложка крема для рук (не жирног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Sego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Segoe Script"/>
              </a:rPr>
              <a:t>стеклянная миска для микроволновки (кастрюля с антипригарным покрытием для пли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Sego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Segoe Script"/>
              </a:rPr>
              <a:t>деревянная ложка</a:t>
            </a:r>
            <a:br>
              <a:rPr sz="2000"/>
            </a:b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1030920"/>
          <p:cNvPicPr/>
          <p:nvPr/>
        </p:nvPicPr>
        <p:blipFill>
          <a:blip r:embed="rId1"/>
          <a:stretch/>
        </p:blipFill>
        <p:spPr>
          <a:xfrm>
            <a:off x="4500720" y="1844640"/>
            <a:ext cx="424800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ованные ингредиенты в ходе рабо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ston"/>
              </a:rPr>
              <a:t>Расход на продукцию обошлась нам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st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ston"/>
              </a:rPr>
              <a:t>Клей 140 руб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st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ston"/>
              </a:rPr>
              <a:t>Крем для рук 56 рубл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st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ston"/>
              </a:rPr>
              <a:t>Глицерин 25 рубл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st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ston"/>
              </a:rPr>
              <a:t>Лимонная кислота 10 руб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st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ston"/>
              </a:rPr>
              <a:t>Сода пищевая 30 рубл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sto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ston"/>
              </a:rPr>
              <a:t>Крахмал 25 руб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sto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ston"/>
              </a:rPr>
              <a:t>ИТОГО: 286 руб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" dur="2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4" dur="2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2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5400" y="764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Segoe Script"/>
              </a:rPr>
              <a:t>Приготовление мас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6600"/>
                </a:solidFill>
                <a:latin typeface="Segoe Script"/>
              </a:rPr>
              <a:t>Смешать все ингредиенты, кроме крема для рук, в стеклянной миске. Всё хорошо вымесить в однородную мас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P1030899"/>
          <p:cNvPicPr/>
          <p:nvPr/>
        </p:nvPicPr>
        <p:blipFill>
          <a:blip r:embed="rId1"/>
          <a:stretch/>
        </p:blipFill>
        <p:spPr>
          <a:xfrm>
            <a:off x="468360" y="2565360"/>
            <a:ext cx="2519280" cy="1889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P1030903"/>
          <p:cNvPicPr/>
          <p:nvPr/>
        </p:nvPicPr>
        <p:blipFill>
          <a:blip r:embed="rId2"/>
          <a:stretch/>
        </p:blipFill>
        <p:spPr>
          <a:xfrm>
            <a:off x="2411280" y="414972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P1030905"/>
          <p:cNvPicPr/>
          <p:nvPr/>
        </p:nvPicPr>
        <p:blipFill>
          <a:blip r:embed="rId3"/>
          <a:stretch/>
        </p:blipFill>
        <p:spPr>
          <a:xfrm>
            <a:off x="4500720" y="256536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P1030906"/>
          <p:cNvPicPr/>
          <p:nvPr/>
        </p:nvPicPr>
        <p:blipFill>
          <a:blip r:embed="rId4"/>
          <a:stretch/>
        </p:blipFill>
        <p:spPr>
          <a:xfrm>
            <a:off x="6443640" y="4076640"/>
            <a:ext cx="2511360" cy="18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Segoe Script"/>
              </a:rPr>
              <a:t>Первый способ - приготовление массы на огн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006600"/>
                </a:solidFill>
                <a:latin typeface="Segoe Script"/>
              </a:rPr>
              <a:t>Смешать все ингредиенты, кроме крема для рук, в кастрюле с антипригарным покрытием. Всё хорошо перемешать в однородную массу. Поставить кастрюлю на средний огонь. Постоянно помешивать, пока масса не начнет отлипать от стенок и не скатается в шар. Осторожно, чтобы тонкие плёнки со стенок кастрюли не попали в массу</a:t>
            </a:r>
            <a:r>
              <a:rPr b="1" lang="ru-RU" sz="1900" spc="-1" strike="noStrike">
                <a:solidFill>
                  <a:srgbClr val="006600"/>
                </a:solidFill>
                <a:latin typeface="Times New Roman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P1030932"/>
          <p:cNvPicPr/>
          <p:nvPr/>
        </p:nvPicPr>
        <p:blipFill>
          <a:blip r:embed="rId1"/>
          <a:stretch/>
        </p:blipFill>
        <p:spPr>
          <a:xfrm>
            <a:off x="2268360" y="4221000"/>
            <a:ext cx="2295720" cy="1722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P1030940"/>
          <p:cNvPicPr/>
          <p:nvPr/>
        </p:nvPicPr>
        <p:blipFill>
          <a:blip r:embed="rId2"/>
          <a:stretch/>
        </p:blipFill>
        <p:spPr>
          <a:xfrm>
            <a:off x="5003640" y="4248000"/>
            <a:ext cx="222408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100" spc="-1" strike="noStrike">
                <a:solidFill>
                  <a:srgbClr val="006600"/>
                </a:solidFill>
                <a:latin typeface="Segoe Script"/>
              </a:rPr>
              <a:t>Теперь когда холодный фарфор готов, его надо хорошо вымесить руками. Делается это следующим образом: 1ст ложка (без верха) нежирного крема размазывается по мраморной поверхности стола или по другой гладкой рабочей поверхности. Еще горячая масса выкладывается на крем, и теперь руками начинаем месить, как тесто, в течение нескольких минут, чем дольше вы будете месить массу, тем лучше будет с ней работат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P1030937"/>
          <p:cNvPicPr/>
          <p:nvPr/>
        </p:nvPicPr>
        <p:blipFill>
          <a:blip r:embed="rId1"/>
          <a:stretch/>
        </p:blipFill>
        <p:spPr>
          <a:xfrm>
            <a:off x="1042920" y="4508640"/>
            <a:ext cx="2151000" cy="1612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P1030940"/>
          <p:cNvPicPr/>
          <p:nvPr/>
        </p:nvPicPr>
        <p:blipFill>
          <a:blip r:embed="rId2"/>
          <a:stretch/>
        </p:blipFill>
        <p:spPr>
          <a:xfrm>
            <a:off x="3851280" y="436572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P1030941"/>
          <p:cNvPicPr/>
          <p:nvPr/>
        </p:nvPicPr>
        <p:blipFill>
          <a:blip r:embed="rId3"/>
          <a:stretch/>
        </p:blipFill>
        <p:spPr>
          <a:xfrm>
            <a:off x="6681960" y="4653000"/>
            <a:ext cx="223200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3T17:28:24Z</dcterms:created>
  <dc:creator>Ахмадуллина</dc:creator>
  <dc:description/>
  <dc:language>en-US</dc:language>
  <cp:lastModifiedBy>XTreme.ws</cp:lastModifiedBy>
  <dcterms:modified xsi:type="dcterms:W3CDTF">2020-11-17T06:46:59Z</dcterms:modified>
  <cp:revision>51</cp:revision>
  <dc:subject/>
  <dc:title>Слайд 1</dc:title>
</cp:coreProperties>
</file>