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10.jpeg" ContentType="image/jpeg"/>
  <Override PartName="/ppt/media/image11.gif" ContentType="image/gif"/>
  <Override PartName="/ppt/media/image42.jpeg" ContentType="image/jpeg"/>
  <Override PartName="/ppt/media/image46.jpeg" ContentType="image/jpeg"/>
  <Override PartName="/ppt/media/image31.jpeg" ContentType="image/jpeg"/>
  <Override PartName="/ppt/media/image32.jpeg" ContentType="image/jpeg"/>
  <Override PartName="/ppt/media/image44.jpeg" ContentType="image/jpeg"/>
  <Override PartName="/ppt/media/image33.png" ContentType="image/png"/>
  <Override PartName="/ppt/media/image37.wmf" ContentType="image/x-wmf"/>
  <Override PartName="/ppt/media/image30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8.jpeg" ContentType="image/jpeg"/>
  <Override PartName="/ppt/media/image39.jpeg" ContentType="image/jpeg"/>
  <Override PartName="/ppt/media/image45.gif" ContentType="image/gif"/>
  <Override PartName="/ppt/media/image38.png" ContentType="image/png"/>
  <Override PartName="/ppt/media/image48.png" ContentType="image/png"/>
  <Override PartName="/ppt/media/image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FB87-074F-47C7-B0AD-F1553EF60A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C56C-AF78-4C8D-8C39-5439CFA9D8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2936-727C-46E9-B7E5-EAA6E445B6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256-2D7E-4E33-8045-7B74BB2E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ACD-D6AD-4438-9A50-7087C63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AA1-9B23-412F-9476-268F84DF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82D-59D2-40D2-82FB-7882071A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F4C-3ABD-450A-A4FC-0D903D1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604-2281-4260-BA96-98F70F71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4F2-8FFE-451F-B3F1-68B3AB62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A06-3D5E-4EFB-87DE-8B596814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D52-3E8A-499C-A394-5F96AC6A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61F-4D1E-4A28-BE17-1139CB88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1DD-B32B-48E7-A9F6-2F0CC544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78F-7E78-43D2-ACCA-C35A2C6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05F7-543D-4A55-BEB3-47E6396B4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ru/imgres?imgurl=http://www.viart-l.ru/data/home/article/history/image001.jpg&amp;imgrefurl=http://www.viart-l.ru/ru/articles/sendvalues/14/&amp;h=344&amp;w=180&amp;sz=38&amp;hl=ru&amp;start=26&amp;tbnid=yhVtFqkm9nX5UM:&amp;tbnh=120&amp;tbnw=63&amp;prev=/images%3Fq%3D%25D0%25BF%25D1%2580%25D0%25B5%25D0%25B7%25D0%25B5%25D0%25BD%25D1%2582%25D0%25B0%25D1%2586%25D0%25B8%25D1%258F%2B%25D0%25B8%25D1%2581%25D1%2582%25D0%25BE%25D1%2587%25D0%25BD%25D0%25B8%25D0%25BA%25D0%25B8%2B%25D1%2581%25D0%25B2%25D0%25B5%25D1%2582%25D0%25B0%2B%25D1%2583%25D1%2580%25D0%25BE%25D0%25BA%2B%2B.%2B%26start%3D20%26ndsp%3D20%26hl%3Dru%26newwindow%3D1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gif"/><Relationship Id="rId8" Type="http://schemas.openxmlformats.org/officeDocument/2006/relationships/hyperlink" Target="http://images.google.ru/imgres?imgurl=http://www.viart-l.ru/data/home/article/history/image002.jpg&amp;imgrefurl=http://www.viart-l.ru/ru/articles/sendvalues/14/&amp;h=225&amp;w=130&amp;sz=5&amp;hl=ru&amp;start=101&amp;tbnid=sch3LJ6J2gWDaM:&amp;tbnh=108&amp;tbnw=62&amp;prev=/images%3Fq%3D%25D0%25BF%25D1%2580%25D0%25B5%25D0%25B7%25D0%25B5%25D0%25BD%25D1%2582%25D0%25B0%25D1%2586%25D0%25B8%25D1%258F%2B%25D0%25B8%25D1%2581%25D1%2582%25D0%25BE%25D1%2587%25D0%25BD%25D0%25B8%25D0%25BA%25D0%25B8%2B%25D1%2581%25D0%25B2%25D0%25B5%25D1%2582%25D0%25B0%2B%25D1%2583%25D1%2580%25D0%25BE%25D0%25BA%2B%2B.%2B%26start%3D100%26ndsp%3D20%26hl%3Dru%26newwindow%3D1%26sa%3DN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images.google.ru/imgres?imgurl=http://www.faet.ru/attach.asp%3Fa_no%3D2763&amp;imgrefurl=http://olmer.ru/news/07_04.shtml&amp;h=417&amp;w=420&amp;sz=16&amp;hl=ru&amp;start=277&amp;tbnid=iakH4GdE4aEJrM:&amp;tbnh=124&amp;tbnw=125&amp;prev=/images%3Fq%3D%25D0%25BF%25D1%2580%25D0%25B5%25D0%25B7%25D0%25B5%25D0%25BD%25D1%2582%25D0%25B0%25D1%2586%25D0%25B8%25D1%258F%2B%25D0%25B8%25D1%2581%25D1%2582%25D0%25BE%25D1%2587%25D0%25BD%25D0%25B8%25D0%25BA%25D0%25B8%2B%25D1%2581%25D0%25B2%25D0%25B5%25D1%2582%25D0%25B0%2B%25D1%2583%25D1%2580%25D0%25BE%25D0%25BA%2B%2B.%2B%26start%3D260%26ndsp%3D20%26hl%3Dru%26newwindow%3D1%26sa%3DN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images.google.ru/imgres?imgurl=http://www.nnm.ru/img/gallery/doci/dmi/dmi3ievedinie-1143453401_i_2190_full.jpg&amp;imgrefurl=http://doci.nnm.ru/dmi3ievedinie/27.03.2006/heroes_of_might_and_magic_v_vpechatleniya_betatestera&amp;h=338&amp;w=450&amp;sz=53&amp;hl=ru&amp;start=290&amp;tbnid=nAKYOum9T8-jSM:&amp;tbnh=95&amp;tbnw=127&amp;prev=/images%3Fq%3D%25D0%25BF%25D1%2580%25D0%25B5%25D0%25B7%25D0%25B5%25D0%25BD%25D1%2582%25D0%25B0%25D1%2586%25D0%25B8%25D1%258F%2B%25D0%25B8%25D1%2581%25D1%2582%25D0%25BE%25D1%2587%25D0%25BD%25D0%25B8%25D0%25BA%25D0%25B8%2B%25D1%2581%25D0%25B2%25D0%25B5%25D1%2582%25D0%25B0%2B%25D1%2583%25D1%2580%25D0%25BE%25D0%25BA%2B%2B.%2B%26start%3D280%26ndsp%3D20%26hl%3Dru%26newwindow%3D1%26sa%3DN" TargetMode="External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gif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сточники света. Распространение свет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1476360" y="1214280"/>
            <a:ext cx="73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 – это излучение, но лишь та его часть, которая воспринимается глазом, поэтому свет называют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</a:rPr>
              <a:t>видимым  излу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c051e7253a.jpg"/>
          <p:cNvPicPr/>
          <p:nvPr/>
        </p:nvPicPr>
        <p:blipFill>
          <a:blip r:embed="rId2"/>
          <a:stretch/>
        </p:blipFill>
        <p:spPr>
          <a:xfrm>
            <a:off x="1979640" y="3500280"/>
            <a:ext cx="4429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http://www.x-top.org/prikol/images/2007/10/22/471c90c91e5fa.jpg"/>
          <p:cNvPicPr/>
          <p:nvPr/>
        </p:nvPicPr>
        <p:blipFill>
          <a:blip r:embed="rId2"/>
          <a:stretch/>
        </p:blipFill>
        <p:spPr>
          <a:xfrm>
            <a:off x="1908000" y="2997360"/>
            <a:ext cx="1446480" cy="19285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ATT385027.jpg"/>
          <p:cNvPicPr/>
          <p:nvPr/>
        </p:nvPicPr>
        <p:blipFill>
          <a:blip r:embed="rId3"/>
          <a:stretch/>
        </p:blipFill>
        <p:spPr>
          <a:xfrm>
            <a:off x="1187280" y="5229360"/>
            <a:ext cx="1825920" cy="1258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http://tbn0.google.com/images?q=tbn:yhVtFqkm9nX5UM:http://www.viart-l.ru/data/home/article/history/image00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8360" y="4724280"/>
            <a:ext cx="914400" cy="17416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2728080" y="142884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точники с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80320" y="214308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Искус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160640" y="2214720"/>
            <a:ext cx="25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Естественные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692360" y="189000"/>
            <a:ext cx="57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ла, от которых исходит свет, 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источниками с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5" descr="1.jpg"/>
          <p:cNvPicPr/>
          <p:nvPr/>
        </p:nvPicPr>
        <p:blipFill>
          <a:blip r:embed="rId6"/>
          <a:stretch/>
        </p:blipFill>
        <p:spPr>
          <a:xfrm>
            <a:off x="4572000" y="2781360"/>
            <a:ext cx="1290600" cy="1720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22140097_18926929_11954824_9479096_0000000000000000000000000.gif"/>
          <p:cNvPicPr/>
          <p:nvPr/>
        </p:nvPicPr>
        <p:blipFill>
          <a:blip r:embed="rId7"/>
          <a:stretch/>
        </p:blipFill>
        <p:spPr>
          <a:xfrm>
            <a:off x="6245280" y="2714760"/>
            <a:ext cx="1469880" cy="1714320"/>
          </a:xfrm>
          <a:prstGeom prst="rect">
            <a:avLst/>
          </a:prstGeom>
          <a:ln w="0">
            <a:noFill/>
          </a:ln>
        </p:spPr>
      </p:pic>
      <p:cxnSp>
        <p:nvCxnSpPr>
          <p:cNvPr id="88" name="Прямая со стрелкой 10"/>
          <p:cNvCxnSpPr/>
          <p:nvPr/>
        </p:nvCxnSpPr>
        <p:spPr>
          <a:xfrm flipH="1">
            <a:off x="2642400" y="2000160"/>
            <a:ext cx="7153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12"/>
          <p:cNvCxnSpPr/>
          <p:nvPr/>
        </p:nvCxnSpPr>
        <p:spPr>
          <a:xfrm>
            <a:off x="5357520" y="2000160"/>
            <a:ext cx="857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0" name="Picture 14" descr="http://tbn0.google.com/images?q=tbn:sch3LJ6J2gWDaM:http://www.viart-l.ru/data/home/article/history/image002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763040" y="2714760"/>
            <a:ext cx="98424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http://tbn0.google.com/images?q=tbn:iakH4GdE4aEJrM:http://www.faet.ru/attach.asp%3Fa_no%3D2763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132000" y="5084640"/>
            <a:ext cx="1970280" cy="125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http://tbn0.google.com/images?q=tbn:nAKYOum9T8-jSM:http://www.nnm.ru/img/gallery/doci/dmi/dmi3ievedinie-1143453401_i_2190_full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15040" y="4572000"/>
            <a:ext cx="1500120" cy="126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http://tbn0.google.com/images?q=tbn:je_KZogWuDl2pM:http://img.nr2.ru/pict/arts1/10/49/104948.jpg"/>
          <p:cNvPicPr/>
          <p:nvPr/>
        </p:nvPicPr>
        <p:blipFill>
          <a:blip r:embed="rId14"/>
          <a:stretch/>
        </p:blipFill>
        <p:spPr>
          <a:xfrm>
            <a:off x="7753320" y="4714920"/>
            <a:ext cx="1298520" cy="100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Красотища то какая - море, пляж, солнце"/>
          <p:cNvPicPr/>
          <p:nvPr/>
        </p:nvPicPr>
        <p:blipFill>
          <a:blip r:embed="rId15"/>
          <a:stretch/>
        </p:blipFill>
        <p:spPr>
          <a:xfrm>
            <a:off x="468360" y="3068640"/>
            <a:ext cx="11826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fizik_fon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1500120" y="35712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кусственные  источники 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340000" y="1000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пловые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835280" y="371484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юминесцир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1547640" y="1428840"/>
            <a:ext cx="70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вые источники излучают видимый свет при нагреве выше 8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5219640" y="17859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лампа, свеча, Солнц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1476360" y="4076640"/>
            <a:ext cx="73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минесцентные источники дают холодное свечение (экран телевизора, лампы дневного света, рекламные труб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8" descr="afi021z.gif"/>
          <p:cNvPicPr/>
          <p:nvPr/>
        </p:nvPicPr>
        <p:blipFill>
          <a:blip r:embed="rId2"/>
          <a:stretch/>
        </p:blipFill>
        <p:spPr>
          <a:xfrm>
            <a:off x="1928880" y="2286000"/>
            <a:ext cx="1214280" cy="15541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9" descr="1asp077.gif"/>
          <p:cNvPicPr/>
          <p:nvPr/>
        </p:nvPicPr>
        <p:blipFill>
          <a:blip r:embed="rId3"/>
          <a:stretch/>
        </p:blipFill>
        <p:spPr>
          <a:xfrm>
            <a:off x="4071960" y="2286000"/>
            <a:ext cx="799920" cy="15764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afi016.gif"/>
          <p:cNvPicPr/>
          <p:nvPr/>
        </p:nvPicPr>
        <p:blipFill>
          <a:blip r:embed="rId4"/>
          <a:stretch/>
        </p:blipFill>
        <p:spPr>
          <a:xfrm>
            <a:off x="5643720" y="2286000"/>
            <a:ext cx="121428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D:\WINDOWS\Users\Aida\Рабочий стол\ВАЖНЫЙ БАНК АРХИВНЫЙ\Pingotron.Internet.RadioFan.v1.1.0.WinALL.Incl.KeyGen-EOF\03-09umpc_01_lg.jpg"/>
          <p:cNvPicPr/>
          <p:nvPr/>
        </p:nvPicPr>
        <p:blipFill>
          <a:blip r:embed="rId5"/>
          <a:stretch/>
        </p:blipFill>
        <p:spPr>
          <a:xfrm>
            <a:off x="2124000" y="534024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images.jpg"/>
          <p:cNvPicPr/>
          <p:nvPr/>
        </p:nvPicPr>
        <p:blipFill>
          <a:blip r:embed="rId6"/>
          <a:stretch/>
        </p:blipFill>
        <p:spPr>
          <a:xfrm>
            <a:off x="4500720" y="4927680"/>
            <a:ext cx="20872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img-fotki.yandex.ru/get/2/anna100gova.1/0_12bd_76441cc1_XL"/>
          <p:cNvPicPr/>
          <p:nvPr/>
        </p:nvPicPr>
        <p:blipFill>
          <a:blip r:embed="rId2"/>
          <a:stretch/>
        </p:blipFill>
        <p:spPr>
          <a:xfrm>
            <a:off x="1357200" y="1285920"/>
            <a:ext cx="6929640" cy="4643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1571760" y="14292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Светящаяся  ры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assets0.lookatme.ru/5927695612/assets/article_image-image/09/3c/217921/article_image-image-article.jpg"/>
          <p:cNvPicPr/>
          <p:nvPr/>
        </p:nvPicPr>
        <p:blipFill>
          <a:blip r:embed="rId2"/>
          <a:stretch/>
        </p:blipFill>
        <p:spPr>
          <a:xfrm>
            <a:off x="928800" y="1357200"/>
            <a:ext cx="7000920" cy="4500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1357200" y="357120"/>
            <a:ext cx="578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Лесные  светляч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1116000" y="1773360"/>
            <a:ext cx="576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ервые закон прямолинейного распространения света был сформулирован в III в. до н.э. древнегреческим ученым Евклидом. Он является автором первых дошедших до нас сочинений по оптике – разделу физики, изучающему световые 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http://tbn0.google.com/images?q=tbn:WrYA_7azLYjAcM:http://farm2.static.flickr.com/1120/1433101381_6a23a3ea9e.jpg"/>
          <p:cNvPicPr/>
          <p:nvPr/>
        </p:nvPicPr>
        <p:blipFill>
          <a:blip r:embed="rId2"/>
          <a:stretch/>
        </p:blipFill>
        <p:spPr>
          <a:xfrm>
            <a:off x="6786720" y="1989000"/>
            <a:ext cx="2357280" cy="1571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6" name="Picture 11" descr="http://tbn0.google.com/images?q=tbn:ByHY2WyD65tZ4M:http://photofile.name/photo/banditkr/2395845/large/43205710.jpg"/>
          <p:cNvPicPr/>
          <p:nvPr/>
        </p:nvPicPr>
        <p:blipFill>
          <a:blip r:embed="rId3"/>
          <a:stretch/>
        </p:blipFill>
        <p:spPr>
          <a:xfrm>
            <a:off x="2411280" y="4941720"/>
            <a:ext cx="2478240" cy="1571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7" name="Рисунок 10" descr="e2ddc8b8c912.jpg"/>
          <p:cNvPicPr/>
          <p:nvPr/>
        </p:nvPicPr>
        <p:blipFill>
          <a:blip r:embed="rId4"/>
          <a:stretch/>
        </p:blipFill>
        <p:spPr>
          <a:xfrm>
            <a:off x="0" y="0"/>
            <a:ext cx="2108160" cy="1484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1"/>
          <p:cNvSpPr/>
          <p:nvPr/>
        </p:nvSpPr>
        <p:spPr>
          <a:xfrm>
            <a:off x="5292720" y="50720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лне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2357280" y="2142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яки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http://tbn0.google.com/images?q=tbn:vcY46EMoQPiH_M:http://img.artoff.ru/_i/100/orig/1947.jpg"/>
          <p:cNvPicPr/>
          <p:nvPr/>
        </p:nvPicPr>
        <p:blipFill>
          <a:blip r:embed="rId5"/>
          <a:stretch/>
        </p:blipFill>
        <p:spPr>
          <a:xfrm>
            <a:off x="6767640" y="0"/>
            <a:ext cx="23763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Заголовок 1" descr=""/>
          <p:cNvPicPr/>
          <p:nvPr/>
        </p:nvPicPr>
        <p:blipFill>
          <a:blip r:embed="rId2"/>
          <a:stretch/>
        </p:blipFill>
        <p:spPr>
          <a:xfrm>
            <a:off x="1822320" y="60480"/>
            <a:ext cx="5499360" cy="1231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" descr="I:\JB+SYSTEMS+STORMBIRD+GOBO-FLOWER.JPG"/>
          <p:cNvPicPr/>
          <p:nvPr/>
        </p:nvPicPr>
        <p:blipFill>
          <a:blip r:embed="rId3"/>
          <a:stretch/>
        </p:blipFill>
        <p:spPr>
          <a:xfrm>
            <a:off x="1530360" y="2840040"/>
            <a:ext cx="3297240" cy="3487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47640" y="1166760"/>
            <a:ext cx="6337440" cy="90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ветовой луч – это линия, вдоль которой распространяется энергия от источника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I:\EuroDJ_Galactica.jpg"/>
          <p:cNvPicPr/>
          <p:nvPr/>
        </p:nvPicPr>
        <p:blipFill>
          <a:blip r:embed="rId4"/>
          <a:stretch/>
        </p:blipFill>
        <p:spPr>
          <a:xfrm>
            <a:off x="5219640" y="2852640"/>
            <a:ext cx="234792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2124000" y="785880"/>
            <a:ext cx="54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распространяется по всем направлениям, но если между глазом и источником поместить непрозрачный предмет, то источник света мы не увид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ясните поч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www.fizika.ru/theory/tema-12/12d-i1.jpg"/>
          <p:cNvPicPr/>
          <p:nvPr/>
        </p:nvPicPr>
        <p:blipFill>
          <a:blip r:embed="rId2"/>
          <a:stretch/>
        </p:blipFill>
        <p:spPr>
          <a:xfrm>
            <a:off x="5076720" y="2565360"/>
            <a:ext cx="2376720" cy="14479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3"/>
          <p:cNvSpPr/>
          <p:nvPr/>
        </p:nvSpPr>
        <p:spPr>
          <a:xfrm>
            <a:off x="900000" y="4365720"/>
            <a:ext cx="799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ясняется это тем, что свет в прозрачной однородной среде распространяется прямолиней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кон прямолинейного распространения с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fizik_fon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692360" y="1341360"/>
            <a:ext cx="65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очечный источник света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это светящееся тело, размеры которого намного меньше расстояния, на котором мы оцениваем его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http://astrodrome.kuzspa.ru/mmedia.files/teclal.jpg"/>
          <p:cNvPicPr/>
          <p:nvPr/>
        </p:nvPicPr>
        <p:blipFill>
          <a:blip r:embed="rId2"/>
          <a:stretch/>
        </p:blipFill>
        <p:spPr>
          <a:xfrm>
            <a:off x="2050920" y="3789360"/>
            <a:ext cx="460872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ido.tsu.ru/ss2/ssdata/12-101.jpg"/>
          <p:cNvPicPr/>
          <p:nvPr/>
        </p:nvPicPr>
        <p:blipFill>
          <a:blip r:embed="rId2"/>
          <a:stretch/>
        </p:blipFill>
        <p:spPr>
          <a:xfrm>
            <a:off x="4427640" y="3213000"/>
            <a:ext cx="3370320" cy="202428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135" name="Rectangle 3"/>
          <p:cNvSpPr/>
          <p:nvPr/>
        </p:nvSpPr>
        <p:spPr>
          <a:xfrm>
            <a:off x="900000" y="184140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Тень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– область пространства, в котору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попадает свет от исто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979640" y="57168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Ход лучей от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точечного ист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http://www.fizika.ru/theory/tema-12/12d-i1.jpg"/>
          <p:cNvPicPr/>
          <p:nvPr/>
        </p:nvPicPr>
        <p:blipFill>
          <a:blip r:embed="rId3"/>
          <a:stretch/>
        </p:blipFill>
        <p:spPr>
          <a:xfrm>
            <a:off x="1042920" y="3284640"/>
            <a:ext cx="3000600" cy="194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сточники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Свет – чудный дар природы вечн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р бесценный и свят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нем источник  бесконе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аждения красотой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М. И. Чайковск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332000" y="1444680"/>
            <a:ext cx="6912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Полутен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– область, в которую попадает свет от части источ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ttp://ido.tsu.ru/ss2/ssdata/12-111.jpg"/>
          <p:cNvPicPr/>
          <p:nvPr/>
        </p:nvPicPr>
        <p:blipFill>
          <a:blip r:embed="rId2"/>
          <a:stretch/>
        </p:blipFill>
        <p:spPr>
          <a:xfrm>
            <a:off x="4572000" y="3500280"/>
            <a:ext cx="3232080" cy="1943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41" name="Прямоугольник 3"/>
          <p:cNvSpPr/>
          <p:nvPr/>
        </p:nvSpPr>
        <p:spPr>
          <a:xfrm>
            <a:off x="1908000" y="5716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Ход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лучей от протяжённого исто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www.fizika.ru/theory/tema-12/12d-i3.gif"/>
          <p:cNvPicPr/>
          <p:nvPr/>
        </p:nvPicPr>
        <p:blipFill>
          <a:blip r:embed="rId3"/>
          <a:stretch/>
        </p:blipFill>
        <p:spPr>
          <a:xfrm>
            <a:off x="1116000" y="3573360"/>
            <a:ext cx="3016440" cy="194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1571760" y="4287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разование тени и полут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www.ikt.oblcit.ru/7/gilidenbrandt/sait/0400101.jpg"/>
          <p:cNvPicPr/>
          <p:nvPr/>
        </p:nvPicPr>
        <p:blipFill>
          <a:blip r:embed="rId2"/>
          <a:stretch/>
        </p:blipFill>
        <p:spPr>
          <a:xfrm>
            <a:off x="1187280" y="1341360"/>
            <a:ext cx="691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2"/>
          <p:cNvGraphicFramePr/>
          <p:nvPr/>
        </p:nvGraphicFramePr>
        <p:xfrm>
          <a:off x="1827360" y="2913120"/>
          <a:ext cx="5487840" cy="103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2913120"/>
                    <a:ext cx="5487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3"/>
          <p:cNvSpPr/>
          <p:nvPr/>
        </p:nvSpPr>
        <p:spPr>
          <a:xfrm>
            <a:off x="1835280" y="1988640"/>
            <a:ext cx="6192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Затмение солнечно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тень от Луны падает на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нное затм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Луна попадает в тень, отбрасываемую Земл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ttp://ido.tsu.ru/ss2/ssdata/12-121.jpg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2268360" y="4508640"/>
            <a:ext cx="3529080" cy="1793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1" name="Прямоугольник 4"/>
          <p:cNvSpPr/>
          <p:nvPr/>
        </p:nvSpPr>
        <p:spPr>
          <a:xfrm>
            <a:off x="2143080" y="428760"/>
            <a:ext cx="5715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олнеч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лун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атмен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D:\WINDOWS\Users\Aida\Рабочий стол\im3_4.jpg"/>
          <p:cNvPicPr/>
          <p:nvPr/>
        </p:nvPicPr>
        <p:blipFill>
          <a:blip r:embed="rId5"/>
          <a:stretch/>
        </p:blipFill>
        <p:spPr>
          <a:xfrm>
            <a:off x="0" y="0"/>
            <a:ext cx="1887480" cy="191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8608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м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643200" y="549360"/>
            <a:ext cx="51436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76360" y="3500280"/>
            <a:ext cx="66247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2046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3564000" y="2708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ема солнечного затм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31640" y="260280"/>
            <a:ext cx="42483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лнечное затм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780000" y="1413000"/>
            <a:ext cx="4751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солнечного затмени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астное-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. кольцевое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рывает полностью Солнце, когда диаметр Луны меньше солнечног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. полно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центральное)- закрывает полностью Солнце, когда диаметр Луны больше солнечного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Cjl-sat"/>
          <p:cNvPicPr/>
          <p:nvPr/>
        </p:nvPicPr>
        <p:blipFill>
          <a:blip r:embed="rId2"/>
          <a:stretch/>
        </p:blipFill>
        <p:spPr>
          <a:xfrm>
            <a:off x="0" y="0"/>
            <a:ext cx="3046320" cy="4027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900000" y="4365720"/>
            <a:ext cx="295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tmn.fio.ru/works/99x/306/im10/augeclipse_cagas_big_copy.jpg"/>
          <p:cNvPicPr/>
          <p:nvPr/>
        </p:nvPicPr>
        <p:blipFill>
          <a:blip r:embed="rId2"/>
          <a:stretch/>
        </p:blipFill>
        <p:spPr>
          <a:xfrm>
            <a:off x="1357200" y="1643040"/>
            <a:ext cx="6786720" cy="39942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5"/>
          <p:cNvSpPr/>
          <p:nvPr/>
        </p:nvSpPr>
        <p:spPr>
          <a:xfrm>
            <a:off x="2000160" y="214200"/>
            <a:ext cx="49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лнечные затм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411280" y="18900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258920" y="1785960"/>
            <a:ext cx="25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затмение 29 марта 2006г. Фото космонавтов Валерия Токарева и Уильяма Макартура с М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1267"/>
          <p:cNvPicPr/>
          <p:nvPr/>
        </p:nvPicPr>
        <p:blipFill>
          <a:blip r:embed="rId2"/>
          <a:stretch/>
        </p:blipFill>
        <p:spPr>
          <a:xfrm>
            <a:off x="4643280" y="1700280"/>
            <a:ext cx="3776760" cy="17143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971640" y="278604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542ecl"/>
          <p:cNvPicPr/>
          <p:nvPr/>
        </p:nvPicPr>
        <p:blipFill>
          <a:blip r:embed="rId3"/>
          <a:stretch/>
        </p:blipFill>
        <p:spPr>
          <a:xfrm>
            <a:off x="0" y="0"/>
            <a:ext cx="212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se2006mar29t-1"/>
          <p:cNvPicPr/>
          <p:nvPr/>
        </p:nvPicPr>
        <p:blipFill>
          <a:blip r:embed="rId4"/>
          <a:stretch/>
        </p:blipFill>
        <p:spPr>
          <a:xfrm>
            <a:off x="3780000" y="3990960"/>
            <a:ext cx="2016000" cy="1886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coronas"/>
          <p:cNvPicPr/>
          <p:nvPr/>
        </p:nvPicPr>
        <p:blipFill>
          <a:blip r:embed="rId5"/>
          <a:stretch/>
        </p:blipFill>
        <p:spPr>
          <a:xfrm>
            <a:off x="1071720" y="4000680"/>
            <a:ext cx="2214360" cy="20001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7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9" descr="ringbril"/>
          <p:cNvPicPr/>
          <p:nvPr/>
        </p:nvPicPr>
        <p:blipFill>
          <a:blip r:embed="rId6"/>
          <a:stretch/>
        </p:blipFill>
        <p:spPr>
          <a:xfrm>
            <a:off x="6429240" y="3929040"/>
            <a:ext cx="2213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468360" y="765000"/>
            <a:ext cx="8424720" cy="61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Свет  излучение….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….делает видимым  различные тела; Б. Воспринимается глазом; В. Излучает нагретое т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 света быва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... только естественные.  Б. ... только искусственные.  В. ...  естественные и искусств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Какой источник света называется точечны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Светящееся тело маленького разм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. источник, размеры которого гораздо меньше расстояния до него. В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слабо светящееся т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к  распространяется свет в однородной сред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ямолинейно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Б. криволинейно.    В. По любой линии соединяющей источник и пред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 Как подразделяются источники  с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естественные и искусственные Б. механические В. тепл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 Источником видимого света являет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Нагретый электрический чайник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Телевизионная антена.         В)  Дуга при сварке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Среди перечисленных источников не излучает свет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Костер;   Б)  Радиатор;  В)  Солнц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    Что с собой представляет тень?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Область пространства, куда вследствие прямолинейного распространения не попадает свет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.Темное место за предметом   В) Неосвещенное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Что такое полутень? Каким должен быть источ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Место, куда попадает половина света. Протяженным Б)  Место , где есть свет, но его мало.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Область пространства где есть  и тень и свет. Точеч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 Какую линию называют световым луч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Линию, исходящую от источника света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  Линию, воль которой распространяется энергия от источника света.       В)  Линию по которой свет от источника попадает в гл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771640" y="189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проверка зн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87280" y="160020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значает слово оптик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св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вы знаете источники света? Приведите прим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распространяется свет в однородной сред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можно привести доказательст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затмения называются солнечными, какие лунны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ы для любителей литерату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Длинные тени домов, деревьев, заборов ложились красиво по светлой пыльной дороге…» (Л.Н. Толстой. Набег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должен находиться источник света, чтоб в тень была длинне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2"/>
          <p:cNvSpPr txBox="1"/>
          <p:nvPr/>
        </p:nvSpPr>
        <p:spPr>
          <a:xfrm>
            <a:off x="3708360" y="2060640"/>
            <a:ext cx="244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latin typeface="Arial"/>
              </a:rPr>
              <a:t>раздраж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88" name="WordArt 3"/>
          <p:cNvSpPr txBox="1"/>
          <p:nvPr/>
        </p:nvSpPr>
        <p:spPr>
          <a:xfrm>
            <a:off x="468360" y="1484280"/>
            <a:ext cx="2724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тревож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6084720" y="4305240"/>
            <a:ext cx="248940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зличе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WordArt 5"/>
          <p:cNvSpPr txBox="1"/>
          <p:nvPr/>
        </p:nvSpPr>
        <p:spPr>
          <a:xfrm>
            <a:off x="6804000" y="1413000"/>
            <a:ext cx="174960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коен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6"/>
          <p:cNvSpPr txBox="1"/>
          <p:nvPr/>
        </p:nvSpPr>
        <p:spPr>
          <a:xfrm>
            <a:off x="2733840" y="5450040"/>
            <a:ext cx="40003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достно восхищ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WordArt 7"/>
          <p:cNvSpPr txBox="1"/>
          <p:nvPr/>
        </p:nvSpPr>
        <p:spPr>
          <a:xfrm>
            <a:off x="826920" y="4508640"/>
            <a:ext cx="20574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дивл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3" name="WordArt 8"/>
          <p:cNvSpPr txBox="1"/>
          <p:nvPr/>
        </p:nvSpPr>
        <p:spPr>
          <a:xfrm>
            <a:off x="1063800" y="3006720"/>
            <a:ext cx="746424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Ваше настро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ветовы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дный дар природы вечн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р бесценный и свято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 нем источник бесконечны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лажденье красото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бо, Солнце, звезд сиянье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е в блеске голубом —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 картину мироздан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 лишь в свете позна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 же изучает оптика? (Световые явл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олкование сл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лкование слова све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Земля, Вселенная, а также люди, ее населяющие.Путешествие вокруг света. Хорошо жить на свете. Произвести н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(родить, дать жизнь). Увидеть 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возникнуть, осуществиться). На краю света (очень далеко; разг.). Сжить со света или со свету, (погубить; разг.). Нет 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ете (умер). Всему свету известн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устить в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опубликовать, издать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В дворянском обществ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бранный круг, высше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ество. Высший или большо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Выезжать 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Вращаться 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сшем свете.  Ни за что на свете (разг.) - ни в коем случае. Белый свет(разг.) - то же, что с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 (в 1 знач.). На чем свет стоит (браниться, ругаться) (прост.) - очень сильно, не стесняясь в выражениях. Белый свет немил кому (прост.) - ничто не радует, не веселит. Не ближний (не близкий)свет (разг.) - далеко, не близко. Ехать туда - не ближний свет. Тот свет – у верующих: загробная жизн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емокрит из Абдеры (5 в. до н.э.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чил, что свет - это поток частиц, обладающих определенными физическими свойствами, к которым не относится цвет (ощущение цвета возникает уже как следствие вхождения в глаз света). Он писал: "Сладость существует как условность, горечь - как условность, цвет - как условность; в реальности существуют лишь атомы и пустота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642960" y="4299120"/>
            <a:ext cx="8032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н (428 или 427 до н. э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греческий философ, ученик Сократа, учитель Аристотел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казавший сильнейшее воздействие на историю человеческого дух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://img1.liveinternet.ru/images/attach/b/3/4/124/4124358_platon2.jpg"/>
          <p:cNvPicPr/>
          <p:nvPr/>
        </p:nvPicPr>
        <p:blipFill>
          <a:blip r:embed="rId2"/>
          <a:stretch/>
        </p:blipFill>
        <p:spPr>
          <a:xfrm>
            <a:off x="3143160" y="1071720"/>
            <a:ext cx="23367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500040" y="407196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вклид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.до н.э.) – древнегреческий ученый. Известны его трактаты по математике: «Начала», «Оптика» и «Катоптрика». Им сформулированы законы прямолинейного распространения и отражения света. Евклид – основоположник геометрической оп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Евклид "/>
          <p:cNvPicPr/>
          <p:nvPr/>
        </p:nvPicPr>
        <p:blipFill>
          <a:blip r:embed="rId2"/>
          <a:stretch/>
        </p:blipFill>
        <p:spPr>
          <a:xfrm>
            <a:off x="3214800" y="642960"/>
            <a:ext cx="24685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Заголовок 1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тика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 физики,   изучающий процессы   излучения света, его  распространения и  взаимодействия с веществом. Это слово  в переводе с греческого означает «видимое». Изучаемых оптических явлений так много, что мы не сможем охватить даже тысячной до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fizik_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4009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Опти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2" descr=""/>
          <p:cNvPicPr/>
          <p:nvPr/>
        </p:nvPicPr>
        <p:blipFill>
          <a:blip r:embed="rId2"/>
          <a:stretch/>
        </p:blipFill>
        <p:spPr>
          <a:xfrm>
            <a:off x="1474920" y="1932120"/>
            <a:ext cx="7218360" cy="354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1:06:01Z</dcterms:created>
  <dc:creator>Кессова</dc:creator>
  <dc:description/>
  <dc:language>en-US</dc:language>
  <cp:lastModifiedBy>Гуртовенко</cp:lastModifiedBy>
  <dcterms:modified xsi:type="dcterms:W3CDTF">2019-04-10T15:07:06Z</dcterms:modified>
  <cp:revision>97</cp:revision>
  <dc:subject/>
  <dc:title>Источники света. Распространение света.</dc:title>
</cp:coreProperties>
</file>