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ED4B-390A-4F66-93C2-80E67AE4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F17-FF6A-45FD-9DFA-7E4B5C1A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124-E730-4BC3-8623-A6BFD3A4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813-91D1-443D-874E-A0284C1D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92F-B9F9-4C7A-85CE-E3196AF6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FDB-5615-4534-B539-5AE07893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EFC-DB2A-4911-98A4-D5EE75C0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674-5FA9-413B-AD49-0C06823B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30F-2265-4A41-8E65-366B3795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0F6-E204-43A2-BE2B-FCCC9954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B7E0-20FD-403B-B378-19C35CFD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BD7-0026-4BD5-81CC-880F1858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9543-92B4-471B-9BBB-7E0C26F88B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kze.docdat.com/tw_files2/urls_2/563/d-562419/7z-docs/1_html_36c5365c.jpg"/>
          <p:cNvPicPr/>
          <p:nvPr/>
        </p:nvPicPr>
        <p:blipFill>
          <a:blip r:embed="rId1"/>
          <a:stretch/>
        </p:blipFill>
        <p:spPr>
          <a:xfrm rot="20859000">
            <a:off x="1012320" y="796680"/>
            <a:ext cx="2981520" cy="1944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Public\Documents\математика\внеклассные мероприятия\шаблоны\фон6\фон6.png"/>
          <p:cNvPicPr/>
          <p:nvPr/>
        </p:nvPicPr>
        <p:blipFill>
          <a:blip r:embed="rId2"/>
          <a:stretch/>
        </p:blipFill>
        <p:spPr>
          <a:xfrm>
            <a:off x="0" y="3636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5157720"/>
            <a:ext cx="4356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7030a0"/>
              </a:solidFill>
              <a:latin typeface="Calibri"/>
            </a:endParaRPr>
          </a:p>
        </p:txBody>
      </p:sp>
      <p:pic>
        <p:nvPicPr>
          <p:cNvPr id="44" name="Прямоугольник 4" descr=""/>
          <p:cNvPicPr/>
          <p:nvPr/>
        </p:nvPicPr>
        <p:blipFill>
          <a:blip r:embed="rId3"/>
          <a:stretch/>
        </p:blipFill>
        <p:spPr>
          <a:xfrm>
            <a:off x="689040" y="2273400"/>
            <a:ext cx="74613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pedsovet.su/_ld/296/304874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3638160" y="314172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оду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matcreative.ru/images/golov/b2bd6c3a5ad24cf51f0c339ef2c85d2b.png"/>
          <p:cNvPicPr/>
          <p:nvPr/>
        </p:nvPicPr>
        <p:blipFill>
          <a:blip r:embed="rId2"/>
          <a:stretch/>
        </p:blipFill>
        <p:spPr>
          <a:xfrm>
            <a:off x="1403280" y="1916280"/>
            <a:ext cx="645804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34 L -0.00035 -0.29903 E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pedsovet.su/_ld/296/304874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3430440" y="2997360"/>
            <a:ext cx="21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ирам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allforchildren.ru/rebus/rebus10/10-025.gif"/>
          <p:cNvPicPr/>
          <p:nvPr/>
        </p:nvPicPr>
        <p:blipFill>
          <a:blip r:embed="rId2"/>
          <a:stretch/>
        </p:blipFill>
        <p:spPr>
          <a:xfrm>
            <a:off x="1403280" y="1989000"/>
            <a:ext cx="6643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071 L -0.00087 -0.26203 E">
                                      <p:cBhvr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pedsovet.su/_ld/296/304874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3780000" y="3429000"/>
            <a:ext cx="190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allforchildren.ru/rebus/rebus10/10-056.gif"/>
          <p:cNvPicPr/>
          <p:nvPr/>
        </p:nvPicPr>
        <p:blipFill>
          <a:blip r:embed="rId2"/>
          <a:stretch/>
        </p:blipFill>
        <p:spPr>
          <a:xfrm>
            <a:off x="1432080" y="2163600"/>
            <a:ext cx="68338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0.08672 L 0.00121 -0.2463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pedsovet.su/_ld/296/304874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3636360" y="3500280"/>
            <a:ext cx="15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www.metod-kopilka.ru/images/doc/15/8540/hello_html_32ed9dfc.png"/>
          <p:cNvPicPr/>
          <p:nvPr/>
        </p:nvPicPr>
        <p:blipFill>
          <a:blip r:embed="rId2"/>
          <a:stretch/>
        </p:blipFill>
        <p:spPr>
          <a:xfrm>
            <a:off x="900000" y="1773360"/>
            <a:ext cx="75646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5504 L -0.00417 -0.27799 E">
                                      <p:cBhvr>
                                        <p:cTn id="2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pedsovet.su/_ld/296/304874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3642840" y="3357720"/>
            <a:ext cx="15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теп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Ребусы по математике"/>
          <p:cNvPicPr/>
          <p:nvPr/>
        </p:nvPicPr>
        <p:blipFill>
          <a:blip r:embed="rId2"/>
          <a:stretch/>
        </p:blipFill>
        <p:spPr>
          <a:xfrm>
            <a:off x="1268280" y="2000160"/>
            <a:ext cx="70707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3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pedsovet.su/_ld/296/304874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3212640" y="3068640"/>
            <a:ext cx="23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pesochnizza.ru/wp-content/uploads/2012/05/matematika4.jpg"/>
          <p:cNvPicPr/>
          <p:nvPr/>
        </p:nvPicPr>
        <p:blipFill>
          <a:blip r:embed="rId2"/>
          <a:stretch/>
        </p:blipFill>
        <p:spPr>
          <a:xfrm>
            <a:off x="1627200" y="1494000"/>
            <a:ext cx="66088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89362E-006 L 2.77778E-007 -0.26226 E">
                                      <p:cBhvr>
                                        <p:cTn id="3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6:29:51Z</dcterms:created>
  <dc:creator>Дина</dc:creator>
  <dc:description/>
  <dc:language>en-US</dc:language>
  <cp:lastModifiedBy>Клестова ОЛ</cp:lastModifiedBy>
  <dcterms:modified xsi:type="dcterms:W3CDTF">2020-11-17T14:09:53Z</dcterms:modified>
  <cp:revision>28</cp:revision>
  <dc:subject/>
  <dc:title>Слайд 1</dc:title>
</cp:coreProperties>
</file>