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AF1-339A-47BD-9A6B-66906860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637-DB22-4C1B-8C93-B256FA29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992-261C-4594-8927-3B4859C5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638-DA34-4185-9EC2-5FF6AEA7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764B-2728-43B9-8BF5-118A2869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A8A-4DE3-4533-BF0B-8EE06402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61A2-1027-4694-B5E4-24543168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844-F2AB-45A1-8A9B-F592BEC7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9F0-6D38-4B9C-98A7-8AF9A497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509-D870-419B-82D1-ADC71132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381E-895F-45D8-9078-C3E8290D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3B6-C262-4F87-9037-FC8FDA7D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C2D6-35C3-4885-B885-2D8E9DEB43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kze.docdat.com/tw_files2/urls_2/563/d-562419/7z-docs/1_html_36c5365c.jpg"/>
          <p:cNvPicPr/>
          <p:nvPr/>
        </p:nvPicPr>
        <p:blipFill>
          <a:blip r:embed="rId1"/>
          <a:stretch/>
        </p:blipFill>
        <p:spPr>
          <a:xfrm rot="20859000">
            <a:off x="1012320" y="796680"/>
            <a:ext cx="2981520" cy="1944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Public\Documents\математика\внеклассные мероприятия\шаблоны\фон6\фон6.png"/>
          <p:cNvPicPr/>
          <p:nvPr/>
        </p:nvPicPr>
        <p:blipFill>
          <a:blip r:embed="rId2"/>
          <a:stretch/>
        </p:blipFill>
        <p:spPr>
          <a:xfrm>
            <a:off x="0" y="3636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5157720"/>
            <a:ext cx="4356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44" name="Прямоугольник 4" descr=""/>
          <p:cNvPicPr/>
          <p:nvPr/>
        </p:nvPicPr>
        <p:blipFill>
          <a:blip r:embed="rId3"/>
          <a:stretch/>
        </p:blipFill>
        <p:spPr>
          <a:xfrm>
            <a:off x="689040" y="2273400"/>
            <a:ext cx="74613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pedsovet.su/_ld/296/304874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3638160" y="3141720"/>
            <a:ext cx="17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оду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matcreative.ru/images/golov/b2bd6c3a5ad24cf51f0c339ef2c85d2b.png"/>
          <p:cNvPicPr/>
          <p:nvPr/>
        </p:nvPicPr>
        <p:blipFill>
          <a:blip r:embed="rId2"/>
          <a:stretch/>
        </p:blipFill>
        <p:spPr>
          <a:xfrm>
            <a:off x="1403280" y="1916280"/>
            <a:ext cx="645804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034 L -0.00035 -0.29903 E"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pedsovet.su/_ld/296/304874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3430440" y="2997360"/>
            <a:ext cx="21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ирам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allforchildren.ru/rebus/rebus10/10-025.gif"/>
          <p:cNvPicPr/>
          <p:nvPr/>
        </p:nvPicPr>
        <p:blipFill>
          <a:blip r:embed="rId2"/>
          <a:stretch/>
        </p:blipFill>
        <p:spPr>
          <a:xfrm>
            <a:off x="1403280" y="1989000"/>
            <a:ext cx="6643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71 L -0.00087 -0.26203 E">
                                      <p:cBhvr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pedsovet.su/_ld/296/304874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3780000" y="3429000"/>
            <a:ext cx="190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allforchildren.ru/rebus/rebus10/10-056.gif"/>
          <p:cNvPicPr/>
          <p:nvPr/>
        </p:nvPicPr>
        <p:blipFill>
          <a:blip r:embed="rId2"/>
          <a:stretch/>
        </p:blipFill>
        <p:spPr>
          <a:xfrm>
            <a:off x="1432080" y="2163600"/>
            <a:ext cx="68338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0.08672 L 0.00121 -0.2463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pedsovet.su/_ld/296/304874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3636360" y="3500280"/>
            <a:ext cx="15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www.metod-kopilka.ru/images/doc/15/8540/hello_html_32ed9dfc.png"/>
          <p:cNvPicPr/>
          <p:nvPr/>
        </p:nvPicPr>
        <p:blipFill>
          <a:blip r:embed="rId2"/>
          <a:stretch/>
        </p:blipFill>
        <p:spPr>
          <a:xfrm>
            <a:off x="900000" y="1773360"/>
            <a:ext cx="75646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5504 L -0.00417 -0.27799 E">
                                      <p:cBhvr>
                                        <p:cTn id="2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pedsovet.su/_ld/296/304874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3642840" y="3357720"/>
            <a:ext cx="15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теп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Ребусы по математике"/>
          <p:cNvPicPr/>
          <p:nvPr/>
        </p:nvPicPr>
        <p:blipFill>
          <a:blip r:embed="rId2"/>
          <a:stretch/>
        </p:blipFill>
        <p:spPr>
          <a:xfrm>
            <a:off x="1268280" y="2000160"/>
            <a:ext cx="70707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3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pedsovet.su/_ld/296/304874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3212640" y="3068640"/>
            <a:ext cx="23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pesochnizza.ru/wp-content/uploads/2012/05/matematika4.jpg"/>
          <p:cNvPicPr/>
          <p:nvPr/>
        </p:nvPicPr>
        <p:blipFill>
          <a:blip r:embed="rId2"/>
          <a:stretch/>
        </p:blipFill>
        <p:spPr>
          <a:xfrm>
            <a:off x="1627200" y="1494000"/>
            <a:ext cx="66088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9362E-006 L 2.77778E-007 -0.26226 E">
                                      <p:cBhvr>
                                        <p:cTn id="3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6:29:51Z</dcterms:created>
  <dc:creator>Дина</dc:creator>
  <dc:description/>
  <dc:language>en-US</dc:language>
  <cp:lastModifiedBy>Клестова ОЛ</cp:lastModifiedBy>
  <dcterms:modified xsi:type="dcterms:W3CDTF">2020-11-17T14:09:53Z</dcterms:modified>
  <cp:revision>28</cp:revision>
  <dc:subject/>
  <dc:title>Слайд 1</dc:title>
</cp:coreProperties>
</file>