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94B-B73B-4FE8-B14E-BC926883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F80-01C6-4D11-A14E-DD8C5B95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008-FA32-41F6-836A-8B2747C9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48A-F2B5-439F-BE6C-6D630575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344-6077-4549-ADE5-AF222412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94F-E16E-4C91-A34B-30E8D91D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FD7-6C8C-419F-9FD6-CE71E82D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CCC-4D3D-484A-82A6-5F31F27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41A-88BF-4D5C-8C7D-46887257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CBC-6E0D-4820-B5DF-A6342F04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C4D-7F5E-47FB-9F9B-EC7FF09C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CC0-EEB7-480F-98FD-4E72F802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50000">
              <a:srgbClr val="ffff66"/>
            </a:gs>
            <a:gs pos="100000">
              <a:srgbClr val="ffff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A7DF-61B6-4F04-A653-78026F920F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71524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й домашний питомец–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йоркширский терьер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8624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Кумбаевой Эвелины 3 класс “Б”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“Антоньевская СОШ” Петропавловского района Алтайского кр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04769167"/>
          <p:cNvPicPr/>
          <p:nvPr/>
        </p:nvPicPr>
        <p:blipFill>
          <a:blip r:embed="rId1"/>
          <a:stretch/>
        </p:blipFill>
        <p:spPr>
          <a:xfrm>
            <a:off x="2195640" y="1268280"/>
            <a:ext cx="527364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ин мудрый человек сказал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Если у вас есть Йорк, то вы возвращаетесь не в дом, а Домой»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я мама и наша Бет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1" descr="IMG-20200112-WA0018"/>
          <p:cNvPicPr/>
          <p:nvPr/>
        </p:nvPicPr>
        <p:blipFill>
          <a:blip r:embed="rId1"/>
          <a:stretch/>
        </p:blipFill>
        <p:spPr>
          <a:xfrm>
            <a:off x="457200" y="1622520"/>
            <a:ext cx="82296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БЕТТИ попала к нам до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8920" y="942840"/>
            <a:ext cx="859644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с детства люблю животных. Когда то давно у меня был щенок породы той-терьер по кличке Микки. Но, к сожалению он пропал, когда ему был всего один год. Я очень скучала по нему. И вот через несколько лет мама подарила мне щенка породы Йоркширский терье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4" descr="бетти.jpg"/>
          <p:cNvPicPr/>
          <p:nvPr/>
        </p:nvPicPr>
        <p:blipFill>
          <a:blip r:embed="rId1"/>
          <a:stretch/>
        </p:blipFill>
        <p:spPr>
          <a:xfrm>
            <a:off x="3495600" y="3084480"/>
            <a:ext cx="3600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ша любимица Бет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63936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гда собаку привезли, она была совсем малышкой 2, 5 месяца и весила 900 граммов. Мы решили назвать её Бетти. Сейчас ей уже 6 месяцев,  весит она 1, 3 кг, и должна вырасти до 2 к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DSC_0036.JPG"/>
          <p:cNvPicPr/>
          <p:nvPr/>
        </p:nvPicPr>
        <p:blipFill>
          <a:blip r:embed="rId1"/>
          <a:stretch/>
        </p:blipFill>
        <p:spPr>
          <a:xfrm>
            <a:off x="3276720" y="3068640"/>
            <a:ext cx="491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которые особенности харак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555120"/>
            <a:ext cx="8856720" cy="27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тти очень жизнерадостная и дружелюбная. Когда мы возвращаемся домой, она всегда нас встречает, весело прыгает, машет хвостом и пытается расцеловать. Даже если она спала, всё равно приходит, ложится на спинку и просит почесать ей пузик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тти растопила сердце даже нашего дедушки, так как он сначала не воспринимал серьёзно такую маленькую соба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DSC_0028.JPG"/>
          <p:cNvPicPr/>
          <p:nvPr/>
        </p:nvPicPr>
        <p:blipFill>
          <a:blip r:embed="rId1"/>
          <a:stretch/>
        </p:blipFill>
        <p:spPr>
          <a:xfrm>
            <a:off x="2556000" y="3500280"/>
            <a:ext cx="5184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100008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енькая собака тоже может быть хорошим другом, как и большая, ведь дело вовсе не в размере, а в отношении между человеком и животным, любви и дружбе, которые они дарят друг дру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ём преимущество маленькой собаки перед больш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удобство, связанное с маленьким размером животного. Собака занимает меньше места, меньше ест,  а если решит пошалить, то беспорядок будет небольши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 тоже время маленькая собака более хрупкая и нежная, сильнее зависит от своего хозяина и требует большего внимания и любви, но вряд ли это можно назвать отрицательными чертам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рабо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снить, может ли маленькая собака быть хорошим друг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дач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ознакомиться с литературой о йоркширских терьерах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пределить, в чём состоят плюсы маленькой собаки перед больш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image"/>
          <p:cNvPicPr/>
          <p:nvPr/>
        </p:nvPicPr>
        <p:blipFill>
          <a:blip r:embed="rId1"/>
          <a:stretch/>
        </p:blipFill>
        <p:spPr>
          <a:xfrm>
            <a:off x="826920" y="2708280"/>
            <a:ext cx="2909880" cy="38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39464-1"/>
          <p:cNvPicPr/>
          <p:nvPr/>
        </p:nvPicPr>
        <p:blipFill>
          <a:blip r:embed="rId2"/>
          <a:stretch/>
        </p:blipFill>
        <p:spPr>
          <a:xfrm>
            <a:off x="4356000" y="3357720"/>
            <a:ext cx="38642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ширский терьер — декоративная порода собак. История породы еще очень коротка, но успела завоевать сердца многих людей во всем мире. Сейчас они одни из самых популярных комнатно-декоративных собак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E:\CIMG7947.JPG"/>
          <p:cNvPicPr/>
          <p:nvPr/>
        </p:nvPicPr>
        <p:blipFill>
          <a:blip r:embed="rId1"/>
          <a:stretch/>
        </p:blipFill>
        <p:spPr>
          <a:xfrm>
            <a:off x="1979640" y="2637000"/>
            <a:ext cx="51433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 истории пор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на йоркширского терьера - графство Йоркшир  в северной Анг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порода была популярна в 18—19 веках  и описывалась как «маленькая, серо-голубая собака с полудлинной шерстью». Небольшие собачки охраняли дома от грызунов и сопровождали своих хозяев в торговых поезд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86 году порода была признана Кеннел-Клубом  и внесена в племенную книг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898 году был организован первый клуб йоркширских терье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1285996429_125606315_1-----1285996429"/>
          <p:cNvPicPr/>
          <p:nvPr/>
        </p:nvPicPr>
        <p:blipFill>
          <a:blip r:embed="rId1"/>
          <a:stretch/>
        </p:blipFill>
        <p:spPr>
          <a:xfrm>
            <a:off x="6443640" y="3789360"/>
            <a:ext cx="25448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нешний ви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772400" cy="38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ширский терьер — одна из самых маленьких пород соб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взрослого йорка около 3 кг, минимальный вес или рост не ограниче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описывается так: длинношёрстная собака, шерсть спадает абсолютно прямо и равномерно по бокам,  и разделяется на пробо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ака очень компактная и изящная, осанка горделивая и важ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Hell09"/>
          <p:cNvPicPr/>
          <p:nvPr/>
        </p:nvPicPr>
        <p:blipFill>
          <a:blip r:embed="rId1"/>
          <a:stretch/>
        </p:blipFill>
        <p:spPr>
          <a:xfrm>
            <a:off x="4140360" y="4221000"/>
            <a:ext cx="3635280" cy="24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163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ёрстный покр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7188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ширский терьер — длинношёрстная порода и не имеет подшёрстка. Это значит, что они практически не линя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х шерсть похожа на волосы человека в том, что она постоянно растёт и редко выпадает. Поэтому йорки редко вызывает у людей аллерг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64"/>
          <p:cNvPicPr/>
          <p:nvPr/>
        </p:nvPicPr>
        <p:blipFill>
          <a:blip r:embed="rId1"/>
          <a:stretch/>
        </p:blipFill>
        <p:spPr>
          <a:xfrm>
            <a:off x="4788000" y="260280"/>
            <a:ext cx="4032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а шер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4" descr="18715_2009051653.jpg"/>
          <p:cNvPicPr/>
          <p:nvPr/>
        </p:nvPicPr>
        <p:blipFill>
          <a:blip r:embed="rId1"/>
          <a:stretch/>
        </p:blipFill>
        <p:spPr>
          <a:xfrm>
            <a:off x="4643280" y="620640"/>
            <a:ext cx="3467160" cy="444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3114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я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ина шерсти у выставочных собак до по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ыставке шерсть на голове забирают в специальный узел — топ кн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00720" y="333000"/>
            <a:ext cx="428616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вид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4" descr="foto_sobak_yorkies_2.jpg"/>
          <p:cNvPicPr/>
          <p:nvPr/>
        </p:nvPicPr>
        <p:blipFill>
          <a:blip r:embed="rId1"/>
          <a:stretch/>
        </p:blipFill>
        <p:spPr>
          <a:xfrm>
            <a:off x="357120" y="1285920"/>
            <a:ext cx="3714840" cy="39290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28720" y="1428840"/>
            <a:ext cx="37861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 ушей и грудки у йорков может быть разным: от жёлто-коричневого до тёмно-коричневого, а шерсть на основной части тела может быть чёрной или серебристо-се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й окончательный окрас собака приобретает с 2-3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енькие Йорки как и большие собаки — смелые, любопытные и подвижные.  Доброжелательны  с людьми, и с другими собакам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аны своему хозяи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ам больше, чем собакам какой-либо другой породы, нужно внимание. Они готовы весь день проводить рядом с хозяином — на руках или следуя за ним по пятам.  С удовольствием бегают, прыгают, играют в мяч, «охотятся» на птиц, мышей или солнечных зайчи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Йорк хорошо чувствует настро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зяина и подстраивается под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422636394102ee60"/>
          <p:cNvPicPr/>
          <p:nvPr/>
        </p:nvPicPr>
        <p:blipFill>
          <a:blip r:embed="rId1"/>
          <a:stretch/>
        </p:blipFill>
        <p:spPr>
          <a:xfrm>
            <a:off x="6227640" y="4221000"/>
            <a:ext cx="25560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3:31:39Z</dcterms:created>
  <dc:creator>Lenovo</dc:creator>
  <dc:description/>
  <dc:language>en-US</dc:language>
  <cp:lastModifiedBy>Admin</cp:lastModifiedBy>
  <dcterms:modified xsi:type="dcterms:W3CDTF">2020-01-16T05:45:57Z</dcterms:modified>
  <cp:revision>40</cp:revision>
  <dc:subject/>
  <dc:title>Йоркширский терье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824</vt:lpwstr>
  </property>
</Properties>
</file>