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3.gif" ContentType="image/gif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11D7-A073-450E-9368-F4CAECA74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FD67-157D-47B3-BDFC-476EDA969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D9B7-CE7A-49E4-8D44-DFE5A8CFD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AC19-EC0B-4D9D-A846-54EAAB2B4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EAC8-7E79-4A7B-BC04-296FFC8F0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537D-52FB-4142-9F8D-9DB0EF18A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D272-064B-48AD-81FB-78DBF53B1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A717-E720-4621-96A6-2D40F6BE6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A499-D751-41CF-AD37-14F4F0706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B2D8-3413-40FB-B2B3-159B85879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B2DC-A863-4A00-85EF-27DA6C15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D3FC-D87A-4883-8316-51BF2C63B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765e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B234B-D2A2-4B39-8C01-64AAD68103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8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gi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7964"/>
          <p:cNvPicPr/>
          <p:nvPr/>
        </p:nvPicPr>
        <p:blipFill>
          <a:blip r:embed="rId1"/>
          <a:stretch/>
        </p:blipFill>
        <p:spPr>
          <a:xfrm>
            <a:off x="361800" y="620640"/>
            <a:ext cx="4281480" cy="5113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643280" y="0"/>
            <a:ext cx="4500720" cy="714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ffffff"/>
                </a:solidFill>
                <a:latin typeface="Arial"/>
              </a:rPr>
              <a:t>В рамках нашего класса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ffffff"/>
                </a:solidFill>
                <a:latin typeface="Arial"/>
              </a:rPr>
              <a:t>прошла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ffffff"/>
                </a:solidFill>
                <a:latin typeface="Arial"/>
              </a:rPr>
              <a:t>«Весенняя неделя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400" spc="-1" strike="noStrike">
                <a:solidFill>
                  <a:srgbClr val="ffffff"/>
                </a:solidFill>
                <a:latin typeface="Arial"/>
              </a:rPr>
              <a:t>добрых дел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Девиз недели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«Мы вместе создаем наше будуще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оспитатель: Вдовина Л .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4"/>
          <p:cNvSpPr/>
          <p:nvPr/>
        </p:nvSpPr>
        <p:spPr>
          <a:xfrm>
            <a:off x="2682360" y="692280"/>
            <a:ext cx="5638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старико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умирающих от СПИД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тех кто от природы пострад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всех Тереза мать нашла и доброту и врем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б легче было им нести свой крес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торый им судьбою да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tumblr_ks5noyDImz1qa8v3ao1_500"/>
          <p:cNvPicPr/>
          <p:nvPr/>
        </p:nvPicPr>
        <p:blipFill>
          <a:blip r:embed="rId1"/>
          <a:stretch/>
        </p:blipFill>
        <p:spPr>
          <a:xfrm>
            <a:off x="4175280" y="2854440"/>
            <a:ext cx="4644720" cy="3743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Tereza"/>
          <p:cNvPicPr/>
          <p:nvPr/>
        </p:nvPicPr>
        <p:blipFill>
          <a:blip r:embed="rId2"/>
          <a:stretch/>
        </p:blipFill>
        <p:spPr>
          <a:xfrm>
            <a:off x="539640" y="1557360"/>
            <a:ext cx="1751040" cy="2708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3" descr="1235673017_heart"/>
          <p:cNvPicPr/>
          <p:nvPr/>
        </p:nvPicPr>
        <p:blipFill>
          <a:blip r:embed="rId3"/>
          <a:stretch/>
        </p:blipFill>
        <p:spPr>
          <a:xfrm>
            <a:off x="684360" y="5373720"/>
            <a:ext cx="1027080" cy="1079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4" descr="Безымянный"/>
          <p:cNvPicPr/>
          <p:nvPr/>
        </p:nvPicPr>
        <p:blipFill>
          <a:blip r:embed="rId4"/>
          <a:stretch/>
        </p:blipFill>
        <p:spPr>
          <a:xfrm>
            <a:off x="826920" y="5877000"/>
            <a:ext cx="722520" cy="9216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15"/>
          <p:cNvSpPr/>
          <p:nvPr/>
        </p:nvSpPr>
        <p:spPr>
          <a:xfrm>
            <a:off x="395280" y="5734080"/>
            <a:ext cx="20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Сострад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Ploughed_acre_20041012_2603"/>
          <p:cNvPicPr/>
          <p:nvPr/>
        </p:nvPicPr>
        <p:blipFill>
          <a:blip r:embed="rId1"/>
          <a:stretch/>
        </p:blipFill>
        <p:spPr>
          <a:xfrm>
            <a:off x="0" y="0"/>
            <a:ext cx="9144000" cy="126460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5"/>
          <p:cNvSpPr/>
          <p:nvPr/>
        </p:nvSpPr>
        <p:spPr>
          <a:xfrm>
            <a:off x="0" y="-200520"/>
            <a:ext cx="914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Сказка « Пахарь и  кро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Пахарь пахал землю. Вылез крот из своей норы и удивился: вспахано уж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большое поле, а пахарь все пашет и пашет. Спрашивает кро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- Зачем ты вспахал такое большое поле и продолжаешь пахать ещ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Пахарь отвечает: 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Я пашу не только себе, но и люд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571680"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Удивился крот:  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- Почему ты пашешь людям? Пусть каждый работает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571680"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себя. Вот я рою себе нору, и каждый крот роет себе нор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- Но ведь вы же – кроты, а мы  - люди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, - ответил пахарь и начал нову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бороз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                                                                                           </a:t>
            </a: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В.А. Сухомлин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74cd8f95070d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1235673017_heart"/>
          <p:cNvPicPr/>
          <p:nvPr/>
        </p:nvPicPr>
        <p:blipFill>
          <a:blip r:embed="rId2"/>
          <a:stretch/>
        </p:blipFill>
        <p:spPr>
          <a:xfrm>
            <a:off x="1916280" y="-458640"/>
            <a:ext cx="5725800" cy="60134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Безымянный"/>
          <p:cNvPicPr/>
          <p:nvPr/>
        </p:nvPicPr>
        <p:blipFill>
          <a:blip r:embed="rId3"/>
          <a:stretch/>
        </p:blipFill>
        <p:spPr>
          <a:xfrm>
            <a:off x="3203640" y="2492280"/>
            <a:ext cx="3024000" cy="23328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4"/>
          <p:cNvSpPr/>
          <p:nvPr/>
        </p:nvSpPr>
        <p:spPr>
          <a:xfrm>
            <a:off x="468360" y="2275560"/>
            <a:ext cx="8136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ccc"/>
                </a:solidFill>
                <a:latin typeface="Arial"/>
              </a:rPr>
              <a:t>Быть человеком – что это значи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ccc"/>
                </a:solidFill>
                <a:latin typeface="Arial"/>
              </a:rPr>
              <a:t>Просто жалеть, если рядом - плач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ccc"/>
                </a:solidFill>
                <a:latin typeface="Arial"/>
              </a:rPr>
              <a:t>Быть справедливым во всех деянья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ccc"/>
                </a:solidFill>
                <a:latin typeface="Arial"/>
              </a:rPr>
              <a:t>Ближнего разделять страдан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57120" y="357120"/>
            <a:ext cx="850104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вый этап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. Целеполага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дел “Нравственное воспитание” включен почти во все образовательные программы. Основа гуманного отношения к людям – способность к сопереживанию, к сочувствию – проявляется в самых разных жизненных ситуациях. Поэтому у детей нужно формировать не только представления о должном поведении или коммуникативные навыки, а прежде всего нравственные чув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торой этап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. Разработка проекта (подготовительный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вести до участников важность данной тем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метить план действ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судить план проекта с педагогическим коллектив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формировать родителей (законных представителей) с планом “Недели Добра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обрать наглядно-дидактический материал, художественную литературу (по теме проект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бор методической литературы: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ретий этап. 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сновн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ализация основных видов деятельности по направлениям проек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етвертый этап. 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Итоговы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ключает в себя сбор и обработку методических и практических материалов, обобщение материалов проек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74cd8f95070d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4200" y="2357280"/>
            <a:ext cx="8639280" cy="331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"Твори добро, не видя в том заслуги"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3059280" y="5021280"/>
            <a:ext cx="5867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5508720" y="5877000"/>
            <a:ext cx="3240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500040" y="500040"/>
            <a:ext cx="82296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брота- вещь удивительная, она, как ни что сближает. Доброта спасает от одиночества и душевных ран. Известный восточный поэт Саади прожил долгую жизнь, много повидал на своем веку. Его поэзия полна мудрости. Он жил в XIII веке, но его стихи актуальны и сейча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рогу правды сам найти старай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ошибкам ближнего не придирай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о чужих изъянах не кри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 на себя взгляни и помол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 тысячи лет назад Евангельская проповедь о любви к человеку словно молния озарила древний мир. Евангелие принесло в мир новые духовные цен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«Веру, надежду, любовь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БРО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ЭТО СОЛНЦЕ, КОТОРОЕ СОГРЕВАЕТ ДУШУ ЧЕЛОВЕКА. ВСЁ ХОРОШЕЕ В ПРИРОДЕ – СОЛНЦЕ, А ВСЁ ЛУЧШЕЕ В ЖИЗНИ ОТ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C:\Users\user\Desktop\праздники школы\посвящение в первоклассники\100_6640.JPG"/>
          <p:cNvPicPr/>
          <p:nvPr/>
        </p:nvPicPr>
        <p:blipFill>
          <a:blip r:embed="rId1"/>
          <a:stretch/>
        </p:blipFill>
        <p:spPr>
          <a:xfrm>
            <a:off x="4143240" y="3309840"/>
            <a:ext cx="4753080" cy="3168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C:\Users\user\Desktop\праздники школы\посвящение в первоклассники\100_6655.JPG"/>
          <p:cNvPicPr/>
          <p:nvPr/>
        </p:nvPicPr>
        <p:blipFill>
          <a:blip r:embed="rId2"/>
          <a:stretch/>
        </p:blipFill>
        <p:spPr>
          <a:xfrm>
            <a:off x="214200" y="1571760"/>
            <a:ext cx="514512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Реквизит: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лакаты и высказывания, записанные на доске: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4038480" cy="358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А -аз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Б - буки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В - веди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Г - глаголь (говорить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Д - добр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Ж - жи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З – земля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Л – люди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М – мыслит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Т – твори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Старая азбука как бы призывала: </a:t>
            </a:r>
            <a:r>
              <a:rPr b="1" i="1" lang="ru-RU" sz="800" spc="-1" strike="noStrike">
                <a:solidFill>
                  <a:srgbClr val="000000"/>
                </a:solidFill>
                <a:latin typeface="Arial"/>
              </a:rPr>
              <a:t>«Люди Земли, мыслите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800" spc="-1" strike="noStrike">
                <a:solidFill>
                  <a:srgbClr val="000000"/>
                </a:solidFill>
                <a:latin typeface="Arial"/>
              </a:rPr>
              <a:t>думайте и творите добро»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Пусть эти слова будут девизом на всю вашу жизнь!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ка мы боль чужую чувствуем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ка живет в нас сострадань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ка живем, мечтаем, буйствуем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ть нашей жизни оправда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19280" y="1773360"/>
            <a:ext cx="3467160" cy="41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Добрые сердца – это сады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Добрые слова – это корни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Добрые мысли это цветы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Добрые дела – плоды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Добро и зло творить всег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Во власти всех людей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Но зло творится без тру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Добро – творить трудней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Рождает зверя зверь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Рождает птица птицу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От дорого добро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От злого зло родиться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Добро, сколь ни было оно мал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Гораздо лучше, чем большое зло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(Низами Г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9" descr="1"/>
          <p:cNvPicPr/>
          <p:nvPr/>
        </p:nvPicPr>
        <p:blipFill>
          <a:blip r:embed="rId1"/>
          <a:stretch/>
        </p:blipFill>
        <p:spPr>
          <a:xfrm>
            <a:off x="0" y="-1971720"/>
            <a:ext cx="10333080" cy="10333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Безымянный"/>
          <p:cNvPicPr/>
          <p:nvPr/>
        </p:nvPicPr>
        <p:blipFill>
          <a:blip r:embed="rId2"/>
          <a:stretch/>
        </p:blipFill>
        <p:spPr>
          <a:xfrm>
            <a:off x="2411280" y="2421000"/>
            <a:ext cx="5327640" cy="1224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4"/>
          <p:cNvSpPr/>
          <p:nvPr/>
        </p:nvSpPr>
        <p:spPr>
          <a:xfrm>
            <a:off x="1619280" y="2126880"/>
            <a:ext cx="68040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Как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 хорошо, что есть еще средь нас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Такие, что не требуют награды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Не слыша зов идут, идут, иду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И раздают добро и все им рад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4356000" y="1409400"/>
            <a:ext cx="4032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Если кому-то помож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воя доброта, и улыбка тво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о день не напрасно был прожи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начит, живешь ты не зр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tereza1"/>
          <p:cNvPicPr/>
          <p:nvPr/>
        </p:nvPicPr>
        <p:blipFill>
          <a:blip r:embed="rId1"/>
          <a:stretch/>
        </p:blipFill>
        <p:spPr>
          <a:xfrm>
            <a:off x="971640" y="1052640"/>
            <a:ext cx="2928960" cy="3528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1235673017_heart"/>
          <p:cNvPicPr/>
          <p:nvPr/>
        </p:nvPicPr>
        <p:blipFill>
          <a:blip r:embed="rId2"/>
          <a:stretch/>
        </p:blipFill>
        <p:spPr>
          <a:xfrm>
            <a:off x="7740720" y="189000"/>
            <a:ext cx="1027080" cy="1079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Безымянный"/>
          <p:cNvPicPr/>
          <p:nvPr/>
        </p:nvPicPr>
        <p:blipFill>
          <a:blip r:embed="rId3"/>
          <a:stretch/>
        </p:blipFill>
        <p:spPr>
          <a:xfrm>
            <a:off x="7883640" y="692280"/>
            <a:ext cx="722160" cy="918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9"/>
          <p:cNvSpPr/>
          <p:nvPr/>
        </p:nvSpPr>
        <p:spPr>
          <a:xfrm>
            <a:off x="7380360" y="476280"/>
            <a:ext cx="20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Сострад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3419640" y="1340280"/>
            <a:ext cx="5975280" cy="31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Тереза Мать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! – услышал 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 сразу так тепло вдруг ста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едь мама мне добро д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 Мать Тереза о добре мечт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на лечила всех, кого мог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 помогала и больным и нищ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Ей безразлична нация бы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Уча добру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оторенных дорог не ищ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MotherTheresa-1"/>
          <p:cNvPicPr/>
          <p:nvPr/>
        </p:nvPicPr>
        <p:blipFill>
          <a:blip r:embed="rId1"/>
          <a:stretch/>
        </p:blipFill>
        <p:spPr>
          <a:xfrm>
            <a:off x="179280" y="981000"/>
            <a:ext cx="4498920" cy="4321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1235673017_heart"/>
          <p:cNvPicPr/>
          <p:nvPr/>
        </p:nvPicPr>
        <p:blipFill>
          <a:blip r:embed="rId2"/>
          <a:stretch/>
        </p:blipFill>
        <p:spPr>
          <a:xfrm>
            <a:off x="7885080" y="5589720"/>
            <a:ext cx="1027080" cy="1079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" descr="Безымянный"/>
          <p:cNvPicPr/>
          <p:nvPr/>
        </p:nvPicPr>
        <p:blipFill>
          <a:blip r:embed="rId3"/>
          <a:stretch/>
        </p:blipFill>
        <p:spPr>
          <a:xfrm>
            <a:off x="8028000" y="6093000"/>
            <a:ext cx="722160" cy="918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3"/>
          <p:cNvSpPr/>
          <p:nvPr/>
        </p:nvSpPr>
        <p:spPr>
          <a:xfrm>
            <a:off x="7881840" y="5950080"/>
            <a:ext cx="12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Любов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2T10:23:30Z</dcterms:created>
  <dc:creator>МОУ "СОШ№6"</dc:creator>
  <dc:description/>
  <dc:language>en-US</dc:language>
  <cp:lastModifiedBy>user</cp:lastModifiedBy>
  <dcterms:modified xsi:type="dcterms:W3CDTF">2017-03-11T18:12:20Z</dcterms:modified>
  <cp:revision>48</cp:revision>
  <dc:subject/>
  <dc:title>Слайд 1</dc:title>
</cp:coreProperties>
</file>