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AA9F-DAD5-45F6-8FB5-92A916F69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7EE8-53E0-4B1E-8F50-D963B666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0FD1-8599-4C41-9B11-9C1CBB551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80EF-B495-4668-94F8-3E0D34A04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8911-E092-47A1-AA85-9733D5A3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E768-3555-440F-A2A1-9813D501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C413-E5EE-446A-862B-E4C17441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341B-E90E-4CD2-A8F0-F337CD58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88B8-BCC6-49D3-8AE7-9B67F78F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A681-C3C3-4A23-81BD-0AE9D9AF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4F76-D438-41BF-A858-29D4D87F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DBD5-B965-4E71-87C9-F53503D2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65e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3134-0B7C-4033-B5D7-E1D886F7DA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8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gi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7964"/>
          <p:cNvPicPr/>
          <p:nvPr/>
        </p:nvPicPr>
        <p:blipFill>
          <a:blip r:embed="rId1"/>
          <a:stretch/>
        </p:blipFill>
        <p:spPr>
          <a:xfrm>
            <a:off x="361800" y="620640"/>
            <a:ext cx="4281480" cy="5113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643280" y="0"/>
            <a:ext cx="4500720" cy="714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ffff"/>
                </a:solidFill>
                <a:latin typeface="Arial"/>
              </a:rPr>
              <a:t>В рамках нашего класса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ffff"/>
                </a:solidFill>
                <a:latin typeface="Arial"/>
              </a:rPr>
              <a:t>прошла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ffff"/>
                </a:solidFill>
                <a:latin typeface="Arial"/>
              </a:rPr>
              <a:t>«Весенняя недел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400" spc="-1" strike="noStrike">
                <a:solidFill>
                  <a:srgbClr val="ffffff"/>
                </a:solidFill>
                <a:latin typeface="Arial"/>
              </a:rPr>
              <a:t>добрых дел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евиз недели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«Мы вместе создаем наше будуще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оспитатель: Вдовина Л 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2682360" y="692280"/>
            <a:ext cx="5638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старик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умирающих от СПИ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тех кто от природы пострад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всех Тереза мать нашла и доброту и 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б легче было им нести свой крес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торый им судьбою д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tumblr_ks5noyDImz1qa8v3ao1_500"/>
          <p:cNvPicPr/>
          <p:nvPr/>
        </p:nvPicPr>
        <p:blipFill>
          <a:blip r:embed="rId1"/>
          <a:stretch/>
        </p:blipFill>
        <p:spPr>
          <a:xfrm>
            <a:off x="4175280" y="2854440"/>
            <a:ext cx="4644720" cy="3743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Tereza"/>
          <p:cNvPicPr/>
          <p:nvPr/>
        </p:nvPicPr>
        <p:blipFill>
          <a:blip r:embed="rId2"/>
          <a:stretch/>
        </p:blipFill>
        <p:spPr>
          <a:xfrm>
            <a:off x="539640" y="1557360"/>
            <a:ext cx="1751040" cy="2708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1235673017_heart"/>
          <p:cNvPicPr/>
          <p:nvPr/>
        </p:nvPicPr>
        <p:blipFill>
          <a:blip r:embed="rId3"/>
          <a:stretch/>
        </p:blipFill>
        <p:spPr>
          <a:xfrm>
            <a:off x="684360" y="5373720"/>
            <a:ext cx="1027080" cy="1079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Безымянный"/>
          <p:cNvPicPr/>
          <p:nvPr/>
        </p:nvPicPr>
        <p:blipFill>
          <a:blip r:embed="rId4"/>
          <a:stretch/>
        </p:blipFill>
        <p:spPr>
          <a:xfrm>
            <a:off x="826920" y="5877000"/>
            <a:ext cx="722520" cy="921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5"/>
          <p:cNvSpPr/>
          <p:nvPr/>
        </p:nvSpPr>
        <p:spPr>
          <a:xfrm>
            <a:off x="395280" y="5734080"/>
            <a:ext cx="20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остр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Ploughed_acre_20041012_2603"/>
          <p:cNvPicPr/>
          <p:nvPr/>
        </p:nvPicPr>
        <p:blipFill>
          <a:blip r:embed="rId1"/>
          <a:stretch/>
        </p:blipFill>
        <p:spPr>
          <a:xfrm>
            <a:off x="0" y="0"/>
            <a:ext cx="9144000" cy="126460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5"/>
          <p:cNvSpPr/>
          <p:nvPr/>
        </p:nvSpPr>
        <p:spPr>
          <a:xfrm>
            <a:off x="0" y="-20052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казка « Пахарь и  кро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Пахарь пахал землю. Вылез крот из своей норы и удивился: вспахано у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большое поле, а пахарь все пашет и пашет. Спрашивает кро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- Зачем ты вспахал такое большое поле и продолжаешь пахать ещ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ахарь отвечает: 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Я пашу не только себе, но и люд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71680"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Удивился крот:  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- Почему ты пашешь людям? Пусть каждый работает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71680"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себя. Вот я рою себе нору, и каждый крот роет себе но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- Но ведь вы же – кроты, а мы  - люди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- ответил пахарь и начал нову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бороз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В.А. Сухомли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74cd8f95070d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1235673017_heart"/>
          <p:cNvPicPr/>
          <p:nvPr/>
        </p:nvPicPr>
        <p:blipFill>
          <a:blip r:embed="rId2"/>
          <a:stretch/>
        </p:blipFill>
        <p:spPr>
          <a:xfrm>
            <a:off x="1916280" y="-458640"/>
            <a:ext cx="5725800" cy="6013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Безымянный"/>
          <p:cNvPicPr/>
          <p:nvPr/>
        </p:nvPicPr>
        <p:blipFill>
          <a:blip r:embed="rId3"/>
          <a:stretch/>
        </p:blipFill>
        <p:spPr>
          <a:xfrm>
            <a:off x="3203640" y="2492280"/>
            <a:ext cx="3024000" cy="2332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4"/>
          <p:cNvSpPr/>
          <p:nvPr/>
        </p:nvSpPr>
        <p:spPr>
          <a:xfrm>
            <a:off x="468360" y="2275560"/>
            <a:ext cx="813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cc"/>
                </a:solidFill>
                <a:latin typeface="Arial"/>
              </a:rPr>
              <a:t>Быть человеком – что это значи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cc"/>
                </a:solidFill>
                <a:latin typeface="Arial"/>
              </a:rPr>
              <a:t>Просто жалеть, если рядом - плач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cc"/>
                </a:solidFill>
                <a:latin typeface="Arial"/>
              </a:rPr>
              <a:t>Быть справедливым во всех деянь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cc"/>
                </a:solidFill>
                <a:latin typeface="Arial"/>
              </a:rPr>
              <a:t>Ближнего разделять страдан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57120" y="357120"/>
            <a:ext cx="850104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вый этап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. Целеполаг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дел “Нравственное воспитание” включен почти во все образовательные программы. Основа гуманного отношения к людям – способность к сопереживанию, к сочувствию – проявляется в самых разных жизненных ситуациях. Поэтому у детей нужно формировать не только представления о должном поведении или коммуникативные навыки, а прежде всего нравственные чув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торой этап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. Разработка проекта (подготовительный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вести до участников важность данной тем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метить план действ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судить план проекта с педагогическим коллектив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формировать родителей (законных представителей) с планом “Недели Добра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обрать наглядно-дидактический материал, художественную литературу (по теме проект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бор методической литературы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ретий этап. 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сновн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ализация основных видов деятельности по направлениям проек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твертый этап. 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тоговы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ключает в себя сбор и обработку методических и практических материалов, обобщение материалов проек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74cd8f95070d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4200" y="2357280"/>
            <a:ext cx="8639280" cy="331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"Твори добро, не видя в том заслуги"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3059280" y="5021280"/>
            <a:ext cx="5867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5508720" y="5877000"/>
            <a:ext cx="3240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500040" y="50004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брота- вещь удивительная, она, как ни что сближает. Доброта спасает от одиночества и душевных ран. Известный восточный поэт Саади прожил долгую жизнь, много повидал на своем веку. Его поэзия полна мудрости. Он жил в XIII веке, но его стихи актуальны и сейча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рогу правды сам найти старай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ошибкам ближнего не придирай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 чужих изъянах не кри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 на себя взгляни и помол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 тысячи лет назад Евангельская проповедь о любви к человеку словно молния озарила древний мир. Евангелие принесло в мир новые духовные цен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Веру, надежду, любовь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БР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ЭТО СОЛНЦЕ, КОТОРОЕ СОГРЕВАЕТ ДУШУ ЧЕЛОВЕКА. ВСЁ ХОРОШЕЕ В ПРИРОДЕ – СОЛНЦЕ, А ВСЁ ЛУЧШЕЕ В ЖИЗНИ ОТ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C:\Users\user\Desktop\праздники школы\посвящение в первоклассники\100_6640.JPG"/>
          <p:cNvPicPr/>
          <p:nvPr/>
        </p:nvPicPr>
        <p:blipFill>
          <a:blip r:embed="rId1"/>
          <a:stretch/>
        </p:blipFill>
        <p:spPr>
          <a:xfrm>
            <a:off x="4143240" y="3309840"/>
            <a:ext cx="4753080" cy="3168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user\Desktop\праздники школы\посвящение в первоклассники\100_6655.JPG"/>
          <p:cNvPicPr/>
          <p:nvPr/>
        </p:nvPicPr>
        <p:blipFill>
          <a:blip r:embed="rId2"/>
          <a:stretch/>
        </p:blipFill>
        <p:spPr>
          <a:xfrm>
            <a:off x="214200" y="1571760"/>
            <a:ext cx="514512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еквизит: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лакаты и высказывания, записанные на доске: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4038480" cy="358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А -аз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Б - бук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В - вед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Г - глаголь (говорить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 - добр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Ж - жи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З – земл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Л – люд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М – мыслит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Т – твори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Старая азбука как бы призывала: </a:t>
            </a: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«Люди Земли, мыслите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думайте и творите добро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Пусть эти слова будут девизом на всю вашу жизнь!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ка мы боль чужую чувствуе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ка живет в нас сострадань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ка живем, мечтаем, буйствуе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ть нашей жизни оправд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19280" y="1773360"/>
            <a:ext cx="3467160" cy="41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обрые сердца – это сады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обрые слова – это корни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обрые мысли это цветы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обрые дела – плоды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Добро и зло творить всег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Во власти всех люде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Но зло творится без тру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Добро – творить трудне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Рождает зверя зверь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Рождает птица птиц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От дорого добро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От злого зло родитьс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Добро, сколь ни было оно мал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Гораздо лучше, чем большое зло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(Низами Г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9" descr="1"/>
          <p:cNvPicPr/>
          <p:nvPr/>
        </p:nvPicPr>
        <p:blipFill>
          <a:blip r:embed="rId1"/>
          <a:stretch/>
        </p:blipFill>
        <p:spPr>
          <a:xfrm>
            <a:off x="0" y="-1971720"/>
            <a:ext cx="10333080" cy="10333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Безымянный"/>
          <p:cNvPicPr/>
          <p:nvPr/>
        </p:nvPicPr>
        <p:blipFill>
          <a:blip r:embed="rId2"/>
          <a:stretch/>
        </p:blipFill>
        <p:spPr>
          <a:xfrm>
            <a:off x="2411280" y="2421000"/>
            <a:ext cx="5327640" cy="1224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4"/>
          <p:cNvSpPr/>
          <p:nvPr/>
        </p:nvSpPr>
        <p:spPr>
          <a:xfrm>
            <a:off x="1619280" y="2126880"/>
            <a:ext cx="6804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Как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хорошо, что есть еще средь нас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Такие, что не требуют награды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Не слыша зов идут, идут, иду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И раздают добро и все им рад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4356000" y="1409400"/>
            <a:ext cx="403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Если кому-то помо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воя доброта, и улыбка тво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о день не напрасно был прожи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начит, живешь ты не зр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tereza1"/>
          <p:cNvPicPr/>
          <p:nvPr/>
        </p:nvPicPr>
        <p:blipFill>
          <a:blip r:embed="rId1"/>
          <a:stretch/>
        </p:blipFill>
        <p:spPr>
          <a:xfrm>
            <a:off x="971640" y="1052640"/>
            <a:ext cx="2928960" cy="3528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1235673017_heart"/>
          <p:cNvPicPr/>
          <p:nvPr/>
        </p:nvPicPr>
        <p:blipFill>
          <a:blip r:embed="rId2"/>
          <a:stretch/>
        </p:blipFill>
        <p:spPr>
          <a:xfrm>
            <a:off x="7740720" y="189000"/>
            <a:ext cx="1027080" cy="1079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Безымянный"/>
          <p:cNvPicPr/>
          <p:nvPr/>
        </p:nvPicPr>
        <p:blipFill>
          <a:blip r:embed="rId3"/>
          <a:stretch/>
        </p:blipFill>
        <p:spPr>
          <a:xfrm>
            <a:off x="7883640" y="692280"/>
            <a:ext cx="722160" cy="918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9"/>
          <p:cNvSpPr/>
          <p:nvPr/>
        </p:nvSpPr>
        <p:spPr>
          <a:xfrm>
            <a:off x="7380360" y="476280"/>
            <a:ext cx="20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остр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3419640" y="1340280"/>
            <a:ext cx="5975280" cy="31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Тереза Мать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! – услышал 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 сразу так тепло вдруг ст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едь мама мне добро д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 Мать Тереза о добре мечт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на лечила всех, кого мог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 помогала и больным и нищ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Ей безразлична нация бы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ча добр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торенных дорог не ищ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MotherTheresa-1"/>
          <p:cNvPicPr/>
          <p:nvPr/>
        </p:nvPicPr>
        <p:blipFill>
          <a:blip r:embed="rId1"/>
          <a:stretch/>
        </p:blipFill>
        <p:spPr>
          <a:xfrm>
            <a:off x="179280" y="981000"/>
            <a:ext cx="4498920" cy="4321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1235673017_heart"/>
          <p:cNvPicPr/>
          <p:nvPr/>
        </p:nvPicPr>
        <p:blipFill>
          <a:blip r:embed="rId2"/>
          <a:stretch/>
        </p:blipFill>
        <p:spPr>
          <a:xfrm>
            <a:off x="7885080" y="5589720"/>
            <a:ext cx="1027080" cy="1079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Безымянный"/>
          <p:cNvPicPr/>
          <p:nvPr/>
        </p:nvPicPr>
        <p:blipFill>
          <a:blip r:embed="rId3"/>
          <a:stretch/>
        </p:blipFill>
        <p:spPr>
          <a:xfrm>
            <a:off x="8028000" y="6093000"/>
            <a:ext cx="722160" cy="918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3"/>
          <p:cNvSpPr/>
          <p:nvPr/>
        </p:nvSpPr>
        <p:spPr>
          <a:xfrm>
            <a:off x="7881840" y="5950080"/>
            <a:ext cx="12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Любо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10:23:30Z</dcterms:created>
  <dc:creator>МОУ "СОШ№6"</dc:creator>
  <dc:description/>
  <dc:language>en-US</dc:language>
  <cp:lastModifiedBy>user</cp:lastModifiedBy>
  <dcterms:modified xsi:type="dcterms:W3CDTF">2017-03-11T18:12:20Z</dcterms:modified>
  <cp:revision>48</cp:revision>
  <dc:subject/>
  <dc:title>Слайд 1</dc:title>
</cp:coreProperties>
</file>