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21FC-CC4B-4D58-B8A1-CE6D3C106E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8BB5-06ED-4138-BB8A-443550F0909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BE02-2FD4-4EA4-A20E-CB3D25F205A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D625-80AF-4593-A7DD-4F0F94B4535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90A9-07D5-402D-BD12-51A269FD3D5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45FE-3E8D-49A0-902D-A284E98295C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FA20-BF9D-4292-83B4-E80AEC08591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07D4-3343-4474-82BF-D9DC413D4A6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50A6-BC61-4B86-9575-F5046AEF62A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B6BA-F7D9-4460-9838-BDB032975DA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3AF1-D68E-45CF-92E9-E520468A238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12B3-16E7-468F-8DCB-623F823BCCE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DE47-6D2C-4DC7-BBC3-CB5016ADBFF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2308-31D5-4368-A64B-AEF44EF9987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C0C9-7D4A-48B9-9101-AEC9240C865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7C12-E9DB-4B4B-8308-4D5FC65AA68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9E9-EBFB-4954-A862-9230FCCB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1EE-B4C0-4128-8684-7CBE75D3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904-FB1B-4A12-83D5-B293894B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090-BA93-44D2-A2A6-8F8FDAB4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165D-D7FF-45A4-BF92-E7E2A5A9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EA86-B4B1-4E26-83DB-2B24AB9D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D58A-B484-4150-B360-4ADF843A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DA54-C9B3-41D8-A1DB-B2AE51F0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6DE8-7E47-4485-AE80-A37AFD1D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48B1-6468-4D17-A081-227D5168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F3A3-E17A-496E-8A2B-D1D923F8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285-FCAB-47AB-9603-ED07F172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FF91-E60B-48E0-BD8D-FDF92885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FE66-6924-4A64-9986-40141C9B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930E-94E0-4EC7-86D1-F40925E5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5D3E-73C5-4827-B8D3-5EECB4D1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DD82-8D44-4C7F-871B-8E241FA4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B77-8297-4D7A-AB44-55964B6B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5C0-0D1F-4D50-8B3D-AF6B5F42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968-3D97-4830-AF71-FFF06469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CC6-3FC6-4021-AA17-7ADF7FEE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A5C-F965-4D53-87D0-D6D142C0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940-BFBB-4220-AE10-77887169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540-FF47-4104-B654-B6E9728C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B881-E5C9-4889-84C7-A53E8D7535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2954-D9CF-441D-8E45-DCB6D6A06C2D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Тема: «Оказание помощи терпящим бедствие на воде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87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иемы буксировки тон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5714640"/>
            <a:ext cx="900108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ксировка пострадавшего с захватом выше локте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Содержимое 4" descr="C:\Users\Руслан\Desktop\урок откр\Охрана жизни людей на воде1.files\8.gif"/>
          <p:cNvPicPr/>
          <p:nvPr/>
        </p:nvPicPr>
        <p:blipFill>
          <a:blip r:embed="rId1"/>
          <a:stretch/>
        </p:blipFill>
        <p:spPr>
          <a:xfrm>
            <a:off x="1071720" y="928800"/>
            <a:ext cx="6858000" cy="4857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иемы буксировки тон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5857920"/>
            <a:ext cx="900108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уксировка пострадавшего с захватом за волос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Содержимое 4" descr="C:\Users\Руслан\Desktop\урок откр\Охрана жизни людей на воде1.files\9.gif"/>
          <p:cNvPicPr/>
          <p:nvPr/>
        </p:nvPicPr>
        <p:blipFill>
          <a:blip r:embed="rId1"/>
          <a:stretch/>
        </p:blipFill>
        <p:spPr>
          <a:xfrm>
            <a:off x="1071720" y="1000080"/>
            <a:ext cx="6929280" cy="4929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8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нос пострадавшего из в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6119640"/>
            <a:ext cx="8643960" cy="5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а - на плечах; б - с упором на бедр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Содержимое 4" descr="C:\Users\Руслан\Desktop\урок откр\Охрана жизни людей на воде3.files\18.gif"/>
          <p:cNvPicPr/>
          <p:nvPr/>
        </p:nvPicPr>
        <p:blipFill>
          <a:blip r:embed="rId1"/>
          <a:stretch/>
        </p:blipFill>
        <p:spPr>
          <a:xfrm>
            <a:off x="857160" y="1000080"/>
            <a:ext cx="7286760" cy="5072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image008"/>
          <p:cNvPicPr/>
          <p:nvPr/>
        </p:nvPicPr>
        <p:blipFill>
          <a:blip r:embed="rId1"/>
          <a:stretch/>
        </p:blipFill>
        <p:spPr>
          <a:xfrm>
            <a:off x="3708360" y="5157720"/>
            <a:ext cx="3024360" cy="15177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7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Азбука» элементарной реаним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214280"/>
            <a:ext cx="618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звать скорую помощ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далить воду из легки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ценить состояние утопающег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оверить дыха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оверить пуль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ступить к реанимац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свободить дыхательные пути от инородных предме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скусственное дыха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прямой массаж сердц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Реанимировать до прибытия скорой помощ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5" descr="112s"/>
          <p:cNvPicPr/>
          <p:nvPr/>
        </p:nvPicPr>
        <p:blipFill>
          <a:blip r:embed="rId2"/>
          <a:stretch/>
        </p:blipFill>
        <p:spPr>
          <a:xfrm>
            <a:off x="6516720" y="1700280"/>
            <a:ext cx="24350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очная работа  «Реанимация утопающего»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еобходимо расположить этапы реанимации утопающего по очередности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)Оценить состояние утопающего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)вызвать скорую помощ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)Проверить дыха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)удалить воду из легки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5)искусственное дыхани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6)освободить дыхательные пути от инородных предмето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7)реанимировать до прибытия скорой помощ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8)приступить к реанимаци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9) проверить пуль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0) непрямой массаж сердц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Arial"/>
              </a:rPr>
              <a:t>2,4,1,3,9.8,6.5,10,7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0 ошибок- «5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1 ошибка – «4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2 ошибки – «3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Более 2 ошибок – «2»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торить правила оказания помощи терпящим бедствие на вод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*Найдите в художественной литературе примеры спасения человека на воде. Подготовьте сообщ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3" descr="E:\Фото\sitecontents_images_small_3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61" name="Прямоугольник 3" descr=""/>
          <p:cNvPicPr/>
          <p:nvPr/>
        </p:nvPicPr>
        <p:blipFill>
          <a:blip r:embed="rId2"/>
          <a:stretch/>
        </p:blipFill>
        <p:spPr>
          <a:xfrm>
            <a:off x="487440" y="1096920"/>
            <a:ext cx="81565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571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Цель: </a:t>
            </a: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познакомить учащихся с основными способами оказания помощи терпящим бедствие на воде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5400" y="500040"/>
            <a:ext cx="82263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Оказание помощи терпящим бедствие на воде подразделяется на </a:t>
            </a:r>
            <a:r>
              <a:rPr b="0" lang="ru-RU" sz="3600" spc="-1" strike="noStrike" u="sng">
                <a:solidFill>
                  <a:srgbClr val="eaeaea"/>
                </a:solidFill>
                <a:uFillTx/>
                <a:latin typeface="Arial"/>
              </a:rPr>
              <a:t>оказание помощи уставшему пловцу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и </a:t>
            </a:r>
            <a:r>
              <a:rPr b="0" lang="ru-RU" sz="3600" spc="-1" strike="noStrike" u="sng">
                <a:solidFill>
                  <a:srgbClr val="eaeaea"/>
                </a:solidFill>
                <a:uFillTx/>
                <a:latin typeface="Arial"/>
              </a:rPr>
              <a:t>спасание тонущего.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 Также необходимо знать как </a:t>
            </a:r>
            <a:r>
              <a:rPr b="0" lang="ru-RU" sz="3600" spc="-1" strike="noStrike" u="sng">
                <a:solidFill>
                  <a:srgbClr val="eaeaea"/>
                </a:solidFill>
                <a:uFillTx/>
                <a:latin typeface="Arial"/>
              </a:rPr>
              <a:t>освобождаться от захватов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 тонущего и </a:t>
            </a:r>
            <a:r>
              <a:rPr b="0" lang="ru-RU" sz="3600" spc="-1" strike="noStrike" u="sng">
                <a:solidFill>
                  <a:srgbClr val="eaeaea"/>
                </a:solidFill>
                <a:uFillTx/>
                <a:latin typeface="Arial"/>
              </a:rPr>
              <a:t>как делать искусственное дыхание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857160"/>
            <a:ext cx="822636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казание помощи уставшему пловцу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5857920"/>
            <a:ext cx="91440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мощь, оказываемая уставшему пловцу одним спасателе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Содержимое 6" descr="C:\Users\Руслан\Desktop\урок откр\Охрана жизни людей на воде1.files\1.gif"/>
          <p:cNvPicPr/>
          <p:nvPr/>
        </p:nvPicPr>
        <p:blipFill>
          <a:blip r:embed="rId1"/>
          <a:stretch/>
        </p:blipFill>
        <p:spPr>
          <a:xfrm>
            <a:off x="714240" y="1428840"/>
            <a:ext cx="7643880" cy="42861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571320"/>
            <a:ext cx="8226360" cy="84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Оказание помощи уставшему пловцу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8760" y="5572080"/>
            <a:ext cx="82152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казание помощи пострадавшему двумя спасателя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Содержимое 4" descr="C:\Users\Руслан\Desktop\урок откр\Охрана жизни людей на воде1.files\3.gif"/>
          <p:cNvPicPr/>
          <p:nvPr/>
        </p:nvPicPr>
        <p:blipFill>
          <a:blip r:embed="rId1"/>
          <a:stretch/>
        </p:blipFill>
        <p:spPr>
          <a:xfrm>
            <a:off x="571680" y="1357200"/>
            <a:ext cx="7858080" cy="41436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5714640"/>
            <a:ext cx="822636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а - подплывание под водой, б - поворачивание утопающего, в - выход из воды за спиной спасаемого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Содержимое 3" descr="C:\Users\Руслан\Desktop\урок откр\Охрана жизни людей на воде2.files\4.gif"/>
          <p:cNvPicPr/>
          <p:nvPr/>
        </p:nvPicPr>
        <p:blipFill>
          <a:blip r:embed="rId1"/>
          <a:stretch/>
        </p:blipFill>
        <p:spPr>
          <a:xfrm>
            <a:off x="428760" y="1285920"/>
            <a:ext cx="8072280" cy="42861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230" name=""/>
          <p:cNvSpPr txBox="1"/>
          <p:nvPr/>
        </p:nvSpPr>
        <p:spPr>
          <a:xfrm>
            <a:off x="285480" y="285480"/>
            <a:ext cx="842940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еры, упреждающие захват утопающим спасател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иемы буксировки тонущего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85840" y="6000840"/>
            <a:ext cx="85723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уксировка пострадавшего за голов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Содержимое 4" descr="C:\Users\Руслан\Desktop\урок откр\Охрана жизни людей на воде1.files\5.gif"/>
          <p:cNvPicPr/>
          <p:nvPr/>
        </p:nvPicPr>
        <p:blipFill>
          <a:blip r:embed="rId1"/>
          <a:stretch/>
        </p:blipFill>
        <p:spPr>
          <a:xfrm>
            <a:off x="1071720" y="785880"/>
            <a:ext cx="7000560" cy="528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иемы буксировки тон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2920" y="5928840"/>
            <a:ext cx="885816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уксировка пострадавшего с захватом под мышк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Содержимое 4" descr="C:\Users\Руслан\Desktop\урок откр\Охрана жизни людей на воде1.files\6.gif"/>
          <p:cNvPicPr/>
          <p:nvPr/>
        </p:nvPicPr>
        <p:blipFill>
          <a:blip r:embed="rId1"/>
          <a:stretch/>
        </p:blipFill>
        <p:spPr>
          <a:xfrm>
            <a:off x="1500120" y="1143000"/>
            <a:ext cx="6143760" cy="4929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Приемы буксировки тон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5857920"/>
            <a:ext cx="91440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Буксировка пострадавшего с захватом под рук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Содержимое 4" descr="C:\Users\Руслан\Desktop\урок откр\Охрана жизни людей на воде1.files\7.gif"/>
          <p:cNvPicPr/>
          <p:nvPr/>
        </p:nvPicPr>
        <p:blipFill>
          <a:blip r:embed="rId1"/>
          <a:stretch/>
        </p:blipFill>
        <p:spPr>
          <a:xfrm>
            <a:off x="1285920" y="1357200"/>
            <a:ext cx="6357960" cy="4643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47:10Z</dcterms:created>
  <dc:creator>User</dc:creator>
  <dc:description/>
  <dc:language>en-US</dc:language>
  <cp:lastModifiedBy>Admin</cp:lastModifiedBy>
  <dcterms:modified xsi:type="dcterms:W3CDTF">2018-10-22T11:55:38Z</dcterms:modified>
  <cp:revision>37</cp:revision>
  <dc:subject/>
  <dc:title>Первая помощь при остановке сердца</dc:title>
</cp:coreProperties>
</file>