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0671-AB2E-4FCA-AA96-4E70CECEB9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2F58-5D43-4C78-AA76-4D9B8FCEAF4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3D98-0D88-4497-95A0-5A8C73A6D4A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FAF4-1E16-4B4D-ACF5-2AA1A674CBE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B7A4-4669-42A7-B02C-C44516AA953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2020-B0C4-42C5-BF8C-9B42281B9C1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BA34-E954-44CC-92C7-76DE4B5B516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E1A2-D73A-42B9-A328-0FE963B5D43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5ED0-DB97-4AA4-8433-10EDD29ED08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E991-EDB5-4204-910E-729D9D8CD17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1D37-9C95-4A7B-967A-4EC38D0492E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520F-84F1-4D30-A7C3-09889000D20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8A6C-3D27-411B-8C46-22837F290C6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264F-7CC7-40D9-81E2-054769DDD18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24B2-0E99-408C-AE1D-B2224937191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5953-E74C-4292-8F1F-B2FFD568E46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16D1-AC97-4C7C-8609-C0EDCCDC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C968-8493-4347-910A-B236037B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0F3B-3C83-4741-B6F3-12B70C0E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6A28-72FD-4D7A-AD70-299EF0A1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D91B-770A-4429-BAF8-96D9564B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9EF6-3B78-4277-8C23-5CFD9DDA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ED72-F538-4C52-AB15-A0049D90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2B44-C19A-421A-8BC0-174F9F20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08E2-A427-45D9-99DC-EAF20006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5BF7-B539-486A-BC49-0FF9160F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73F9-FF5B-497E-92E8-0AABCD43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F849-234E-4FDD-A92D-B7790AFA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8C17-EAD5-40BB-9F13-A903306E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6A4B-6EAE-4505-BD6A-40B1E928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9FE5-84CB-4622-8607-195A1C0F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EDB9-FE21-4F68-BD5A-D1719BCF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B1F5-5DEC-40B8-A5F4-D1161DF0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A1FB-0E13-43DC-91C2-0A4DCFD2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33EA-80B8-421C-87BC-62713963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1B43-4F5C-4293-B21F-00C57DD9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3656-3BA9-4535-B624-D713CAD9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FB8C-4064-4F7A-AE5F-FF8497A7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521F-AA01-4E8D-9E46-AC136255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68D4-DF23-4F7B-A506-46351FCF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00C8-4D2D-4DA4-BF65-22D8AC9F14D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DC50-B7C3-405D-9F19-2E6B3CBA74DD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Тема: «Оказание помощи терпящим бедствие на воде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87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риемы буксировки тонущег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5714640"/>
            <a:ext cx="9001080" cy="7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уксировка пострадавшего с захватом выше локте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2" name="Содержимое 4" descr="C:\Users\Руслан\Desktop\урок откр\Охрана жизни людей на воде1.files\8.gif"/>
          <p:cNvPicPr/>
          <p:nvPr/>
        </p:nvPicPr>
        <p:blipFill>
          <a:blip r:embed="rId1"/>
          <a:stretch/>
        </p:blipFill>
        <p:spPr>
          <a:xfrm>
            <a:off x="1071720" y="928800"/>
            <a:ext cx="6858000" cy="4857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72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риемы буксировки тонущег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5857920"/>
            <a:ext cx="9001080" cy="7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Буксировка пострадавшего с захватом за волос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5" name="Содержимое 4" descr="C:\Users\Руслан\Desktop\урок откр\Охрана жизни людей на воде1.files\9.gif"/>
          <p:cNvPicPr/>
          <p:nvPr/>
        </p:nvPicPr>
        <p:blipFill>
          <a:blip r:embed="rId1"/>
          <a:stretch/>
        </p:blipFill>
        <p:spPr>
          <a:xfrm>
            <a:off x="1071720" y="1000080"/>
            <a:ext cx="6929280" cy="4929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798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ынос пострадавшего из во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6119640"/>
            <a:ext cx="8643960" cy="5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а - на плечах; б - с упором на бедр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Содержимое 4" descr="C:\Users\Руслан\Desktop\урок откр\Охрана жизни людей на воде3.files\18.gif"/>
          <p:cNvPicPr/>
          <p:nvPr/>
        </p:nvPicPr>
        <p:blipFill>
          <a:blip r:embed="rId1"/>
          <a:stretch/>
        </p:blipFill>
        <p:spPr>
          <a:xfrm>
            <a:off x="857160" y="1000080"/>
            <a:ext cx="7286760" cy="5072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image008"/>
          <p:cNvPicPr/>
          <p:nvPr/>
        </p:nvPicPr>
        <p:blipFill>
          <a:blip r:embed="rId1"/>
          <a:stretch/>
        </p:blipFill>
        <p:spPr>
          <a:xfrm>
            <a:off x="3708360" y="5157720"/>
            <a:ext cx="3024360" cy="15177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72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Азбука» элементарной реанимац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214280"/>
            <a:ext cx="618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ызвать скорую помощь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далить воду из легки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ценить состояние утопающег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оверить дыхани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оверить пуль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иступить к реанимац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свободить дыхательные пути от инородных предме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Искусственное дыхани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епрямой массаж сердц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Реанимировать до прибытия скорой помощ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2" name="Picture 5" descr="112s"/>
          <p:cNvPicPr/>
          <p:nvPr/>
        </p:nvPicPr>
        <p:blipFill>
          <a:blip r:embed="rId2"/>
          <a:stretch/>
        </p:blipFill>
        <p:spPr>
          <a:xfrm>
            <a:off x="6516720" y="1700280"/>
            <a:ext cx="24350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верочная работа  «Реанимация утопающего»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еобходимо расположить этапы реанимации утопающего по очередности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)Оценить состояние утопающег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)вызвать скорую помощь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)Проверить дыхани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)удалить воду из легки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5)искусственное дыхани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6)освободить дыхательные пути от инородных предме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7)реанимировать до прибытия скорой помощ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8)приступить к реанимац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9) проверить пуль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0) непрямой массаж сердц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aeaea"/>
                </a:solidFill>
                <a:latin typeface="Arial"/>
              </a:rPr>
              <a:t>2,4,1,3,9.8,6.5,10,7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0 ошибок- «5»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1 ошибка – «4»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2 ошибки – «3»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Более 2 ошибок – «2»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торить правила оказания помощи терпящим бедствие на вод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*Найдите в художественной литературе примеры спасения человека на воде. Подготовьте сообщени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Picture 3" descr="E:\Фото\sitecontents_images_small_3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61" name="Прямоугольник 3" descr=""/>
          <p:cNvPicPr/>
          <p:nvPr/>
        </p:nvPicPr>
        <p:blipFill>
          <a:blip r:embed="rId2"/>
          <a:stretch/>
        </p:blipFill>
        <p:spPr>
          <a:xfrm>
            <a:off x="487440" y="1096920"/>
            <a:ext cx="815652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71320" y="1571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Цель: </a:t>
            </a: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познакомить учащихся с основными способами оказания помощи терпящим бедствие на воде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5400" y="500040"/>
            <a:ext cx="82263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Оказание помощи терпящим бедствие на воде подразделяется на </a:t>
            </a:r>
            <a:r>
              <a:rPr b="0" lang="ru-RU" sz="3600" spc="-1" strike="noStrike" u="sng">
                <a:solidFill>
                  <a:srgbClr val="eaeaea"/>
                </a:solidFill>
                <a:uFillTx/>
                <a:latin typeface="Arial"/>
              </a:rPr>
              <a:t>оказание помощи уставшему пловцу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 и </a:t>
            </a:r>
            <a:r>
              <a:rPr b="0" lang="ru-RU" sz="3600" spc="-1" strike="noStrike" u="sng">
                <a:solidFill>
                  <a:srgbClr val="eaeaea"/>
                </a:solidFill>
                <a:uFillTx/>
                <a:latin typeface="Arial"/>
              </a:rPr>
              <a:t>спасание тонущего.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  Также необходимо знать как </a:t>
            </a:r>
            <a:r>
              <a:rPr b="0" lang="ru-RU" sz="3600" spc="-1" strike="noStrike" u="sng">
                <a:solidFill>
                  <a:srgbClr val="eaeaea"/>
                </a:solidFill>
                <a:uFillTx/>
                <a:latin typeface="Arial"/>
              </a:rPr>
              <a:t>освобождаться от захватов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 тонущего и </a:t>
            </a:r>
            <a:r>
              <a:rPr b="0" lang="ru-RU" sz="3600" spc="-1" strike="noStrike" u="sng">
                <a:solidFill>
                  <a:srgbClr val="eaeaea"/>
                </a:solidFill>
                <a:uFillTx/>
                <a:latin typeface="Arial"/>
              </a:rPr>
              <a:t>как делать искусственное дыхание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857160"/>
            <a:ext cx="822636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Оказание помощи уставшему пловцу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5857920"/>
            <a:ext cx="9144000" cy="7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мощь, оказываемая уставшему пловцу одним спасателе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Содержимое 6" descr="C:\Users\Руслан\Desktop\урок откр\Охрана жизни людей на воде1.files\1.gif"/>
          <p:cNvPicPr/>
          <p:nvPr/>
        </p:nvPicPr>
        <p:blipFill>
          <a:blip r:embed="rId1"/>
          <a:stretch/>
        </p:blipFill>
        <p:spPr>
          <a:xfrm>
            <a:off x="714240" y="1428840"/>
            <a:ext cx="7643880" cy="42861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571320"/>
            <a:ext cx="8226360" cy="84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Оказание помощи уставшему пловцу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28760" y="5572080"/>
            <a:ext cx="82152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казание помощи пострадавшему двумя спасателям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Содержимое 4" descr="C:\Users\Руслан\Desktop\урок откр\Охрана жизни людей на воде1.files\3.gif"/>
          <p:cNvPicPr/>
          <p:nvPr/>
        </p:nvPicPr>
        <p:blipFill>
          <a:blip r:embed="rId1"/>
          <a:stretch/>
        </p:blipFill>
        <p:spPr>
          <a:xfrm>
            <a:off x="571680" y="1357200"/>
            <a:ext cx="7858080" cy="41436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5714640"/>
            <a:ext cx="822636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а - подплывание под водой, б - поворачивание утопающего, в - выход из воды за спиной спасаемого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Содержимое 3" descr="C:\Users\Руслан\Desktop\урок откр\Охрана жизни людей на воде2.files\4.gif"/>
          <p:cNvPicPr/>
          <p:nvPr/>
        </p:nvPicPr>
        <p:blipFill>
          <a:blip r:embed="rId1"/>
          <a:stretch/>
        </p:blipFill>
        <p:spPr>
          <a:xfrm>
            <a:off x="428760" y="1285920"/>
            <a:ext cx="8072280" cy="42861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230" name=""/>
          <p:cNvSpPr txBox="1"/>
          <p:nvPr/>
        </p:nvSpPr>
        <p:spPr>
          <a:xfrm>
            <a:off x="285480" y="285480"/>
            <a:ext cx="842940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Меры, упреждающие захват утопающим спасател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риемы буксировки тонущего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85840" y="6000840"/>
            <a:ext cx="857232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Буксировка пострадавшего за голов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Содержимое 4" descr="C:\Users\Руслан\Desktop\урок откр\Охрана жизни людей на воде1.files\5.gif"/>
          <p:cNvPicPr/>
          <p:nvPr/>
        </p:nvPicPr>
        <p:blipFill>
          <a:blip r:embed="rId1"/>
          <a:stretch/>
        </p:blipFill>
        <p:spPr>
          <a:xfrm>
            <a:off x="1071720" y="785880"/>
            <a:ext cx="7000560" cy="5286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риемы буксировки тонущег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42920" y="5928840"/>
            <a:ext cx="8858160" cy="7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Буксировка пострадавшего с захватом под мышк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Содержимое 4" descr="C:\Users\Руслан\Desktop\урок откр\Охрана жизни людей на воде1.files\6.gif"/>
          <p:cNvPicPr/>
          <p:nvPr/>
        </p:nvPicPr>
        <p:blipFill>
          <a:blip r:embed="rId1"/>
          <a:stretch/>
        </p:blipFill>
        <p:spPr>
          <a:xfrm>
            <a:off x="1500120" y="1143000"/>
            <a:ext cx="6143760" cy="4929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риемы буксировки тонущег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5857920"/>
            <a:ext cx="914400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Буксировка пострадавшего с захватом под руку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Содержимое 4" descr="C:\Users\Руслан\Desktop\урок откр\Охрана жизни людей на воде1.files\7.gif"/>
          <p:cNvPicPr/>
          <p:nvPr/>
        </p:nvPicPr>
        <p:blipFill>
          <a:blip r:embed="rId1"/>
          <a:stretch/>
        </p:blipFill>
        <p:spPr>
          <a:xfrm>
            <a:off x="1285920" y="1357200"/>
            <a:ext cx="6357960" cy="4643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4:47:10Z</dcterms:created>
  <dc:creator>User</dc:creator>
  <dc:description/>
  <dc:language>en-US</dc:language>
  <cp:lastModifiedBy>Admin</cp:lastModifiedBy>
  <dcterms:modified xsi:type="dcterms:W3CDTF">2018-10-22T11:55:38Z</dcterms:modified>
  <cp:revision>37</cp:revision>
  <dc:subject/>
  <dc:title>Первая помощь при остановке сердца</dc:title>
</cp:coreProperties>
</file>