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D1AE-15E9-4F10-9FD6-C2FFBE4C2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A33D-4279-49AC-9DC0-099AD7BE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A936-473C-4B25-9DDF-9BF23CADC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A5A9-121C-4458-83B3-F417B8E7A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0EEF-4A6F-4F5A-AE04-470750CC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19E0-6A3B-4E88-BA06-98FC25B2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2C72-256F-414E-A000-30E07CC0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2BEE-E2BA-40D5-8FDA-6AF1264C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B4BE-B037-4FFE-84E4-9FA4705A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79E4-BA07-4DC6-ABEA-0FA6F204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1035-7E12-4709-AA10-80C773A0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FA4A-5870-43CE-B16F-564D0678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BB1D-1F11-44EF-B09E-9BFA91A4438A}" type="slidenum">
              <a:rPr b="0" lang="ru-RU" sz="14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2195640" y="1413000"/>
            <a:ext cx="5832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611280" y="1916280"/>
            <a:ext cx="7848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Прямоугольник 5"/>
          <p:cNvSpPr/>
          <p:nvPr/>
        </p:nvSpPr>
        <p:spPr>
          <a:xfrm rot="2564400">
            <a:off x="1331640" y="2491920"/>
            <a:ext cx="1655640" cy="981000"/>
          </a:xfrm>
          <a:prstGeom prst="rect">
            <a:avLst/>
          </a:prstGeom>
          <a:solidFill>
            <a:srgbClr val="746ca4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Равнобедренный треугольник 6"/>
          <p:cNvSpPr/>
          <p:nvPr/>
        </p:nvSpPr>
        <p:spPr>
          <a:xfrm rot="19362600">
            <a:off x="6300720" y="2060280"/>
            <a:ext cx="1604880" cy="1404720"/>
          </a:xfrm>
          <a:prstGeom prst="triangle">
            <a:avLst>
              <a:gd name="adj" fmla="val 20106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Прямоугольник 8"/>
          <p:cNvSpPr/>
          <p:nvPr/>
        </p:nvSpPr>
        <p:spPr>
          <a:xfrm>
            <a:off x="3995640" y="2060640"/>
            <a:ext cx="1368360" cy="12970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1619280" y="42552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иметр многоугольн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5724360" y="4581360"/>
            <a:ext cx="1943280" cy="9367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11"/>
          <p:cNvSpPr/>
          <p:nvPr/>
        </p:nvSpPr>
        <p:spPr>
          <a:xfrm rot="18252600">
            <a:off x="2232000" y="3825360"/>
            <a:ext cx="1944360" cy="1008000"/>
          </a:xfrm>
          <a:prstGeom prst="triangle">
            <a:avLst>
              <a:gd name="adj" fmla="val 3241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4"/>
          <p:cNvSpPr txBox="1"/>
          <p:nvPr/>
        </p:nvSpPr>
        <p:spPr>
          <a:xfrm rot="20979600">
            <a:off x="1402920" y="1197000"/>
            <a:ext cx="712944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6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рок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0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4"/>
          <p:cNvSpPr/>
          <p:nvPr/>
        </p:nvSpPr>
        <p:spPr>
          <a:xfrm>
            <a:off x="971640" y="1413000"/>
            <a:ext cx="1057320" cy="914400"/>
          </a:xfrm>
          <a:prstGeom prst="triangle">
            <a:avLst>
              <a:gd name="adj" fmla="val 7838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189080" y="242100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 с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85800" y="155736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7 с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979640" y="1700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5 с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4281480" y="1125360"/>
            <a:ext cx="31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Arial"/>
                <a:ea typeface="Arial"/>
              </a:rPr>
              <a:t>7 + 5 + 3 = </a:t>
            </a:r>
            <a:r>
              <a:rPr b="0" lang="ru-RU" sz="2400" spc="-1" strike="noStrike">
                <a:solidFill>
                  <a:srgbClr val="00cc00"/>
                </a:solidFill>
                <a:latin typeface="Times New Roman"/>
                <a:ea typeface="Arial"/>
              </a:rPr>
              <a:t>?  </a:t>
            </a:r>
            <a:r>
              <a:rPr b="0" lang="ru-RU" sz="2400" spc="-1" strike="noStrike">
                <a:solidFill>
                  <a:srgbClr val="00cc00"/>
                </a:solidFill>
                <a:latin typeface="Arial"/>
                <a:ea typeface="Arial"/>
              </a:rPr>
              <a:t>(см) – 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7"/>
          <p:cNvSpPr/>
          <p:nvPr/>
        </p:nvSpPr>
        <p:spPr>
          <a:xfrm>
            <a:off x="2299320" y="0"/>
            <a:ext cx="41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РЕШЕНИЕ   ЗАДА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НАЙТИ ПЕРИМЕТР  ФИГУ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7"/>
          <p:cNvSpPr/>
          <p:nvPr/>
        </p:nvSpPr>
        <p:spPr>
          <a:xfrm rot="1585800">
            <a:off x="755640" y="3645000"/>
            <a:ext cx="1368360" cy="1334880"/>
          </a:xfrm>
          <a:prstGeom prst="rect">
            <a:avLst/>
          </a:prstGeom>
          <a:solidFill>
            <a:srgbClr val="f05a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4211640" y="29242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Times New Roman"/>
              </a:rPr>
              <a:t>5 + 5 + 5 + 5 = ?  (см) – 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2286360" y="458136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 с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611280" y="549360"/>
            <a:ext cx="2089080" cy="1008000"/>
          </a:xfrm>
          <a:prstGeom prst="rect">
            <a:avLst/>
          </a:prstGeom>
          <a:solidFill>
            <a:srgbClr val="6837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188360" y="1628640"/>
            <a:ext cx="56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7 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1080" y="907920"/>
            <a:ext cx="56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4 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4258080" y="476280"/>
            <a:ext cx="411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Arial"/>
                <a:ea typeface="Arial"/>
              </a:rPr>
              <a:t>Р - ?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Arial"/>
                <a:ea typeface="Arial"/>
              </a:rPr>
              <a:t>Решение: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6"/>
          <p:cNvSpPr/>
          <p:nvPr/>
        </p:nvSpPr>
        <p:spPr>
          <a:xfrm>
            <a:off x="1167840" y="189000"/>
            <a:ext cx="56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7 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2772720" y="981000"/>
            <a:ext cx="56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4 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1924920" y="260280"/>
            <a:ext cx="63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ВЕРНО  ЛИ  НАЙДЕН  ПЕРИМЕТР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755640" y="1413000"/>
            <a:ext cx="2016000" cy="865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2320" y="1471680"/>
            <a:ext cx="6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6 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1354320" y="83664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0 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3059280" y="105264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)   Р = 6 + 10 = 16 (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11"/>
          <p:cNvSpPr/>
          <p:nvPr/>
        </p:nvSpPr>
        <p:spPr>
          <a:xfrm rot="18079200">
            <a:off x="574560" y="2589120"/>
            <a:ext cx="1944720" cy="1008000"/>
          </a:xfrm>
          <a:prstGeom prst="triangle">
            <a:avLst>
              <a:gd name="adj" fmla="val 23593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918000" y="24796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9 с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413280" y="34876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5 с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1977120" y="32004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7 с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3132000" y="2997360"/>
            <a:ext cx="366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)   Р =  9+7+5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 (с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7"/>
          <p:cNvSpPr/>
          <p:nvPr/>
        </p:nvSpPr>
        <p:spPr>
          <a:xfrm rot="1837800">
            <a:off x="826560" y="5084280"/>
            <a:ext cx="1944720" cy="1008360"/>
          </a:xfrm>
          <a:prstGeom prst="rect">
            <a:avLst/>
          </a:prstGeom>
          <a:solidFill>
            <a:srgbClr val="b2384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236880" y="465300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4 д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1713240" y="465300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8 д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0"/>
          <p:cNvSpPr/>
          <p:nvPr/>
        </p:nvSpPr>
        <p:spPr>
          <a:xfrm>
            <a:off x="3348000" y="4941720"/>
            <a:ext cx="42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3)  Р = 4 + 8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+ 4 + 8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24 (д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4"/>
          <p:cNvSpPr/>
          <p:nvPr/>
        </p:nvSpPr>
        <p:spPr>
          <a:xfrm>
            <a:off x="3564000" y="1484280"/>
            <a:ext cx="38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Р =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10 + 1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32 (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7"/>
          <p:cNvSpPr/>
          <p:nvPr/>
        </p:nvSpPr>
        <p:spPr>
          <a:xfrm>
            <a:off x="3780000" y="5445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Р = 4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4+8+8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24 (д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179280" y="336600"/>
            <a:ext cx="808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Земельный участок прямоугольной формы обнесен забором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Найти длину  забор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539640" y="1413000"/>
            <a:ext cx="2303640" cy="9363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0" y="1805040"/>
            <a:ext cx="8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 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547640" y="1125360"/>
            <a:ext cx="7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5 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3886200" y="1293840"/>
            <a:ext cx="5257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Длина забора - 3+3+5+5=16 (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395280" y="2781360"/>
            <a:ext cx="810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ре нужно пришить к салфетке тесьму. Какой длины тесьма е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требуетс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10"/>
          <p:cNvSpPr/>
          <p:nvPr/>
        </p:nvSpPr>
        <p:spPr>
          <a:xfrm rot="18249000">
            <a:off x="1037160" y="3276720"/>
            <a:ext cx="1452600" cy="1441440"/>
          </a:xfrm>
          <a:prstGeom prst="triangle">
            <a:avLst>
              <a:gd name="adj" fmla="val 65356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2268360" y="4424400"/>
            <a:ext cx="8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2 с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2195640" y="3271680"/>
            <a:ext cx="83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3 с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755640" y="3992400"/>
            <a:ext cx="83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5 с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4"/>
          <p:cNvSpPr/>
          <p:nvPr/>
        </p:nvSpPr>
        <p:spPr>
          <a:xfrm>
            <a:off x="3635280" y="3703680"/>
            <a:ext cx="52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Длина тесьмы - 15+13+12=39 (с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216000" y="5072040"/>
            <a:ext cx="89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мната имеет форму квадрата. Найти длину плинтуса, приклеенного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 потолк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6"/>
          <p:cNvSpPr/>
          <p:nvPr/>
        </p:nvSpPr>
        <p:spPr>
          <a:xfrm>
            <a:off x="1692360" y="6021360"/>
            <a:ext cx="720720" cy="647640"/>
          </a:xfrm>
          <a:prstGeom prst="rect">
            <a:avLst/>
          </a:prstGeom>
          <a:solidFill>
            <a:srgbClr val="746c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7"/>
          <p:cNvSpPr/>
          <p:nvPr/>
        </p:nvSpPr>
        <p:spPr>
          <a:xfrm>
            <a:off x="755640" y="609300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50 д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8"/>
          <p:cNvSpPr/>
          <p:nvPr/>
        </p:nvSpPr>
        <p:spPr>
          <a:xfrm>
            <a:off x="1620000" y="5648400"/>
            <a:ext cx="85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50 д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9"/>
          <p:cNvSpPr/>
          <p:nvPr/>
        </p:nvSpPr>
        <p:spPr>
          <a:xfrm>
            <a:off x="3995640" y="5730840"/>
            <a:ext cx="51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Длина плинтуса - 50+50+50+50=200 (д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0"/>
          <p:cNvSpPr/>
          <p:nvPr/>
        </p:nvSpPr>
        <p:spPr>
          <a:xfrm>
            <a:off x="1403640" y="2305080"/>
            <a:ext cx="6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5 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1"/>
          <p:cNvSpPr/>
          <p:nvPr/>
        </p:nvSpPr>
        <p:spPr>
          <a:xfrm>
            <a:off x="2988720" y="1798560"/>
            <a:ext cx="56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 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0" y="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УММА ДЛИН ВСЕХ СТОРОН ГЕОМЕТРИЧЕСКОЙ ФИГУРЫ –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ПЕРИМЕТР.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Обозначение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 –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 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826920" y="907920"/>
            <a:ext cx="1490760" cy="1152720"/>
          </a:xfrm>
          <a:prstGeom prst="triangle">
            <a:avLst>
              <a:gd name="adj" fmla="val 20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541440" y="1916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828720" y="76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2341800" y="1989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6"/>
          <p:cNvSpPr/>
          <p:nvPr/>
        </p:nvSpPr>
        <p:spPr>
          <a:xfrm>
            <a:off x="3596040" y="981000"/>
            <a:ext cx="1058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Р</a:t>
            </a:r>
            <a:r>
              <a:rPr b="0" lang="ru-RU" sz="24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АВС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8"/>
          <p:cNvSpPr/>
          <p:nvPr/>
        </p:nvSpPr>
        <p:spPr>
          <a:xfrm>
            <a:off x="4644360" y="90792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АВ + ВС + А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0"/>
          <p:cNvSpPr/>
          <p:nvPr/>
        </p:nvSpPr>
        <p:spPr>
          <a:xfrm>
            <a:off x="755640" y="42210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Group 45"/>
          <p:cNvGrpSpPr/>
          <p:nvPr/>
        </p:nvGrpSpPr>
        <p:grpSpPr>
          <a:xfrm>
            <a:off x="685800" y="2421000"/>
            <a:ext cx="2620440" cy="1323720"/>
            <a:chOff x="685800" y="2421000"/>
            <a:chExt cx="2620440" cy="1323720"/>
          </a:xfrm>
        </p:grpSpPr>
        <p:sp>
          <p:nvSpPr>
            <p:cNvPr id="107" name="Rectangle 39"/>
            <p:cNvSpPr/>
            <p:nvPr/>
          </p:nvSpPr>
          <p:spPr>
            <a:xfrm>
              <a:off x="973080" y="2637000"/>
              <a:ext cx="194436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41"/>
            <p:cNvSpPr/>
            <p:nvPr/>
          </p:nvSpPr>
          <p:spPr>
            <a:xfrm>
              <a:off x="738000" y="33764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42"/>
            <p:cNvSpPr/>
            <p:nvPr/>
          </p:nvSpPr>
          <p:spPr>
            <a:xfrm>
              <a:off x="685800" y="24210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43"/>
            <p:cNvSpPr/>
            <p:nvPr/>
          </p:nvSpPr>
          <p:spPr>
            <a:xfrm>
              <a:off x="2918160" y="24210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44"/>
            <p:cNvSpPr/>
            <p:nvPr/>
          </p:nvSpPr>
          <p:spPr>
            <a:xfrm>
              <a:off x="2970000" y="337644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Text Box 46"/>
          <p:cNvSpPr/>
          <p:nvPr/>
        </p:nvSpPr>
        <p:spPr>
          <a:xfrm>
            <a:off x="3887280" y="2276640"/>
            <a:ext cx="121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Р</a:t>
            </a:r>
            <a:r>
              <a:rPr b="0" lang="ru-RU" sz="24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АВСД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47"/>
          <p:cNvSpPr/>
          <p:nvPr/>
        </p:nvSpPr>
        <p:spPr>
          <a:xfrm>
            <a:off x="5076720" y="227664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АВ + ВС + СД + А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8"/>
          <p:cNvSpPr/>
          <p:nvPr/>
        </p:nvSpPr>
        <p:spPr>
          <a:xfrm>
            <a:off x="541800" y="29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9"/>
          <p:cNvSpPr/>
          <p:nvPr/>
        </p:nvSpPr>
        <p:spPr>
          <a:xfrm>
            <a:off x="2918160" y="29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52"/>
          <p:cNvSpPr/>
          <p:nvPr/>
        </p:nvSpPr>
        <p:spPr>
          <a:xfrm>
            <a:off x="1837080" y="234936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3"/>
          <p:cNvSpPr/>
          <p:nvPr/>
        </p:nvSpPr>
        <p:spPr>
          <a:xfrm>
            <a:off x="1837080" y="364500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8"/>
          <p:cNvSpPr/>
          <p:nvPr/>
        </p:nvSpPr>
        <p:spPr>
          <a:xfrm>
            <a:off x="3876840" y="2852640"/>
            <a:ext cx="945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Р</a:t>
            </a:r>
            <a:r>
              <a:rPr b="0" lang="ru-RU" sz="20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АВСД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9"/>
          <p:cNvSpPr/>
          <p:nvPr/>
        </p:nvSpPr>
        <p:spPr>
          <a:xfrm>
            <a:off x="5148000" y="2852640"/>
            <a:ext cx="15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а + а  + в + 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0"/>
          <p:cNvSpPr/>
          <p:nvPr/>
        </p:nvSpPr>
        <p:spPr>
          <a:xfrm>
            <a:off x="6661440" y="299736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2*(а + 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61"/>
          <p:cNvSpPr/>
          <p:nvPr/>
        </p:nvSpPr>
        <p:spPr>
          <a:xfrm>
            <a:off x="7571160" y="3357720"/>
            <a:ext cx="12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2*а + 2*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63"/>
          <p:cNvSpPr/>
          <p:nvPr/>
        </p:nvSpPr>
        <p:spPr>
          <a:xfrm>
            <a:off x="396720" y="4508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64"/>
          <p:cNvSpPr/>
          <p:nvPr/>
        </p:nvSpPr>
        <p:spPr>
          <a:xfrm>
            <a:off x="396720" y="508176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5"/>
          <p:cNvSpPr/>
          <p:nvPr/>
        </p:nvSpPr>
        <p:spPr>
          <a:xfrm>
            <a:off x="2484360" y="53006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66"/>
          <p:cNvSpPr/>
          <p:nvPr/>
        </p:nvSpPr>
        <p:spPr>
          <a:xfrm>
            <a:off x="1706400" y="4065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67"/>
          <p:cNvSpPr/>
          <p:nvPr/>
        </p:nvSpPr>
        <p:spPr>
          <a:xfrm>
            <a:off x="325080" y="40654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8"/>
          <p:cNvSpPr/>
          <p:nvPr/>
        </p:nvSpPr>
        <p:spPr>
          <a:xfrm>
            <a:off x="1693800" y="5081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69"/>
          <p:cNvSpPr/>
          <p:nvPr/>
        </p:nvSpPr>
        <p:spPr>
          <a:xfrm>
            <a:off x="104436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70"/>
          <p:cNvSpPr/>
          <p:nvPr/>
        </p:nvSpPr>
        <p:spPr>
          <a:xfrm>
            <a:off x="3381480" y="4076640"/>
            <a:ext cx="407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Р</a:t>
            </a:r>
            <a:r>
              <a:rPr b="0" lang="ru-RU" sz="24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КОМС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= КО + ОМ + МС + С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1"/>
          <p:cNvSpPr/>
          <p:nvPr/>
        </p:nvSpPr>
        <p:spPr>
          <a:xfrm>
            <a:off x="4140360" y="55166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73"/>
          <p:cNvSpPr/>
          <p:nvPr/>
        </p:nvSpPr>
        <p:spPr>
          <a:xfrm>
            <a:off x="3405240" y="4292640"/>
            <a:ext cx="1128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Р</a:t>
            </a:r>
            <a:r>
              <a:rPr b="0" lang="ru-RU" sz="2400" spc="-1" strike="noStrike" baseline="-28000">
                <a:solidFill>
                  <a:srgbClr val="0000ff"/>
                </a:solidFill>
                <a:latin typeface="Arial"/>
                <a:ea typeface="Arial"/>
              </a:rPr>
              <a:t>КОМС</a:t>
            </a:r>
            <a:r>
              <a:rPr b="0" lang="ru-RU" sz="3600" spc="-1" strike="noStrike" baseline="-28000">
                <a:solidFill>
                  <a:srgbClr val="0000ff"/>
                </a:solidFill>
                <a:latin typeface="Arial"/>
                <a:ea typeface="Arial"/>
              </a:rPr>
              <a:t>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74"/>
          <p:cNvSpPr/>
          <p:nvPr/>
        </p:nvSpPr>
        <p:spPr>
          <a:xfrm>
            <a:off x="4929840" y="4508640"/>
            <a:ext cx="16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а + а + а + 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5"/>
          <p:cNvSpPr/>
          <p:nvPr/>
        </p:nvSpPr>
        <p:spPr>
          <a:xfrm>
            <a:off x="7001640" y="485784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4*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76"/>
          <p:cNvSpPr/>
          <p:nvPr/>
        </p:nvSpPr>
        <p:spPr>
          <a:xfrm>
            <a:off x="684360" y="5805360"/>
            <a:ext cx="1223640" cy="64800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77"/>
          <p:cNvSpPr/>
          <p:nvPr/>
        </p:nvSpPr>
        <p:spPr>
          <a:xfrm>
            <a:off x="534240" y="6461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78"/>
          <p:cNvSpPr/>
          <p:nvPr/>
        </p:nvSpPr>
        <p:spPr>
          <a:xfrm>
            <a:off x="378000" y="5800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9"/>
          <p:cNvSpPr/>
          <p:nvPr/>
        </p:nvSpPr>
        <p:spPr>
          <a:xfrm>
            <a:off x="1175760" y="54421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0"/>
          <p:cNvSpPr/>
          <p:nvPr/>
        </p:nvSpPr>
        <p:spPr>
          <a:xfrm>
            <a:off x="1887840" y="5800680"/>
            <a:ext cx="35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1"/>
          <p:cNvSpPr/>
          <p:nvPr/>
        </p:nvSpPr>
        <p:spPr>
          <a:xfrm>
            <a:off x="1683360" y="6461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82"/>
          <p:cNvSpPr/>
          <p:nvPr/>
        </p:nvSpPr>
        <p:spPr>
          <a:xfrm>
            <a:off x="3609000" y="5465880"/>
            <a:ext cx="117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Р </a:t>
            </a:r>
            <a:r>
              <a:rPr b="0" lang="ru-RU" sz="2400" spc="-1" strike="noStrike" baseline="-25000">
                <a:solidFill>
                  <a:srgbClr val="000099"/>
                </a:solidFill>
                <a:latin typeface="Times New Roman"/>
                <a:ea typeface="Arial"/>
              </a:rPr>
              <a:t>АВСДК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83"/>
          <p:cNvSpPr/>
          <p:nvPr/>
        </p:nvSpPr>
        <p:spPr>
          <a:xfrm>
            <a:off x="4888440" y="553716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АВ + ВС + СД +ДК + 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33333E-006 1.75763E-007 L -0.18715 1.75763E-007 E">
                                      <p:cBhvr>
                                        <p:cTn id="327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5035 -0.00786 L -0.28472 -0.00786 E">
                                      <p:cBhvr>
                                        <p:cTn id="338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0.01318 L -0.25139 0.01318 E">
                                      <p:cBhvr>
                                        <p:cTn id="389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4"/>
          <p:cNvSpPr/>
          <p:nvPr/>
        </p:nvSpPr>
        <p:spPr>
          <a:xfrm>
            <a:off x="395280" y="4700520"/>
            <a:ext cx="2592360" cy="2016360"/>
          </a:xfrm>
          <a:custGeom>
            <a:avLst/>
            <a:gdLst>
              <a:gd name="textAreaLeft" fmla="*/ 1068120 w 2592360"/>
              <a:gd name="textAreaRight" fmla="*/ 1524240 w 2592360"/>
              <a:gd name="textAreaTop" fmla="*/ 830880 h 2016360"/>
              <a:gd name="textAreaBottom" fmla="*/ 118548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971640" y="549360"/>
            <a:ext cx="1944720" cy="129528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6"/>
          <p:cNvSpPr/>
          <p:nvPr/>
        </p:nvSpPr>
        <p:spPr>
          <a:xfrm rot="19782000">
            <a:off x="686880" y="2536560"/>
            <a:ext cx="2376720" cy="1295280"/>
          </a:xfrm>
          <a:prstGeom prst="rightArrow">
            <a:avLst>
              <a:gd name="adj1" fmla="val 53741"/>
              <a:gd name="adj2" fmla="val 73608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449640" y="73980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3 с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2642040" y="61596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1221120" y="11268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5 с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3851280" y="26028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Р = 3+5+4+4+5+3 = 24 (см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Р = (3+5+4)*2=24 (с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3"/>
          <p:cNvSpPr/>
          <p:nvPr/>
        </p:nvSpPr>
        <p:spPr>
          <a:xfrm rot="3656400">
            <a:off x="1287360" y="2283120"/>
            <a:ext cx="6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1 д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5"/>
          <p:cNvSpPr/>
          <p:nvPr/>
        </p:nvSpPr>
        <p:spPr>
          <a:xfrm rot="3600000">
            <a:off x="337320" y="3708360"/>
            <a:ext cx="6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2 д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6"/>
          <p:cNvSpPr/>
          <p:nvPr/>
        </p:nvSpPr>
        <p:spPr>
          <a:xfrm rot="19783200">
            <a:off x="1275840" y="3789000"/>
            <a:ext cx="6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4 д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2572560" y="3213000"/>
            <a:ext cx="6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3 д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4083840" y="2657520"/>
            <a:ext cx="399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Р = 3*2+1*2+4*2+2= 20 (д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Р = 1+3+3+1+4+2+4= 20 (д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Р = (1+4+1+3)*2 = 20 (д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5"/>
          <p:cNvSpPr/>
          <p:nvPr/>
        </p:nvSpPr>
        <p:spPr>
          <a:xfrm>
            <a:off x="840960" y="4748040"/>
            <a:ext cx="6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3 м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7"/>
          <p:cNvSpPr/>
          <p:nvPr/>
        </p:nvSpPr>
        <p:spPr>
          <a:xfrm>
            <a:off x="1993680" y="5229360"/>
            <a:ext cx="6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4 м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8"/>
          <p:cNvSpPr/>
          <p:nvPr/>
        </p:nvSpPr>
        <p:spPr>
          <a:xfrm>
            <a:off x="4217400" y="4745160"/>
            <a:ext cx="445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Р = 3+3+4+4+3+3+4+4 = 28 (м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Р = (3+4)*4 = 28 (м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Р = (4+3+3+4)*2 = 28 (м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0"/>
          <p:cNvSpPr/>
          <p:nvPr/>
        </p:nvSpPr>
        <p:spPr>
          <a:xfrm>
            <a:off x="3885840" y="981000"/>
            <a:ext cx="35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Р =  3*2+5*2+4*2=24 (с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31"/>
          <p:cNvSpPr/>
          <p:nvPr/>
        </p:nvSpPr>
        <p:spPr>
          <a:xfrm>
            <a:off x="971640" y="119700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32"/>
          <p:cNvSpPr/>
          <p:nvPr/>
        </p:nvSpPr>
        <p:spPr>
          <a:xfrm flipV="1">
            <a:off x="611280" y="2349360"/>
            <a:ext cx="2736720" cy="16574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33"/>
          <p:cNvSpPr/>
          <p:nvPr/>
        </p:nvSpPr>
        <p:spPr>
          <a:xfrm>
            <a:off x="179280" y="573408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34"/>
          <p:cNvSpPr/>
          <p:nvPr/>
        </p:nvSpPr>
        <p:spPr>
          <a:xfrm flipV="1">
            <a:off x="1692360" y="4292640"/>
            <a:ext cx="0" cy="256536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7"/>
          <p:cNvSpPr/>
          <p:nvPr/>
        </p:nvSpPr>
        <p:spPr>
          <a:xfrm>
            <a:off x="516240" y="124452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3 с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8"/>
          <p:cNvSpPr/>
          <p:nvPr/>
        </p:nvSpPr>
        <p:spPr>
          <a:xfrm>
            <a:off x="1438560" y="182088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5 с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9"/>
          <p:cNvSpPr/>
          <p:nvPr/>
        </p:nvSpPr>
        <p:spPr>
          <a:xfrm>
            <a:off x="2714760" y="131616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40"/>
          <p:cNvSpPr/>
          <p:nvPr/>
        </p:nvSpPr>
        <p:spPr>
          <a:xfrm rot="19750200">
            <a:off x="575280" y="2838240"/>
            <a:ext cx="6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4 д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1"/>
          <p:cNvSpPr/>
          <p:nvPr/>
        </p:nvSpPr>
        <p:spPr>
          <a:xfrm>
            <a:off x="2067480" y="2133720"/>
            <a:ext cx="6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3 д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971640" y="549360"/>
            <a:ext cx="1944720" cy="129528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8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8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8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7" dur="8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4"/>
          <p:cNvSpPr/>
          <p:nvPr/>
        </p:nvSpPr>
        <p:spPr>
          <a:xfrm rot="19386600">
            <a:off x="684360" y="1052280"/>
            <a:ext cx="2674800" cy="1511280"/>
          </a:xfrm>
          <a:custGeom>
            <a:avLst/>
            <a:gdLst>
              <a:gd name="textAreaLeft" fmla="*/ 0 w 2674800"/>
              <a:gd name="textAreaRight" fmla="*/ 2675160 w 2674800"/>
              <a:gd name="textAreaTop" fmla="*/ 0 h 1511280"/>
              <a:gd name="textAreaBottom" fmla="*/ 15116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11c9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702360" y="90792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8 с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18000" y="25639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6 с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2142000" y="4762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4 с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101480" y="1125360"/>
            <a:ext cx="30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Р = 8+4+4+6 = 22 (с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7592760" y="1125360"/>
            <a:ext cx="12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Arial"/>
              </a:rPr>
              <a:t>невер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708120" y="4292640"/>
            <a:ext cx="647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708120" y="4940280"/>
            <a:ext cx="647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5"/>
          <p:cNvSpPr/>
          <p:nvPr/>
        </p:nvSpPr>
        <p:spPr>
          <a:xfrm>
            <a:off x="684360" y="5516640"/>
            <a:ext cx="647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6"/>
          <p:cNvSpPr/>
          <p:nvPr/>
        </p:nvSpPr>
        <p:spPr>
          <a:xfrm>
            <a:off x="1332000" y="4941720"/>
            <a:ext cx="64764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9720" y="429264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 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8"/>
          <p:cNvSpPr/>
          <p:nvPr/>
        </p:nvSpPr>
        <p:spPr>
          <a:xfrm>
            <a:off x="694080" y="3716280"/>
            <a:ext cx="6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 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9"/>
          <p:cNvSpPr/>
          <p:nvPr/>
        </p:nvSpPr>
        <p:spPr>
          <a:xfrm>
            <a:off x="2715480" y="3500280"/>
            <a:ext cx="489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Р = 2+2+2+2+2+2+2+2+2+2 = 20 (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Р = 2*2= 4 (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Р = (1+2+2+2+2+1)*2 = 20 (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7852320" y="34495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ер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21"/>
          <p:cNvSpPr/>
          <p:nvPr/>
        </p:nvSpPr>
        <p:spPr>
          <a:xfrm>
            <a:off x="7787880" y="3881520"/>
            <a:ext cx="12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Arial"/>
              </a:rPr>
              <a:t>невер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2"/>
          <p:cNvSpPr/>
          <p:nvPr/>
        </p:nvSpPr>
        <p:spPr>
          <a:xfrm>
            <a:off x="7800120" y="4365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ер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9"/>
          <p:cNvSpPr/>
          <p:nvPr/>
        </p:nvSpPr>
        <p:spPr>
          <a:xfrm flipV="1">
            <a:off x="826920" y="836280"/>
            <a:ext cx="2521080" cy="18716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0"/>
          <p:cNvSpPr/>
          <p:nvPr/>
        </p:nvSpPr>
        <p:spPr>
          <a:xfrm>
            <a:off x="2213640" y="24922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8 с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2"/>
          <p:cNvSpPr/>
          <p:nvPr/>
        </p:nvSpPr>
        <p:spPr>
          <a:xfrm>
            <a:off x="3077280" y="12682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4 с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10"/>
          <p:cNvSpPr/>
          <p:nvPr/>
        </p:nvSpPr>
        <p:spPr>
          <a:xfrm>
            <a:off x="2384280" y="404640"/>
            <a:ext cx="453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КАКАЯ  ФИГУРА  ЛИШНЯ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1"/>
          <p:cNvSpPr/>
          <p:nvPr/>
        </p:nvSpPr>
        <p:spPr>
          <a:xfrm>
            <a:off x="826920" y="1557360"/>
            <a:ext cx="2448000" cy="12952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12"/>
          <p:cNvSpPr/>
          <p:nvPr/>
        </p:nvSpPr>
        <p:spPr>
          <a:xfrm>
            <a:off x="1042920" y="4292640"/>
            <a:ext cx="2087640" cy="1655640"/>
          </a:xfrm>
          <a:prstGeom prst="hexagon">
            <a:avLst>
              <a:gd name="adj" fmla="val 31523"/>
              <a:gd name="vf" fmla="val 115470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Oval 13"/>
          <p:cNvSpPr/>
          <p:nvPr/>
        </p:nvSpPr>
        <p:spPr>
          <a:xfrm>
            <a:off x="5867280" y="1484280"/>
            <a:ext cx="1800360" cy="180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14"/>
          <p:cNvSpPr/>
          <p:nvPr/>
        </p:nvSpPr>
        <p:spPr>
          <a:xfrm>
            <a:off x="5364000" y="4221000"/>
            <a:ext cx="2376720" cy="1656000"/>
          </a:xfrm>
          <a:prstGeom prst="pentagon">
            <a:avLst/>
          </a:prstGeom>
          <a:solidFill>
            <a:srgbClr val="746c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1" dur="2000" fill="hold"/>
                                        <p:tgtEl>
                                          <p:spTgt spid="1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17:21:41Z</dcterms:created>
  <dc:creator>LENA</dc:creator>
  <dc:description/>
  <dc:language>en-US</dc:language>
  <cp:lastModifiedBy>Учитель</cp:lastModifiedBy>
  <dcterms:modified xsi:type="dcterms:W3CDTF">2020-11-17T04:35:46Z</dcterms:modified>
  <cp:revision>21</cp:revision>
  <dc:subject/>
  <dc:title>Слайд 1</dc:title>
</cp:coreProperties>
</file>