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02E-8047-47C7-A40B-FA8FDCD6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837-1D32-4DD1-8651-516BA09A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A22-218F-45EA-9A44-4BD85FE8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A23-1694-478C-8136-B1804678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63E-586A-492C-994E-087F211E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D99-8FFA-4033-8D61-40F66B66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147-B54B-409B-8F4B-39BE1C60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9CE-F888-4D19-B064-E0304B8F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D5D-E8FD-41B6-A33E-90BA50A5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FE3-CAB5-436D-AACF-7229A3B4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10A-3153-4BEA-9462-C817DCD9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1CD-85A6-4ABB-92D4-B4682535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EE86-DF1E-4F2D-A50A-416B319CC573}" type="slidenum">
              <a:rPr b="0" lang="ru-RU" sz="1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95640" y="1413000"/>
            <a:ext cx="5832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611280" y="191628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5"/>
          <p:cNvSpPr/>
          <p:nvPr/>
        </p:nvSpPr>
        <p:spPr>
          <a:xfrm rot="2564400">
            <a:off x="1331640" y="2491920"/>
            <a:ext cx="1655640" cy="981000"/>
          </a:xfrm>
          <a:prstGeom prst="rect">
            <a:avLst/>
          </a:prstGeom>
          <a:solidFill>
            <a:srgbClr val="746ca4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Равнобедренный треугольник 6"/>
          <p:cNvSpPr/>
          <p:nvPr/>
        </p:nvSpPr>
        <p:spPr>
          <a:xfrm rot="19362600">
            <a:off x="6300720" y="2060280"/>
            <a:ext cx="1604880" cy="1404720"/>
          </a:xfrm>
          <a:prstGeom prst="triangle">
            <a:avLst>
              <a:gd name="adj" fmla="val 20106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3995640" y="2060640"/>
            <a:ext cx="1368360" cy="12970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619280" y="4255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иметр многоуголь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724360" y="4581360"/>
            <a:ext cx="1943280" cy="9367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1"/>
          <p:cNvSpPr/>
          <p:nvPr/>
        </p:nvSpPr>
        <p:spPr>
          <a:xfrm rot="18252600">
            <a:off x="2232000" y="3825360"/>
            <a:ext cx="1944360" cy="1008000"/>
          </a:xfrm>
          <a:prstGeom prst="triangle">
            <a:avLst>
              <a:gd name="adj" fmla="val 3241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 rot="20979600">
            <a:off x="1402920" y="1197000"/>
            <a:ext cx="712944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971640" y="1413000"/>
            <a:ext cx="1057320" cy="914400"/>
          </a:xfrm>
          <a:prstGeom prst="triangle">
            <a:avLst>
              <a:gd name="adj" fmla="val 7838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89080" y="24210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5573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979640" y="17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281480" y="112536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  <a:ea typeface="Arial"/>
              </a:rPr>
              <a:t>7 + 5 + 3 = 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?  </a:t>
            </a:r>
            <a:r>
              <a:rPr b="0" lang="ru-RU" sz="2400" spc="-1" strike="noStrike">
                <a:solidFill>
                  <a:srgbClr val="00cc00"/>
                </a:solidFill>
                <a:latin typeface="Arial"/>
                <a:ea typeface="Arial"/>
              </a:rPr>
              <a:t>(см) – 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7"/>
          <p:cNvSpPr/>
          <p:nvPr/>
        </p:nvSpPr>
        <p:spPr>
          <a:xfrm>
            <a:off x="2299320" y="0"/>
            <a:ext cx="41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ЕШЕНИЕ   ЗАДА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ЙТИ ПЕРИМЕТР  ФИГ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7"/>
          <p:cNvSpPr/>
          <p:nvPr/>
        </p:nvSpPr>
        <p:spPr>
          <a:xfrm rot="1585800">
            <a:off x="755640" y="3645000"/>
            <a:ext cx="1368360" cy="1334880"/>
          </a:xfrm>
          <a:prstGeom prst="rect">
            <a:avLst/>
          </a:prstGeom>
          <a:solidFill>
            <a:srgbClr val="f05a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4211640" y="2924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5 + 5 + 5 + 5 = ?  (см) – 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2286360" y="458136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611280" y="549360"/>
            <a:ext cx="2089080" cy="1008000"/>
          </a:xfrm>
          <a:prstGeom prst="rect">
            <a:avLst/>
          </a:prstGeom>
          <a:solidFill>
            <a:srgbClr val="6837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188360" y="162864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080" y="90792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258080" y="476280"/>
            <a:ext cx="411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  <a:ea typeface="Arial"/>
              </a:rPr>
              <a:t>Р - ?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Arial"/>
                <a:ea typeface="Arial"/>
              </a:rPr>
              <a:t>Решение: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1167840" y="1890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2772720" y="98100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1924920" y="26028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ЕРНО  ЛИ  НАЙДЕН  ПЕРИМЕТР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55640" y="1413000"/>
            <a:ext cx="2016000" cy="865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2320" y="147168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6 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354320" y="83664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059280" y="1052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)   Р = 6 + 10 = 16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"/>
          <p:cNvSpPr/>
          <p:nvPr/>
        </p:nvSpPr>
        <p:spPr>
          <a:xfrm rot="18079200">
            <a:off x="574560" y="2589120"/>
            <a:ext cx="1944720" cy="1008000"/>
          </a:xfrm>
          <a:prstGeom prst="triangle">
            <a:avLst>
              <a:gd name="adj" fmla="val 2359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918000" y="24796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9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413280" y="34876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1977120" y="32004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132000" y="2997360"/>
            <a:ext cx="36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)   Р =  9+7+5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 (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7"/>
          <p:cNvSpPr/>
          <p:nvPr/>
        </p:nvSpPr>
        <p:spPr>
          <a:xfrm rot="1837800">
            <a:off x="826560" y="5084280"/>
            <a:ext cx="1944720" cy="1008360"/>
          </a:xfrm>
          <a:prstGeom prst="rect">
            <a:avLst/>
          </a:prstGeom>
          <a:solidFill>
            <a:srgbClr val="b238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36880" y="46530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 д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1713240" y="46530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8 д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348000" y="494172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)  Р = 4 + 8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 4 + 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4 (д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3564000" y="1484280"/>
            <a:ext cx="38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 =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10 + 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2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378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 = 4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+8+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4 (д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336600"/>
            <a:ext cx="808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Земельный участок прямоугольной формы обнесен заборо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йти длину  забо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39640" y="1413000"/>
            <a:ext cx="2303640" cy="936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0" y="180504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547640" y="112536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886200" y="1293840"/>
            <a:ext cx="52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Длина забора - 3+3+5+5=16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95280" y="2781360"/>
            <a:ext cx="810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ре нужно пришить к салфетке тесьму. Какой длины тесьма 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требуе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0"/>
          <p:cNvSpPr/>
          <p:nvPr/>
        </p:nvSpPr>
        <p:spPr>
          <a:xfrm rot="18249000">
            <a:off x="1037160" y="3276720"/>
            <a:ext cx="1452600" cy="1441440"/>
          </a:xfrm>
          <a:prstGeom prst="triangle">
            <a:avLst>
              <a:gd name="adj" fmla="val 6535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2268360" y="442440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2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2195640" y="327168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3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755640" y="399240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3635280" y="3703680"/>
            <a:ext cx="52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Длина тесьмы - 15+13+12=39 (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216000" y="507204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мната имеет форму квадрата. Найти длину плинтуса, приклеенного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потол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1692360" y="6021360"/>
            <a:ext cx="720720" cy="647640"/>
          </a:xfrm>
          <a:prstGeom prst="rect">
            <a:avLst/>
          </a:prstGeom>
          <a:solidFill>
            <a:srgbClr val="746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755640" y="6093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0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1620000" y="564840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0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3995640" y="573084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  <a:ea typeface="Arial"/>
              </a:rPr>
              <a:t>Длина плинтуса - 50+50+50+50=200 (д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1403640" y="23050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 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2988720" y="179856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 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0" y="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ММА ДЛИН ВСЕХ СТОРОН ГЕОМЕТРИЧЕСКОЙ ФИГУРЫ 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ЕРИМЕТР.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бозначение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–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 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826920" y="907920"/>
            <a:ext cx="1490760" cy="1152720"/>
          </a:xfrm>
          <a:prstGeom prst="triangle">
            <a:avLst>
              <a:gd name="adj" fmla="val 20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1440" y="191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828720" y="76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2341800" y="198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6"/>
          <p:cNvSpPr/>
          <p:nvPr/>
        </p:nvSpPr>
        <p:spPr>
          <a:xfrm>
            <a:off x="3596040" y="981000"/>
            <a:ext cx="105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АВС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8"/>
          <p:cNvSpPr/>
          <p:nvPr/>
        </p:nvSpPr>
        <p:spPr>
          <a:xfrm>
            <a:off x="4644360" y="90792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В + ВС + 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0"/>
          <p:cNvSpPr/>
          <p:nvPr/>
        </p:nvSpPr>
        <p:spPr>
          <a:xfrm>
            <a:off x="755640" y="4221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45"/>
          <p:cNvGrpSpPr/>
          <p:nvPr/>
        </p:nvGrpSpPr>
        <p:grpSpPr>
          <a:xfrm>
            <a:off x="685800" y="2421000"/>
            <a:ext cx="2620440" cy="1323720"/>
            <a:chOff x="685800" y="2421000"/>
            <a:chExt cx="2620440" cy="1323720"/>
          </a:xfrm>
        </p:grpSpPr>
        <p:sp>
          <p:nvSpPr>
            <p:cNvPr id="107" name="Rectangle 39"/>
            <p:cNvSpPr/>
            <p:nvPr/>
          </p:nvSpPr>
          <p:spPr>
            <a:xfrm>
              <a:off x="973080" y="2637000"/>
              <a:ext cx="194436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1"/>
            <p:cNvSpPr/>
            <p:nvPr/>
          </p:nvSpPr>
          <p:spPr>
            <a:xfrm>
              <a:off x="738000" y="3376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42"/>
            <p:cNvSpPr/>
            <p:nvPr/>
          </p:nvSpPr>
          <p:spPr>
            <a:xfrm>
              <a:off x="685800" y="2421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3"/>
            <p:cNvSpPr/>
            <p:nvPr/>
          </p:nvSpPr>
          <p:spPr>
            <a:xfrm>
              <a:off x="2918160" y="2421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44"/>
            <p:cNvSpPr/>
            <p:nvPr/>
          </p:nvSpPr>
          <p:spPr>
            <a:xfrm>
              <a:off x="2970000" y="337644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46"/>
          <p:cNvSpPr/>
          <p:nvPr/>
        </p:nvSpPr>
        <p:spPr>
          <a:xfrm>
            <a:off x="3887280" y="2276640"/>
            <a:ext cx="121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АВСД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5076720" y="22766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АВ + ВС + СД + 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54180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291816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2"/>
          <p:cNvSpPr/>
          <p:nvPr/>
        </p:nvSpPr>
        <p:spPr>
          <a:xfrm>
            <a:off x="1837080" y="23493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3"/>
          <p:cNvSpPr/>
          <p:nvPr/>
        </p:nvSpPr>
        <p:spPr>
          <a:xfrm>
            <a:off x="1837080" y="36450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8"/>
          <p:cNvSpPr/>
          <p:nvPr/>
        </p:nvSpPr>
        <p:spPr>
          <a:xfrm>
            <a:off x="3876840" y="2852640"/>
            <a:ext cx="94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0" lang="ru-RU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АВСД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9"/>
          <p:cNvSpPr/>
          <p:nvPr/>
        </p:nvSpPr>
        <p:spPr>
          <a:xfrm>
            <a:off x="5148000" y="285264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а + а  + в +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0"/>
          <p:cNvSpPr/>
          <p:nvPr/>
        </p:nvSpPr>
        <p:spPr>
          <a:xfrm>
            <a:off x="6661440" y="29973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2*(а + 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1"/>
          <p:cNvSpPr/>
          <p:nvPr/>
        </p:nvSpPr>
        <p:spPr>
          <a:xfrm>
            <a:off x="7571160" y="335772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2*а + 2*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3"/>
          <p:cNvSpPr/>
          <p:nvPr/>
        </p:nvSpPr>
        <p:spPr>
          <a:xfrm>
            <a:off x="396720" y="450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4"/>
          <p:cNvSpPr/>
          <p:nvPr/>
        </p:nvSpPr>
        <p:spPr>
          <a:xfrm>
            <a:off x="396720" y="50817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5"/>
          <p:cNvSpPr/>
          <p:nvPr/>
        </p:nvSpPr>
        <p:spPr>
          <a:xfrm>
            <a:off x="2484360" y="5300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6"/>
          <p:cNvSpPr/>
          <p:nvPr/>
        </p:nvSpPr>
        <p:spPr>
          <a:xfrm>
            <a:off x="1706400" y="406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25080" y="40654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1693800" y="5081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9"/>
          <p:cNvSpPr/>
          <p:nvPr/>
        </p:nvSpPr>
        <p:spPr>
          <a:xfrm>
            <a:off x="10443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0"/>
          <p:cNvSpPr/>
          <p:nvPr/>
        </p:nvSpPr>
        <p:spPr>
          <a:xfrm>
            <a:off x="3381480" y="4076640"/>
            <a:ext cx="407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КОМС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 = КО + ОМ + МС + 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1"/>
          <p:cNvSpPr/>
          <p:nvPr/>
        </p:nvSpPr>
        <p:spPr>
          <a:xfrm>
            <a:off x="4140360" y="55166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3"/>
          <p:cNvSpPr/>
          <p:nvPr/>
        </p:nvSpPr>
        <p:spPr>
          <a:xfrm>
            <a:off x="3405240" y="4292640"/>
            <a:ext cx="1128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0" lang="ru-RU" sz="2400" spc="-1" strike="noStrike" baseline="-28000">
                <a:solidFill>
                  <a:srgbClr val="0000ff"/>
                </a:solidFill>
                <a:latin typeface="Arial"/>
                <a:ea typeface="Arial"/>
              </a:rPr>
              <a:t>КОМС</a:t>
            </a:r>
            <a:r>
              <a:rPr b="0" lang="ru-RU" sz="3600" spc="-1" strike="noStrike" baseline="-28000">
                <a:solidFill>
                  <a:srgbClr val="0000ff"/>
                </a:solidFill>
                <a:latin typeface="Arial"/>
                <a:ea typeface="Arial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4"/>
          <p:cNvSpPr/>
          <p:nvPr/>
        </p:nvSpPr>
        <p:spPr>
          <a:xfrm>
            <a:off x="4929840" y="45086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 + а + а + 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5"/>
          <p:cNvSpPr/>
          <p:nvPr/>
        </p:nvSpPr>
        <p:spPr>
          <a:xfrm>
            <a:off x="7001640" y="485784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4*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76"/>
          <p:cNvSpPr/>
          <p:nvPr/>
        </p:nvSpPr>
        <p:spPr>
          <a:xfrm>
            <a:off x="684360" y="5805360"/>
            <a:ext cx="1223640" cy="6480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7"/>
          <p:cNvSpPr/>
          <p:nvPr/>
        </p:nvSpPr>
        <p:spPr>
          <a:xfrm>
            <a:off x="534240" y="6461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8"/>
          <p:cNvSpPr/>
          <p:nvPr/>
        </p:nvSpPr>
        <p:spPr>
          <a:xfrm>
            <a:off x="378000" y="5800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9"/>
          <p:cNvSpPr/>
          <p:nvPr/>
        </p:nvSpPr>
        <p:spPr>
          <a:xfrm>
            <a:off x="1175760" y="5442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0"/>
          <p:cNvSpPr/>
          <p:nvPr/>
        </p:nvSpPr>
        <p:spPr>
          <a:xfrm>
            <a:off x="1887840" y="58006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1"/>
          <p:cNvSpPr/>
          <p:nvPr/>
        </p:nvSpPr>
        <p:spPr>
          <a:xfrm>
            <a:off x="1683360" y="646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2"/>
          <p:cNvSpPr/>
          <p:nvPr/>
        </p:nvSpPr>
        <p:spPr>
          <a:xfrm>
            <a:off x="3609000" y="5465880"/>
            <a:ext cx="117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</a:t>
            </a:r>
            <a:r>
              <a:rPr b="0" lang="ru-RU" sz="2400" spc="-1" strike="noStrike" baseline="-25000">
                <a:solidFill>
                  <a:srgbClr val="000099"/>
                </a:solidFill>
                <a:latin typeface="Times New Roman"/>
                <a:ea typeface="Arial"/>
              </a:rPr>
              <a:t>АВСДК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3"/>
          <p:cNvSpPr/>
          <p:nvPr/>
        </p:nvSpPr>
        <p:spPr>
          <a:xfrm>
            <a:off x="4888440" y="5537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АВ + ВС + СД +ДК + 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1.75763E-007 L -0.18715 1.75763E-007 E">
                                      <p:cBhvr>
                                        <p:cTn id="32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5035 -0.00786 L -0.28472 -0.00786 E">
                                      <p:cBhvr>
                                        <p:cTn id="33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1318 L -0.25139 0.01318 E">
                                      <p:cBhvr>
                                        <p:cTn id="38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395280" y="4700520"/>
            <a:ext cx="2592360" cy="2016360"/>
          </a:xfrm>
          <a:custGeom>
            <a:avLst/>
            <a:gdLst>
              <a:gd name="textAreaLeft" fmla="*/ 1068120 w 2592360"/>
              <a:gd name="textAreaRight" fmla="*/ 1524240 w 2592360"/>
              <a:gd name="textAreaTop" fmla="*/ 830880 h 2016360"/>
              <a:gd name="textAreaBottom" fmla="*/ 11854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971640" y="549360"/>
            <a:ext cx="1944720" cy="12952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/>
          <p:cNvSpPr/>
          <p:nvPr/>
        </p:nvSpPr>
        <p:spPr>
          <a:xfrm rot="19782000">
            <a:off x="686880" y="2536560"/>
            <a:ext cx="2376720" cy="1295280"/>
          </a:xfrm>
          <a:prstGeom prst="rightArrow">
            <a:avLst>
              <a:gd name="adj1" fmla="val 53741"/>
              <a:gd name="adj2" fmla="val 73608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49640" y="7398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642040" y="6159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221120" y="11268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5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851280" y="26028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3+5+4+4+5+3 = 24 (с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(3+5+4)*2=24 (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 rot="3656400">
            <a:off x="1287360" y="228312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 rot="3600000">
            <a:off x="337320" y="370836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 rot="19783200">
            <a:off x="1275840" y="37890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2572560" y="32130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4083840" y="2657520"/>
            <a:ext cx="399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3*2+1*2+4*2+2= 20 (д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1+3+3+1+4+2+4= 20 (д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(1+4+1+3)*2 = 20 (д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840960" y="474804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993680" y="522936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 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4217400" y="4745160"/>
            <a:ext cx="445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3+3+4+4+3+3+4+4 = 28 (м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(3+4)*4 = 28 (м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(4+3+3+4)*2 = 28 (м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0"/>
          <p:cNvSpPr/>
          <p:nvPr/>
        </p:nvSpPr>
        <p:spPr>
          <a:xfrm>
            <a:off x="3885840" y="98100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Р =  3*2+5*2+4*2=24 (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971640" y="1197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2"/>
          <p:cNvSpPr/>
          <p:nvPr/>
        </p:nvSpPr>
        <p:spPr>
          <a:xfrm flipV="1">
            <a:off x="611280" y="2349360"/>
            <a:ext cx="2736720" cy="16574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3"/>
          <p:cNvSpPr/>
          <p:nvPr/>
        </p:nvSpPr>
        <p:spPr>
          <a:xfrm>
            <a:off x="179280" y="573408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4"/>
          <p:cNvSpPr/>
          <p:nvPr/>
        </p:nvSpPr>
        <p:spPr>
          <a:xfrm flipV="1">
            <a:off x="1692360" y="429264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516240" y="12445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1438560" y="182088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5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2714760" y="1316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0"/>
          <p:cNvSpPr/>
          <p:nvPr/>
        </p:nvSpPr>
        <p:spPr>
          <a:xfrm rot="19750200">
            <a:off x="575280" y="28382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4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1"/>
          <p:cNvSpPr/>
          <p:nvPr/>
        </p:nvSpPr>
        <p:spPr>
          <a:xfrm>
            <a:off x="2067480" y="213372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д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971640" y="549360"/>
            <a:ext cx="1944720" cy="12952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4"/>
          <p:cNvSpPr/>
          <p:nvPr/>
        </p:nvSpPr>
        <p:spPr>
          <a:xfrm rot="19386600">
            <a:off x="684360" y="1052280"/>
            <a:ext cx="2674800" cy="1511280"/>
          </a:xfrm>
          <a:custGeom>
            <a:avLst/>
            <a:gdLst>
              <a:gd name="textAreaLeft" fmla="*/ 0 w 2674800"/>
              <a:gd name="textAreaRight" fmla="*/ 2675160 w 267480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1c9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02360" y="9079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8 с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8000" y="25639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6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142000" y="476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101480" y="112536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 = 8+4+4+6 = 22 (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7592760" y="112536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708120" y="4292640"/>
            <a:ext cx="6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708120" y="4940280"/>
            <a:ext cx="6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684360" y="5516640"/>
            <a:ext cx="6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1332000" y="4941720"/>
            <a:ext cx="64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9720" y="429264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 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94080" y="371628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 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2715480" y="3500280"/>
            <a:ext cx="48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 = 2+2+2+2+2+2+2+2+2+2 = 20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 = 2*2= 4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 = (1+2+2+2+2+1)*2 = 20 (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7852320" y="34495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7787880" y="388152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7800120" y="4365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9"/>
          <p:cNvSpPr/>
          <p:nvPr/>
        </p:nvSpPr>
        <p:spPr>
          <a:xfrm flipV="1">
            <a:off x="826920" y="836280"/>
            <a:ext cx="2521080" cy="18716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2213640" y="2492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8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3077280" y="1268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0"/>
          <p:cNvSpPr/>
          <p:nvPr/>
        </p:nvSpPr>
        <p:spPr>
          <a:xfrm>
            <a:off x="2384280" y="404640"/>
            <a:ext cx="45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КАЯ  ФИГУРА  ЛИШНЯ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826920" y="1557360"/>
            <a:ext cx="2448000" cy="1295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1042920" y="4292640"/>
            <a:ext cx="2087640" cy="1655640"/>
          </a:xfrm>
          <a:prstGeom prst="hexagon">
            <a:avLst>
              <a:gd name="adj" fmla="val 31523"/>
              <a:gd name="vf" fmla="val 115470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13"/>
          <p:cNvSpPr/>
          <p:nvPr/>
        </p:nvSpPr>
        <p:spPr>
          <a:xfrm>
            <a:off x="5867280" y="1484280"/>
            <a:ext cx="1800360" cy="180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5364000" y="4221000"/>
            <a:ext cx="2376720" cy="1656000"/>
          </a:xfrm>
          <a:prstGeom prst="pentagon">
            <a:avLst/>
          </a:prstGeom>
          <a:solidFill>
            <a:srgbClr val="746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1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7:21:41Z</dcterms:created>
  <dc:creator>LENA</dc:creator>
  <dc:description/>
  <dc:language>en-US</dc:language>
  <cp:lastModifiedBy>Учитель</cp:lastModifiedBy>
  <dcterms:modified xsi:type="dcterms:W3CDTF">2020-11-17T04:35:46Z</dcterms:modified>
  <cp:revision>21</cp:revision>
  <dc:subject/>
  <dc:title>Слайд 1</dc:title>
</cp:coreProperties>
</file>