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0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4ED-30DB-49E9-9124-704B3A30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2A2-A32F-497A-906B-CB7E7A39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40F-4961-4AFF-A222-27647B98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67A-0F92-40A8-A988-EDF3AF0F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8B259-4942-4ACB-AC64-EC5DC64F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CD3AB-6907-4CCC-9E23-6F8EBA4B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CC1D-22F9-40E7-82CA-4C330E4A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BC57E-FCE3-4761-9F1D-90B0BA0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FBD4C-86B7-4CF2-9C7C-2551AE38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A2FE-589E-44B3-8163-2FD960E0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5DA3C-75A7-4379-8921-84F76091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E97-86A1-46E3-B6C2-F0E7AC59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DDE43-7B3C-464E-80F9-6942D42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7E320-183F-47E6-9C4E-02AB589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62B24-2413-4DF0-BA5F-FEB0842F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C6D24-D0B3-4C97-8E70-8BE9865D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08BB7-E60B-41E7-8A8B-9D5D8C0D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BBBB-2AEB-4A6A-830A-8FE6DCD1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E06FD-60B3-4328-9D54-1624E7E1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AFD1-79C1-4FCD-8FB7-89515FAB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D11A-DA4C-4144-A9F1-970C62F6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FEB1-3951-45CA-ACD4-667EBC3D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AD7-262A-497D-A9C1-A201156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7358-4FE4-4338-9FE4-671A851F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4006-EBB9-4547-9A3E-F1DB2ED8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CE75-C776-4401-A7BD-EB56FE5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3964-6DD4-4E8D-BFFB-5190F9CD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0879-CFC4-4791-B690-A4DB4198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5C9F-FD22-4B98-B407-84963625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DD86-4BCB-4B35-B640-C89D14A3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257FE-EF8D-40A8-A8CA-439BDF59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DB5A0-4D98-4F6B-BD0D-51B08DEF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53769-8369-40B5-981B-0A6341E3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571-3A4B-4CDD-97A9-F1C054EB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143CB-AC4A-4569-8FF7-83A150E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FB185-7DFF-4DC2-A906-D8186B65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8A4DD8-C665-4AEE-ABBF-E404F31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91E02-6E15-4EF0-ADFD-859259E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27C81-2A2B-4704-BF92-4743741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CCB46-39F1-41C7-87EA-7AD40D83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2488C-2DBD-498B-8248-112D227D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88D635-7197-439A-9A02-438B8DCE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CD66A-E637-4594-85EE-234494D1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65F-5D07-4C6C-BEEB-B33AE091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89B-66E6-4F91-9930-1235F1CB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0D8-1547-4F77-A283-C248F20F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12E-FD7B-423D-BDF7-52B72F09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C2C-0AF6-41D4-9A54-4BF2764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7E42-1A4D-45D1-8E06-368CA13DD8B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7025-6137-441C-84E0-7DA3E80330C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9F0-D9C0-48EA-B4EB-C730E5F493C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396B-2D28-4C67-AD85-BB06BF2DBEA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71680" y="4857480"/>
            <a:ext cx="3786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Подготовила воспитатель ГП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довина Л.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706320" y="146160"/>
            <a:ext cx="7785360" cy="1433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00"/>
          <p:cNvPicPr/>
          <p:nvPr/>
        </p:nvPicPr>
        <p:blipFill>
          <a:blip r:embed="rId2"/>
          <a:stretch/>
        </p:blipFill>
        <p:spPr>
          <a:xfrm>
            <a:off x="324000" y="1844640"/>
            <a:ext cx="3913200" cy="29368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3" descr=""/>
          <p:cNvPicPr/>
          <p:nvPr/>
        </p:nvPicPr>
        <p:blipFill>
          <a:blip r:embed="rId1"/>
          <a:stretch/>
        </p:blipFill>
        <p:spPr>
          <a:xfrm>
            <a:off x="658800" y="268200"/>
            <a:ext cx="7851960" cy="2882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3714840" cy="24084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57200" y="360360"/>
            <a:ext cx="8229600" cy="1114560"/>
          </a:xfrm>
          <a:prstGeom prst="rect">
            <a:avLst/>
          </a:prstGeom>
          <a:ln w="0">
            <a:noFill/>
          </a:ln>
        </p:spPr>
      </p:pic>
      <p:sp>
        <p:nvSpPr>
          <p:cNvPr id="176" name="Овал 3"/>
          <p:cNvSpPr/>
          <p:nvPr/>
        </p:nvSpPr>
        <p:spPr>
          <a:xfrm>
            <a:off x="357120" y="1500120"/>
            <a:ext cx="271476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Бе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285840" y="5500800"/>
            <a:ext cx="264312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Угле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Овал 5"/>
          <p:cNvSpPr/>
          <p:nvPr/>
        </p:nvSpPr>
        <p:spPr>
          <a:xfrm>
            <a:off x="6215040" y="5572080"/>
            <a:ext cx="270036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Овал 6"/>
          <p:cNvSpPr/>
          <p:nvPr/>
        </p:nvSpPr>
        <p:spPr>
          <a:xfrm>
            <a:off x="6000840" y="1500120"/>
            <a:ext cx="284328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Ж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Прямая со стрелкой 11"/>
          <p:cNvCxnSpPr/>
          <p:nvPr/>
        </p:nvCxnSpPr>
        <p:spPr>
          <a:xfrm>
            <a:off x="1500120" y="2356920"/>
            <a:ext cx="929520" cy="10724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81" name="Прямая со стрелкой 13"/>
          <p:cNvCxnSpPr/>
          <p:nvPr/>
        </p:nvCxnSpPr>
        <p:spPr>
          <a:xfrm flipH="1">
            <a:off x="6714360" y="2356920"/>
            <a:ext cx="857880" cy="10724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82" name="Прямая со стрелкой 15"/>
          <p:cNvCxnSpPr/>
          <p:nvPr/>
        </p:nvCxnSpPr>
        <p:spPr>
          <a:xfrm flipV="1">
            <a:off x="1784880" y="4500000"/>
            <a:ext cx="678600" cy="99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83" name="Прямая со стрелкой 17"/>
          <p:cNvCxnSpPr/>
          <p:nvPr/>
        </p:nvCxnSpPr>
        <p:spPr>
          <a:xfrm flipH="1" flipV="1">
            <a:off x="6714360" y="4785480"/>
            <a:ext cx="886680" cy="78660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3162240" y="2817720"/>
            <a:ext cx="3079800" cy="2178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5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тание должно быть четырехразовым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щевой рацион должен быть сбалансированным и разнообразны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ть нужно не спеша, тщательно пережевывая пищ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арайся не разговаривать и не читать во время приема пищ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еди за чистотой ру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арайся кушать в одно и тож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6715080" y="4572000"/>
            <a:ext cx="1785960" cy="1898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реднестатистический человек съедает за жизнь 20−25 тонн ед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Легенда гласит о том, что французский сыр Рокфор появился случайно, когда пастух бросил свой завтрак в пещере, погнавшись за проходившей симпатичной девушкой. Через несколько месяцев он случайно обнаружил брошенный сыр, который к тому времени покрылся плесенью, но при этом оказался вкусны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357120" y="0"/>
            <a:ext cx="824220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00960" y="-1922760"/>
            <a:ext cx="1185840" cy="32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13840"/>
            <a:ext cx="55008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екомендации школьникам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питании всё должно быть в меру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ища должна быть разнообразно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Еда должна быть тёплой; Тщательно пережёвывать пищу; Есть овощи и фрукт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Есть 3—4 раза в ден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есть перед сном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есть копчёного, жареного и острого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есть всухомятку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ньше есть сладостей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перекусывать чипсами и сухариками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бязательно брать в школе горячий обе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Содержимое 4" descr="ApplesInTheShapeOfAHeart900.jpg"/>
          <p:cNvPicPr/>
          <p:nvPr/>
        </p:nvPicPr>
        <p:blipFill>
          <a:blip r:embed="rId1"/>
          <a:stretch/>
        </p:blipFill>
        <p:spPr>
          <a:xfrm>
            <a:off x="6224760" y="3429000"/>
            <a:ext cx="2442960" cy="222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3" name="Рисунок 5" descr="Pravilnoe-pitanie-5.jpg"/>
          <p:cNvPicPr/>
          <p:nvPr/>
        </p:nvPicPr>
        <p:blipFill>
          <a:blip r:embed="rId2"/>
          <a:stretch/>
        </p:blipFill>
        <p:spPr>
          <a:xfrm>
            <a:off x="6300720" y="333360"/>
            <a:ext cx="2365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Текст 4" descr=""/>
          <p:cNvPicPr/>
          <p:nvPr/>
        </p:nvPicPr>
        <p:blipFill>
          <a:blip r:embed="rId1"/>
          <a:stretch/>
        </p:blipFill>
        <p:spPr>
          <a:xfrm>
            <a:off x="4406760" y="195120"/>
            <a:ext cx="3024360" cy="5803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85840" y="85680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спевает жарким летом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становится при этом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н таким, как круглый мяч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о его не пустишь вскачь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н тяжелый и большой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пелый, крепкий, наливной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ладкий, сочный и упругий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мечательный на вкус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сем полезен нам... 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Есть и есть его не лень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Было нам с сестрёнкой Ниной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А на следующий день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болели мы ангиной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Горит на грядке светофор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люди ждать согласны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ка зелёный ..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е сделается красным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на в коричневом мундир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ытнее овоща нет в мире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а грядке куст её цветёт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д ним в земле она растёт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 огороде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з земл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трел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 солнцу проросли! 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28560" y="499680"/>
            <a:ext cx="22143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 АРБУЗ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МОРОЖЕНОЕ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ПОМИДОР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КАРТОФЕЛЬ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ЛУК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Заголовок 1" descr=""/>
          <p:cNvPicPr/>
          <p:nvPr/>
        </p:nvPicPr>
        <p:blipFill>
          <a:blip r:embed="rId2"/>
          <a:stretch/>
        </p:blipFill>
        <p:spPr>
          <a:xfrm>
            <a:off x="225360" y="42840"/>
            <a:ext cx="3706920" cy="1255680"/>
          </a:xfrm>
          <a:prstGeom prst="rect">
            <a:avLst/>
          </a:prstGeom>
          <a:ln w="0">
            <a:noFill/>
          </a:ln>
        </p:spPr>
      </p:pic>
      <p:grpSp>
        <p:nvGrpSpPr>
          <p:cNvPr id="198" name="Текст 5"/>
          <p:cNvGrpSpPr/>
          <p:nvPr/>
        </p:nvGrpSpPr>
        <p:grpSpPr>
          <a:xfrm>
            <a:off x="5931000" y="0"/>
            <a:ext cx="3213000" cy="5784840"/>
            <a:chOff x="5931000" y="0"/>
            <a:chExt cx="3213000" cy="5784840"/>
          </a:xfrm>
        </p:grpSpPr>
        <p:pic>
          <p:nvPicPr>
            <p:cNvPr id="199" name="Текст 5" descr=""/>
            <p:cNvPicPr/>
            <p:nvPr/>
          </p:nvPicPr>
          <p:blipFill>
            <a:blip r:embed="rId3"/>
            <a:stretch/>
          </p:blipFill>
          <p:spPr>
            <a:xfrm>
              <a:off x="5932440" y="0"/>
              <a:ext cx="3211200" cy="57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931000" y="0"/>
              <a:ext cx="321300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ШОКОЛАД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            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СУП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                  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МОРКОВЬ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              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ЧЕСНОК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1" name="Рисунок 6" descr="383956912.jpg"/>
          <p:cNvPicPr/>
          <p:nvPr/>
        </p:nvPicPr>
        <p:blipFill>
          <a:blip r:embed="rId4"/>
          <a:stretch/>
        </p:blipFill>
        <p:spPr>
          <a:xfrm>
            <a:off x="5148360" y="4076640"/>
            <a:ext cx="272880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1680" y="-2880"/>
            <a:ext cx="361476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85480"/>
            <a:ext cx="405936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дукты быстрого приготовления – лапша, всевозможные консервированные супы, бульонные кубики, пюре, и прочее, также относят к категории небезобидных продуктов по причине их состава, практически полностью состоящего из хими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3280" y="2428920"/>
            <a:ext cx="4059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редная еда включает в себя также различные копченые продукты. Среди них: сардельки, рыба, сосиски, мясо, колбасы, ветчина, готовые паштеты и другие продукты, имеющие в своем составе скрытый жир. В таких продуктах мясо умело маскируется салом, жиром и шкурой, которые занимают более 40% от общей массы продукта. Кроме того, в них добавляют огромное количество красителей и вкусовых добавок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Рисунок 7" descr="kopchenoe-myaso-doma.jpg"/>
          <p:cNvPicPr/>
          <p:nvPr/>
        </p:nvPicPr>
        <p:blipFill>
          <a:blip r:embed="rId1"/>
          <a:stretch/>
        </p:blipFill>
        <p:spPr>
          <a:xfrm>
            <a:off x="826920" y="3357720"/>
            <a:ext cx="2860920" cy="19540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27acd225612cd55d393f45401fddfd96.jpg"/>
          <p:cNvPicPr/>
          <p:nvPr/>
        </p:nvPicPr>
        <p:blipFill>
          <a:blip r:embed="rId2"/>
          <a:stretch/>
        </p:blipFill>
        <p:spPr>
          <a:xfrm>
            <a:off x="5435640" y="189000"/>
            <a:ext cx="2658960" cy="1520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72240" y="-3203280"/>
            <a:ext cx="1114560" cy="45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400" y="28584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ль является очень вредным продуктом, так как повышает артериальное давление и вызывает накопление токсинов в организме. Конечно, в небольших количествах соль необходима нашему организму, но все должно быть в меру. Всего четверть чайной ложки соли ежедневно требуется для поддержания нормального функционирования организма. Все, что мы употребляем сверх этой нормы, может негативно сказаться на нашем здоровь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85840"/>
            <a:ext cx="42735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мимо нездоровой еды негативно на нашем здоровье и красоте сказываются переедания и несоблюдение режима. Никогда не нужно наедаться на ночь, даже если днем у вас не было возможности нормально поесть. Ужин должен быть в виде легкого перекуса. Вечером можно позволить себе немного мяса нежирных сортов, нежирной рыбы, овощи и фрукты и не следует употреблять после 18 часов хлеб, мучное, сладкое и жирное. Отказ от приема пищи после шести часов вечера не является рецептом для похудения, это правило должно стать неизменной составляющей вашего образа жизни. Тогда у вас не будет проблем ни с внешним видом, ни со здоровье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Содержимое 4" descr="thumb_5fd3713462d8bc972c92dd374cc6b3e7_0.jpg"/>
          <p:cNvPicPr/>
          <p:nvPr/>
        </p:nvPicPr>
        <p:blipFill>
          <a:blip r:embed="rId1"/>
          <a:stretch/>
        </p:blipFill>
        <p:spPr>
          <a:xfrm>
            <a:off x="714240" y="3714840"/>
            <a:ext cx="3286440" cy="26780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переедание2-1.jpg"/>
          <p:cNvPicPr/>
          <p:nvPr/>
        </p:nvPicPr>
        <p:blipFill>
          <a:blip r:embed="rId2"/>
          <a:stretch/>
        </p:blipFill>
        <p:spPr>
          <a:xfrm>
            <a:off x="571680" y="3571920"/>
            <a:ext cx="414324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user</cp:lastModifiedBy>
  <dcterms:modified xsi:type="dcterms:W3CDTF">2020-11-17T06:48:42Z</dcterms:modified>
  <cp:revision>63</cp:revision>
  <dc:subject/>
  <dc:title>Слайд 1</dc:title>
</cp:coreProperties>
</file>