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20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FCF-3592-47BD-8E7C-74CE08A2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1F5-6B13-4353-A950-5287667E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742-522A-4710-B64A-95DDFD16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BBB-782D-45FB-A856-4EDF9165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CC3B3-4846-454C-9478-2A1032D4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A3E7C-FDCD-4967-A9D1-23875E16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5CBDD-9B9B-4C8B-8B8B-99DF2395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91302-42AC-4912-BA3F-B02DBB9E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5AE8C-6C43-4E2A-8B49-425D8B52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68D22-FDCF-49BD-AD81-C3BF1924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3B035-F0AD-45DE-8C00-02B5F921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05D-CC78-446D-9DF3-745D0DBB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921ED-BB47-4F5C-8C80-9EDEEEE8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5C16F-85DA-425C-821E-96C2EB6F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3F31B-853C-4E8D-B8B7-512FA075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D548D-3E5F-47A6-AC70-49D4B891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C5BD6-B894-468D-ACDD-84E41295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D8E51-6DF8-440A-959E-3C894B12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A3938-5164-499B-B513-B0A46328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6B34F-A1AF-468D-B58D-1D739E5A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C6666-2C4F-4F0D-8462-E85B8DA0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1FFF7-E5D1-4904-AC44-43C31966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8D6-F02A-44E5-920F-460A9D77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9CE1B-1AB8-4129-9C92-6A704A08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A3E36-1370-43ED-AA22-E4035FAC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D23F9-576D-4EBD-B23C-870D7FA5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BE9BC-3C11-4BB2-9192-1FDCF045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AF958-89C6-4A1F-B897-756D9499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CDA8-2741-4A38-B898-CB49E0AB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81014-3ECC-4707-9F0D-530BD560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CF3C0A-C854-4FDF-AB6E-79FE5196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7F6BE-E17C-4477-A583-6D04EB4E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39484-AEDF-41E7-BFD8-3327D830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506-A46C-439F-8919-0F62C752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EBD925-2E37-4AA6-B38B-B6FD634E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CB6982-E00F-4BF5-96EA-BB56CC36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95EDB-59D6-4FA5-9D19-3B2A2205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B93DCD-A9D5-4A23-8D05-40FC62A9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6028A9-A12E-4DEC-82BB-4D290937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C3A60D-29E4-4A93-988E-A0787E4B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8AC8F-953E-4FC4-975F-DBB17AD1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E24B70-F3C0-4020-9DA3-6FFF3755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E2EEAF-C249-48EC-87A3-34DCA0DA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42C4-685C-4C22-B30A-93864889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A54-48A6-4310-B42A-50716F56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679-46D8-4ECC-9E43-73499321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B72-A20C-4854-828A-86978434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55C-E04E-478F-BDC1-A57CDB66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7E92-979E-43DA-9C00-5A139FFCEF0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523E-0A9F-4894-BFF5-D802B56E116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E2B4-7D15-4B16-AF29-EB5F8A4DA34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9015-5671-463C-8CF6-7D8FBD2EF26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071680" y="4857480"/>
            <a:ext cx="37861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Подготовила воспитатель ГПД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довина Л.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706320" y="146160"/>
            <a:ext cx="7785360" cy="1433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00"/>
          <p:cNvPicPr/>
          <p:nvPr/>
        </p:nvPicPr>
        <p:blipFill>
          <a:blip r:embed="rId2"/>
          <a:stretch/>
        </p:blipFill>
        <p:spPr>
          <a:xfrm>
            <a:off x="324000" y="1844640"/>
            <a:ext cx="3913200" cy="29368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3" descr=""/>
          <p:cNvPicPr/>
          <p:nvPr/>
        </p:nvPicPr>
        <p:blipFill>
          <a:blip r:embed="rId1"/>
          <a:stretch/>
        </p:blipFill>
        <p:spPr>
          <a:xfrm>
            <a:off x="658800" y="268200"/>
            <a:ext cx="7851960" cy="2882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3714840" cy="240840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457200" y="360360"/>
            <a:ext cx="8229600" cy="1114560"/>
          </a:xfrm>
          <a:prstGeom prst="rect">
            <a:avLst/>
          </a:prstGeom>
          <a:ln w="0">
            <a:noFill/>
          </a:ln>
        </p:spPr>
      </p:pic>
      <p:sp>
        <p:nvSpPr>
          <p:cNvPr id="176" name="Овал 3"/>
          <p:cNvSpPr/>
          <p:nvPr/>
        </p:nvSpPr>
        <p:spPr>
          <a:xfrm>
            <a:off x="357120" y="1500120"/>
            <a:ext cx="2714760" cy="9144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nstantia"/>
              </a:rPr>
              <a:t>Бел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Овал 4"/>
          <p:cNvSpPr/>
          <p:nvPr/>
        </p:nvSpPr>
        <p:spPr>
          <a:xfrm>
            <a:off x="285840" y="5500800"/>
            <a:ext cx="2643120" cy="9144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nstantia"/>
              </a:rPr>
              <a:t>Угле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Овал 5"/>
          <p:cNvSpPr/>
          <p:nvPr/>
        </p:nvSpPr>
        <p:spPr>
          <a:xfrm>
            <a:off x="6215040" y="5572080"/>
            <a:ext cx="2700360" cy="9144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nstantia"/>
              </a:rPr>
              <a:t>Витам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Овал 6"/>
          <p:cNvSpPr/>
          <p:nvPr/>
        </p:nvSpPr>
        <p:spPr>
          <a:xfrm>
            <a:off x="6000840" y="1500120"/>
            <a:ext cx="2843280" cy="9144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nstantia"/>
              </a:rPr>
              <a:t>Жи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0" name="Прямая со стрелкой 11"/>
          <p:cNvCxnSpPr/>
          <p:nvPr/>
        </p:nvCxnSpPr>
        <p:spPr>
          <a:xfrm>
            <a:off x="1500120" y="2356920"/>
            <a:ext cx="929520" cy="107244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81" name="Прямая со стрелкой 13"/>
          <p:cNvCxnSpPr/>
          <p:nvPr/>
        </p:nvCxnSpPr>
        <p:spPr>
          <a:xfrm flipH="1">
            <a:off x="6714360" y="2356920"/>
            <a:ext cx="857880" cy="107244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82" name="Прямая со стрелкой 15"/>
          <p:cNvCxnSpPr/>
          <p:nvPr/>
        </p:nvCxnSpPr>
        <p:spPr>
          <a:xfrm flipV="1">
            <a:off x="1784880" y="4500000"/>
            <a:ext cx="678600" cy="99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83" name="Прямая со стрелкой 17"/>
          <p:cNvCxnSpPr/>
          <p:nvPr/>
        </p:nvCxnSpPr>
        <p:spPr>
          <a:xfrm flipH="1" flipV="1">
            <a:off x="6714360" y="4785480"/>
            <a:ext cx="886680" cy="78660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med" type="arrow" w="med"/>
          </a:ln>
        </p:spPr>
      </p:cxnSp>
      <p:pic>
        <p:nvPicPr>
          <p:cNvPr id="184" name="Picture 12" descr=""/>
          <p:cNvPicPr/>
          <p:nvPr/>
        </p:nvPicPr>
        <p:blipFill>
          <a:blip r:embed="rId2"/>
          <a:stretch/>
        </p:blipFill>
        <p:spPr>
          <a:xfrm>
            <a:off x="3162240" y="2817720"/>
            <a:ext cx="3079800" cy="21780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520"/>
            <a:ext cx="82296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итание должно быть четырехразовым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ищевой рацион должен быть сбалансированным и разнообразны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Есть нужно не спеша, тщательно пережевывая пищу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арайся не разговаривать и не читать во время приема пищ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леди за чистотой рук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арайся кушать в одно и тож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рем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Program Files\Microsoft Office\MEDIA\CAGCAT10\j0234131.wmf"/>
          <p:cNvPicPr/>
          <p:nvPr/>
        </p:nvPicPr>
        <p:blipFill>
          <a:blip r:embed="rId2"/>
          <a:stretch/>
        </p:blipFill>
        <p:spPr>
          <a:xfrm>
            <a:off x="6715080" y="4572000"/>
            <a:ext cx="1785960" cy="1898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35684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реднестатистический человек съедает за жизнь 20−25 тонн ед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Легенда гласит о том, что французский сыр Рокфор появился случайно, когда пастух бросил свой завтрак в пещере, погнавшись за проходившей симпатичной девушкой. Через несколько месяцев он случайно обнаружил брошенный сыр, который к тому времени покрылся плесенью, но при этом оказался вкусным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  <a:ea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357120" y="0"/>
            <a:ext cx="824220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00960" y="-1922760"/>
            <a:ext cx="1185840" cy="32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4200" y="213840"/>
            <a:ext cx="55008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Рекомендации школьникам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 питании всё должно быть в меру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ища должна быть разнообразной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Еда должна быть тёплой; Тщательно пережёвывать пищу; Есть овощи и фрукты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Есть 3—4 раза в день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 есть перед сном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 есть копчёного, жареного и острого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 есть всухомятку;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Меньше есть сладостей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 перекусывать чипсами и сухариками;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бязательно брать в школе горячий обед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Содержимое 4" descr="ApplesInTheShapeOfAHeart900.jpg"/>
          <p:cNvPicPr/>
          <p:nvPr/>
        </p:nvPicPr>
        <p:blipFill>
          <a:blip r:embed="rId1"/>
          <a:stretch/>
        </p:blipFill>
        <p:spPr>
          <a:xfrm>
            <a:off x="6224760" y="3429000"/>
            <a:ext cx="2442960" cy="222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3" name="Рисунок 5" descr="Pravilnoe-pitanie-5.jpg"/>
          <p:cNvPicPr/>
          <p:nvPr/>
        </p:nvPicPr>
        <p:blipFill>
          <a:blip r:embed="rId2"/>
          <a:stretch/>
        </p:blipFill>
        <p:spPr>
          <a:xfrm>
            <a:off x="6300720" y="333360"/>
            <a:ext cx="236556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Текст 4" descr=""/>
          <p:cNvPicPr/>
          <p:nvPr/>
        </p:nvPicPr>
        <p:blipFill>
          <a:blip r:embed="rId1"/>
          <a:stretch/>
        </p:blipFill>
        <p:spPr>
          <a:xfrm>
            <a:off x="4406760" y="195120"/>
            <a:ext cx="3024360" cy="5803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285840" y="85680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оспевает жарким летом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И становится при этом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Он таким, как круглый мяч,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о его не пустишь вскачь.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Он тяжелый и большой,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пелый, крепкий, наливной,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ладкий, сочный и упругий,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Замечательный на вкус,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сем полезен нам... 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Есть и есть его не лень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Было нам с сестрёнкой Ниной.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А на следующий день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Заболели мы ангиной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Горит на грядке светофор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И люди ждать согласны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ока зелёный ..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е сделается красным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Она в коричневом мундире,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ытнее овоща нет в мире.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На грядке куст её цветёт,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од ним в земле она растёт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 огороде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Из земл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трелы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К солнцу проросли! 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428560" y="499680"/>
            <a:ext cx="22143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( АРБУЗ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(МОРОЖЕНОЕ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(ПОМИДОР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(КАРТОФЕЛЬ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(ЛУК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Заголовок 1" descr=""/>
          <p:cNvPicPr/>
          <p:nvPr/>
        </p:nvPicPr>
        <p:blipFill>
          <a:blip r:embed="rId2"/>
          <a:stretch/>
        </p:blipFill>
        <p:spPr>
          <a:xfrm>
            <a:off x="225360" y="42840"/>
            <a:ext cx="3706920" cy="1255680"/>
          </a:xfrm>
          <a:prstGeom prst="rect">
            <a:avLst/>
          </a:prstGeom>
          <a:ln w="0">
            <a:noFill/>
          </a:ln>
        </p:spPr>
      </p:pic>
      <p:grpSp>
        <p:nvGrpSpPr>
          <p:cNvPr id="198" name="Текст 5"/>
          <p:cNvGrpSpPr/>
          <p:nvPr/>
        </p:nvGrpSpPr>
        <p:grpSpPr>
          <a:xfrm>
            <a:off x="5931000" y="0"/>
            <a:ext cx="3213000" cy="5784840"/>
            <a:chOff x="5931000" y="0"/>
            <a:chExt cx="3213000" cy="5784840"/>
          </a:xfrm>
        </p:grpSpPr>
        <p:pic>
          <p:nvPicPr>
            <p:cNvPr id="199" name="Текст 5" descr=""/>
            <p:cNvPicPr/>
            <p:nvPr/>
          </p:nvPicPr>
          <p:blipFill>
            <a:blip r:embed="rId3"/>
            <a:stretch/>
          </p:blipFill>
          <p:spPr>
            <a:xfrm>
              <a:off x="5932440" y="0"/>
              <a:ext cx="3211200" cy="578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931000" y="0"/>
              <a:ext cx="3213000" cy="57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(ШОКОЛАД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                   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(СУП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                         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(МОРКОВЬ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                            </a:t>
              </a: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(ЧЕСНОК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1" name="Рисунок 6" descr="383956912.jpg"/>
          <p:cNvPicPr/>
          <p:nvPr/>
        </p:nvPicPr>
        <p:blipFill>
          <a:blip r:embed="rId4"/>
          <a:stretch/>
        </p:blipFill>
        <p:spPr>
          <a:xfrm>
            <a:off x="5148360" y="4076640"/>
            <a:ext cx="2728800" cy="1963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9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9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9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71680" y="-2880"/>
            <a:ext cx="361476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85480"/>
            <a:ext cx="405936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дукты быстрого приготовления – лапша, всевозможные консервированные супы, бульонные кубики, пюре, и прочее, также относят к категории небезобидных продуктов по причине их состава, практически полностью состоящего из хими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3280" y="2428920"/>
            <a:ext cx="40593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редная еда включает в себя также различные копченые продукты. Среди них: сардельки, рыба, сосиски, мясо, колбасы, ветчина, готовые паштеты и другие продукты, имеющие в своем составе скрытый жир. В таких продуктах мясо умело маскируется салом, жиром и шкурой, которые занимают более 40% от общей массы продукта. Кроме того, в них добавляют огромное количество красителей и вкусовых добавок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Рисунок 7" descr="kopchenoe-myaso-doma.jpg"/>
          <p:cNvPicPr/>
          <p:nvPr/>
        </p:nvPicPr>
        <p:blipFill>
          <a:blip r:embed="rId1"/>
          <a:stretch/>
        </p:blipFill>
        <p:spPr>
          <a:xfrm>
            <a:off x="826920" y="3357720"/>
            <a:ext cx="2860920" cy="19540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9" descr="27acd225612cd55d393f45401fddfd96.jpg"/>
          <p:cNvPicPr/>
          <p:nvPr/>
        </p:nvPicPr>
        <p:blipFill>
          <a:blip r:embed="rId2"/>
          <a:stretch/>
        </p:blipFill>
        <p:spPr>
          <a:xfrm>
            <a:off x="5435640" y="189000"/>
            <a:ext cx="2658960" cy="1520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72240" y="-3203280"/>
            <a:ext cx="1114560" cy="45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28400" y="28584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ль является очень вредным продуктом, так как повышает артериальное давление и вызывает накопление токсинов в организме. Конечно, в небольших количествах соль необходима нашему организму, но все должно быть в меру. Всего четверть чайной ложки соли ежедневно требуется для поддержания нормального функционирования организма. Все, что мы употребляем сверх этой нормы, может негативно сказаться на нашем здоровь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2920" y="285840"/>
            <a:ext cx="42735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омимо нездоровой еды негативно на нашем здоровье и красоте сказываются переедания и несоблюдение режима. Никогда не нужно наедаться на ночь, даже если днем у вас не было возможности нормально поесть. Ужин должен быть в виде легкого перекуса. Вечером можно позволить себе немного мяса нежирных сортов, нежирной рыбы, овощи и фрукты и не следует употреблять после 18 часов хлеб, мучное, сладкое и жирное. Отказ от приема пищи после шести часов вечера не является рецептом для похудения, это правило должно стать неизменной составляющей вашего образа жизни. Тогда у вас не будет проблем ни с внешним видом, ни со здоровье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Содержимое 4" descr="thumb_5fd3713462d8bc972c92dd374cc6b3e7_0.jpg"/>
          <p:cNvPicPr/>
          <p:nvPr/>
        </p:nvPicPr>
        <p:blipFill>
          <a:blip r:embed="rId1"/>
          <a:stretch/>
        </p:blipFill>
        <p:spPr>
          <a:xfrm>
            <a:off x="714240" y="3714840"/>
            <a:ext cx="3286440" cy="267804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7" descr="переедание2-1.jpg"/>
          <p:cNvPicPr/>
          <p:nvPr/>
        </p:nvPicPr>
        <p:blipFill>
          <a:blip r:embed="rId2"/>
          <a:stretch/>
        </p:blipFill>
        <p:spPr>
          <a:xfrm>
            <a:off x="571680" y="3571920"/>
            <a:ext cx="414324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user</cp:lastModifiedBy>
  <dcterms:modified xsi:type="dcterms:W3CDTF">2020-11-17T06:48:42Z</dcterms:modified>
  <cp:revision>63</cp:revision>
  <dc:subject/>
  <dc:title>Слайд 1</dc:title>
</cp:coreProperties>
</file>