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9373-0275-4AA8-9E2E-21EB046994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7E52-F98B-4384-8AFB-43DD46F256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E5B8-028F-4775-9995-01171EE9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E59F-CA8D-40B1-9417-0CBF80C6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BE82-D4B2-4351-8018-28866E3E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E2AF-1AB3-4181-A002-D455DC4A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4693-E4BC-4B67-911F-D4ED8990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A0DF-D286-4A73-83F2-8F063126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0AA3-BCB4-4BCA-B656-E0EDAC37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58EE-0A21-428E-B068-008E2FCF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A40B-9A55-43E0-BD88-A666E440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13B1-49FC-44BE-A838-066E0E74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873B-A287-418A-87A8-B03585DE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70AF-DE9B-4672-AD83-A0ABD5F2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0420-56FD-432F-B424-8E1AEEBF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52FB-145A-44ED-A206-D592F431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02AF-5DBD-477B-A2BE-97434CFB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4D50-5067-4A5F-A7B7-2AF9D866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7EB2-4AC4-4150-9DC1-7D4BC80B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B1825-989F-47F7-B3AC-2EC3E29B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E7E78-8A3A-470F-8377-B5AF1BE0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A7F10-7899-42BE-B9E5-A2EBFCE7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7C1E9-3E06-4A7F-8BE1-22F07F61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32835-8A7A-47E1-82CA-EA6D6918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251A-72F4-4813-A9CD-5841B9B6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DB27F-25F3-41F8-A646-F0AE5BBB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61382-35FF-497E-AF30-569C4D86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87D83-E6AF-4263-BE32-AB277BEA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31D91-1A6F-48EE-9C09-0089EA87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03DAC-D7BF-4AD5-87AE-793750CF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B18A0-B0A1-4A21-B73C-65F3F1D1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49459-7FED-49E0-A735-11F4A01C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72FA3-28AD-4A0B-96A0-CF1991FB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A8874-2D92-4226-9207-BEF98544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551E2-36F0-4554-BCEE-EC1FA143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D6F-10ED-4A7A-9D03-13155441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F6226-AEB4-44B8-8A9A-C19E295C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293B0-6432-4593-8181-BAF71271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63578-E4DE-43E5-85BD-B8A59FC9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0825A-9561-42EB-8403-E7F0BEFE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34175-3F21-4CDF-A9EF-E15777C1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F861E-A9E9-46CD-B71A-890E13BF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F4986-A72B-41DF-A044-8D8CC861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5CFFD-320E-49AE-BD96-29465E6F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D9F74-ACB0-4DC4-877B-9DABEE31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3EBF-9933-4FDE-AE0E-F237F57A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B1FC-701B-4D3C-AB1E-4F486A7A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22E2-ABC9-46E7-AED0-80D38CA0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E31-18D7-4C5A-834D-0E9A23AE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BCD8-A265-4426-B555-BB4279C8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C863-C14A-4935-BE20-AA78C5D3FCD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119B-C56A-4DF2-BDEB-75297624796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9D72-CAD7-4266-89E0-C0EE6074536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D72E-5CEC-42EC-9B0F-C43FCF5013F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3" descr=""/>
          <p:cNvPicPr/>
          <p:nvPr/>
        </p:nvPicPr>
        <p:blipFill>
          <a:blip r:embed="rId1"/>
          <a:stretch/>
        </p:blipFill>
        <p:spPr>
          <a:xfrm>
            <a:off x="706320" y="328680"/>
            <a:ext cx="7864560" cy="13240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1928880"/>
            <a:ext cx="7854840" cy="1714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0dfa1"/>
                </a:solidFill>
                <a:latin typeface="Times New Roman"/>
                <a:ea typeface="Times New Roman"/>
              </a:rPr>
              <a:t>Тема: «Интерактивные игры в развитие детей дошкольного возраста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Прямоугольник 5"/>
          <p:cNvSpPr/>
          <p:nvPr/>
        </p:nvSpPr>
        <p:spPr>
          <a:xfrm>
            <a:off x="928800" y="3786120"/>
            <a:ext cx="77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полнила:  воспитатель  МАДОУ  комбинированного  вида  д/с № 56 «Ромашка» старшей группы № 14  «Радуг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Мустафина Мария Михайл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6"/>
          <p:cNvSpPr/>
          <p:nvPr/>
        </p:nvSpPr>
        <p:spPr>
          <a:xfrm>
            <a:off x="928800" y="457200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. Химки, Москов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иды интерактивных игр,  апробированные на практике :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гра «Волшебная комната»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гра с клубком ниток «Настроение»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гра «Домашний питомец»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гра «Волшебная шляпа»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гра «Реклама на телеканале»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узыкальная игра «Семья»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 др. игр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Стрелка вправо 6"/>
          <p:cNvSpPr/>
          <p:nvPr/>
        </p:nvSpPr>
        <p:spPr>
          <a:xfrm>
            <a:off x="357120" y="5643720"/>
            <a:ext cx="3000600" cy="78552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едаг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трелка влево 7"/>
          <p:cNvSpPr/>
          <p:nvPr/>
        </p:nvSpPr>
        <p:spPr>
          <a:xfrm>
            <a:off x="5643720" y="5715000"/>
            <a:ext cx="3214440" cy="71424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Улыбающееся лицо 8"/>
          <p:cNvSpPr/>
          <p:nvPr/>
        </p:nvSpPr>
        <p:spPr>
          <a:xfrm>
            <a:off x="3786120" y="5500800"/>
            <a:ext cx="1285920" cy="1000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onstantia"/>
              </a:rPr>
              <a:t>Взаимодействие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Constantia"/>
                <a:ea typeface="Times New Roman"/>
              </a:rPr>
              <a:t>    </a:t>
            </a:r>
            <a:r>
              <a:rPr b="1" i="1" lang="ru-RU" sz="4000" spc="-1" strike="noStrike">
                <a:solidFill>
                  <a:srgbClr val="00b0f0"/>
                </a:solidFill>
                <a:latin typeface="Constantia"/>
                <a:ea typeface="Times New Roman"/>
              </a:rPr>
              <a:t>Интерактивная</a:t>
            </a:r>
            <a:r>
              <a:rPr b="0" i="1" lang="ru-RU" sz="4000" spc="-1" strike="noStrike">
                <a:solidFill>
                  <a:srgbClr val="00b0f0"/>
                </a:solidFill>
                <a:latin typeface="Constantia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b0f0"/>
                </a:solidFill>
                <a:latin typeface="Constantia"/>
                <a:ea typeface="Times New Roman"/>
              </a:rPr>
              <a:t>игра</a:t>
            </a:r>
            <a:r>
              <a:rPr b="0" i="1" lang="ru-RU" sz="4000" spc="-1" strike="noStrike">
                <a:solidFill>
                  <a:srgbClr val="00b0f0"/>
                </a:solidFill>
                <a:latin typeface="Constantia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0070c0"/>
                </a:solidFill>
                <a:latin typeface="Constantia"/>
                <a:ea typeface="Times New Roman"/>
              </a:rPr>
              <a:t>- это инновационная форма обучения в основе которой находится тесное творческое взаимодействие педагога и каждого ребенка, группы детей, происходит постоянная, целенаправленная коммуникация и  отличается от других видов игр прежде всего интегративным характером, т.е она может объединять в себе: слушание, говорение, коммуникацию, музыкальные элементы, творческие задания, ролевые игры, театрализованные постановки, дискуссии, рассуждения, использование компьютерных технологий и многое друго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Ожидаемые результаты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Благодаря продуктивному эффекту за счет тесного взаимодействия педагога и детей, непосредственного обмена опыта, интерактивную игру целесообразно использовать в  дошкольной педагогики, что  позволяет достичь больших результатов, т. е. моя гипотеза, что интерактивная игра помогает эстетическому развитию детей является верно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Благодарю за внимание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Содержимое 4" descr="skazaka_detstva.jpg"/>
          <p:cNvPicPr/>
          <p:nvPr/>
        </p:nvPicPr>
        <p:blipFill>
          <a:blip r:embed="rId1"/>
          <a:stretch/>
        </p:blipFill>
        <p:spPr>
          <a:xfrm>
            <a:off x="2770200" y="2868480"/>
            <a:ext cx="36036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onstantia"/>
              </a:rPr>
              <a:t>План презентаци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000080"/>
            <a:ext cx="84009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ктуальность выбранного проекта ………….........................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Цель исследования…………………………………………………….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дачи исследования…………………………………………..…….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яд теоретических источников ……………………..…….….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ъект исследования……………………………………………..…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етоды исследования…………………………………………….…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Методик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исследования……………………………………….…..1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иды интерактивной игры…………………………………….…1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пределение  интерактивной игры…………………………1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ыводы…………………………………………………………………..……1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onstantia"/>
              </a:rPr>
              <a:t>Актуальность проект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500120"/>
            <a:ext cx="8400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Заключается в практическом применение инновациолнных современных методик интерактивной игры  в развитие дошкольного возраста с учетом ее возрастных, социальных, социокультурных особенностей, в системно-аналитическом обзоре полученных результатов и динамике – педагогической картины взаимодействия дете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2960" y="128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Цель проекта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143080"/>
            <a:ext cx="8400960" cy="38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Выявить возможности пространства интерактивной игры психолого-педагогической деятельности педагога в эстетическом обучение детей старшего дошкольного возраст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onstantia"/>
              </a:rPr>
              <a:t>Задачи проект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196280"/>
            <a:ext cx="8329680" cy="48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buClr>
                <a:srgbClr val="002060"/>
              </a:buClr>
              <a:buSzPct val="95000"/>
              <a:buFont typeface="Constanti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  <a:ea typeface="Times New Roman"/>
              </a:rPr>
              <a:t>Охарактеризовать методические возможности  интерактивной игры как базовой единицы современного дошкольного образова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buClr>
                <a:srgbClr val="002060"/>
              </a:buClr>
              <a:buSzPct val="95000"/>
              <a:buFont typeface="Constanti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  <a:ea typeface="Times New Roman"/>
              </a:rPr>
              <a:t>. Определить наиболее продуктивные виды интерактивной игр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buClr>
                <a:srgbClr val="002060"/>
              </a:buClr>
              <a:buSzPct val="95000"/>
              <a:buFont typeface="Constanti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  <a:ea typeface="Times New Roman"/>
              </a:rPr>
              <a:t>. Определить место интерактивной игры в комплексном эстетическом, психолого-педагогическом воспитании дошкольник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buClr>
                <a:srgbClr val="002060"/>
              </a:buClr>
              <a:buSzPct val="95000"/>
              <a:buFont typeface="Constanti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  <a:ea typeface="Times New Roman"/>
              </a:rPr>
              <a:t>Практически применить некоторые варианты интерактивных игр на примере конкретной группы дошкольников, полученные результаты представить в виде аналитических графиков и диаграм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85880" y="-125640"/>
            <a:ext cx="27432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14200" y="1071360"/>
            <a:ext cx="3143520" cy="51433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nstantia"/>
              </a:rPr>
              <a:t>формирование развития   дошкольного возраста будет происходить более эффективно, если использовать интерактивные игры 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6" descr="IMG_1551"/>
          <p:cNvPicPr/>
          <p:nvPr/>
        </p:nvPicPr>
        <p:blipFill>
          <a:blip r:embed="rId1"/>
          <a:stretch/>
        </p:blipFill>
        <p:spPr>
          <a:xfrm>
            <a:off x="3575160" y="1143000"/>
            <a:ext cx="511164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Ряд теоретических источнико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3572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руздова И. Музыкально-эстетическая культура детей дошкольного возраста: сущность и пути формирования // Дошкольное воспитание. –  2011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ГОС- М.М- Центр педагогического образования 2014.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огинский М.Ю. Игровые элементы активного обучения. - Л., 2009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трова Е. Театрализованные интерактивные игры. //Дошкольное воспитание. - 2010. - №4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лоус Е. Развитие речи и фонематического слуха в театрально-игровой деятельности // Дошкольное воспитание. 2009. № 7. С. и  др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етоды исследования проект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1285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тод наблюдения, метод апробирования интерактивных игр – при работе с группой; метод анкетирования; метод анализа литературы и детских работ;  метод беседы – при общении с детьми; метод эксперимента, включающий  в себя 3 этап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констатирующ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формирующий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контрольн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методика диагностирования выразительности детского рисунка для определения уровня сформированности эстетических способностей, художественного вкуса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Содержимое 4" descr="IMG_1545"/>
          <p:cNvPicPr/>
          <p:nvPr/>
        </p:nvPicPr>
        <p:blipFill>
          <a:blip r:embed="rId1"/>
          <a:stretch/>
        </p:blipFill>
        <p:spPr>
          <a:xfrm>
            <a:off x="457200" y="2241720"/>
            <a:ext cx="4038480" cy="3792240"/>
          </a:xfrm>
          <a:prstGeom prst="rect">
            <a:avLst/>
          </a:prstGeom>
          <a:ln w="0">
            <a:noFill/>
          </a:ln>
        </p:spPr>
      </p:pic>
      <p:pic>
        <p:nvPicPr>
          <p:cNvPr id="223" name="Содержимое 5" descr="IMG_0803"/>
          <p:cNvPicPr/>
          <p:nvPr/>
        </p:nvPicPr>
        <p:blipFill>
          <a:blip r:embed="rId2"/>
          <a:stretch/>
        </p:blipFill>
        <p:spPr>
          <a:xfrm>
            <a:off x="4648320" y="2143080"/>
            <a:ext cx="40384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6T15:15:10Z</dcterms:created>
  <dc:creator>Nikolay</dc:creator>
  <dc:description/>
  <dc:language>en-US</dc:language>
  <cp:lastModifiedBy>Маша</cp:lastModifiedBy>
  <dcterms:modified xsi:type="dcterms:W3CDTF">2016-11-22T21:27:42Z</dcterms:modified>
  <cp:revision>48</cp:revision>
  <dc:subject/>
  <dc:title>Мустафина Мария Михайловна</dc:title>
</cp:coreProperties>
</file>