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5F54-281A-45D3-8462-74B25F3AEA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B859-FAFF-4E35-8E08-D24BCD2F8F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AFC-ED6A-4E03-80B3-50623083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9B4-22EE-4089-A6C3-C979814E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93C-B25B-4FF7-B830-435FA2D7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BF0-FFD6-473D-820D-E2E41D4B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1E4B-FC9F-42BA-865F-4F0BF82F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BBF2-6ADA-4151-89F5-632A7D35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C239-5681-4D30-AD4B-315BF8C6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6C96-C39A-44EF-8703-5A8AA1FC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6C78-F76A-46DA-A823-7329B083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5A79-2760-4B8A-B4E9-82C6F453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00E0-9191-43AA-82E0-49268063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8798-02C3-4136-9578-EE8ABA59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69BF-255C-4F38-A78F-F45F6625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22CC-7389-46D0-8F53-6F201488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7157-A11D-4019-9429-3293BCD2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E2C2-DDDB-42C2-93F9-DB866744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1FD7-ECED-4B32-8E3E-232E4EB9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1AD2C-A685-441C-8DCB-6E73F030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C3637-6A81-45EF-825E-85E4DF9B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076A-5E5F-495C-BD1F-323D6677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9BC0-57AB-494F-96C7-1F5F0C73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1A8AB-11A0-4807-82FC-725CD164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1B3-684C-4E5B-B31D-5D051F6F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AE685-AD68-4005-8802-8AB9CC3C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00272-9E9D-48CE-B2E1-BA1ED1E2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1DF3-9E2A-4051-A9DC-AE5ADE7A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F9284-9E79-4ABD-B5B8-9FED4549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C4C58-B3E6-40E5-A123-0D92A3EE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6B574-3E59-4A54-BED2-78A672CA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5E5B5-5393-4728-8A33-A66997C1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6DA68-C609-4CCF-B8C7-A3F84901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A3BA2-546F-48DB-B44E-678F80E5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24856-CA90-41F5-9BEA-78B60826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77C-CB27-4FCA-B678-1C4F3FE8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FEACD-3AB6-464E-9BD8-29CC7463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CBAC4-0669-46C2-927B-354B8CDB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D3706-D5F2-4E21-8F1C-D5CED247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B091B-DEA4-4A14-A704-043B3F1B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80B69-F128-481D-9F51-FFA40AF3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A9E32-221D-468A-ACBD-426BA3C9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6B9CF-D512-488A-A919-026B5FD3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5AE26-ABD7-4AEB-AA0F-4C30367F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1AA3B-D945-4793-B1C8-30EBC7A3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572-AF87-4157-A66C-BE66372C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D69-0B35-4FAE-BA80-06704411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E2E5-9727-48BC-B1CC-7A4DD5EA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20B-F449-4E65-A7A5-10D20939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FA9-D380-4A14-BE02-F13BE7C7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292D-CCEE-422C-892C-E2269E7FEA0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4ACF-FC46-4FA2-A7EB-D14208AB2C2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E0CF-B19B-498B-8BF6-648EE857BDD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48C1-DB4A-4ED6-B554-04F54356F6F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3" descr=""/>
          <p:cNvPicPr/>
          <p:nvPr/>
        </p:nvPicPr>
        <p:blipFill>
          <a:blip r:embed="rId1"/>
          <a:stretch/>
        </p:blipFill>
        <p:spPr>
          <a:xfrm>
            <a:off x="706320" y="328680"/>
            <a:ext cx="7864560" cy="13240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1928880"/>
            <a:ext cx="78548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dfa1"/>
                </a:solidFill>
                <a:latin typeface="Times New Roman"/>
                <a:ea typeface="Times New Roman"/>
              </a:rPr>
              <a:t>Тема: «Интерактивные игры в развитие детей дошкольного возраста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Прямоугольник 5"/>
          <p:cNvSpPr/>
          <p:nvPr/>
        </p:nvSpPr>
        <p:spPr>
          <a:xfrm>
            <a:off x="928800" y="3786120"/>
            <a:ext cx="77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полнила:  воспитатель  МАДОУ  комбинированного  вида  д/с № 56 «Ромашка» старшей группы № 14  «Радуг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стафина Мария Михай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6"/>
          <p:cNvSpPr/>
          <p:nvPr/>
        </p:nvSpPr>
        <p:spPr>
          <a:xfrm>
            <a:off x="928800" y="457200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Химки, Москов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иды интерактивных игр,  апробированные на практике :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гра «Волшебная комната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гра с клубком ниток «Настроение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гра «Домашний питомец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гра «Волшебная шляпа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гра «Реклама на телеканале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зыкальная игра «Семья»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 др. иг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Стрелка вправо 6"/>
          <p:cNvSpPr/>
          <p:nvPr/>
        </p:nvSpPr>
        <p:spPr>
          <a:xfrm>
            <a:off x="357120" y="5643720"/>
            <a:ext cx="3000600" cy="78552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едаг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трелка влево 7"/>
          <p:cNvSpPr/>
          <p:nvPr/>
        </p:nvSpPr>
        <p:spPr>
          <a:xfrm>
            <a:off x="5643720" y="5715000"/>
            <a:ext cx="3214440" cy="71424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Улыбающееся лицо 8"/>
          <p:cNvSpPr/>
          <p:nvPr/>
        </p:nvSpPr>
        <p:spPr>
          <a:xfrm>
            <a:off x="3786120" y="5500800"/>
            <a:ext cx="1285920" cy="1000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nstantia"/>
              </a:rPr>
              <a:t>Взаимодействие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Constantia"/>
                <a:ea typeface="Times New Roman"/>
              </a:rPr>
              <a:t>    </a:t>
            </a:r>
            <a:r>
              <a:rPr b="1" i="1" lang="ru-RU" sz="4000" spc="-1" strike="noStrike">
                <a:solidFill>
                  <a:srgbClr val="00b0f0"/>
                </a:solidFill>
                <a:latin typeface="Constantia"/>
                <a:ea typeface="Times New Roman"/>
              </a:rPr>
              <a:t>Интерактивная</a:t>
            </a:r>
            <a:r>
              <a:rPr b="0" i="1" lang="ru-RU" sz="4000" spc="-1" strike="noStrike">
                <a:solidFill>
                  <a:srgbClr val="00b0f0"/>
                </a:solidFill>
                <a:latin typeface="Constantia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b0f0"/>
                </a:solidFill>
                <a:latin typeface="Constantia"/>
                <a:ea typeface="Times New Roman"/>
              </a:rPr>
              <a:t>игра</a:t>
            </a:r>
            <a:r>
              <a:rPr b="0" i="1" lang="ru-RU" sz="4000" spc="-1" strike="noStrike">
                <a:solidFill>
                  <a:srgbClr val="00b0f0"/>
                </a:solidFill>
                <a:latin typeface="Constantia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70c0"/>
                </a:solidFill>
                <a:latin typeface="Constantia"/>
                <a:ea typeface="Times New Roman"/>
              </a:rPr>
              <a:t>- это инновационная форма обучения в основе которой находится тесное творческое взаимодействие педагога и каждого ребенка, группы детей, происходит постоянная, целенаправленная коммуникация и  отличается от других видов игр прежде всего интегративным характером, т.е она может объединять в себе: слушание, говорение, коммуникацию, музыкальные элементы, творческие задания, ролевые игры, театрализованные постановки, дискуссии, рассуждения, использование компьютерных технологий и многое друг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Ожидаемые результаты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лагодаря продуктивному эффекту за счет тесного взаимодействия педагога и детей, непосредственного обмена опыта, интерактивную игру целесообразно использовать в  дошкольной педагогики, что  позволяет достичь больших результатов, т. е. моя гипотеза, что интерактивная игра помогает эстетическому развитию детей является верн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Благодарю за внимание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Содержимое 4" descr="skazaka_detstva.jpg"/>
          <p:cNvPicPr/>
          <p:nvPr/>
        </p:nvPicPr>
        <p:blipFill>
          <a:blip r:embed="rId1"/>
          <a:stretch/>
        </p:blipFill>
        <p:spPr>
          <a:xfrm>
            <a:off x="2770200" y="2868480"/>
            <a:ext cx="36036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onstantia"/>
              </a:rPr>
              <a:t>План презентаци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000080"/>
            <a:ext cx="8400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ктуальность выбранного проекта ………….........................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ель исследования…………………………………………………….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чи исследования…………………………………………..…….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яд теоретических источников ……………………..…….….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ъект исследования……………………………………………..…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етоды исследования…………………………………………….…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Методи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сследования……………………………………….…..1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иды интерактивной игры…………………………………….…1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ределение  интерактивной игры…………………………1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воды…………………………………………………………………..……1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onstantia"/>
              </a:rPr>
              <a:t>Актуальность проек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00120"/>
            <a:ext cx="8400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Заключается в практическом применение инновациолнных современных методик интерактивной игры  в развитие дошкольного возраста с учетом ее возрастных, социальных, социокультурных особенностей, в системно-аналитическом обзоре полученных результатов и динамике – педагогической картины взаимодействия дете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2960" y="128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Цель проекта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43080"/>
            <a:ext cx="840096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nstantia"/>
              </a:rPr>
              <a:t>Выявить возможности пространства интерактивной игры психолого-педагогической деятельности педагога в эстетическом обучение детей старшего дошкольного возраст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onstantia"/>
              </a:rPr>
              <a:t>Задачи проект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96280"/>
            <a:ext cx="8329680" cy="48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buClr>
                <a:srgbClr val="002060"/>
              </a:buClr>
              <a:buSzPct val="95000"/>
              <a:buFont typeface="Constanti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  <a:ea typeface="Times New Roman"/>
              </a:rPr>
              <a:t>Охарактеризовать методические возможности  интерактивной игры как базовой единицы современного дошкольного образова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buClr>
                <a:srgbClr val="002060"/>
              </a:buClr>
              <a:buSzPct val="95000"/>
              <a:buFont typeface="Constanti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  <a:ea typeface="Times New Roman"/>
              </a:rPr>
              <a:t>. Определить наиболее продуктивные виды интерактивной игр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buClr>
                <a:srgbClr val="002060"/>
              </a:buClr>
              <a:buSzPct val="95000"/>
              <a:buFont typeface="Constanti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  <a:ea typeface="Times New Roman"/>
              </a:rPr>
              <a:t>. Определить место интерактивной игры в комплексном эстетическом, психолого-педагогическом воспитании дошкольник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buClr>
                <a:srgbClr val="002060"/>
              </a:buClr>
              <a:buSzPct val="95000"/>
              <a:buFont typeface="Constanti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  <a:ea typeface="Times New Roman"/>
              </a:rPr>
              <a:t>Практически применить некоторые варианты интерактивных игр на примере конкретной группы дошкольников, полученные результаты представить в виде аналитических графиков и диаграм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85880" y="-125640"/>
            <a:ext cx="2743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14200" y="1071360"/>
            <a:ext cx="3143520" cy="51433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nstantia"/>
              </a:rPr>
              <a:t>формирование развития   дошкольного возраста будет происходить более эффективно, если использовать интерактивные игры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6" descr="IMG_1551"/>
          <p:cNvPicPr/>
          <p:nvPr/>
        </p:nvPicPr>
        <p:blipFill>
          <a:blip r:embed="rId1"/>
          <a:stretch/>
        </p:blipFill>
        <p:spPr>
          <a:xfrm>
            <a:off x="3575160" y="1143000"/>
            <a:ext cx="51116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Ряд теоретических источник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руздова И. Музыкально-эстетическая культура детей дошкольного возраста: сущность и пути формирования // Дошкольное воспитание. –  2011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ГОС- М.М- Центр педагогического образования 2014.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огинский М.Ю. Игровые элементы активного обучения. - Л., 2009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трова Е. Театрализованные интерактивные игры. //Дошкольное воспитание. - 2010. - №4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лоус Е. Развитие речи и фонематического слуха в театрально-игровой деятельности // Дошкольное воспитание. 2009. № 7. С. и  др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тоды исследования проек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тод наблюдения, метод апробирования интерактивных игр – при работе с группой; метод анкетирования; метод анализа литературы и детских работ;  метод беседы – при общении с детьми; метод эксперимента, включающий  в себя 3 этап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онстатирующ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формирующи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онтрольны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методика диагностирования выразительности детского рисунка для определения уровня сформированности эстетических способностей, художественного вкуса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Содержимое 4" descr="IMG_1545"/>
          <p:cNvPicPr/>
          <p:nvPr/>
        </p:nvPicPr>
        <p:blipFill>
          <a:blip r:embed="rId1"/>
          <a:stretch/>
        </p:blipFill>
        <p:spPr>
          <a:xfrm>
            <a:off x="457200" y="2241720"/>
            <a:ext cx="4038480" cy="3792240"/>
          </a:xfrm>
          <a:prstGeom prst="rect">
            <a:avLst/>
          </a:prstGeom>
          <a:ln w="0">
            <a:noFill/>
          </a:ln>
        </p:spPr>
      </p:pic>
      <p:pic>
        <p:nvPicPr>
          <p:cNvPr id="223" name="Содержимое 5" descr="IMG_0803"/>
          <p:cNvPicPr/>
          <p:nvPr/>
        </p:nvPicPr>
        <p:blipFill>
          <a:blip r:embed="rId2"/>
          <a:stretch/>
        </p:blipFill>
        <p:spPr>
          <a:xfrm>
            <a:off x="4648320" y="2143080"/>
            <a:ext cx="4038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5:15:10Z</dcterms:created>
  <dc:creator>Nikolay</dc:creator>
  <dc:description/>
  <dc:language>en-US</dc:language>
  <cp:lastModifiedBy>Маша</cp:lastModifiedBy>
  <dcterms:modified xsi:type="dcterms:W3CDTF">2016-11-22T21:27:42Z</dcterms:modified>
  <cp:revision>48</cp:revision>
  <dc:subject/>
  <dc:title>Мустафина Мария Михайловна</dc:title>
</cp:coreProperties>
</file>