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move the slide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121E-A3F3-4663-962E-BEDCB1E054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C322-DC0C-467A-844E-F4AEF4602C6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FE1-E4A9-4477-8213-D022E255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6AA-BCE6-4B4B-986F-336B17ED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E78-DE36-45A1-9BAE-AC3FA22C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290-4AC6-4E73-A163-BDCAF3E6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2BC-BD94-4A8F-827F-2E657A2B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F5A-1C2D-490B-B888-7BFBC8EA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36E-BBD7-4C25-867A-5DF07D72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B71-B746-4E6F-9177-740202E3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659-7484-42AD-9548-C21CA72F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9CA-0EFD-4955-86A9-E6AF3DCB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C8D-A6EA-46C2-9407-704A679A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C42-63AC-4A86-968D-51234384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00BD-0C1E-471C-9FAB-F5739DC40100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kak.znate.ru/pars_docs/refs/82/81415/81415_html_353ea39c.jpg"/>
          <p:cNvPicPr/>
          <p:nvPr/>
        </p:nvPicPr>
        <p:blipFill>
          <a:blip r:embed="rId1"/>
          <a:stretch/>
        </p:blipFill>
        <p:spPr>
          <a:xfrm>
            <a:off x="357120" y="3429000"/>
            <a:ext cx="4471920" cy="3143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32968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Times New Roman"/>
              </a:rPr>
              <a:t>Подвижные игры на уроках физической культуры</a:t>
            </a:r>
            <a:endParaRPr b="0" lang="en-US" sz="60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5003640" y="563868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выполнила: Святкина Е.С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физической культуры МБОУ Школы № 24 г.о. 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Segoe Script"/>
              </a:rPr>
              <a:t>Какие подвижные игры знаете вы?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52" name="Picture 2" descr="http://allforchildren.ru/games/img/g3.gif"/>
          <p:cNvPicPr/>
          <p:nvPr/>
        </p:nvPicPr>
        <p:blipFill>
          <a:blip r:embed="rId1"/>
          <a:stretch/>
        </p:blipFill>
        <p:spPr>
          <a:xfrm>
            <a:off x="357120" y="2286000"/>
            <a:ext cx="2268720" cy="1785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allforchildren.ru/games/img/g2.gif"/>
          <p:cNvPicPr/>
          <p:nvPr/>
        </p:nvPicPr>
        <p:blipFill>
          <a:blip r:embed="rId2"/>
          <a:stretch/>
        </p:blipFill>
        <p:spPr>
          <a:xfrm>
            <a:off x="928800" y="4714920"/>
            <a:ext cx="1904760" cy="150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allforchildren.ru/games/img/g11.gif"/>
          <p:cNvPicPr/>
          <p:nvPr/>
        </p:nvPicPr>
        <p:blipFill>
          <a:blip r:embed="rId3"/>
          <a:stretch/>
        </p:blipFill>
        <p:spPr>
          <a:xfrm>
            <a:off x="3214800" y="2214720"/>
            <a:ext cx="1595160" cy="1595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1.bp.blogspot.com/-lbZC7cjMpZY/UKHi-TRezFI/AAAAAAAAAP4/ONbyk1ItipM/s1600/6.jpeg"/>
          <p:cNvPicPr/>
          <p:nvPr/>
        </p:nvPicPr>
        <p:blipFill>
          <a:blip r:embed="rId4"/>
          <a:stretch/>
        </p:blipFill>
        <p:spPr>
          <a:xfrm>
            <a:off x="5715000" y="1857240"/>
            <a:ext cx="2962440" cy="1928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http://img.espicture.ru/7/kartinki-podvijnyie-igryi--dlya-deteyy-6.jpg"/>
          <p:cNvPicPr/>
          <p:nvPr/>
        </p:nvPicPr>
        <p:blipFill>
          <a:blip r:embed="rId5"/>
          <a:stretch/>
        </p:blipFill>
        <p:spPr>
          <a:xfrm>
            <a:off x="3714840" y="4214880"/>
            <a:ext cx="25891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57120" y="428760"/>
            <a:ext cx="5214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Segoe UI"/>
              </a:rPr>
              <a:t>    </a:t>
            </a:r>
            <a:r>
              <a:rPr b="1" i="1" lang="ru-RU" sz="3200" spc="-1" strike="noStrike">
                <a:solidFill>
                  <a:srgbClr val="04617b"/>
                </a:solidFill>
                <a:latin typeface="Segoe UI"/>
              </a:rPr>
              <a:t>«Воробышки и кот»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Segoe UI"/>
              </a:rPr>
              <a:t>    </a:t>
            </a:r>
            <a:r>
              <a:rPr b="1" i="1" lang="ru-RU" sz="2000" spc="-1" strike="noStrike">
                <a:solidFill>
                  <a:srgbClr val="04617b"/>
                </a:solidFill>
                <a:latin typeface="Segoe UI"/>
              </a:rPr>
              <a:t>Все играющие изображают воробушков и находятся за кругом. Водящий — кот встает в середину круга. Воробушки то впрыгивают в круг, то выпрыгивают из него. Они собирают зерна (внутри круга рассыпаны фишки). Кот бегает по кругу и старается поймать их. Воробушек, до которого дотронулся кот, все собранные зерна высыпает, затем вновь начинает их собирать. В конце игры отмечают самых проворных воробьев.</a:t>
            </a:r>
            <a:br>
              <a:rPr sz="2000"/>
            </a:br>
            <a:endParaRPr b="0" lang="en-US" sz="20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58" name="Picture 4" descr="http://s1.pic4you.ru/allimage/y2012/08-20/12216/2356018.png"/>
          <p:cNvPicPr/>
          <p:nvPr/>
        </p:nvPicPr>
        <p:blipFill>
          <a:blip r:embed="rId1"/>
          <a:stretch/>
        </p:blipFill>
        <p:spPr>
          <a:xfrm>
            <a:off x="6072120" y="857160"/>
            <a:ext cx="22147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857160" y="-360"/>
            <a:ext cx="4572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«Два мороза»</a:t>
            </a:r>
            <a:endParaRPr b="0" lang="en-US" sz="3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Играющие располагаются в «домике» на одной стороне площадки. Двое водящих – Мороз Красный нос и Мороз Синий нос –  обращаются к детям со словами: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Мы два брата молодые, 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Два Мороза удалые: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Я – Мороз Красный нос,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Я – Мороз Синий нос.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Кто из вас решится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В путь-дороженьку пуститься?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    </a:t>
            </a: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Дети хором отвечают: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Не боимся мы угроз,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И не страшен нам мороз!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После чего по сигналу «Мороз» перебегают в «домик» напротив, а оба  Мороза стараются их «заморозить» – коснуться рукой.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Правила. Перебегать в дом можно только после окончания слов текста. «Морозить» игроков за чертой дома нельзя.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60" name="Picture 4" descr="http://www.knigi-janzen.de/images/goods/big/06702687.jpg"/>
          <p:cNvPicPr/>
          <p:nvPr/>
        </p:nvPicPr>
        <p:blipFill>
          <a:blip r:embed="rId2"/>
          <a:stretch/>
        </p:blipFill>
        <p:spPr>
          <a:xfrm>
            <a:off x="5429160" y="78588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-360"/>
            <a:ext cx="5500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e6d"/>
                </a:solidFill>
                <a:latin typeface="Segoe UI"/>
              </a:rPr>
              <a:t>«Совушка»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e6d"/>
                </a:solidFill>
                <a:latin typeface="Segoe UI"/>
              </a:rPr>
              <a:t>     </a:t>
            </a:r>
            <a:r>
              <a:rPr b="1" i="1" lang="ru-RU" sz="2000" spc="-1" strike="noStrike">
                <a:solidFill>
                  <a:srgbClr val="004e6d"/>
                </a:solidFill>
                <a:latin typeface="Segoe UI"/>
              </a:rPr>
              <a:t>Играющие располагаются на площадке произвольно. Выбирается совушка. Ее гнездо в стороне от площадки. По сигналу учителя (ведущего) «День наступает – все оживает» дети ходят, бегают, подражая полету бабочек, птиц, жуков. После слов «Ночь наступает – все замирает» играющие останавливаются в той позе, в какой их застал сигнал учителя. Совушка выходит охотиться: шевельнувшихся уводит в свое гнездо. </a:t>
            </a:r>
            <a:endParaRPr b="0" lang="en-US" sz="2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e6d"/>
                </a:solidFill>
                <a:latin typeface="Segoe UI"/>
              </a:rPr>
              <a:t>Снова учитель произносит: «День наступает – все оживает». Совушка уходит в гнездо, играющие оживают.</a:t>
            </a:r>
            <a:endParaRPr b="0" lang="en-US" sz="2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62" name="Picture 5" descr="http://i.ytimg.com/vi/vjllaQDuRHY/hqdefault.jpg"/>
          <p:cNvPicPr/>
          <p:nvPr/>
        </p:nvPicPr>
        <p:blipFill>
          <a:blip r:embed="rId3"/>
          <a:stretch/>
        </p:blipFill>
        <p:spPr>
          <a:xfrm>
            <a:off x="5643720" y="214200"/>
            <a:ext cx="3500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6067a"/>
                </a:solidFill>
                <a:latin typeface="Times New Roman"/>
              </a:rPr>
              <a:t>"У медведя во бору"</a:t>
            </a:r>
            <a:br>
              <a:rPr sz="3200"/>
            </a:b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6760" y="856800"/>
            <a:ext cx="85438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Segoe UI"/>
              </a:rPr>
              <a:t>Дети ходят по площадке и произносят слова: 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Segoe UI"/>
              </a:rPr>
              <a:t>У медведя во бору грибы, ягоды беру. 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Segoe UI"/>
              </a:rPr>
              <a:t>А медведь сидит и на нас рычит.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Segoe UI"/>
              </a:rPr>
              <a:t>После слова «рычит» дети убегают, стараясь попасть в дом, а медведь ловит их (играющий, до которого медведь дотронулся, считается пойманным). Один из пойманных игроков становится медведем.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Segoe UI"/>
              </a:rPr>
              <a:t>Правила. Медведь начинает ловить детей только после окончания слов текста. Дети должны ходить и бегать по всей площадке. Ловить детей за линией дома нельзя.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65" name="Picture 5" descr="http://www.kinonews.ru/insimgs/shotimg/shotimg43012_1.jpg"/>
          <p:cNvPicPr/>
          <p:nvPr/>
        </p:nvPicPr>
        <p:blipFill>
          <a:blip r:embed="rId6"/>
          <a:stretch/>
        </p:blipFill>
        <p:spPr>
          <a:xfrm>
            <a:off x="214200" y="4214880"/>
            <a:ext cx="4062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4617b"/>
                </a:solidFill>
                <a:latin typeface="Times New Roman"/>
              </a:rPr>
              <a:t>"Хитрая лиса"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785880"/>
            <a:ext cx="50007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97d23"/>
                </a:solidFill>
                <a:latin typeface="Segoe UI"/>
              </a:rPr>
              <a:t>   </a:t>
            </a:r>
            <a:r>
              <a:rPr b="1" i="1" lang="ru-RU" sz="1800" spc="-1" strike="noStrike">
                <a:solidFill>
                  <a:srgbClr val="f41890"/>
                </a:solidFill>
                <a:latin typeface="Segoe UI"/>
              </a:rPr>
              <a:t>Дети становятся в круг, держа руки за спиной. Водящий, идя по кругу, незаметно кладет в руки ребенка игрушку – лисичку. По сигналу «Хитрая лиса, где ты?» (дети произносят 3 раза) лиса (ребенок с игрушкой) вбегает в круг и говорит: «Я здесь!» После слов «Я здесь!» дети разбегаются, а лиса ловит их. По сигналу «Раз, два, три – в круг быстрей беги!» дети становятся в круг. Игра повторяется.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35880" indent="-3358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41890"/>
                </a:solidFill>
                <a:latin typeface="Segoe UI"/>
              </a:rPr>
              <a:t>Вариант. Дети закрывают глаза, а водящий, идя по кругу, дотрагивается рукой до ребенка, который и будет «хитрой лисой».</a:t>
            </a:r>
            <a:endParaRPr b="0" lang="en-US" sz="1800" spc="-1" strike="noStrike">
              <a:solidFill>
                <a:srgbClr val="e97d23"/>
              </a:solidFill>
              <a:latin typeface="Segoe UI"/>
            </a:endParaRPr>
          </a:p>
          <a:p>
            <a:pPr marL="335880" indent="-335880">
              <a:spcBef>
                <a:spcPts val="400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41890"/>
                </a:solidFill>
                <a:latin typeface="Segoe UI"/>
              </a:rPr>
              <a:t>Правила. Лиса выбегает в круг только после третьего вопроса и начинает ловить после слов «Я здесь!». Играющий, до которого дотронулись, считается пойманны</a:t>
            </a:r>
            <a:r>
              <a:rPr b="1" i="1" lang="ru-RU" sz="1600" spc="-1" strike="noStrike">
                <a:solidFill>
                  <a:srgbClr val="f41890"/>
                </a:solidFill>
                <a:latin typeface="Segoe UI"/>
              </a:rPr>
              <a:t>м.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</p:txBody>
      </p:sp>
      <p:pic>
        <p:nvPicPr>
          <p:cNvPr id="68" name="Picture 5" descr="http://festival.1september.ru/articles/513097/img6.jpg"/>
          <p:cNvPicPr/>
          <p:nvPr/>
        </p:nvPicPr>
        <p:blipFill>
          <a:blip r:embed="rId4"/>
          <a:stretch/>
        </p:blipFill>
        <p:spPr>
          <a:xfrm>
            <a:off x="5286240" y="785880"/>
            <a:ext cx="2611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http://tsareva-e-v.68klspb.caduk.ru/images/clip_image023.jpg"/>
          <p:cNvPicPr/>
          <p:nvPr/>
        </p:nvPicPr>
        <p:blipFill>
          <a:blip r:embed="rId1"/>
          <a:stretch/>
        </p:blipFill>
        <p:spPr>
          <a:xfrm>
            <a:off x="4786200" y="2500200"/>
            <a:ext cx="4357800" cy="4357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46422"/>
                </a:solidFill>
                <a:latin typeface="Segoe UI"/>
              </a:rPr>
              <a:t>"Времена года"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1213920"/>
            <a:ext cx="49291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97d23"/>
              </a:solidFill>
              <a:latin typeface="Segoe UI"/>
            </a:endParaRPr>
          </a:p>
          <a:p>
            <a:pPr marL="335880" indent="-3358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Класс делится на 4 группы, каждая группа должна, пройдя через препятствие (обруч, бег в мешках, ползание по скамейке, лазание по гимнастической стенке), завладеть карточкой с заданием, в котором будет указано время года. 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35880" indent="-3358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Segoe UI"/>
              </a:rPr>
              <a:t>После непродолжительного обсуждения (1–2 минуты) группа пантомимой изображает, что делают дети в это время года (зима – катание на лыжах, коньках; лето – плавание, велосипед, футбол; весна – бег, прыжки, волейбол, футбол; осень – бег, прыжки через скакалку, футбол и т. д.).</a:t>
            </a: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e97d23"/>
                </a:solidFill>
                <a:latin typeface="Times New Roman"/>
              </a:rPr>
              <a:t>Будьте здоровы!</a:t>
            </a:r>
            <a:endParaRPr b="0" lang="en-US" sz="8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04-21T11:03:03Z</dcterms:modified>
  <cp:revision>2</cp:revision>
  <dc:subject/>
  <dc:title>Школа педагогического мастерства</dc:title>
</cp:coreProperties>
</file>