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CF1E2-D4F4-430B-B064-40C1FCCB5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6E060-BFC8-454A-873C-B5A7DF93A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BEE47-86AF-465D-9A57-CD0F7742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26225-278B-4CB5-BC69-C57802172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6FB11-E048-4146-B42E-DF637D48A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F395-163A-4825-8408-A313B5A7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AB78-8D6F-4E3B-8B9A-F4977B6C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69D41-CA06-4955-9860-B3A8886C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5BDF-5AA2-4B1A-A0F4-599C03521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D99EA-0BC8-46B3-B358-EF8B6512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2354D-EE4A-472B-BC4F-DCEFC19FC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EAFAE-2CC1-49A1-8775-296D8C5F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9E080-57C5-408F-AFFB-304562BE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71360" y="60480"/>
            <a:ext cx="8875800" cy="67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07228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214200"/>
            <a:ext cx="6715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Танцев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6720" y="828720"/>
            <a:ext cx="8369280" cy="583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0" y="4143240"/>
            <a:ext cx="157788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28684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7145280" cy="543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42148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7715160" y="3929040"/>
            <a:ext cx="184320" cy="370080"/>
          </a:xfrm>
          <a:custGeom>
            <a:avLst/>
            <a:gdLst>
              <a:gd name="textAreaLeft" fmla="*/ 0 w 184320"/>
              <a:gd name="textAreaRight" fmla="*/ 184680 w 184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84150" h="369887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714760" y="214200"/>
            <a:ext cx="3500280" cy="42876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рта 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56200" y="1116000"/>
            <a:ext cx="27608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3840" y="4048200"/>
            <a:ext cx="2689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670120" y="1474920"/>
            <a:ext cx="27306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6643800" y="3143160"/>
            <a:ext cx="23572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Танцев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214280" y="6000840"/>
            <a:ext cx="19288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14760" y="3571920"/>
            <a:ext cx="22143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715080" y="6000840"/>
            <a:ext cx="20001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ага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6242040" y="3975120"/>
            <a:ext cx="2730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998600" y="3498120"/>
            <a:ext cx="1286280" cy="1429200"/>
            <a:chOff x="4998600" y="3498120"/>
            <a:chExt cx="1286280" cy="1429200"/>
          </a:xfrm>
        </p:grpSpPr>
        <p:cxnSp>
          <p:nvCxnSpPr>
            <p:cNvPr id="60" name="AutoShape 12"/>
            <p:cNvCxnSpPr/>
            <p:nvPr/>
          </p:nvCxnSpPr>
          <p:spPr>
            <a:xfrm flipH="1" flipV="1">
              <a:off x="4998600" y="3498120"/>
              <a:ext cx="1286640" cy="14295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1" name=""/>
            <p:cNvSpPr txBox="1"/>
            <p:nvPr/>
          </p:nvSpPr>
          <p:spPr>
            <a:xfrm rot="10800000">
              <a:off x="4998960" y="3498120"/>
              <a:ext cx="1285920" cy="14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69920" y="2356920"/>
            <a:ext cx="1215000" cy="1715040"/>
            <a:chOff x="1069920" y="2356920"/>
            <a:chExt cx="1215000" cy="1715040"/>
          </a:xfrm>
        </p:grpSpPr>
        <p:cxnSp>
          <p:nvCxnSpPr>
            <p:cNvPr id="63" name="AutoShape 13"/>
            <p:cNvCxnSpPr/>
            <p:nvPr/>
          </p:nvCxnSpPr>
          <p:spPr>
            <a:xfrm>
              <a:off x="1069920" y="2356920"/>
              <a:ext cx="1215360" cy="171540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4" name=""/>
            <p:cNvSpPr txBox="1"/>
            <p:nvPr/>
          </p:nvSpPr>
          <p:spPr>
            <a:xfrm>
              <a:off x="1069920" y="2356920"/>
              <a:ext cx="12146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42480" y="5000040"/>
            <a:ext cx="2644200" cy="500400"/>
            <a:chOff x="3642480" y="5000040"/>
            <a:chExt cx="2644200" cy="500400"/>
          </a:xfrm>
        </p:grpSpPr>
        <p:cxnSp>
          <p:nvCxnSpPr>
            <p:cNvPr id="66" name="AutoShape 14"/>
            <p:cNvCxnSpPr/>
            <p:nvPr/>
          </p:nvCxnSpPr>
          <p:spPr>
            <a:xfrm flipV="1">
              <a:off x="3642840" y="5000040"/>
              <a:ext cx="264420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7" name=""/>
            <p:cNvSpPr txBox="1"/>
            <p:nvPr/>
          </p:nvSpPr>
          <p:spPr>
            <a:xfrm rot="10800000">
              <a:off x="3642480" y="5000040"/>
              <a:ext cx="264348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5" descr=""/>
          <p:cNvPicPr/>
          <p:nvPr/>
        </p:nvPicPr>
        <p:blipFill>
          <a:blip r:embed="rId6"/>
          <a:stretch/>
        </p:blipFill>
        <p:spPr>
          <a:xfrm>
            <a:off x="96840" y="500040"/>
            <a:ext cx="2378160" cy="18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214200" y="1500120"/>
            <a:ext cx="455760" cy="714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072040" y="2998080"/>
            <a:ext cx="1643400" cy="500400"/>
            <a:chOff x="5072040" y="2998080"/>
            <a:chExt cx="1643400" cy="500400"/>
          </a:xfrm>
        </p:grpSpPr>
        <p:cxnSp>
          <p:nvCxnSpPr>
            <p:cNvPr id="71" name="AutoShape 17"/>
            <p:cNvCxnSpPr/>
            <p:nvPr/>
          </p:nvCxnSpPr>
          <p:spPr>
            <a:xfrm flipV="1">
              <a:off x="5072040" y="2998080"/>
              <a:ext cx="164376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72" name=""/>
            <p:cNvSpPr txBox="1"/>
            <p:nvPr/>
          </p:nvSpPr>
          <p:spPr>
            <a:xfrm rot="10800000">
              <a:off x="5072040" y="2998080"/>
              <a:ext cx="16430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428760" y="-5616720"/>
            <a:ext cx="285480" cy="12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Я здоровье сберегу- сам себе я помо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95160" y="878040"/>
            <a:ext cx="7620120" cy="576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43080" y="214308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85920" y="3857760"/>
            <a:ext cx="141444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полезные привы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0" y="528624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43240" y="557208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786280" y="4857840"/>
            <a:ext cx="1414800" cy="28584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закал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214880" y="185724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215040" y="3214800"/>
            <a:ext cx="127152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84120" y="1042920"/>
            <a:ext cx="8478720" cy="48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858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14200"/>
            <a:ext cx="4900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Загад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82920" y="1547640"/>
            <a:ext cx="1878120" cy="18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456240" y="2475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84120" y="2762280"/>
            <a:ext cx="1805040" cy="23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4029120" y="3833640"/>
            <a:ext cx="2017800" cy="182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1957320" y="497376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311040" y="901800"/>
            <a:ext cx="223056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6168960" y="115920"/>
            <a:ext cx="2408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499480" y="855360"/>
            <a:ext cx="3715560" cy="714600"/>
            <a:chOff x="2499480" y="855360"/>
            <a:chExt cx="3715560" cy="714600"/>
          </a:xfrm>
        </p:grpSpPr>
        <p:cxnSp>
          <p:nvCxnSpPr>
            <p:cNvPr id="96" name="AutoShape 9"/>
            <p:cNvCxnSpPr/>
            <p:nvPr/>
          </p:nvCxnSpPr>
          <p:spPr>
            <a:xfrm flipV="1">
              <a:off x="2499840" y="855360"/>
              <a:ext cx="3715560" cy="714960"/>
            </a:xfrm>
            <a:prstGeom prst="straightConnector1">
              <a:avLst/>
            </a:prstGeom>
            <a:ln w="381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7" name=""/>
            <p:cNvSpPr txBox="1"/>
            <p:nvPr/>
          </p:nvSpPr>
          <p:spPr>
            <a:xfrm rot="10800000">
              <a:off x="2499480" y="855360"/>
              <a:ext cx="37148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4960" y="2499840"/>
            <a:ext cx="1286280" cy="714960"/>
            <a:chOff x="5214960" y="2499840"/>
            <a:chExt cx="1286280" cy="714960"/>
          </a:xfrm>
        </p:grpSpPr>
        <p:cxnSp>
          <p:nvCxnSpPr>
            <p:cNvPr id="99" name="AutoShape 10"/>
            <p:cNvCxnSpPr/>
            <p:nvPr/>
          </p:nvCxnSpPr>
          <p:spPr>
            <a:xfrm>
              <a:off x="5214960" y="2499840"/>
              <a:ext cx="1286640" cy="715320"/>
            </a:xfrm>
            <a:prstGeom prst="straightConnector1">
              <a:avLst/>
            </a:prstGeom>
            <a:ln w="38160">
              <a:solidFill>
                <a:srgbClr val="d99694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>
              <a:off x="5214960" y="2499840"/>
              <a:ext cx="1285920" cy="7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071800" y="3785760"/>
            <a:ext cx="2000520" cy="857520"/>
            <a:chOff x="2071800" y="3785760"/>
            <a:chExt cx="2000520" cy="857520"/>
          </a:xfrm>
        </p:grpSpPr>
        <p:cxnSp>
          <p:nvCxnSpPr>
            <p:cNvPr id="102" name="AutoShape 11"/>
            <p:cNvCxnSpPr/>
            <p:nvPr/>
          </p:nvCxnSpPr>
          <p:spPr>
            <a:xfrm>
              <a:off x="2071800" y="3785760"/>
              <a:ext cx="2000880" cy="857880"/>
            </a:xfrm>
            <a:prstGeom prst="straightConnector1">
              <a:avLst/>
            </a:prstGeom>
            <a:ln w="38160">
              <a:solidFill>
                <a:srgbClr val="ffc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3" name=""/>
            <p:cNvSpPr txBox="1"/>
            <p:nvPr/>
          </p:nvSpPr>
          <p:spPr>
            <a:xfrm>
              <a:off x="2071800" y="378576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86120" y="5855400"/>
            <a:ext cx="2572200" cy="72000"/>
            <a:chOff x="3786120" y="5855400"/>
            <a:chExt cx="2572200" cy="72000"/>
          </a:xfrm>
        </p:grpSpPr>
        <p:cxnSp>
          <p:nvCxnSpPr>
            <p:cNvPr id="105" name="AutoShape 12"/>
            <p:cNvCxnSpPr/>
            <p:nvPr/>
          </p:nvCxnSpPr>
          <p:spPr>
            <a:xfrm flipV="1">
              <a:off x="3786120" y="5855400"/>
              <a:ext cx="2572560" cy="72360"/>
            </a:xfrm>
            <a:prstGeom prst="straightConnector1">
              <a:avLst/>
            </a:prstGeom>
            <a:ln w="38160">
              <a:solidFill>
                <a:srgbClr val="b3a2c7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6" name=""/>
            <p:cNvSpPr txBox="1"/>
            <p:nvPr/>
          </p:nvSpPr>
          <p:spPr>
            <a:xfrm rot="10800000">
              <a:off x="3786120" y="5855400"/>
              <a:ext cx="25718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6516720" y="4664160"/>
            <a:ext cx="1962000" cy="37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месте весело шаг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57200" y="274680"/>
            <a:ext cx="775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Спор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57262" t="0" r="0" b="0"/>
          <a:stretch/>
        </p:blipFill>
        <p:spPr>
          <a:xfrm>
            <a:off x="285840" y="3071880"/>
            <a:ext cx="1912680" cy="33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43160" y="1096920"/>
            <a:ext cx="6729480" cy="510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57200" y="-2225520"/>
            <a:ext cx="2570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51971" b="0"/>
          <a:stretch/>
        </p:blipFill>
        <p:spPr>
          <a:xfrm>
            <a:off x="6286680" y="785880"/>
            <a:ext cx="2379600" cy="3714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69864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83185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7:51:46Z</dcterms:created>
  <dc:creator>del5</dc:creator>
  <dc:description/>
  <dc:language>en-US</dc:language>
  <cp:lastModifiedBy>user</cp:lastModifiedBy>
  <dcterms:modified xsi:type="dcterms:W3CDTF">2020-11-17T17:07:32Z</dcterms:modified>
  <cp:revision>61</cp:revision>
  <dc:subject/>
  <dc:title>Слайд 1</dc:title>
</cp:coreProperties>
</file>