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76C29-F8DE-4B8D-B7B0-4FAE05673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A4302-6270-42EF-868B-F5DBEB4EC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C3A3C-F11C-425A-B33A-32D0A4EF5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A2A77-E8AC-42DB-96F7-D1D6C6932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27021-D817-4566-9D60-EC8C07C20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3890B-99E4-4AF2-A0D2-A7B49CFD6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FF990-D8C6-4496-9F38-BE80C7FA8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7CC4D-DB69-49C5-91A3-4F78037D6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9B734-7F55-4670-BA42-F67A2819E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ECBBB-7957-4F2B-AEB7-8F002A8F0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DB813-7AC4-4B2F-928F-E2FA954AF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4941B-FA84-46C1-8067-1AB9BF391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2C1AC-282C-4318-AA5C-5B564AD05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171360" y="60480"/>
            <a:ext cx="8875800" cy="6718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28760" y="4000680"/>
            <a:ext cx="1577880" cy="2477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384120" y="1474920"/>
            <a:ext cx="8478720" cy="4376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807228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428760" y="214200"/>
            <a:ext cx="67150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Улица Танцева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96720" y="828720"/>
            <a:ext cx="8369280" cy="5834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0" y="4143240"/>
            <a:ext cx="1577880" cy="247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8286840" y="285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1468440" y="176040"/>
            <a:ext cx="7145280" cy="5438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4214880"/>
            <a:ext cx="1577880" cy="247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3"/>
          <a:stretch/>
        </p:blipFill>
        <p:spPr>
          <a:xfrm>
            <a:off x="21420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2"/>
          <p:cNvSpPr/>
          <p:nvPr/>
        </p:nvSpPr>
        <p:spPr>
          <a:xfrm>
            <a:off x="7715160" y="3929040"/>
            <a:ext cx="184320" cy="370080"/>
          </a:xfrm>
          <a:custGeom>
            <a:avLst/>
            <a:gdLst>
              <a:gd name="textAreaLeft" fmla="*/ 0 w 184320"/>
              <a:gd name="textAreaRight" fmla="*/ 184680 w 1843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184150" h="369887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2714760" y="214200"/>
            <a:ext cx="3500280" cy="428760"/>
          </a:xfrm>
          <a:prstGeom prst="pi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Карта  путеше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5956200" y="1116000"/>
            <a:ext cx="2760840" cy="194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1023840" y="4048200"/>
            <a:ext cx="268920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2670120" y="1474920"/>
            <a:ext cx="2730600" cy="21034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/>
          <p:cNvSpPr/>
          <p:nvPr/>
        </p:nvSpPr>
        <p:spPr>
          <a:xfrm>
            <a:off x="6643800" y="3143160"/>
            <a:ext cx="2357280" cy="285840"/>
          </a:xfrm>
          <a:prstGeom prst="pie">
            <a:avLst/>
          </a:prstGeom>
          <a:solidFill>
            <a:srgbClr val="d99694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лица Танцев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1214280" y="6000840"/>
            <a:ext cx="1928880" cy="285840"/>
          </a:xfrm>
          <a:prstGeom prst="pie">
            <a:avLst/>
          </a:prstGeom>
          <a:solidFill>
            <a:srgbClr val="d99694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лица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2714760" y="3571920"/>
            <a:ext cx="2214360" cy="285840"/>
          </a:xfrm>
          <a:prstGeom prst="pie">
            <a:avLst/>
          </a:prstGeom>
          <a:solidFill>
            <a:srgbClr val="d99694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лица Спор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715080" y="6000840"/>
            <a:ext cx="2000160" cy="285840"/>
          </a:xfrm>
          <a:prstGeom prst="pie">
            <a:avLst/>
          </a:prstGeom>
          <a:solidFill>
            <a:srgbClr val="d99694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лица Загад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"/>
          <p:cNvPicPr/>
          <p:nvPr/>
        </p:nvPicPr>
        <p:blipFill>
          <a:blip r:embed="rId5"/>
          <a:stretch/>
        </p:blipFill>
        <p:spPr>
          <a:xfrm>
            <a:off x="6242040" y="3975120"/>
            <a:ext cx="2730600" cy="20178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4998600" y="3498120"/>
            <a:ext cx="1286280" cy="1429200"/>
            <a:chOff x="4998600" y="3498120"/>
            <a:chExt cx="1286280" cy="1429200"/>
          </a:xfrm>
        </p:grpSpPr>
        <p:cxnSp>
          <p:nvCxnSpPr>
            <p:cNvPr id="60" name="AutoShape 12"/>
            <p:cNvCxnSpPr/>
            <p:nvPr/>
          </p:nvCxnSpPr>
          <p:spPr>
            <a:xfrm flipH="1" flipV="1">
              <a:off x="4998600" y="3498120"/>
              <a:ext cx="1286640" cy="1429560"/>
            </a:xfrm>
            <a:prstGeom prst="straightConnector1">
              <a:avLst/>
            </a:prstGeom>
            <a:ln w="38160">
              <a:solidFill>
                <a:srgbClr val="e46c0a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61" name=""/>
            <p:cNvSpPr txBox="1"/>
            <p:nvPr/>
          </p:nvSpPr>
          <p:spPr>
            <a:xfrm rot="10800000">
              <a:off x="4998960" y="3498120"/>
              <a:ext cx="1285920" cy="142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069920" y="2356920"/>
            <a:ext cx="1215000" cy="1715040"/>
            <a:chOff x="1069920" y="2356920"/>
            <a:chExt cx="1215000" cy="1715040"/>
          </a:xfrm>
        </p:grpSpPr>
        <p:cxnSp>
          <p:nvCxnSpPr>
            <p:cNvPr id="63" name="AutoShape 13"/>
            <p:cNvCxnSpPr/>
            <p:nvPr/>
          </p:nvCxnSpPr>
          <p:spPr>
            <a:xfrm>
              <a:off x="1069920" y="2356920"/>
              <a:ext cx="1215360" cy="1715400"/>
            </a:xfrm>
            <a:prstGeom prst="straightConnector1">
              <a:avLst/>
            </a:prstGeom>
            <a:ln w="38160">
              <a:solidFill>
                <a:srgbClr val="e46c0a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64" name=""/>
            <p:cNvSpPr txBox="1"/>
            <p:nvPr/>
          </p:nvSpPr>
          <p:spPr>
            <a:xfrm>
              <a:off x="1069920" y="2356920"/>
              <a:ext cx="1214640" cy="171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642480" y="5000040"/>
            <a:ext cx="2644200" cy="500400"/>
            <a:chOff x="3642480" y="5000040"/>
            <a:chExt cx="2644200" cy="500400"/>
          </a:xfrm>
        </p:grpSpPr>
        <p:cxnSp>
          <p:nvCxnSpPr>
            <p:cNvPr id="66" name="AutoShape 14"/>
            <p:cNvCxnSpPr/>
            <p:nvPr/>
          </p:nvCxnSpPr>
          <p:spPr>
            <a:xfrm flipV="1">
              <a:off x="3642840" y="5000040"/>
              <a:ext cx="2644200" cy="500760"/>
            </a:xfrm>
            <a:prstGeom prst="straightConnector1">
              <a:avLst/>
            </a:prstGeom>
            <a:ln w="38160">
              <a:solidFill>
                <a:srgbClr val="e46c0a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67" name=""/>
            <p:cNvSpPr txBox="1"/>
            <p:nvPr/>
          </p:nvSpPr>
          <p:spPr>
            <a:xfrm rot="10800000">
              <a:off x="3642480" y="5000040"/>
              <a:ext cx="2643480" cy="50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15" descr=""/>
          <p:cNvPicPr/>
          <p:nvPr/>
        </p:nvPicPr>
        <p:blipFill>
          <a:blip r:embed="rId6"/>
          <a:stretch/>
        </p:blipFill>
        <p:spPr>
          <a:xfrm>
            <a:off x="96840" y="500040"/>
            <a:ext cx="2378160" cy="188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"/>
          <p:cNvPicPr/>
          <p:nvPr/>
        </p:nvPicPr>
        <p:blipFill>
          <a:blip r:embed="rId7"/>
          <a:stretch/>
        </p:blipFill>
        <p:spPr>
          <a:xfrm>
            <a:off x="214200" y="1500120"/>
            <a:ext cx="455760" cy="7146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5072040" y="2998080"/>
            <a:ext cx="1643400" cy="500400"/>
            <a:chOff x="5072040" y="2998080"/>
            <a:chExt cx="1643400" cy="500400"/>
          </a:xfrm>
        </p:grpSpPr>
        <p:cxnSp>
          <p:nvCxnSpPr>
            <p:cNvPr id="71" name="AutoShape 17"/>
            <p:cNvCxnSpPr/>
            <p:nvPr/>
          </p:nvCxnSpPr>
          <p:spPr>
            <a:xfrm flipV="1">
              <a:off x="5072040" y="2998080"/>
              <a:ext cx="1643760" cy="500760"/>
            </a:xfrm>
            <a:prstGeom prst="straightConnector1">
              <a:avLst/>
            </a:prstGeom>
            <a:ln w="38160">
              <a:solidFill>
                <a:srgbClr val="e46c0a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72" name=""/>
            <p:cNvSpPr txBox="1"/>
            <p:nvPr/>
          </p:nvSpPr>
          <p:spPr>
            <a:xfrm rot="10800000">
              <a:off x="5072040" y="2998080"/>
              <a:ext cx="1643040" cy="50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428760" y="-5616720"/>
            <a:ext cx="285480" cy="121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84120" y="1474920"/>
            <a:ext cx="8478720" cy="43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358040" y="357120"/>
            <a:ext cx="42876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457200" y="274680"/>
            <a:ext cx="8229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Calibri"/>
              </a:rPr>
              <a:t>Я здоровье сберегу- сам себе я помог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95160" y="878040"/>
            <a:ext cx="7620120" cy="5760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2143080" y="2143080"/>
            <a:ext cx="1414440" cy="285840"/>
          </a:xfrm>
          <a:prstGeom prst="rect">
            <a:avLst/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режим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85920" y="3857760"/>
            <a:ext cx="1414440" cy="428400"/>
          </a:xfrm>
          <a:prstGeom prst="rect">
            <a:avLst/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libri"/>
              </a:rPr>
              <a:t>полезные привы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286000" y="5286240"/>
            <a:ext cx="1414440" cy="285840"/>
          </a:xfrm>
          <a:prstGeom prst="rect">
            <a:avLst/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143240" y="5572080"/>
            <a:ext cx="1414440" cy="285840"/>
          </a:xfrm>
          <a:prstGeom prst="rect">
            <a:avLst/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рогу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5786280" y="4857840"/>
            <a:ext cx="1414800" cy="285840"/>
          </a:xfrm>
          <a:prstGeom prst="rect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alibri"/>
              </a:rPr>
              <a:t>закал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4214880" y="1857240"/>
            <a:ext cx="1414440" cy="285840"/>
          </a:xfrm>
          <a:prstGeom prst="rect">
            <a:avLst/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гиги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6215040" y="3214800"/>
            <a:ext cx="1271520" cy="285480"/>
          </a:xfrm>
          <a:prstGeom prst="rect">
            <a:avLst/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384120" y="1042920"/>
            <a:ext cx="8478720" cy="4808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785808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457200" y="214200"/>
            <a:ext cx="4900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Улица Загадк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382920" y="1547640"/>
            <a:ext cx="1878120" cy="187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6456240" y="2475000"/>
            <a:ext cx="2017800" cy="2017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84120" y="2762280"/>
            <a:ext cx="1805040" cy="2303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4"/>
          <a:stretch/>
        </p:blipFill>
        <p:spPr>
          <a:xfrm>
            <a:off x="4029120" y="3833640"/>
            <a:ext cx="2017800" cy="1824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5"/>
          <a:stretch/>
        </p:blipFill>
        <p:spPr>
          <a:xfrm>
            <a:off x="1957320" y="4973760"/>
            <a:ext cx="1803600" cy="1805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6"/>
          <a:stretch/>
        </p:blipFill>
        <p:spPr>
          <a:xfrm>
            <a:off x="311040" y="901800"/>
            <a:ext cx="2230560" cy="1566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7"/>
          <a:stretch/>
        </p:blipFill>
        <p:spPr>
          <a:xfrm>
            <a:off x="6168960" y="115920"/>
            <a:ext cx="2408400" cy="201780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2499480" y="855360"/>
            <a:ext cx="3715560" cy="714600"/>
            <a:chOff x="2499480" y="855360"/>
            <a:chExt cx="3715560" cy="714600"/>
          </a:xfrm>
        </p:grpSpPr>
        <p:cxnSp>
          <p:nvCxnSpPr>
            <p:cNvPr id="96" name="AutoShape 9"/>
            <p:cNvCxnSpPr/>
            <p:nvPr/>
          </p:nvCxnSpPr>
          <p:spPr>
            <a:xfrm flipV="1">
              <a:off x="2499840" y="855360"/>
              <a:ext cx="3715560" cy="714960"/>
            </a:xfrm>
            <a:prstGeom prst="straightConnector1">
              <a:avLst/>
            </a:prstGeom>
            <a:ln w="38160">
              <a:solidFill>
                <a:srgbClr val="00b050"/>
              </a:solidFill>
              <a:prstDash val="dash"/>
              <a:miter/>
              <a:tailEnd len="med" type="triangle" w="med"/>
            </a:ln>
          </p:spPr>
        </p:cxnSp>
        <p:sp>
          <p:nvSpPr>
            <p:cNvPr id="97" name=""/>
            <p:cNvSpPr txBox="1"/>
            <p:nvPr/>
          </p:nvSpPr>
          <p:spPr>
            <a:xfrm rot="10800000">
              <a:off x="2499480" y="855360"/>
              <a:ext cx="3714840" cy="71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214960" y="2499840"/>
            <a:ext cx="1286280" cy="714960"/>
            <a:chOff x="5214960" y="2499840"/>
            <a:chExt cx="1286280" cy="714960"/>
          </a:xfrm>
        </p:grpSpPr>
        <p:cxnSp>
          <p:nvCxnSpPr>
            <p:cNvPr id="99" name="AutoShape 10"/>
            <p:cNvCxnSpPr/>
            <p:nvPr/>
          </p:nvCxnSpPr>
          <p:spPr>
            <a:xfrm>
              <a:off x="5214960" y="2499840"/>
              <a:ext cx="1286640" cy="715320"/>
            </a:xfrm>
            <a:prstGeom prst="straightConnector1">
              <a:avLst/>
            </a:prstGeom>
            <a:ln w="38160">
              <a:solidFill>
                <a:srgbClr val="d99694"/>
              </a:solidFill>
              <a:prstDash val="dash"/>
              <a:miter/>
              <a:tailEnd len="med" type="triangle" w="med"/>
            </a:ln>
          </p:spPr>
        </p:cxnSp>
        <p:sp>
          <p:nvSpPr>
            <p:cNvPr id="100" name=""/>
            <p:cNvSpPr txBox="1"/>
            <p:nvPr/>
          </p:nvSpPr>
          <p:spPr>
            <a:xfrm>
              <a:off x="5214960" y="2499840"/>
              <a:ext cx="1285920" cy="7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071800" y="3785760"/>
            <a:ext cx="2000520" cy="857520"/>
            <a:chOff x="2071800" y="3785760"/>
            <a:chExt cx="2000520" cy="857520"/>
          </a:xfrm>
        </p:grpSpPr>
        <p:cxnSp>
          <p:nvCxnSpPr>
            <p:cNvPr id="102" name="AutoShape 11"/>
            <p:cNvCxnSpPr/>
            <p:nvPr/>
          </p:nvCxnSpPr>
          <p:spPr>
            <a:xfrm>
              <a:off x="2071800" y="3785760"/>
              <a:ext cx="2000880" cy="857880"/>
            </a:xfrm>
            <a:prstGeom prst="straightConnector1">
              <a:avLst/>
            </a:prstGeom>
            <a:ln w="38160">
              <a:solidFill>
                <a:srgbClr val="ffc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03" name=""/>
            <p:cNvSpPr txBox="1"/>
            <p:nvPr/>
          </p:nvSpPr>
          <p:spPr>
            <a:xfrm>
              <a:off x="2071800" y="3785760"/>
              <a:ext cx="2000160" cy="857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786120" y="5855400"/>
            <a:ext cx="2572200" cy="72000"/>
            <a:chOff x="3786120" y="5855400"/>
            <a:chExt cx="2572200" cy="72000"/>
          </a:xfrm>
        </p:grpSpPr>
        <p:cxnSp>
          <p:nvCxnSpPr>
            <p:cNvPr id="105" name="AutoShape 12"/>
            <p:cNvCxnSpPr/>
            <p:nvPr/>
          </p:nvCxnSpPr>
          <p:spPr>
            <a:xfrm flipV="1">
              <a:off x="3786120" y="5855400"/>
              <a:ext cx="2572560" cy="72360"/>
            </a:xfrm>
            <a:prstGeom prst="straightConnector1">
              <a:avLst/>
            </a:prstGeom>
            <a:ln w="38160">
              <a:solidFill>
                <a:srgbClr val="b3a2c7"/>
              </a:solidFill>
              <a:prstDash val="dash"/>
              <a:miter/>
              <a:tailEnd len="med" type="triangle" w="med"/>
            </a:ln>
          </p:spPr>
        </p:cxnSp>
        <p:sp>
          <p:nvSpPr>
            <p:cNvPr id="106" name=""/>
            <p:cNvSpPr txBox="1"/>
            <p:nvPr/>
          </p:nvSpPr>
          <p:spPr>
            <a:xfrm rot="10800000">
              <a:off x="3786120" y="5855400"/>
              <a:ext cx="257184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13" descr=""/>
          <p:cNvPicPr/>
          <p:nvPr/>
        </p:nvPicPr>
        <p:blipFill>
          <a:blip r:embed="rId8"/>
          <a:stretch/>
        </p:blipFill>
        <p:spPr>
          <a:xfrm>
            <a:off x="6516720" y="4664160"/>
            <a:ext cx="1962000" cy="37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428760" y="2142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месте весело шага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84120" y="1474920"/>
            <a:ext cx="8478720" cy="4376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838836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457200" y="274680"/>
            <a:ext cx="7758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Улица Спор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57262" t="0" r="0" b="0"/>
          <a:stretch/>
        </p:blipFill>
        <p:spPr>
          <a:xfrm>
            <a:off x="285840" y="3071880"/>
            <a:ext cx="1912680" cy="335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2243160" y="1096920"/>
            <a:ext cx="6729480" cy="5108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14292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457200" y="-2225520"/>
            <a:ext cx="25704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rcRect l="0" t="0" r="51971" b="0"/>
          <a:stretch/>
        </p:blipFill>
        <p:spPr>
          <a:xfrm>
            <a:off x="6286680" y="785880"/>
            <a:ext cx="2379600" cy="3714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3698640" cy="3357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tretch/>
        </p:blipFill>
        <p:spPr>
          <a:xfrm>
            <a:off x="2786040" y="3571920"/>
            <a:ext cx="3786120" cy="3029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4"/>
          <a:stretch/>
        </p:blipFill>
        <p:spPr>
          <a:xfrm>
            <a:off x="83185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6T07:51:46Z</dcterms:created>
  <dc:creator>del5</dc:creator>
  <dc:description/>
  <dc:language>en-US</dc:language>
  <cp:lastModifiedBy>user</cp:lastModifiedBy>
  <dcterms:modified xsi:type="dcterms:W3CDTF">2020-11-17T17:07:32Z</dcterms:modified>
  <cp:revision>61</cp:revision>
  <dc:subject/>
  <dc:title>Слайд 1</dc:title>
</cp:coreProperties>
</file>