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8B3A1-C603-46EF-9D85-B7D865C84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C6B78-7529-42B9-B3F5-B2D11F9E1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DB263-7A12-4CFB-9527-7C6B7FF2F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78CF6-D1E8-41D2-8B51-A6077A95D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0867C-BEC1-450C-B064-9750A2D3C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D6091-3D87-4C24-B1E4-0B1852821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66334-568A-4CB5-87A3-B2B56E24F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C9B7F-F4AC-4C90-8539-7A81760DA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E9761-62DE-41FD-B8B8-865CA339A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7C7BD-78E7-42A0-A5B9-E7512810E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C4A2A-1F67-4A60-B83D-04C652435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71245-BB5D-4682-BAED-89C16C0C0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69D79-746E-4EC6-A31F-2646198A6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71360" y="60480"/>
            <a:ext cx="8875800" cy="671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1577880" cy="247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807228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428760" y="214200"/>
            <a:ext cx="6715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Танцев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6720" y="828720"/>
            <a:ext cx="8369280" cy="5834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0" y="4143240"/>
            <a:ext cx="1577880" cy="247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828684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1468440" y="176040"/>
            <a:ext cx="7145280" cy="543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4214880"/>
            <a:ext cx="1577880" cy="247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1420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2"/>
          <p:cNvSpPr/>
          <p:nvPr/>
        </p:nvSpPr>
        <p:spPr>
          <a:xfrm>
            <a:off x="7715160" y="3929040"/>
            <a:ext cx="184320" cy="370080"/>
          </a:xfrm>
          <a:custGeom>
            <a:avLst/>
            <a:gdLst>
              <a:gd name="textAreaLeft" fmla="*/ 0 w 184320"/>
              <a:gd name="textAreaRight" fmla="*/ 184680 w 1843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84150" h="369887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714760" y="214200"/>
            <a:ext cx="3500280" cy="42876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арта  путеше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956200" y="1116000"/>
            <a:ext cx="27608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023840" y="4048200"/>
            <a:ext cx="26892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670120" y="1474920"/>
            <a:ext cx="273060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6643800" y="3143160"/>
            <a:ext cx="235728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Танцев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214280" y="6000840"/>
            <a:ext cx="192888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714760" y="3571920"/>
            <a:ext cx="221436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Спор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715080" y="6000840"/>
            <a:ext cx="200016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Зага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6242040" y="3975120"/>
            <a:ext cx="27306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998600" y="3498120"/>
            <a:ext cx="1286280" cy="1429200"/>
            <a:chOff x="4998600" y="3498120"/>
            <a:chExt cx="1286280" cy="1429200"/>
          </a:xfrm>
        </p:grpSpPr>
        <p:cxnSp>
          <p:nvCxnSpPr>
            <p:cNvPr id="60" name="AutoShape 12"/>
            <p:cNvCxnSpPr/>
            <p:nvPr/>
          </p:nvCxnSpPr>
          <p:spPr>
            <a:xfrm flipH="1" flipV="1">
              <a:off x="4998600" y="3498120"/>
              <a:ext cx="1286640" cy="14295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1" name=""/>
            <p:cNvSpPr txBox="1"/>
            <p:nvPr/>
          </p:nvSpPr>
          <p:spPr>
            <a:xfrm rot="10800000">
              <a:off x="4998960" y="3498120"/>
              <a:ext cx="1285920" cy="14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069920" y="2356920"/>
            <a:ext cx="1215000" cy="1715040"/>
            <a:chOff x="1069920" y="2356920"/>
            <a:chExt cx="1215000" cy="1715040"/>
          </a:xfrm>
        </p:grpSpPr>
        <p:cxnSp>
          <p:nvCxnSpPr>
            <p:cNvPr id="63" name="AutoShape 13"/>
            <p:cNvCxnSpPr/>
            <p:nvPr/>
          </p:nvCxnSpPr>
          <p:spPr>
            <a:xfrm>
              <a:off x="1069920" y="2356920"/>
              <a:ext cx="1215360" cy="171540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4" name=""/>
            <p:cNvSpPr txBox="1"/>
            <p:nvPr/>
          </p:nvSpPr>
          <p:spPr>
            <a:xfrm>
              <a:off x="1069920" y="2356920"/>
              <a:ext cx="121464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642480" y="5000040"/>
            <a:ext cx="2644200" cy="500400"/>
            <a:chOff x="3642480" y="5000040"/>
            <a:chExt cx="2644200" cy="500400"/>
          </a:xfrm>
        </p:grpSpPr>
        <p:cxnSp>
          <p:nvCxnSpPr>
            <p:cNvPr id="66" name="AutoShape 14"/>
            <p:cNvCxnSpPr/>
            <p:nvPr/>
          </p:nvCxnSpPr>
          <p:spPr>
            <a:xfrm flipV="1">
              <a:off x="3642840" y="5000040"/>
              <a:ext cx="2644200" cy="5007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7" name=""/>
            <p:cNvSpPr txBox="1"/>
            <p:nvPr/>
          </p:nvSpPr>
          <p:spPr>
            <a:xfrm rot="10800000">
              <a:off x="3642480" y="5000040"/>
              <a:ext cx="264348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5" descr=""/>
          <p:cNvPicPr/>
          <p:nvPr/>
        </p:nvPicPr>
        <p:blipFill>
          <a:blip r:embed="rId6"/>
          <a:stretch/>
        </p:blipFill>
        <p:spPr>
          <a:xfrm>
            <a:off x="96840" y="500040"/>
            <a:ext cx="2378160" cy="188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7"/>
          <a:stretch/>
        </p:blipFill>
        <p:spPr>
          <a:xfrm>
            <a:off x="214200" y="1500120"/>
            <a:ext cx="455760" cy="714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5072040" y="2998080"/>
            <a:ext cx="1643400" cy="500400"/>
            <a:chOff x="5072040" y="2998080"/>
            <a:chExt cx="1643400" cy="500400"/>
          </a:xfrm>
        </p:grpSpPr>
        <p:cxnSp>
          <p:nvCxnSpPr>
            <p:cNvPr id="71" name="AutoShape 17"/>
            <p:cNvCxnSpPr/>
            <p:nvPr/>
          </p:nvCxnSpPr>
          <p:spPr>
            <a:xfrm flipV="1">
              <a:off x="5072040" y="2998080"/>
              <a:ext cx="1643760" cy="5007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72" name=""/>
            <p:cNvSpPr txBox="1"/>
            <p:nvPr/>
          </p:nvSpPr>
          <p:spPr>
            <a:xfrm rot="10800000">
              <a:off x="5072040" y="2998080"/>
              <a:ext cx="164304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428760" y="-5616720"/>
            <a:ext cx="285480" cy="12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358040" y="35712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57200" y="274680"/>
            <a:ext cx="8229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alibri"/>
              </a:rPr>
              <a:t>Я здоровье сберегу- сам себе я помо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95160" y="878040"/>
            <a:ext cx="7620120" cy="5760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143080" y="2143080"/>
            <a:ext cx="14144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режим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85920" y="3857760"/>
            <a:ext cx="141444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полезные привы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286000" y="5286240"/>
            <a:ext cx="14144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143240" y="5572080"/>
            <a:ext cx="1414440" cy="28584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рог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5786280" y="4857840"/>
            <a:ext cx="1414800" cy="28584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закал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214880" y="1857240"/>
            <a:ext cx="1414440" cy="28584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иг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215040" y="3214800"/>
            <a:ext cx="1271520" cy="28548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384120" y="1042920"/>
            <a:ext cx="8478720" cy="480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85808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57200" y="214200"/>
            <a:ext cx="4900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Загад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382920" y="1547640"/>
            <a:ext cx="1878120" cy="18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6456240" y="2475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84120" y="2762280"/>
            <a:ext cx="1805040" cy="230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4029120" y="3833640"/>
            <a:ext cx="2017800" cy="182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5"/>
          <a:stretch/>
        </p:blipFill>
        <p:spPr>
          <a:xfrm>
            <a:off x="1957320" y="4973760"/>
            <a:ext cx="1803600" cy="180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6"/>
          <a:stretch/>
        </p:blipFill>
        <p:spPr>
          <a:xfrm>
            <a:off x="311040" y="901800"/>
            <a:ext cx="2230560" cy="1566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7"/>
          <a:stretch/>
        </p:blipFill>
        <p:spPr>
          <a:xfrm>
            <a:off x="6168960" y="115920"/>
            <a:ext cx="2408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2499480" y="855360"/>
            <a:ext cx="3715560" cy="714600"/>
            <a:chOff x="2499480" y="855360"/>
            <a:chExt cx="3715560" cy="714600"/>
          </a:xfrm>
        </p:grpSpPr>
        <p:cxnSp>
          <p:nvCxnSpPr>
            <p:cNvPr id="96" name="AutoShape 9"/>
            <p:cNvCxnSpPr/>
            <p:nvPr/>
          </p:nvCxnSpPr>
          <p:spPr>
            <a:xfrm flipV="1">
              <a:off x="2499840" y="855360"/>
              <a:ext cx="3715560" cy="714960"/>
            </a:xfrm>
            <a:prstGeom prst="straightConnector1">
              <a:avLst/>
            </a:prstGeom>
            <a:ln w="381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sp>
          <p:nvSpPr>
            <p:cNvPr id="97" name=""/>
            <p:cNvSpPr txBox="1"/>
            <p:nvPr/>
          </p:nvSpPr>
          <p:spPr>
            <a:xfrm rot="10800000">
              <a:off x="2499480" y="855360"/>
              <a:ext cx="3714840" cy="71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4960" y="2499840"/>
            <a:ext cx="1286280" cy="714960"/>
            <a:chOff x="5214960" y="2499840"/>
            <a:chExt cx="1286280" cy="714960"/>
          </a:xfrm>
        </p:grpSpPr>
        <p:cxnSp>
          <p:nvCxnSpPr>
            <p:cNvPr id="99" name="AutoShape 10"/>
            <p:cNvCxnSpPr/>
            <p:nvPr/>
          </p:nvCxnSpPr>
          <p:spPr>
            <a:xfrm>
              <a:off x="5214960" y="2499840"/>
              <a:ext cx="1286640" cy="715320"/>
            </a:xfrm>
            <a:prstGeom prst="straightConnector1">
              <a:avLst/>
            </a:prstGeom>
            <a:ln w="38160">
              <a:solidFill>
                <a:srgbClr val="d99694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0" name=""/>
            <p:cNvSpPr txBox="1"/>
            <p:nvPr/>
          </p:nvSpPr>
          <p:spPr>
            <a:xfrm>
              <a:off x="5214960" y="2499840"/>
              <a:ext cx="1285920" cy="7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071800" y="3785760"/>
            <a:ext cx="2000520" cy="857520"/>
            <a:chOff x="2071800" y="3785760"/>
            <a:chExt cx="2000520" cy="857520"/>
          </a:xfrm>
        </p:grpSpPr>
        <p:cxnSp>
          <p:nvCxnSpPr>
            <p:cNvPr id="102" name="AutoShape 11"/>
            <p:cNvCxnSpPr/>
            <p:nvPr/>
          </p:nvCxnSpPr>
          <p:spPr>
            <a:xfrm>
              <a:off x="2071800" y="3785760"/>
              <a:ext cx="2000880" cy="857880"/>
            </a:xfrm>
            <a:prstGeom prst="straightConnector1">
              <a:avLst/>
            </a:prstGeom>
            <a:ln w="38160">
              <a:solidFill>
                <a:srgbClr val="ffc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3" name=""/>
            <p:cNvSpPr txBox="1"/>
            <p:nvPr/>
          </p:nvSpPr>
          <p:spPr>
            <a:xfrm>
              <a:off x="2071800" y="3785760"/>
              <a:ext cx="200016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786120" y="5855400"/>
            <a:ext cx="2572200" cy="72000"/>
            <a:chOff x="3786120" y="5855400"/>
            <a:chExt cx="2572200" cy="72000"/>
          </a:xfrm>
        </p:grpSpPr>
        <p:cxnSp>
          <p:nvCxnSpPr>
            <p:cNvPr id="105" name="AutoShape 12"/>
            <p:cNvCxnSpPr/>
            <p:nvPr/>
          </p:nvCxnSpPr>
          <p:spPr>
            <a:xfrm flipV="1">
              <a:off x="3786120" y="5855400"/>
              <a:ext cx="2572560" cy="72360"/>
            </a:xfrm>
            <a:prstGeom prst="straightConnector1">
              <a:avLst/>
            </a:prstGeom>
            <a:ln w="38160">
              <a:solidFill>
                <a:srgbClr val="b3a2c7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6" name=""/>
            <p:cNvSpPr txBox="1"/>
            <p:nvPr/>
          </p:nvSpPr>
          <p:spPr>
            <a:xfrm rot="10800000">
              <a:off x="3786120" y="5855400"/>
              <a:ext cx="257184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3" descr=""/>
          <p:cNvPicPr/>
          <p:nvPr/>
        </p:nvPicPr>
        <p:blipFill>
          <a:blip r:embed="rId8"/>
          <a:stretch/>
        </p:blipFill>
        <p:spPr>
          <a:xfrm>
            <a:off x="6516720" y="4664160"/>
            <a:ext cx="1962000" cy="37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месте весело шаг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457200" y="274680"/>
            <a:ext cx="775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Спор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57262" t="0" r="0" b="0"/>
          <a:stretch/>
        </p:blipFill>
        <p:spPr>
          <a:xfrm>
            <a:off x="285840" y="3071880"/>
            <a:ext cx="1912680" cy="33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243160" y="1096920"/>
            <a:ext cx="6729480" cy="510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4292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57200" y="-2225520"/>
            <a:ext cx="2570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0" t="0" r="51971" b="0"/>
          <a:stretch/>
        </p:blipFill>
        <p:spPr>
          <a:xfrm>
            <a:off x="6286680" y="785880"/>
            <a:ext cx="2379600" cy="3714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69864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2786040" y="3571920"/>
            <a:ext cx="3786120" cy="3029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83185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6T07:51:46Z</dcterms:created>
  <dc:creator>del5</dc:creator>
  <dc:description/>
  <dc:language>en-US</dc:language>
  <cp:lastModifiedBy>user</cp:lastModifiedBy>
  <dcterms:modified xsi:type="dcterms:W3CDTF">2020-11-17T17:07:32Z</dcterms:modified>
  <cp:revision>61</cp:revision>
  <dc:subject/>
  <dc:title>Слайд 1</dc:title>
</cp:coreProperties>
</file>