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7.wmf" ContentType="image/x-wmf"/>
  <Override PartName="/ppt/media/image5.png" ContentType="image/png"/>
  <Override PartName="/ppt/media/image10.jpeg" ContentType="image/jpeg"/>
  <Override PartName="/ppt/media/image11.png" ContentType="image/pn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8940-36A4-4638-ACC3-45AF4CC549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C8EE-07E0-4134-89AB-668C48445D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CEE-43CE-4D22-81E4-C2B3BB79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048-BEE1-44AD-B0E9-2D309101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1B5-89D8-45F6-AFD4-9C012BE1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510-DFE8-446C-812D-A2845A84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BBC2-88A4-4612-A8B6-CA3BA9B9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6C17-8E59-4B80-A69B-97C0CEA3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796B-9AAF-4AEE-97BB-4914DB6C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E8BF-494D-4495-92D5-86FB39C3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B09D-9402-403A-A5AB-5F635AFC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532F-77F1-4147-AB6C-EA7737A8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902F-2D1F-4806-BD8C-E12ADF63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347F-36CA-4036-AC60-8808F3B0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9DD4-24BA-4FB7-83EC-ABE89611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01B0-2C80-427D-B6FD-452740D6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353A-F173-4F8B-A27E-07903782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B0B2-E61F-47D2-8E11-6AA3CA9F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44D4-2E31-4D91-AD83-704A2BFE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1D257-F1B2-43EC-861C-A87F2209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CAB01-8F79-4DD4-A5FD-7D317415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B1A12-C2DA-42A1-A9B6-1E6CEE2C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6D4B5-8274-4EA3-B35C-C072CDB1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080D5-5305-4791-B20C-6167BAC0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D29-1BF8-4319-A34F-4B49636B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63FF6-0BF2-415D-BD87-3EC1A8F6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C1947-3E2D-493E-99D5-3F63D313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73E80-F4CE-4A61-8525-B1F4DCC8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7AB56-4EB8-4E76-9F3C-D96E2709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B3BFC-04EB-4C2B-A915-8BE993EF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66979-5FC5-4CA1-A253-1993834F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ABC8C-6BCF-465C-9074-899AF181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6B87E-F0A4-4B10-8889-0004E96D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F42C8-5D1F-41A6-BA92-D6E1CF72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66C5E-8C7D-4292-A2BD-2EAC1089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5BB6-DE82-4AE4-BB8A-9E1AB88D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69EC1-D80A-430B-ACF6-0EB7CEA0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1F3BC-10D7-437F-A637-DC1FC119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416A2-CFAA-443B-89BC-CA1EC1BA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1A812-7270-4835-B9C9-403FB02A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A4143-802E-4E6B-96CB-EB346CE8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60AA1-F7C7-4D96-B1C7-54782DAD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10CA3-27C7-4764-857E-E0AF7E0C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AD9C7-54B5-44CF-BF1A-F29F453F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AF866-1C69-4C68-94F1-2B3D7AE0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66088-03BA-4632-A340-C4FC8DA0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7DE-270B-4A06-B7D6-820B37B0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C1C89-D09D-490D-87A7-226C8E6A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8882E-6B61-4B20-9434-164F4243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2F0EE-C392-44B2-B5ED-E8E8642D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99A90-A0B5-43C5-A14A-11FB0C28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9A945-9016-4FA8-8DBC-A6A8A8C0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CDE53-060E-4C77-A9DA-AC6B9FC9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35AFE-4CD7-4E39-AEEB-22208A4E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16963-A3A6-4D86-9F37-CD6A2C9C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75A89-811F-4E7F-8460-09D8B30A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31F90-09AF-4D8D-B853-FDF7B776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616-CD1A-421A-B878-0743F2C6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BBF5D-950D-4338-B08F-10E23FC2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63B7-BD3D-44CD-91D8-EDDBA3D3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1A31-011D-4CCE-B928-40469F35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DED-28B3-4C3C-A296-59C9FBAD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668A-EEB9-4668-9D76-5B8D8C1E58B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8DF4-3967-4920-8688-8C7577C78E5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89C2-A4F3-4130-9DD3-1899F50733F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B2C6-FCC9-468E-B5A2-7826C4C5B58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C40F-9A2F-4604-82B8-A27430E2539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4"/>
          <p:cNvSpPr/>
          <p:nvPr/>
        </p:nvSpPr>
        <p:spPr>
          <a:xfrm>
            <a:off x="785880" y="57168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Колыванская средняя школа № 1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071720" y="1571760"/>
            <a:ext cx="735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частный оборо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деление причастного оборота запяты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 в 7 клас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4" descr="D:\Классный_руководитель\9 класс\9 - 1 сентября (№1)\№ (188) копия.jpg"/>
          <p:cNvPicPr/>
          <p:nvPr/>
        </p:nvPicPr>
        <p:blipFill>
          <a:blip r:embed="rId1"/>
          <a:stretch/>
        </p:blipFill>
        <p:spPr>
          <a:xfrm>
            <a:off x="500040" y="2786040"/>
            <a:ext cx="2467080" cy="3500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Файл:Умная сова.png — Vladimir"/>
          <p:cNvPicPr/>
          <p:nvPr/>
        </p:nvPicPr>
        <p:blipFill>
          <a:blip r:embed="rId2"/>
          <a:stretch/>
        </p:blipFill>
        <p:spPr>
          <a:xfrm>
            <a:off x="4929120" y="2857680"/>
            <a:ext cx="3500640" cy="344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900" spc="-1" strike="noStrike">
                <a:solidFill>
                  <a:srgbClr val="ff0000"/>
                </a:solidFill>
                <a:latin typeface="Cambria"/>
              </a:rPr>
              <a:t>Алгоритм нахождения причастного оборота в предложении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01120" y="2642760"/>
            <a:ext cx="8642520" cy="3148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a070c"/>
                </a:solidFill>
                <a:latin typeface="Cambria"/>
              </a:rPr>
              <a:t>Снег,  лежавший на деревьях 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a070c"/>
                </a:solidFill>
                <a:latin typeface="Cambria"/>
              </a:rPr>
              <a:t> </a:t>
            </a:r>
            <a:r>
              <a:rPr b="0" lang="ru-RU" sz="4400" spc="-1" strike="noStrike">
                <a:solidFill>
                  <a:srgbClr val="0a070c"/>
                </a:solidFill>
                <a:latin typeface="Cambria"/>
              </a:rPr>
              <a:t>крышах  , растаял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Box 3"/>
          <p:cNvSpPr/>
          <p:nvPr/>
        </p:nvSpPr>
        <p:spPr>
          <a:xfrm>
            <a:off x="932400" y="2357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Выгнутая вверх стрелка 4"/>
          <p:cNvSpPr/>
          <p:nvPr/>
        </p:nvSpPr>
        <p:spPr>
          <a:xfrm>
            <a:off x="1428840" y="2428920"/>
            <a:ext cx="3929040" cy="428760"/>
          </a:xfrm>
          <a:custGeom>
            <a:avLst/>
            <a:gdLst>
              <a:gd name="textAreaLeft" fmla="*/ 942120 w 3929040"/>
              <a:gd name="textAreaRight" fmla="*/ 2933640 w 392904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58" hR="21600" stAng="10800000" swAng="5400000"/>
                <a:lnTo>
                  <a:pt x="10948" y="0"/>
                </a:lnTo>
                <a:arcTo wR="10358" hR="21600" stAng="-5400000" swAng="3702029"/>
                <a:lnTo>
                  <a:pt x="21271" y="16200"/>
                </a:lnTo>
                <a:lnTo>
                  <a:pt x="21011" y="21600"/>
                </a:lnTo>
                <a:lnTo>
                  <a:pt x="20093" y="16200"/>
                </a:lnTo>
                <a:lnTo>
                  <a:pt x="20387" y="16200"/>
                </a:lnTo>
                <a:arcTo wR="10358" hR="21600" stAng="-1697971" swAng="-3655062"/>
                <a:lnTo>
                  <a:pt x="10653" y="9"/>
                </a:lnTo>
                <a:arcTo wR="10358" hR="21600" stAng="-5446967" swAng="-5353033"/>
                <a:close/>
              </a:path>
              <a:path fill="darkenLess" w="21600" h="21600">
                <a:moveTo>
                  <a:pt x="0" y="21600"/>
                </a:moveTo>
                <a:arcTo wR="10358" hR="21600" stAng="10800000" swAng="5400000"/>
                <a:lnTo>
                  <a:pt x="10358" y="0"/>
                </a:lnTo>
                <a:arcTo wR="10358" hR="21600" stAng="-5400000" swAng="46967"/>
                <a:lnTo>
                  <a:pt x="10653" y="9"/>
                </a:lnTo>
                <a:arcTo wR="10358" hR="21600" stAng="-5446967" swAng="-5353033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2860200" y="192888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ак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инус 6"/>
          <p:cNvSpPr/>
          <p:nvPr/>
        </p:nvSpPr>
        <p:spPr>
          <a:xfrm rot="5400000">
            <a:off x="1714680" y="3000240"/>
            <a:ext cx="714240" cy="285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инус 7"/>
          <p:cNvSpPr/>
          <p:nvPr/>
        </p:nvSpPr>
        <p:spPr>
          <a:xfrm rot="5400000">
            <a:off x="2678400" y="3821760"/>
            <a:ext cx="571680" cy="214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олилиния 9"/>
          <p:cNvSpPr/>
          <p:nvPr/>
        </p:nvSpPr>
        <p:spPr>
          <a:xfrm>
            <a:off x="2189160" y="3282840"/>
            <a:ext cx="6811920" cy="146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Полилиния 10"/>
          <p:cNvSpPr/>
          <p:nvPr/>
        </p:nvSpPr>
        <p:spPr>
          <a:xfrm>
            <a:off x="785880" y="4214880"/>
            <a:ext cx="2189160" cy="117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11"/>
          <p:cNvSpPr/>
          <p:nvPr/>
        </p:nvSpPr>
        <p:spPr>
          <a:xfrm>
            <a:off x="6577560" y="2428920"/>
            <a:ext cx="7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.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Овал 12"/>
          <p:cNvSpPr/>
          <p:nvPr/>
        </p:nvSpPr>
        <p:spPr>
          <a:xfrm>
            <a:off x="3000240" y="3786120"/>
            <a:ext cx="428760" cy="357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Овал 15"/>
          <p:cNvSpPr/>
          <p:nvPr/>
        </p:nvSpPr>
        <p:spPr>
          <a:xfrm>
            <a:off x="1714680" y="3071880"/>
            <a:ext cx="428400" cy="357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56800" y="1356840"/>
            <a:ext cx="8286840" cy="300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1000"/>
          </a:bodyPr>
          <a:p>
            <a:pPr marL="214560" indent="-2145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Cambria"/>
              </a:rPr>
              <a:t>Чтобы правильно выделить причастный оборот, над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1.Найти в предложении </a:t>
            </a:r>
            <a:r>
              <a:rPr b="0" lang="ru-RU" sz="2000" spc="-1" strike="noStrike" u="sng">
                <a:solidFill>
                  <a:srgbClr val="0a070c"/>
                </a:solidFill>
                <a:uFillTx/>
                <a:latin typeface="Cambria"/>
              </a:rPr>
              <a:t>причастие</a:t>
            </a: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 ( и подписать над ним </a:t>
            </a:r>
            <a:r>
              <a:rPr b="0" i="1" lang="ru-RU" sz="2000" spc="-1" strike="noStrike">
                <a:solidFill>
                  <a:srgbClr val="0a070c"/>
                </a:solidFill>
                <a:latin typeface="Cambria"/>
              </a:rPr>
              <a:t>: </a:t>
            </a:r>
            <a:r>
              <a:rPr b="0" i="1" lang="ru-RU" sz="2000" spc="-1" strike="noStrike">
                <a:solidFill>
                  <a:srgbClr val="ff0000"/>
                </a:solidFill>
                <a:latin typeface="Cambria"/>
              </a:rPr>
              <a:t>прич.</a:t>
            </a: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2. Найти </a:t>
            </a:r>
            <a:r>
              <a:rPr b="0" lang="ru-RU" sz="2000" spc="-1" strike="noStrike" u="sng">
                <a:solidFill>
                  <a:srgbClr val="0a070c"/>
                </a:solidFill>
                <a:uFillTx/>
                <a:latin typeface="Cambria"/>
              </a:rPr>
              <a:t>главное ( определяемое) слово </a:t>
            </a: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, от которого к причастию задается вопрос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КАКОЙ?  </a:t>
            </a: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(и поставить над ним крестик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Х</a:t>
            </a: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3. Найти все </a:t>
            </a:r>
            <a:r>
              <a:rPr b="0" lang="ru-RU" sz="2000" spc="-1" strike="noStrike" u="sng">
                <a:solidFill>
                  <a:srgbClr val="0a070c"/>
                </a:solidFill>
                <a:uFillTx/>
                <a:latin typeface="Cambria"/>
              </a:rPr>
              <a:t>слова, которые зависят от причастия</a:t>
            </a: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 ( если они есть), задавая к ним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вопрос от причас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4.  Подчеркнуть их вместе с причастием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волнистой линией </a:t>
            </a: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и отгородить от остальных слов вертикальными черточками с двух сторон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5. Если причастный оборот стоит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ПОСЛЕ ОПРЕДЕЛЯЕМОГО СЛОВА, выделить его ЗАПЯТЫ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ambria"/>
              </a:rPr>
              <a:t>Образец:  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Снег,  лежавший на деревьях и крышах  , растая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Минус 3"/>
          <p:cNvSpPr/>
          <p:nvPr/>
        </p:nvSpPr>
        <p:spPr>
          <a:xfrm rot="5400000">
            <a:off x="2678400" y="4964760"/>
            <a:ext cx="428400" cy="214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инус 5"/>
          <p:cNvSpPr/>
          <p:nvPr/>
        </p:nvSpPr>
        <p:spPr>
          <a:xfrm rot="5400000">
            <a:off x="7393320" y="4964760"/>
            <a:ext cx="428400" cy="214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6"/>
          <p:cNvSpPr/>
          <p:nvPr/>
        </p:nvSpPr>
        <p:spPr>
          <a:xfrm>
            <a:off x="2217240" y="4786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Выгнутая вправо стрелка 7"/>
          <p:cNvSpPr/>
          <p:nvPr/>
        </p:nvSpPr>
        <p:spPr>
          <a:xfrm rot="16200000">
            <a:off x="3876120" y="3339360"/>
            <a:ext cx="320400" cy="2643120"/>
          </a:xfrm>
          <a:custGeom>
            <a:avLst/>
            <a:gdLst>
              <a:gd name="textAreaLeft" fmla="*/ 42840 w 320400"/>
              <a:gd name="textAreaRight" fmla="*/ 277560 w 320400"/>
              <a:gd name="textAreaTop" fmla="*/ 630720 h 2643120"/>
              <a:gd name="textAreaBottom" fmla="*/ 1972440 h 264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308" stAng="-5400000" swAng="5400000"/>
                <a:lnTo>
                  <a:pt x="21600" y="10965"/>
                </a:lnTo>
                <a:arcTo wR="21600" hR="10308" stAng="0" swAng="3695006"/>
                <a:lnTo>
                  <a:pt x="5400" y="21273"/>
                </a:lnTo>
                <a:lnTo>
                  <a:pt x="0" y="20944"/>
                </a:lnTo>
                <a:lnTo>
                  <a:pt x="5400" y="19960"/>
                </a:lnTo>
                <a:lnTo>
                  <a:pt x="5400" y="20288"/>
                </a:lnTo>
                <a:arcTo wR="21600" hR="10308" stAng="3695006" swAng="-3642701"/>
                <a:lnTo>
                  <a:pt x="21589" y="10636"/>
                </a:lnTo>
                <a:arcTo wR="21600" hR="10308" stAng="-52305" swAng="-5347695"/>
                <a:close/>
              </a:path>
              <a:path fill="darkenLess" w="21600" h="21600">
                <a:moveTo>
                  <a:pt x="0" y="0"/>
                </a:moveTo>
                <a:arcTo wR="21600" hR="10308" stAng="-5400000" swAng="5400000"/>
                <a:lnTo>
                  <a:pt x="21600" y="10965"/>
                </a:lnTo>
                <a:arcTo wR="21600" hR="10308" stAng="0" swAng="-52305"/>
                <a:lnTo>
                  <a:pt x="21589" y="10636"/>
                </a:lnTo>
                <a:arcTo wR="21600" hR="10308" stAng="-52305" swAng="-534769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Полилиния 8"/>
          <p:cNvSpPr/>
          <p:nvPr/>
        </p:nvSpPr>
        <p:spPr>
          <a:xfrm>
            <a:off x="2714760" y="5357880"/>
            <a:ext cx="5000400" cy="285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Box 8"/>
          <p:cNvSpPr/>
          <p:nvPr/>
        </p:nvSpPr>
        <p:spPr>
          <a:xfrm>
            <a:off x="3215160" y="4714920"/>
            <a:ext cx="10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ако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Box 9"/>
          <p:cNvSpPr/>
          <p:nvPr/>
        </p:nvSpPr>
        <p:spPr>
          <a:xfrm>
            <a:off x="5646600" y="4500720"/>
            <a:ext cx="5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.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Box 11"/>
          <p:cNvSpPr/>
          <p:nvPr/>
        </p:nvSpPr>
        <p:spPr>
          <a:xfrm>
            <a:off x="1214280" y="57168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горитм нахождения причастного оборота в предложе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6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8" descr="Гимнастика для глаз | «Вологодский Многопрофильный Лицей»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3"/>
          <p:cNvSpPr/>
          <p:nvPr/>
        </p:nvSpPr>
        <p:spPr>
          <a:xfrm>
            <a:off x="857160" y="785880"/>
            <a:ext cx="77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Работа с учебнико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. 48 упражнение 9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писать первые три предложения, расставить знаки препинания. Графически выделить причастный оборо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. 49 упражнение 9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писать первые три предложения, расставить пропущенные знаки препинания, указать причастный оборот графичес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Рефлексия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13880" y="1500120"/>
            <a:ext cx="7643880" cy="429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Осмыслили,</a:t>
            </a: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что такое причастный оборо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Усвоили,</a:t>
            </a: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как выделяется на письме  причастный оборо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Научились</a:t>
            </a: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находить и выделять причастный оборо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ircl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85520" y="71424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Оцените свои результаты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785880" y="2356920"/>
            <a:ext cx="7286400" cy="3434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«А» </a:t>
            </a:r>
            <a:r>
              <a:rPr b="0" lang="ru-RU" sz="2800" spc="-1" strike="noStrike">
                <a:solidFill>
                  <a:srgbClr val="0a070c"/>
                </a:solidFill>
                <a:latin typeface="Verdana"/>
              </a:rPr>
              <a:t>– задания были мне понятны, я легко справил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«Б» </a:t>
            </a:r>
            <a:r>
              <a:rPr b="0" lang="ru-RU" sz="2800" spc="-1" strike="noStrike">
                <a:solidFill>
                  <a:srgbClr val="0a070c"/>
                </a:solidFill>
                <a:latin typeface="Verdana"/>
              </a:rPr>
              <a:t>– некоторая помощь товарищей мне бы не повреди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«В» </a:t>
            </a:r>
            <a:r>
              <a:rPr b="0" lang="ru-RU" sz="2800" spc="-1" strike="noStrike">
                <a:solidFill>
                  <a:srgbClr val="0a070c"/>
                </a:solidFill>
                <a:latin typeface="Verdana"/>
              </a:rPr>
              <a:t>– я старался, но большинство заданий были для меня слож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70c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Запишите на полях букву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Презентация на тему: &quot;Таблица умножения и деления с числом 8&quot; - математика,  презентации"/>
          <p:cNvPicPr/>
          <p:nvPr/>
        </p:nvPicPr>
        <p:blipFill>
          <a:blip r:embed="rId1"/>
          <a:stretch/>
        </p:blipFill>
        <p:spPr>
          <a:xfrm>
            <a:off x="285840" y="268200"/>
            <a:ext cx="857232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 u="sng">
                <a:solidFill>
                  <a:srgbClr val="ff0000"/>
                </a:solidFill>
                <a:uFillTx/>
                <a:latin typeface="Verdana"/>
              </a:rPr>
              <a:t>Цель урока: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371600" y="1143000"/>
            <a:ext cx="684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Осмыслить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что такое причастный оборот, как употребляются</a:t>
            </a:r>
            <a:r>
              <a:rPr b="0" lang="en-US" sz="2800" spc="-1" strike="noStrike">
                <a:solidFill>
                  <a:srgbClr val="0a070c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предложения с причастным оборотом в реч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Усвоить,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70c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как выделяется на письме причастный оборо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Научиться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    </a:t>
            </a: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находить и выделять причастный оборо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6" descr="J0301252"/>
          <p:cNvPicPr/>
          <p:nvPr/>
        </p:nvPicPr>
        <p:blipFill>
          <a:blip r:embed="rId2"/>
          <a:stretch/>
        </p:blipFill>
        <p:spPr>
          <a:xfrm>
            <a:off x="428760" y="4071960"/>
            <a:ext cx="2714400" cy="24480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3"/>
          <p:cNvSpPr/>
          <p:nvPr/>
        </p:nvSpPr>
        <p:spPr>
          <a:xfrm>
            <a:off x="1285920" y="571680"/>
            <a:ext cx="700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писываем в тетради чис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емнадцатое ноябр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6" descr="9"/>
          <p:cNvPicPr/>
          <p:nvPr/>
        </p:nvPicPr>
        <p:blipFill>
          <a:blip r:embed="rId3"/>
          <a:stretch/>
        </p:blipFill>
        <p:spPr>
          <a:xfrm>
            <a:off x="7429680" y="571680"/>
            <a:ext cx="1089000" cy="105228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5"/>
          <p:cNvSpPr/>
          <p:nvPr/>
        </p:nvSpPr>
        <p:spPr>
          <a:xfrm>
            <a:off x="785880" y="1643040"/>
            <a:ext cx="792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a070c"/>
                </a:solidFill>
                <a:uFillTx/>
                <a:latin typeface="Times New Roman"/>
                <a:ea typeface="Times New Roman"/>
              </a:rPr>
              <a:t>Запишите словосочета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a070c"/>
                </a:solidFill>
                <a:uFillTx/>
                <a:latin typeface="Times New Roman"/>
                <a:ea typeface="Times New Roman"/>
              </a:rPr>
              <a:t>вставляя пропущенные букв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070c"/>
                </a:solidFill>
                <a:latin typeface="Times New Roman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070c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a070c"/>
                </a:solidFill>
                <a:latin typeface="Times New Roman"/>
                <a:ea typeface="Times New Roman"/>
              </a:rPr>
              <a:t>От движущ..ся коло..ы, спускающ..ся г..рляндами, отр..зивш..ся в озере луна, к отворивш..ся к..литке, осыпающ..ся листьями, соб..рающ..ся в ста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57160" y="428760"/>
            <a:ext cx="7772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Verdana"/>
              </a:rPr>
              <a:t>Проверка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85880" y="1285560"/>
            <a:ext cx="7572240" cy="4505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От движущ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ей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ся коло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нн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ы, спускающ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ие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ся г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и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рляндами, отр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а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зивш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ая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ся в озере луна, к отворивш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ей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ся к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а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литке, осыпающ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ими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ся листьями, соб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и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рающ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ие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ся в ста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«5»-</a:t>
            </a: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нет ошиб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«4»-</a:t>
            </a: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2 ошиб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«3»-</a:t>
            </a: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3-5 ошиб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«2»-</a:t>
            </a: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5 ошибок и бол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Cambria"/>
              </a:rPr>
              <a:t>Сравните!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642680"/>
            <a:ext cx="5143680" cy="4505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a070c"/>
                </a:solidFill>
                <a:latin typeface="Cambria"/>
              </a:rPr>
              <a:t>От движущейся колонн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a070c"/>
                </a:solidFill>
                <a:latin typeface="Cambr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a070c"/>
                </a:solidFill>
                <a:latin typeface="Cambria"/>
              </a:rPr>
              <a:t>К отворившейся калитк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7480" y="1643040"/>
            <a:ext cx="4071960" cy="4043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a070c"/>
                </a:solidFill>
                <a:latin typeface="Cambria"/>
              </a:rPr>
              <a:t>Отразившаяся в озер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a070c"/>
                </a:solidFill>
                <a:latin typeface="Cambr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a070c"/>
                </a:solidFill>
                <a:latin typeface="Cambria"/>
              </a:rPr>
              <a:t>Собирающиеся в ста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Прямая соединительная линия 11"/>
          <p:cNvSpPr/>
          <p:nvPr/>
        </p:nvSpPr>
        <p:spPr>
          <a:xfrm>
            <a:off x="5071320" y="1143000"/>
            <a:ext cx="71640" cy="47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16"/>
          <p:cNvSpPr/>
          <p:nvPr/>
        </p:nvSpPr>
        <p:spPr>
          <a:xfrm>
            <a:off x="4003920" y="1143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Выгнутая влево стрелка 27"/>
          <p:cNvSpPr/>
          <p:nvPr/>
        </p:nvSpPr>
        <p:spPr>
          <a:xfrm rot="5400000">
            <a:off x="2464920" y="320400"/>
            <a:ext cx="471600" cy="2259000"/>
          </a:xfrm>
          <a:custGeom>
            <a:avLst/>
            <a:gdLst>
              <a:gd name="textAreaLeft" fmla="*/ 63000 w 471600"/>
              <a:gd name="textAreaRight" fmla="*/ 408600 w 471600"/>
              <a:gd name="textAreaTop" fmla="*/ 520560 h 2259000"/>
              <a:gd name="textAreaBottom" fmla="*/ 1679760 h 225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954" stAng="-5400000" swAng="-5400000"/>
                <a:lnTo>
                  <a:pt x="0" y="11082"/>
                </a:lnTo>
                <a:arcTo wR="21600" hR="9954" stAng="10800000" swAng="-3644320"/>
                <a:lnTo>
                  <a:pt x="16200" y="21284"/>
                </a:lnTo>
                <a:lnTo>
                  <a:pt x="21600" y="20472"/>
                </a:lnTo>
                <a:lnTo>
                  <a:pt x="16200" y="19028"/>
                </a:lnTo>
                <a:lnTo>
                  <a:pt x="16200" y="19592"/>
                </a:lnTo>
                <a:arcTo wR="21600" hR="9954" stAng="7155680" swAng="3554432"/>
                <a:lnTo>
                  <a:pt x="35" y="10518"/>
                </a:lnTo>
                <a:arcTo wR="21600" hR="9954" stAng="-10710113" swAng="5310113"/>
                <a:close/>
              </a:path>
              <a:path fill="darkenLess" w="21600" h="21600">
                <a:moveTo>
                  <a:pt x="21600" y="0"/>
                </a:moveTo>
                <a:arcTo wR="21600" hR="9954" stAng="-5400000" swAng="-5400000"/>
                <a:lnTo>
                  <a:pt x="0" y="9954"/>
                </a:lnTo>
                <a:arcTo wR="21600" hR="9954" stAng="10800000" swAng="-89887"/>
                <a:lnTo>
                  <a:pt x="35" y="10518"/>
                </a:lnTo>
                <a:arcTo wR="21600" hR="9954" stAng="-10710113" swAng="5310113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28"/>
          <p:cNvSpPr/>
          <p:nvPr/>
        </p:nvSpPr>
        <p:spPr>
          <a:xfrm>
            <a:off x="6004080" y="27147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29"/>
          <p:cNvSpPr/>
          <p:nvPr/>
        </p:nvSpPr>
        <p:spPr>
          <a:xfrm>
            <a:off x="4146480" y="2786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30"/>
          <p:cNvSpPr/>
          <p:nvPr/>
        </p:nvSpPr>
        <p:spPr>
          <a:xfrm>
            <a:off x="5861160" y="12859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Выгнутая влево стрелка 31"/>
          <p:cNvSpPr/>
          <p:nvPr/>
        </p:nvSpPr>
        <p:spPr>
          <a:xfrm rot="5400000">
            <a:off x="2643120" y="2000160"/>
            <a:ext cx="428760" cy="2286000"/>
          </a:xfrm>
          <a:custGeom>
            <a:avLst/>
            <a:gdLst>
              <a:gd name="textAreaLeft" fmla="*/ 57240 w 428760"/>
              <a:gd name="textAreaRight" fmla="*/ 371520 w 428760"/>
              <a:gd name="textAreaTop" fmla="*/ 531360 h 2286000"/>
              <a:gd name="textAreaBottom" fmla="*/ 170136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41" stAng="-5400000" swAng="-5400000"/>
                <a:lnTo>
                  <a:pt x="0" y="11054"/>
                </a:lnTo>
                <a:arcTo wR="21600" hR="10041" stAng="10800000" swAng="-3656975"/>
                <a:lnTo>
                  <a:pt x="16200" y="21281"/>
                </a:lnTo>
                <a:lnTo>
                  <a:pt x="21600" y="20588"/>
                </a:lnTo>
                <a:lnTo>
                  <a:pt x="16200" y="19256"/>
                </a:lnTo>
                <a:lnTo>
                  <a:pt x="16200" y="19762"/>
                </a:lnTo>
                <a:arcTo wR="21600" hR="10041" stAng="7143025" swAng="3576275"/>
                <a:lnTo>
                  <a:pt x="28" y="10547"/>
                </a:lnTo>
                <a:arcTo wR="21600" hR="10041" stAng="-10719300" swAng="5319300"/>
                <a:close/>
              </a:path>
              <a:path fill="darkenLess" w="21600" h="21600">
                <a:moveTo>
                  <a:pt x="21600" y="0"/>
                </a:moveTo>
                <a:arcTo wR="21600" hR="10041" stAng="-5400000" swAng="-5400000"/>
                <a:lnTo>
                  <a:pt x="0" y="10041"/>
                </a:lnTo>
                <a:arcTo wR="21600" hR="10041" stAng="10800000" swAng="-80700"/>
                <a:lnTo>
                  <a:pt x="28" y="10547"/>
                </a:lnTo>
                <a:arcTo wR="21600" hR="10041" stAng="-10719300" swAng="53193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Выгнутая вправо стрелка 32"/>
          <p:cNvSpPr/>
          <p:nvPr/>
        </p:nvSpPr>
        <p:spPr>
          <a:xfrm rot="16200000">
            <a:off x="7273080" y="464040"/>
            <a:ext cx="398520" cy="2041560"/>
          </a:xfrm>
          <a:custGeom>
            <a:avLst/>
            <a:gdLst>
              <a:gd name="textAreaLeft" fmla="*/ 53280 w 398520"/>
              <a:gd name="textAreaRight" fmla="*/ 345240 w 398520"/>
              <a:gd name="textAreaTop" fmla="*/ 473040 h 2041560"/>
              <a:gd name="textAreaBottom" fmla="*/ 1518840 h 204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011" stAng="-5400000" swAng="5400000"/>
                <a:lnTo>
                  <a:pt x="21600" y="11063"/>
                </a:lnTo>
                <a:arcTo wR="21600" hR="10011" stAng="0" swAng="3652605"/>
                <a:lnTo>
                  <a:pt x="5400" y="21282"/>
                </a:lnTo>
                <a:lnTo>
                  <a:pt x="0" y="20547"/>
                </a:lnTo>
                <a:lnTo>
                  <a:pt x="5400" y="19176"/>
                </a:lnTo>
                <a:lnTo>
                  <a:pt x="5400" y="19703"/>
                </a:lnTo>
                <a:arcTo wR="21600" hR="10011" stAng="3652605" swAng="-3568790"/>
                <a:lnTo>
                  <a:pt x="21570" y="10537"/>
                </a:lnTo>
                <a:arcTo wR="21600" hR="10011" stAng="-83815" swAng="-5316185"/>
                <a:close/>
              </a:path>
              <a:path fill="darkenLess" w="21600" h="21600">
                <a:moveTo>
                  <a:pt x="0" y="0"/>
                </a:moveTo>
                <a:arcTo wR="21600" hR="10011" stAng="-5400000" swAng="5400000"/>
                <a:lnTo>
                  <a:pt x="21600" y="11063"/>
                </a:lnTo>
                <a:arcTo wR="21600" hR="10011" stAng="0" swAng="-83815"/>
                <a:lnTo>
                  <a:pt x="21570" y="10537"/>
                </a:lnTo>
                <a:arcTo wR="21600" hR="10011" stAng="-83815" swAng="-531618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Выгнутая вправо стрелка 33"/>
          <p:cNvSpPr/>
          <p:nvPr/>
        </p:nvSpPr>
        <p:spPr>
          <a:xfrm rot="16200000">
            <a:off x="7491960" y="2151360"/>
            <a:ext cx="303480" cy="2000160"/>
          </a:xfrm>
          <a:custGeom>
            <a:avLst/>
            <a:gdLst>
              <a:gd name="textAreaLeft" fmla="*/ 40680 w 303480"/>
              <a:gd name="textAreaRight" fmla="*/ 262800 w 303480"/>
              <a:gd name="textAreaTop" fmla="*/ 471600 h 2000160"/>
              <a:gd name="textAreaBottom" fmla="*/ 149076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187" stAng="-5400000" swAng="5400000"/>
                <a:lnTo>
                  <a:pt x="21600" y="11005"/>
                </a:lnTo>
                <a:arcTo wR="21600" hR="10187" stAng="0" swAng="3677961"/>
                <a:lnTo>
                  <a:pt x="5400" y="21277"/>
                </a:lnTo>
                <a:lnTo>
                  <a:pt x="0" y="20782"/>
                </a:lnTo>
                <a:lnTo>
                  <a:pt x="5400" y="19641"/>
                </a:lnTo>
                <a:lnTo>
                  <a:pt x="5400" y="20050"/>
                </a:lnTo>
                <a:arcTo wR="21600" hR="10187" stAng="3677961" swAng="-3612822"/>
                <a:lnTo>
                  <a:pt x="21583" y="10596"/>
                </a:lnTo>
                <a:arcTo wR="21600" hR="10187" stAng="-65139" swAng="-5334861"/>
                <a:close/>
              </a:path>
              <a:path fill="darkenLess" w="21600" h="21600">
                <a:moveTo>
                  <a:pt x="0" y="0"/>
                </a:moveTo>
                <a:arcTo wR="21600" hR="10187" stAng="-5400000" swAng="5400000"/>
                <a:lnTo>
                  <a:pt x="21600" y="11005"/>
                </a:lnTo>
                <a:arcTo wR="21600" hR="10187" stAng="0" swAng="-65139"/>
                <a:lnTo>
                  <a:pt x="21583" y="10596"/>
                </a:lnTo>
                <a:arcTo wR="21600" hR="10187" stAng="-65139" swAng="-5334861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2289600" y="2428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ако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2218320" y="7142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ако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15"/>
          <p:cNvSpPr/>
          <p:nvPr/>
        </p:nvSpPr>
        <p:spPr>
          <a:xfrm>
            <a:off x="7068600" y="857160"/>
            <a:ext cx="7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д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16"/>
          <p:cNvSpPr/>
          <p:nvPr/>
        </p:nvSpPr>
        <p:spPr>
          <a:xfrm>
            <a:off x="7147080" y="250020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ак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785520" y="42840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 словосочетании причастие может выступать в качеств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(запишите в тетради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Зависимого слова                   Определяемого сл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Cambria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Cambria"/>
              </a:rPr>
              <a:t>(к которому задаём вопрос)</a:t>
            </a:r>
            <a:r>
              <a:rPr b="0" i="1" lang="ru-RU" sz="1800" spc="-1" strike="noStrike">
                <a:solidFill>
                  <a:srgbClr val="ff3300"/>
                </a:solidFill>
                <a:latin typeface="Cambria"/>
              </a:rPr>
              <a:t>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mbria"/>
              </a:rPr>
              <a:t>(от которого задаём вопрос)</a:t>
            </a:r>
            <a:r>
              <a:rPr b="0" i="1" lang="ru-RU" sz="1800" spc="-1" strike="noStrike">
                <a:solidFill>
                  <a:srgbClr val="ff3300"/>
                </a:solidFill>
                <a:latin typeface="Cambria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причастие"/>
          <p:cNvPicPr/>
          <p:nvPr/>
        </p:nvPicPr>
        <p:blipFill>
          <a:blip r:embed="rId1"/>
          <a:stretch/>
        </p:blipFill>
        <p:spPr>
          <a:xfrm>
            <a:off x="1071720" y="3929040"/>
            <a:ext cx="3168360" cy="19400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257" name="Picture 5" descr="Копия причастие"/>
          <p:cNvPicPr/>
          <p:nvPr/>
        </p:nvPicPr>
        <p:blipFill>
          <a:blip r:embed="rId2"/>
          <a:stretch/>
        </p:blipFill>
        <p:spPr>
          <a:xfrm>
            <a:off x="5357880" y="3929040"/>
            <a:ext cx="3024000" cy="200016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2"/>
          <p:cNvSpPr/>
          <p:nvPr/>
        </p:nvSpPr>
        <p:spPr>
          <a:xfrm>
            <a:off x="1785960" y="142920"/>
            <a:ext cx="59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ЗАПОМНИТЕ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785880" y="928800"/>
            <a:ext cx="578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Причастный оборот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a070c"/>
                </a:solidFill>
                <a:latin typeface="Times New Roman"/>
              </a:rPr>
              <a:t>это причастие с зависимыми слова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071720" y="392904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70c"/>
                </a:solidFill>
                <a:latin typeface="Times New Roman"/>
              </a:rPr>
              <a:t>Проверенное  учителем  </a:t>
            </a:r>
            <a:r>
              <a:rPr b="1" i="1" lang="ru-RU" sz="2800" spc="-1" strike="noStrike">
                <a:solidFill>
                  <a:srgbClr val="0a070c"/>
                </a:solidFill>
                <a:latin typeface="Times New Roman"/>
              </a:rPr>
              <a:t>упраж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ая соединительная линия 7"/>
          <p:cNvSpPr/>
          <p:nvPr/>
        </p:nvSpPr>
        <p:spPr>
          <a:xfrm flipV="1">
            <a:off x="5928480" y="3858840"/>
            <a:ext cx="1800" cy="2142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ая соединительная линия 9"/>
          <p:cNvSpPr/>
          <p:nvPr/>
        </p:nvSpPr>
        <p:spPr>
          <a:xfrm flipH="1" flipV="1">
            <a:off x="2643120" y="3857760"/>
            <a:ext cx="328608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Прямая со стрелкой 11"/>
          <p:cNvCxnSpPr/>
          <p:nvPr/>
        </p:nvCxnSpPr>
        <p:spPr>
          <a:xfrm flipH="1">
            <a:off x="2641320" y="3858840"/>
            <a:ext cx="2160" cy="2149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64" name="TextBox 13"/>
          <p:cNvSpPr/>
          <p:nvPr/>
        </p:nvSpPr>
        <p:spPr>
          <a:xfrm>
            <a:off x="3857760" y="34290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</a:rPr>
              <a:t>Какое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Прямая соединительная линия 15"/>
          <p:cNvSpPr/>
          <p:nvPr/>
        </p:nvSpPr>
        <p:spPr>
          <a:xfrm>
            <a:off x="1071720" y="3787920"/>
            <a:ext cx="0" cy="85536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ая соединительная линия 21"/>
          <p:cNvSpPr/>
          <p:nvPr/>
        </p:nvSpPr>
        <p:spPr>
          <a:xfrm flipH="1">
            <a:off x="5000760" y="3787920"/>
            <a:ext cx="1440" cy="7840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Полилиния 26"/>
          <p:cNvSpPr/>
          <p:nvPr/>
        </p:nvSpPr>
        <p:spPr>
          <a:xfrm>
            <a:off x="1185840" y="4433760"/>
            <a:ext cx="3648240" cy="192240"/>
          </a:xfrm>
          <a:prstGeom prst="pie">
            <a:avLst/>
          </a:pr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Прямая соединительная линия 28"/>
          <p:cNvSpPr/>
          <p:nvPr/>
        </p:nvSpPr>
        <p:spPr>
          <a:xfrm>
            <a:off x="2143080" y="4359240"/>
            <a:ext cx="0" cy="4986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Прямая соединительная линия 30"/>
          <p:cNvSpPr/>
          <p:nvPr/>
        </p:nvSpPr>
        <p:spPr>
          <a:xfrm>
            <a:off x="2143080" y="4857840"/>
            <a:ext cx="2286000" cy="1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Прямая со стрелкой 32"/>
          <p:cNvCxnSpPr/>
          <p:nvPr/>
        </p:nvCxnSpPr>
        <p:spPr>
          <a:xfrm flipV="1">
            <a:off x="4427640" y="4430520"/>
            <a:ext cx="2160" cy="4291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71" name="TextBox 34"/>
          <p:cNvSpPr/>
          <p:nvPr/>
        </p:nvSpPr>
        <p:spPr>
          <a:xfrm>
            <a:off x="1785960" y="3786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35"/>
          <p:cNvSpPr/>
          <p:nvPr/>
        </p:nvSpPr>
        <p:spPr>
          <a:xfrm>
            <a:off x="6215040" y="3786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36"/>
          <p:cNvSpPr/>
          <p:nvPr/>
        </p:nvSpPr>
        <p:spPr>
          <a:xfrm>
            <a:off x="1000080" y="542916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70c"/>
                </a:solidFill>
                <a:latin typeface="Times New Roman"/>
              </a:rPr>
              <a:t>Упражнение  ,   </a:t>
            </a:r>
            <a:r>
              <a:rPr b="1" lang="ru-RU" sz="2800" spc="-1" strike="noStrike">
                <a:solidFill>
                  <a:srgbClr val="0a070c"/>
                </a:solidFill>
                <a:latin typeface="Times New Roman"/>
              </a:rPr>
              <a:t>проверенное учителем  ,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37"/>
          <p:cNvSpPr/>
          <p:nvPr/>
        </p:nvSpPr>
        <p:spPr>
          <a:xfrm>
            <a:off x="1857240" y="5286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ая соединительная линия 39"/>
          <p:cNvSpPr/>
          <p:nvPr/>
        </p:nvSpPr>
        <p:spPr>
          <a:xfrm flipV="1">
            <a:off x="2426400" y="5285880"/>
            <a:ext cx="1800" cy="2876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ая соединительная линия 44"/>
          <p:cNvSpPr/>
          <p:nvPr/>
        </p:nvSpPr>
        <p:spPr>
          <a:xfrm>
            <a:off x="2428920" y="5286240"/>
            <a:ext cx="3000240" cy="18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Прямая со стрелкой 46"/>
          <p:cNvCxnSpPr/>
          <p:nvPr/>
        </p:nvCxnSpPr>
        <p:spPr>
          <a:xfrm flipH="1">
            <a:off x="5428440" y="5288040"/>
            <a:ext cx="2520" cy="2865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78" name="Прямая соединительная линия 48"/>
          <p:cNvSpPr/>
          <p:nvPr/>
        </p:nvSpPr>
        <p:spPr>
          <a:xfrm flipH="1">
            <a:off x="3499920" y="5429160"/>
            <a:ext cx="1800" cy="64296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ая соединительная линия 50"/>
          <p:cNvSpPr/>
          <p:nvPr/>
        </p:nvSpPr>
        <p:spPr>
          <a:xfrm flipH="1">
            <a:off x="7358040" y="5429160"/>
            <a:ext cx="1440" cy="5716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Полилиния 54"/>
          <p:cNvSpPr/>
          <p:nvPr/>
        </p:nvSpPr>
        <p:spPr>
          <a:xfrm>
            <a:off x="3714840" y="6000840"/>
            <a:ext cx="3462120" cy="153720"/>
          </a:xfrm>
          <a:prstGeom prst="pie">
            <a:avLst/>
          </a:pr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55"/>
          <p:cNvSpPr/>
          <p:nvPr/>
        </p:nvSpPr>
        <p:spPr>
          <a:xfrm>
            <a:off x="2928960" y="371484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.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56"/>
          <p:cNvSpPr/>
          <p:nvPr/>
        </p:nvSpPr>
        <p:spPr>
          <a:xfrm>
            <a:off x="5572080" y="5214960"/>
            <a:ext cx="7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.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Овал 57"/>
          <p:cNvSpPr/>
          <p:nvPr/>
        </p:nvSpPr>
        <p:spPr>
          <a:xfrm>
            <a:off x="3143160" y="5643720"/>
            <a:ext cx="357120" cy="28548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Овал 58"/>
          <p:cNvSpPr/>
          <p:nvPr/>
        </p:nvSpPr>
        <p:spPr>
          <a:xfrm>
            <a:off x="7358040" y="5643720"/>
            <a:ext cx="285840" cy="28548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59"/>
          <p:cNvSpPr/>
          <p:nvPr/>
        </p:nvSpPr>
        <p:spPr>
          <a:xfrm>
            <a:off x="2643120" y="4500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</a:rPr>
              <a:t>Кем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31"/>
          <p:cNvSpPr/>
          <p:nvPr/>
        </p:nvSpPr>
        <p:spPr>
          <a:xfrm>
            <a:off x="3715560" y="521496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</a:rPr>
              <a:t>Какое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Рисунок 4" descr="мальчик думает.gif"/>
          <p:cNvPicPr/>
          <p:nvPr/>
        </p:nvPicPr>
        <p:blipFill>
          <a:blip r:embed="rId1"/>
          <a:stretch/>
        </p:blipFill>
        <p:spPr>
          <a:xfrm>
            <a:off x="6858000" y="571680"/>
            <a:ext cx="1982880" cy="2357280"/>
          </a:xfrm>
          <a:prstGeom prst="rect">
            <a:avLst/>
          </a:prstGeom>
          <a:ln w="0">
            <a:noFill/>
          </a:ln>
        </p:spPr>
      </p:pic>
      <p:sp>
        <p:nvSpPr>
          <p:cNvPr id="288" name="TextBox 31"/>
          <p:cNvSpPr/>
          <p:nvPr/>
        </p:nvSpPr>
        <p:spPr>
          <a:xfrm>
            <a:off x="714240" y="2714760"/>
            <a:ext cx="65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f2936"/>
                </a:solidFill>
                <a:uFillTx/>
                <a:latin typeface="Times New Roman"/>
              </a:rPr>
              <a:t>Запишите пример предложений в тетради  и разбор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5712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колько зависимых слов в причаст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обороте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ловосочетании, где причастие является главным словом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f2936"/>
                </a:solidFill>
                <a:uFillTx/>
                <a:latin typeface="Times New Roman"/>
              </a:rPr>
              <a:t>может быть не одно, а два и более зависимых слова</a:t>
            </a: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. Увлекающийся музыкой </a:t>
            </a:r>
            <a:r>
              <a:rPr b="0" i="1" lang="ru-RU" sz="2800" spc="-1" strike="noStrike">
                <a:solidFill>
                  <a:srgbClr val="0033cc"/>
                </a:solidFill>
                <a:latin typeface="Times New Roman"/>
              </a:rPr>
              <a:t>(образец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4" descr="причастие3"/>
          <p:cNvPicPr/>
          <p:nvPr/>
        </p:nvPicPr>
        <p:blipFill>
          <a:blip r:embed="rId1"/>
          <a:stretch/>
        </p:blipFill>
        <p:spPr>
          <a:xfrm>
            <a:off x="714240" y="3214800"/>
            <a:ext cx="7500960" cy="7858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5"/>
          <p:cNvSpPr/>
          <p:nvPr/>
        </p:nvSpPr>
        <p:spPr>
          <a:xfrm>
            <a:off x="642960" y="5143680"/>
            <a:ext cx="492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Стелющийся над рек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Задержанный на улиц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2214720" y="4214880"/>
            <a:ext cx="485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Times New Roman"/>
              </a:rPr>
              <a:t>Предложения 2 и 3 сделайте самостоятельно по образц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56800" y="247320"/>
            <a:ext cx="8285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Запишите предложения!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71680" y="1285560"/>
            <a:ext cx="8570880" cy="514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a070c"/>
                </a:solidFill>
                <a:latin typeface="Cambria"/>
              </a:rPr>
              <a:t>За полем расположен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a070c"/>
                </a:solidFill>
                <a:latin typeface="Cambria"/>
              </a:rPr>
              <a:t> </a:t>
            </a:r>
            <a:r>
              <a:rPr b="0" lang="ru-RU" sz="3600" spc="-1" strike="noStrike">
                <a:solidFill>
                  <a:srgbClr val="0a070c"/>
                </a:solidFill>
                <a:latin typeface="Cambria"/>
              </a:rPr>
              <a:t>усадьба,  заросшая цветами</a:t>
            </a:r>
            <a:r>
              <a:rPr b="0" lang="en-US" sz="3600" spc="-1" strike="noStrike">
                <a:solidFill>
                  <a:srgbClr val="0a070c"/>
                </a:solidFill>
                <a:latin typeface="Cambria"/>
              </a:rPr>
              <a:t> </a:t>
            </a:r>
            <a:r>
              <a:rPr b="0" lang="ru-RU" sz="3600" spc="-1" strike="noStrike">
                <a:solidFill>
                  <a:srgbClr val="0a070c"/>
                </a:solidFill>
                <a:latin typeface="Cambria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a070c"/>
                </a:solidFill>
                <a:latin typeface="Cambria"/>
              </a:rPr>
              <a:t>Усадьба,  заросшая цветами</a:t>
            </a:r>
            <a:r>
              <a:rPr b="0" lang="en-US" sz="3600" spc="-1" strike="noStrike">
                <a:solidFill>
                  <a:srgbClr val="0a070c"/>
                </a:solidFill>
                <a:latin typeface="Cambria"/>
              </a:rPr>
              <a:t> </a:t>
            </a:r>
            <a:r>
              <a:rPr b="0" lang="ru-RU" sz="3600" spc="-1" strike="noStrike">
                <a:solidFill>
                  <a:srgbClr val="0a070c"/>
                </a:solidFill>
                <a:latin typeface="Cambria"/>
              </a:rPr>
              <a:t> , расположена за поле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a070c"/>
                </a:solidFill>
                <a:latin typeface="Cambria"/>
              </a:rPr>
              <a:t>За полем расположен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a070c"/>
                </a:solidFill>
                <a:latin typeface="Cambria"/>
              </a:rPr>
              <a:t> </a:t>
            </a:r>
            <a:r>
              <a:rPr b="0" lang="ru-RU" sz="3600" spc="-1" strike="noStrike">
                <a:solidFill>
                  <a:srgbClr val="0a070c"/>
                </a:solidFill>
                <a:latin typeface="Cambria"/>
              </a:rPr>
              <a:t>заросшая цветами  усадьб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Box 6"/>
          <p:cNvSpPr/>
          <p:nvPr/>
        </p:nvSpPr>
        <p:spPr>
          <a:xfrm>
            <a:off x="2145960" y="1785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Выгнутая вправо стрелка 7"/>
          <p:cNvSpPr/>
          <p:nvPr/>
        </p:nvSpPr>
        <p:spPr>
          <a:xfrm rot="16200000">
            <a:off x="4032360" y="1039680"/>
            <a:ext cx="288720" cy="2067120"/>
          </a:xfrm>
          <a:custGeom>
            <a:avLst/>
            <a:gdLst>
              <a:gd name="textAreaLeft" fmla="*/ 38520 w 288720"/>
              <a:gd name="textAreaRight" fmla="*/ 250200 w 288720"/>
              <a:gd name="textAreaTop" fmla="*/ 489600 h 2067120"/>
              <a:gd name="textAreaBottom" fmla="*/ 1541520 h 206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235" stAng="-5400000" swAng="5400000"/>
                <a:lnTo>
                  <a:pt x="21600" y="10989"/>
                </a:lnTo>
                <a:arcTo wR="21600" hR="10235" stAng="0" swAng="3684830"/>
                <a:lnTo>
                  <a:pt x="5400" y="21275"/>
                </a:lnTo>
                <a:lnTo>
                  <a:pt x="0" y="20847"/>
                </a:lnTo>
                <a:lnTo>
                  <a:pt x="5400" y="19769"/>
                </a:lnTo>
                <a:lnTo>
                  <a:pt x="5400" y="20145"/>
                </a:lnTo>
                <a:arcTo wR="21600" hR="10235" stAng="3684830" swAng="-3624794"/>
                <a:lnTo>
                  <a:pt x="21585" y="10612"/>
                </a:lnTo>
                <a:arcTo wR="21600" hR="10235" stAng="-60036" swAng="-5339964"/>
                <a:close/>
              </a:path>
              <a:path fill="darkenLess" w="21600" h="21600">
                <a:moveTo>
                  <a:pt x="0" y="0"/>
                </a:moveTo>
                <a:arcTo wR="21600" hR="10235" stAng="-5400000" swAng="5400000"/>
                <a:lnTo>
                  <a:pt x="21600" y="10989"/>
                </a:lnTo>
                <a:arcTo wR="21600" hR="10235" stAng="0" swAng="-60036"/>
                <a:lnTo>
                  <a:pt x="21585" y="10612"/>
                </a:lnTo>
                <a:arcTo wR="21600" hR="10235" stAng="-60036" swAng="-533996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8"/>
          <p:cNvSpPr/>
          <p:nvPr/>
        </p:nvSpPr>
        <p:spPr>
          <a:xfrm>
            <a:off x="1928880" y="30718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Выгнутая вправо стрелка 9"/>
          <p:cNvSpPr/>
          <p:nvPr/>
        </p:nvSpPr>
        <p:spPr>
          <a:xfrm rot="16200000">
            <a:off x="3967920" y="2175480"/>
            <a:ext cx="258840" cy="2050920"/>
          </a:xfrm>
          <a:custGeom>
            <a:avLst/>
            <a:gdLst>
              <a:gd name="textAreaLeft" fmla="*/ 34560 w 258840"/>
              <a:gd name="textAreaRight" fmla="*/ 224280 w 258840"/>
              <a:gd name="textAreaTop" fmla="*/ 488520 h 2050920"/>
              <a:gd name="textAreaBottom" fmla="*/ 153036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291" stAng="-5400000" swAng="5400000"/>
                <a:lnTo>
                  <a:pt x="21600" y="10970"/>
                </a:lnTo>
                <a:arcTo wR="21600" hR="10291" stAng="0" swAng="3692630"/>
                <a:lnTo>
                  <a:pt x="5400" y="21273"/>
                </a:lnTo>
                <a:lnTo>
                  <a:pt x="0" y="20921"/>
                </a:lnTo>
                <a:lnTo>
                  <a:pt x="5400" y="19914"/>
                </a:lnTo>
                <a:lnTo>
                  <a:pt x="5400" y="20254"/>
                </a:lnTo>
                <a:arcTo wR="21600" hR="10291" stAng="3692630" swAng="-3638572"/>
                <a:lnTo>
                  <a:pt x="21588" y="10630"/>
                </a:lnTo>
                <a:arcTo wR="21600" hR="10291" stAng="-54058" swAng="-5345942"/>
                <a:close/>
              </a:path>
              <a:path fill="darkenLess" w="21600" h="21600">
                <a:moveTo>
                  <a:pt x="0" y="0"/>
                </a:moveTo>
                <a:arcTo wR="21600" hR="10291" stAng="-5400000" swAng="5400000"/>
                <a:lnTo>
                  <a:pt x="21600" y="10970"/>
                </a:lnTo>
                <a:arcTo wR="21600" hR="10291" stAng="0" swAng="-54058"/>
                <a:lnTo>
                  <a:pt x="21588" y="10630"/>
                </a:lnTo>
                <a:arcTo wR="21600" hR="10291" stAng="-54058" swAng="-5345942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Box 10"/>
          <p:cNvSpPr/>
          <p:nvPr/>
        </p:nvSpPr>
        <p:spPr>
          <a:xfrm>
            <a:off x="6217920" y="4643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Выгнутая влево стрелка 11"/>
          <p:cNvSpPr/>
          <p:nvPr/>
        </p:nvSpPr>
        <p:spPr>
          <a:xfrm rot="5400000">
            <a:off x="4082760" y="3489480"/>
            <a:ext cx="142920" cy="2879640"/>
          </a:xfrm>
          <a:custGeom>
            <a:avLst/>
            <a:gdLst>
              <a:gd name="textAreaLeft" fmla="*/ 19080 w 142920"/>
              <a:gd name="textAreaRight" fmla="*/ 123840 w 142920"/>
              <a:gd name="textAreaTop" fmla="*/ 706320 h 2879640"/>
              <a:gd name="textAreaBottom" fmla="*/ 215532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599" stAng="-5400000" swAng="-5400000"/>
                <a:lnTo>
                  <a:pt x="0" y="10868"/>
                </a:lnTo>
                <a:arcTo wR="21600" hR="10599" stAng="10800000" swAng="-3734757"/>
                <a:lnTo>
                  <a:pt x="16200" y="21263"/>
                </a:lnTo>
                <a:lnTo>
                  <a:pt x="21600" y="21332"/>
                </a:lnTo>
                <a:lnTo>
                  <a:pt x="16200" y="20726"/>
                </a:lnTo>
                <a:lnTo>
                  <a:pt x="16200" y="20860"/>
                </a:lnTo>
                <a:arcTo wR="21600" hR="10599" stAng="7065243" swAng="3713350"/>
                <a:lnTo>
                  <a:pt x="2" y="10733"/>
                </a:lnTo>
                <a:arcTo wR="21600" hR="10599" stAng="-10778592" swAng="5378592"/>
                <a:close/>
              </a:path>
              <a:path fill="darkenLess" w="21600" h="21600">
                <a:moveTo>
                  <a:pt x="21600" y="0"/>
                </a:moveTo>
                <a:arcTo wR="21600" hR="10599" stAng="-5400000" swAng="-5400000"/>
                <a:lnTo>
                  <a:pt x="0" y="10599"/>
                </a:lnTo>
                <a:arcTo wR="21600" hR="10599" stAng="10800000" swAng="-21408"/>
                <a:lnTo>
                  <a:pt x="2" y="10733"/>
                </a:lnTo>
                <a:arcTo wR="21600" hR="10599" stAng="-10778592" swAng="5378592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инус 15"/>
          <p:cNvSpPr/>
          <p:nvPr/>
        </p:nvSpPr>
        <p:spPr>
          <a:xfrm rot="5400000">
            <a:off x="2500200" y="2142720"/>
            <a:ext cx="500040" cy="2145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инус 16"/>
          <p:cNvSpPr/>
          <p:nvPr/>
        </p:nvSpPr>
        <p:spPr>
          <a:xfrm rot="5400000">
            <a:off x="6535800" y="2178720"/>
            <a:ext cx="571680" cy="214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инус 17"/>
          <p:cNvSpPr/>
          <p:nvPr/>
        </p:nvSpPr>
        <p:spPr>
          <a:xfrm rot="5400000">
            <a:off x="2535840" y="3393360"/>
            <a:ext cx="571320" cy="214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инус 19"/>
          <p:cNvSpPr/>
          <p:nvPr/>
        </p:nvSpPr>
        <p:spPr>
          <a:xfrm rot="5400000">
            <a:off x="4571640" y="5072040"/>
            <a:ext cx="500040" cy="214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инус 20"/>
          <p:cNvSpPr/>
          <p:nvPr/>
        </p:nvSpPr>
        <p:spPr>
          <a:xfrm rot="5400000">
            <a:off x="392400" y="5107680"/>
            <a:ext cx="642960" cy="1429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инус 21"/>
          <p:cNvSpPr/>
          <p:nvPr/>
        </p:nvSpPr>
        <p:spPr>
          <a:xfrm rot="5400000">
            <a:off x="6571800" y="3286080"/>
            <a:ext cx="642960" cy="214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22"/>
          <p:cNvSpPr/>
          <p:nvPr/>
        </p:nvSpPr>
        <p:spPr>
          <a:xfrm>
            <a:off x="5861520" y="164304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.о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23"/>
          <p:cNvSpPr/>
          <p:nvPr/>
        </p:nvSpPr>
        <p:spPr>
          <a:xfrm>
            <a:off x="5933520" y="285768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.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24"/>
          <p:cNvSpPr/>
          <p:nvPr/>
        </p:nvSpPr>
        <p:spPr>
          <a:xfrm>
            <a:off x="1643040" y="4572000"/>
            <a:ext cx="11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.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олилиния 38"/>
          <p:cNvSpPr/>
          <p:nvPr/>
        </p:nvSpPr>
        <p:spPr>
          <a:xfrm>
            <a:off x="2714760" y="2500200"/>
            <a:ext cx="4000320" cy="2145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Полилиния 40"/>
          <p:cNvSpPr/>
          <p:nvPr/>
        </p:nvSpPr>
        <p:spPr>
          <a:xfrm>
            <a:off x="2928960" y="3714840"/>
            <a:ext cx="3929040" cy="1429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Полилиния 41"/>
          <p:cNvSpPr/>
          <p:nvPr/>
        </p:nvSpPr>
        <p:spPr>
          <a:xfrm>
            <a:off x="714240" y="5429160"/>
            <a:ext cx="4214880" cy="357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22"/>
          <p:cNvSpPr/>
          <p:nvPr/>
        </p:nvSpPr>
        <p:spPr>
          <a:xfrm>
            <a:off x="3858120" y="164304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ак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23"/>
          <p:cNvSpPr/>
          <p:nvPr/>
        </p:nvSpPr>
        <p:spPr>
          <a:xfrm>
            <a:off x="3645720" y="271476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ака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24"/>
          <p:cNvSpPr/>
          <p:nvPr/>
        </p:nvSpPr>
        <p:spPr>
          <a:xfrm>
            <a:off x="4788720" y="457200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ака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8:33:01Z</dcterms:created>
  <dc:creator>жилин олег юрьевич</dc:creator>
  <dc:description/>
  <dc:language>en-US</dc:language>
  <cp:lastModifiedBy>admin</cp:lastModifiedBy>
  <dcterms:modified xsi:type="dcterms:W3CDTF">2020-11-17T03:42:42Z</dcterms:modified>
  <cp:revision>81</cp:revision>
  <dc:subject/>
  <dc:title>Слайд 1</dc:title>
</cp:coreProperties>
</file>