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wmf" ContentType="image/x-wmf"/>
  <Override PartName="/ppt/media/image5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8B44-60F2-4F58-97F8-7313E515A5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DB0-80FF-4C50-A474-B1D7297371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6F1-E4F2-4CF5-8CB8-1E4632A7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08E-D2A8-4AA9-A432-3808571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D16-BCDB-4898-BE12-B3E450F5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DB1-1A66-4E74-B193-E5F110E1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CE00-8D16-49F0-BE7A-3F99FED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FA63-D7DF-41AB-83A6-62AC42DC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248-F40B-4CA1-A66E-47D9FD3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81D-CA80-4136-860D-877D2396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3969-8FF0-4D5C-AAE3-50293C5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D1C9-15CF-4C69-8A4E-E6C18780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3EDF-C032-41A6-8AC9-5414868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625-F404-4893-907D-FF72FD45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0CED-CA18-48F6-B514-C6257095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43A8-ACEE-427A-908A-8718DAC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874-C251-48B6-AC48-9D0D5ED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20FB-D50A-4411-94EB-7D7EB1AF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352A-AF0A-47CA-BC2A-72DA270E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B88B-4560-4E84-A8DA-DD23F1D9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56F4-C6DC-4CF3-926A-88F2926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951C-5CB8-4C19-B8DF-BE85ED95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80814-CB6C-4322-8083-6EA331A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3991-0132-4AF2-94F0-DBA7EEDB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B39-D5C8-430A-9DD8-7B02936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5E98-C489-45AC-B337-D797EE67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91BD-11BC-4405-A6D6-60DD5B2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92DF-9889-4DF6-8A9C-7C91B9A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3F22-EE02-4D75-8E66-1964F4F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EB45-DDD8-4113-A0B5-001C266A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EB5A8-EA84-4EB9-9BC4-17A8E46A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2037-23CC-4A54-984A-F4D20F36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D763-EA2D-49FE-9DEC-9B785839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297C-D513-4B7B-BE18-AE30C04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0BFCF-A336-412E-941E-1887C79E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1CF-39C0-489A-8486-BB183E6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EA4C-8376-4C28-9981-76DB8F3E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22EF-D5C5-4C06-B86C-00FD5CE1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E35F-4E0A-496D-AD77-4542CB04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5636-70A4-488B-AEC7-8CD09FB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CE35-8E56-4A50-8941-0890CBE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7FCC-AC2B-4B45-824D-7B5F462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E521C-6E8B-4B43-B854-14D6BC16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0E12-4E2C-4C7B-B71C-7B5FE4F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BA06-1069-41B7-92C8-731DD15B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B0DB-E033-4AF1-9B61-234CE3DA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9A7-6CD6-4445-8132-6DDE87B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7A9B-5FA5-4A11-9F70-55F6FE5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B4B86-040F-4E1F-878F-472A321E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89C4F-CCBD-429E-BBF0-11AC37C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D8703-4603-410C-82D6-ACAAD20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91755-A658-428C-8540-6AABBD2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D3820-29F1-410B-AC18-2297787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3BD0-9A99-4562-A6DB-177B88EF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97A3F-3959-41F3-8C5D-BC1DF430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C0F5F-4157-479D-A167-A9027E4B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3186-4B58-4050-BF95-D0336047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379-EB81-4FC3-9D41-EAA90992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8A28-8EB4-437C-B77E-68DBD970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A240-C135-4FAB-91F8-D38DECCE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445E-4743-487A-A844-AB25A74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620-E062-48A3-933D-793CA39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6F8-D165-49E3-AA15-7386C914446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EE8D-A474-40E6-A205-CFDB34C0EF1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3CA2-F9D1-441C-903A-1876F9CAC6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7B5-CB0D-40D2-897B-F67D52AA285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B10-1ACD-4506-9111-E237E3C8D0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785880" y="57168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лыванская средняя школа № 1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71720" y="157176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частный оборо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деление причастного оборота запят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в 7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D:\Классный_руководитель\9 класс\9 - 1 сентября (№1)\№ (188) копия.jpg"/>
          <p:cNvPicPr/>
          <p:nvPr/>
        </p:nvPicPr>
        <p:blipFill>
          <a:blip r:embed="rId1"/>
          <a:stretch/>
        </p:blipFill>
        <p:spPr>
          <a:xfrm>
            <a:off x="500040" y="2786040"/>
            <a:ext cx="2467080" cy="350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Файл:Умная сова.png — Vladimir"/>
          <p:cNvPicPr/>
          <p:nvPr/>
        </p:nvPicPr>
        <p:blipFill>
          <a:blip r:embed="rId2"/>
          <a:stretch/>
        </p:blipFill>
        <p:spPr>
          <a:xfrm>
            <a:off x="4929120" y="2857680"/>
            <a:ext cx="3500640" cy="34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900" spc="-1" strike="noStrike">
                <a:solidFill>
                  <a:srgbClr val="ff0000"/>
                </a:solidFill>
                <a:latin typeface="Cambria"/>
              </a:rPr>
              <a:t>Алгоритм нахождения причастного оборота в предложении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1120" y="2642760"/>
            <a:ext cx="8642520" cy="3148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Снег,  лежавший на деревьях 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4400" spc="-1" strike="noStrike">
                <a:solidFill>
                  <a:srgbClr val="0a070c"/>
                </a:solidFill>
                <a:latin typeface="Cambria"/>
              </a:rPr>
              <a:t>крышах  , растаял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932400" y="235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Выгнутая вверх стрелка 4"/>
          <p:cNvSpPr/>
          <p:nvPr/>
        </p:nvSpPr>
        <p:spPr>
          <a:xfrm>
            <a:off x="1428840" y="2428920"/>
            <a:ext cx="3929040" cy="428760"/>
          </a:xfrm>
          <a:custGeom>
            <a:avLst/>
            <a:gdLst>
              <a:gd name="textAreaLeft" fmla="*/ 942120 w 3929040"/>
              <a:gd name="textAreaRight" fmla="*/ 2933640 w 392904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8" hR="21600" stAng="10800000" swAng="5400000"/>
                <a:lnTo>
                  <a:pt x="10948" y="0"/>
                </a:lnTo>
                <a:arcTo wR="10358" hR="21600" stAng="-5400000" swAng="3702029"/>
                <a:lnTo>
                  <a:pt x="21271" y="16200"/>
                </a:lnTo>
                <a:lnTo>
                  <a:pt x="21011" y="21600"/>
                </a:lnTo>
                <a:lnTo>
                  <a:pt x="20093" y="16200"/>
                </a:lnTo>
                <a:lnTo>
                  <a:pt x="20387" y="16200"/>
                </a:lnTo>
                <a:arcTo wR="10358" hR="21600" stAng="-1697971" swAng="-3655062"/>
                <a:lnTo>
                  <a:pt x="10653" y="9"/>
                </a:lnTo>
                <a:arcTo wR="10358" hR="21600" stAng="-5446967" swAng="-5353033"/>
                <a:close/>
              </a:path>
              <a:path fill="darkenLess" w="21600" h="21600">
                <a:moveTo>
                  <a:pt x="0" y="21600"/>
                </a:moveTo>
                <a:arcTo wR="10358" hR="21600" stAng="10800000" swAng="5400000"/>
                <a:lnTo>
                  <a:pt x="10358" y="0"/>
                </a:lnTo>
                <a:arcTo wR="10358" hR="21600" stAng="-5400000" swAng="46967"/>
                <a:lnTo>
                  <a:pt x="10653" y="9"/>
                </a:lnTo>
                <a:arcTo wR="10358" hR="21600" stAng="-5446967" swAng="-535303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2860200" y="192888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инус 6"/>
          <p:cNvSpPr/>
          <p:nvPr/>
        </p:nvSpPr>
        <p:spPr>
          <a:xfrm rot="5400000">
            <a:off x="1714680" y="3000240"/>
            <a:ext cx="71424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инус 7"/>
          <p:cNvSpPr/>
          <p:nvPr/>
        </p:nvSpPr>
        <p:spPr>
          <a:xfrm rot="5400000">
            <a:off x="2678400" y="3821760"/>
            <a:ext cx="57168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олилиния 9"/>
          <p:cNvSpPr/>
          <p:nvPr/>
        </p:nvSpPr>
        <p:spPr>
          <a:xfrm>
            <a:off x="2189160" y="3282840"/>
            <a:ext cx="6811920" cy="146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Полилиния 10"/>
          <p:cNvSpPr/>
          <p:nvPr/>
        </p:nvSpPr>
        <p:spPr>
          <a:xfrm>
            <a:off x="785880" y="4214880"/>
            <a:ext cx="2189160" cy="117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6577560" y="242892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Овал 12"/>
          <p:cNvSpPr/>
          <p:nvPr/>
        </p:nvSpPr>
        <p:spPr>
          <a:xfrm>
            <a:off x="3000240" y="3786120"/>
            <a:ext cx="42876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Овал 15"/>
          <p:cNvSpPr/>
          <p:nvPr/>
        </p:nvSpPr>
        <p:spPr>
          <a:xfrm>
            <a:off x="1714680" y="3071880"/>
            <a:ext cx="4284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56800" y="1356840"/>
            <a:ext cx="8286840" cy="30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Чтобы правильно выделить причастный оборот, над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1.Найти в предложении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причастие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 ( и подписать над ним </a:t>
            </a:r>
            <a:r>
              <a:rPr b="0" i="1" lang="ru-RU" sz="2000" spc="-1" strike="noStrike">
                <a:solidFill>
                  <a:srgbClr val="0a070c"/>
                </a:solidFill>
                <a:latin typeface="Cambria"/>
              </a:rPr>
              <a:t>: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прич.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2. Найти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главное ( определяемое) слово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, от которого к причастию задается вопрос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КАКОЙ? 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(и поставить над ним крестик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3. Найти все </a:t>
            </a:r>
            <a:r>
              <a:rPr b="0" lang="ru-RU" sz="2000" spc="-1" strike="noStrike" u="sng">
                <a:solidFill>
                  <a:srgbClr val="0a070c"/>
                </a:solidFill>
                <a:uFillTx/>
                <a:latin typeface="Cambria"/>
              </a:rPr>
              <a:t>слова, которые зависят от причастия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 ( если они есть), задавая к ни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вопрос от причас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4.  Подчеркнуть их вместе с причастием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волнистой линией </a:t>
            </a: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и отгородить от остальных слов вертикальными черточками с двух сторон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a070c"/>
                </a:solidFill>
                <a:latin typeface="Cambria"/>
              </a:rPr>
              <a:t>5. Если причастный оборот стоит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ПОСЛЕ ОПРЕДЕЛЯЕМОГО СЛОВА, выделить его ЗАПЯТ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mbria"/>
              </a:rPr>
              <a:t>Образец:  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нег,  лежавший на деревьях и крышах  , растая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Минус 3"/>
          <p:cNvSpPr/>
          <p:nvPr/>
        </p:nvSpPr>
        <p:spPr>
          <a:xfrm rot="5400000">
            <a:off x="2678400" y="4964760"/>
            <a:ext cx="42840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инус 5"/>
          <p:cNvSpPr/>
          <p:nvPr/>
        </p:nvSpPr>
        <p:spPr>
          <a:xfrm rot="5400000">
            <a:off x="7393320" y="4964760"/>
            <a:ext cx="42840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2217240" y="4786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Выгнутая вправо стрелка 7"/>
          <p:cNvSpPr/>
          <p:nvPr/>
        </p:nvSpPr>
        <p:spPr>
          <a:xfrm rot="16200000">
            <a:off x="3876120" y="3339360"/>
            <a:ext cx="320400" cy="2643120"/>
          </a:xfrm>
          <a:custGeom>
            <a:avLst/>
            <a:gdLst>
              <a:gd name="textAreaLeft" fmla="*/ 42840 w 320400"/>
              <a:gd name="textAreaRight" fmla="*/ 277560 w 320400"/>
              <a:gd name="textAreaTop" fmla="*/ 630720 h 2643120"/>
              <a:gd name="textAreaBottom" fmla="*/ 197244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08" stAng="-5400000" swAng="5400000"/>
                <a:lnTo>
                  <a:pt x="21600" y="10965"/>
                </a:lnTo>
                <a:arcTo wR="21600" hR="10308" stAng="0" swAng="3695006"/>
                <a:lnTo>
                  <a:pt x="5400" y="21273"/>
                </a:lnTo>
                <a:lnTo>
                  <a:pt x="0" y="20944"/>
                </a:lnTo>
                <a:lnTo>
                  <a:pt x="5400" y="19960"/>
                </a:lnTo>
                <a:lnTo>
                  <a:pt x="5400" y="20288"/>
                </a:lnTo>
                <a:arcTo wR="21600" hR="10308" stAng="3695006" swAng="-3642701"/>
                <a:lnTo>
                  <a:pt x="21589" y="10636"/>
                </a:lnTo>
                <a:arcTo wR="21600" hR="10308" stAng="-52305" swAng="-5347695"/>
                <a:close/>
              </a:path>
              <a:path fill="darkenLess" w="21600" h="21600">
                <a:moveTo>
                  <a:pt x="0" y="0"/>
                </a:moveTo>
                <a:arcTo wR="21600" hR="10308" stAng="-5400000" swAng="5400000"/>
                <a:lnTo>
                  <a:pt x="21600" y="10965"/>
                </a:lnTo>
                <a:arcTo wR="21600" hR="10308" stAng="0" swAng="-52305"/>
                <a:lnTo>
                  <a:pt x="21589" y="10636"/>
                </a:lnTo>
                <a:arcTo wR="21600" hR="10308" stAng="-52305" swAng="-534769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Полилиния 8"/>
          <p:cNvSpPr/>
          <p:nvPr/>
        </p:nvSpPr>
        <p:spPr>
          <a:xfrm>
            <a:off x="2714760" y="5357880"/>
            <a:ext cx="5000400" cy="285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3215160" y="471492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5646600" y="450072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1214280" y="57168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горитм нахождения причастного оборота в предлож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6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8" descr="Гимнастика для глаз | «Вологодский Многопрофильный Лицей»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857160" y="78588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Работа с учебник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. 48 упражнение 9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исать первые три предложения, расставить знаки препинания. Графически выдели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. 49 упражнение 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исать первые три предложения, расставить пропущенные знаки препинания, указать причастный оборот графичес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Рефлексия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13880" y="1500120"/>
            <a:ext cx="7643880" cy="429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смыслили,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что такое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Усвоили,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как выделяется на письме 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учились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аходить и выделя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ircl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цените свои результаты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85880" y="2356920"/>
            <a:ext cx="7286400" cy="3434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А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задания были мне понятны, я легко справил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Б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некоторая помощь товарищей мне бы не повреди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«В» </a:t>
            </a: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– я старался, но большинство заданий были для меня слож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Запишите на полях букву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Презентация на тему: &quot;Таблица умножения и деления с числом 8&quot; - математика,  презентации"/>
          <p:cNvPicPr/>
          <p:nvPr/>
        </p:nvPicPr>
        <p:blipFill>
          <a:blip r:embed="rId1"/>
          <a:stretch/>
        </p:blipFill>
        <p:spPr>
          <a:xfrm>
            <a:off x="285840" y="268200"/>
            <a:ext cx="857232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 u="sng">
                <a:solidFill>
                  <a:srgbClr val="ff0000"/>
                </a:solidFill>
                <a:uFillTx/>
                <a:latin typeface="Verdana"/>
              </a:rPr>
              <a:t>Цель урока: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71600" y="1143000"/>
            <a:ext cx="684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Осмысли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что такое причастный оборот, как употребляются</a:t>
            </a:r>
            <a:r>
              <a:rPr b="0" lang="en-US" sz="28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предложения с причастным оборотом в ре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Усвоить,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070c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как выделяется на письме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mbria"/>
              </a:rPr>
              <a:t>Научиться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    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аходить и выделять причастный оборо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J0301252"/>
          <p:cNvPicPr/>
          <p:nvPr/>
        </p:nvPicPr>
        <p:blipFill>
          <a:blip r:embed="rId2"/>
          <a:stretch/>
        </p:blipFill>
        <p:spPr>
          <a:xfrm>
            <a:off x="428760" y="4071960"/>
            <a:ext cx="2714400" cy="244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1285920" y="571680"/>
            <a:ext cx="700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исываем в тетради чис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емнадцатое нояб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9"/>
          <p:cNvPicPr/>
          <p:nvPr/>
        </p:nvPicPr>
        <p:blipFill>
          <a:blip r:embed="rId3"/>
          <a:stretch/>
        </p:blipFill>
        <p:spPr>
          <a:xfrm>
            <a:off x="7429680" y="571680"/>
            <a:ext cx="1089000" cy="10522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5"/>
          <p:cNvSpPr/>
          <p:nvPr/>
        </p:nvSpPr>
        <p:spPr>
          <a:xfrm>
            <a:off x="785880" y="164304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a070c"/>
                </a:solidFill>
                <a:uFillTx/>
                <a:latin typeface="Times New Roman"/>
                <a:ea typeface="Times New Roman"/>
              </a:rPr>
              <a:t>Запишите словосочет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a070c"/>
                </a:solidFill>
                <a:uFillTx/>
                <a:latin typeface="Times New Roman"/>
                <a:ea typeface="Times New Roman"/>
              </a:rPr>
              <a:t>вставляя пропущенные бу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a070c"/>
                </a:solidFill>
                <a:latin typeface="Times New Roman"/>
                <a:ea typeface="Times New Roman"/>
              </a:rPr>
              <a:t>От движущ..ся коло..ы, спускающ..ся г..рляндами, отр..зивш..ся в озере луна, к отворивш..ся к..литке, осыпающ..ся листьями, соб..рающ..ся в ста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Verdana"/>
              </a:rPr>
              <a:t>Проверка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5880" y="1285560"/>
            <a:ext cx="7572240" cy="4505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От движу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ей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коло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нн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ы, спуск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е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г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рляндами, от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зив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я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в озере луна, к отворивш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ей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к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а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литке, осып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м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листьями, соб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рающ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ие</a:t>
            </a:r>
            <a:r>
              <a:rPr b="0" lang="ru-RU" sz="2400" spc="-1" strike="noStrike">
                <a:solidFill>
                  <a:srgbClr val="0a070c"/>
                </a:solidFill>
                <a:latin typeface="Cambria"/>
              </a:rPr>
              <a:t>ся в ста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5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нет ошиб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4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2 ошиб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3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3-5 ошиб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«2»-</a:t>
            </a:r>
            <a:r>
              <a:rPr b="0" lang="ru-RU" sz="2800" spc="-1" strike="noStrike">
                <a:solidFill>
                  <a:srgbClr val="0a070c"/>
                </a:solidFill>
                <a:latin typeface="Cambria"/>
              </a:rPr>
              <a:t>5 ошибок и бол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Cambria"/>
              </a:rPr>
              <a:t>Сравните!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642680"/>
            <a:ext cx="5143680" cy="4505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От движущейся колонн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К отворившейся калитк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7480" y="1643040"/>
            <a:ext cx="4071960" cy="404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Отразившаяся в озе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a070c"/>
                </a:solidFill>
                <a:latin typeface="Cambria"/>
              </a:rPr>
              <a:t>Собирающиеся в ста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11"/>
          <p:cNvSpPr/>
          <p:nvPr/>
        </p:nvSpPr>
        <p:spPr>
          <a:xfrm>
            <a:off x="5071320" y="1143000"/>
            <a:ext cx="71640" cy="47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4003920" y="114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Выгнутая влево стрелка 27"/>
          <p:cNvSpPr/>
          <p:nvPr/>
        </p:nvSpPr>
        <p:spPr>
          <a:xfrm rot="5400000">
            <a:off x="2464920" y="320400"/>
            <a:ext cx="471600" cy="2259000"/>
          </a:xfrm>
          <a:custGeom>
            <a:avLst/>
            <a:gdLst>
              <a:gd name="textAreaLeft" fmla="*/ 63000 w 471600"/>
              <a:gd name="textAreaRight" fmla="*/ 408600 w 471600"/>
              <a:gd name="textAreaTop" fmla="*/ 520560 h 2259000"/>
              <a:gd name="textAreaBottom" fmla="*/ 1679760 h 225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54" stAng="-5400000" swAng="-5400000"/>
                <a:lnTo>
                  <a:pt x="0" y="11082"/>
                </a:lnTo>
                <a:arcTo wR="21600" hR="9954" stAng="10800000" swAng="-3644320"/>
                <a:lnTo>
                  <a:pt x="16200" y="21284"/>
                </a:lnTo>
                <a:lnTo>
                  <a:pt x="21600" y="20472"/>
                </a:lnTo>
                <a:lnTo>
                  <a:pt x="16200" y="19028"/>
                </a:lnTo>
                <a:lnTo>
                  <a:pt x="16200" y="19592"/>
                </a:lnTo>
                <a:arcTo wR="21600" hR="9954" stAng="7155680" swAng="3554432"/>
                <a:lnTo>
                  <a:pt x="35" y="10518"/>
                </a:lnTo>
                <a:arcTo wR="21600" hR="9954" stAng="-10710113" swAng="5310113"/>
                <a:close/>
              </a:path>
              <a:path fill="darkenLess" w="21600" h="21600">
                <a:moveTo>
                  <a:pt x="21600" y="0"/>
                </a:moveTo>
                <a:arcTo wR="21600" hR="9954" stAng="-5400000" swAng="-5400000"/>
                <a:lnTo>
                  <a:pt x="0" y="9954"/>
                </a:lnTo>
                <a:arcTo wR="21600" hR="9954" stAng="10800000" swAng="-89887"/>
                <a:lnTo>
                  <a:pt x="35" y="10518"/>
                </a:lnTo>
                <a:arcTo wR="21600" hR="9954" stAng="-10710113" swAng="5310113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6004080" y="27147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29"/>
          <p:cNvSpPr/>
          <p:nvPr/>
        </p:nvSpPr>
        <p:spPr>
          <a:xfrm>
            <a:off x="4146480" y="2786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30"/>
          <p:cNvSpPr/>
          <p:nvPr/>
        </p:nvSpPr>
        <p:spPr>
          <a:xfrm>
            <a:off x="5861160" y="1285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Выгнутая влево стрелка 31"/>
          <p:cNvSpPr/>
          <p:nvPr/>
        </p:nvSpPr>
        <p:spPr>
          <a:xfrm rot="5400000">
            <a:off x="2643120" y="2000160"/>
            <a:ext cx="428760" cy="2286000"/>
          </a:xfrm>
          <a:custGeom>
            <a:avLst/>
            <a:gdLst>
              <a:gd name="textAreaLeft" fmla="*/ 57240 w 428760"/>
              <a:gd name="textAreaRight" fmla="*/ 371520 w 428760"/>
              <a:gd name="textAreaTop" fmla="*/ 531360 h 2286000"/>
              <a:gd name="textAreaBottom" fmla="*/ 170136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41" stAng="-5400000" swAng="-5400000"/>
                <a:lnTo>
                  <a:pt x="0" y="11054"/>
                </a:lnTo>
                <a:arcTo wR="21600" hR="10041" stAng="10800000" swAng="-3656975"/>
                <a:lnTo>
                  <a:pt x="16200" y="21281"/>
                </a:lnTo>
                <a:lnTo>
                  <a:pt x="21600" y="20588"/>
                </a:lnTo>
                <a:lnTo>
                  <a:pt x="16200" y="19256"/>
                </a:lnTo>
                <a:lnTo>
                  <a:pt x="16200" y="19762"/>
                </a:lnTo>
                <a:arcTo wR="21600" hR="10041" stAng="7143025" swAng="3576275"/>
                <a:lnTo>
                  <a:pt x="28" y="10547"/>
                </a:lnTo>
                <a:arcTo wR="21600" hR="10041" stAng="-10719300" swAng="5319300"/>
                <a:close/>
              </a:path>
              <a:path fill="darkenLess" w="21600" h="21600">
                <a:moveTo>
                  <a:pt x="21600" y="0"/>
                </a:moveTo>
                <a:arcTo wR="21600" hR="10041" stAng="-5400000" swAng="-5400000"/>
                <a:lnTo>
                  <a:pt x="0" y="10041"/>
                </a:lnTo>
                <a:arcTo wR="21600" hR="10041" stAng="10800000" swAng="-80700"/>
                <a:lnTo>
                  <a:pt x="28" y="10547"/>
                </a:lnTo>
                <a:arcTo wR="21600" hR="10041" stAng="-10719300" swAng="53193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Выгнутая вправо стрелка 32"/>
          <p:cNvSpPr/>
          <p:nvPr/>
        </p:nvSpPr>
        <p:spPr>
          <a:xfrm rot="16200000">
            <a:off x="7273080" y="464040"/>
            <a:ext cx="398520" cy="2041560"/>
          </a:xfrm>
          <a:custGeom>
            <a:avLst/>
            <a:gdLst>
              <a:gd name="textAreaLeft" fmla="*/ 53280 w 398520"/>
              <a:gd name="textAreaRight" fmla="*/ 345240 w 398520"/>
              <a:gd name="textAreaTop" fmla="*/ 473040 h 2041560"/>
              <a:gd name="textAreaBottom" fmla="*/ 1518840 h 20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11" stAng="-5400000" swAng="5400000"/>
                <a:lnTo>
                  <a:pt x="21600" y="11063"/>
                </a:lnTo>
                <a:arcTo wR="21600" hR="10011" stAng="0" swAng="3652605"/>
                <a:lnTo>
                  <a:pt x="5400" y="21282"/>
                </a:lnTo>
                <a:lnTo>
                  <a:pt x="0" y="20547"/>
                </a:lnTo>
                <a:lnTo>
                  <a:pt x="5400" y="19176"/>
                </a:lnTo>
                <a:lnTo>
                  <a:pt x="5400" y="19703"/>
                </a:lnTo>
                <a:arcTo wR="21600" hR="10011" stAng="3652605" swAng="-3568790"/>
                <a:lnTo>
                  <a:pt x="21570" y="10537"/>
                </a:lnTo>
                <a:arcTo wR="21600" hR="10011" stAng="-83815" swAng="-5316185"/>
                <a:close/>
              </a:path>
              <a:path fill="darkenLess" w="21600" h="21600">
                <a:moveTo>
                  <a:pt x="0" y="0"/>
                </a:moveTo>
                <a:arcTo wR="21600" hR="10011" stAng="-5400000" swAng="5400000"/>
                <a:lnTo>
                  <a:pt x="21600" y="11063"/>
                </a:lnTo>
                <a:arcTo wR="21600" hR="10011" stAng="0" swAng="-83815"/>
                <a:lnTo>
                  <a:pt x="21570" y="10537"/>
                </a:lnTo>
                <a:arcTo wR="21600" hR="10011" stAng="-83815" swAng="-531618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Выгнутая вправо стрелка 33"/>
          <p:cNvSpPr/>
          <p:nvPr/>
        </p:nvSpPr>
        <p:spPr>
          <a:xfrm rot="16200000">
            <a:off x="7491960" y="2151360"/>
            <a:ext cx="303480" cy="2000160"/>
          </a:xfrm>
          <a:custGeom>
            <a:avLst/>
            <a:gdLst>
              <a:gd name="textAreaLeft" fmla="*/ 40680 w 303480"/>
              <a:gd name="textAreaRight" fmla="*/ 262800 w 303480"/>
              <a:gd name="textAreaTop" fmla="*/ 471600 h 2000160"/>
              <a:gd name="textAreaBottom" fmla="*/ 14907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187" stAng="-5400000" swAng="5400000"/>
                <a:lnTo>
                  <a:pt x="21600" y="11005"/>
                </a:lnTo>
                <a:arcTo wR="21600" hR="10187" stAng="0" swAng="3677961"/>
                <a:lnTo>
                  <a:pt x="5400" y="21277"/>
                </a:lnTo>
                <a:lnTo>
                  <a:pt x="0" y="20782"/>
                </a:lnTo>
                <a:lnTo>
                  <a:pt x="5400" y="19641"/>
                </a:lnTo>
                <a:lnTo>
                  <a:pt x="5400" y="20050"/>
                </a:lnTo>
                <a:arcTo wR="21600" hR="10187" stAng="3677961" swAng="-3612822"/>
                <a:lnTo>
                  <a:pt x="21583" y="10596"/>
                </a:lnTo>
                <a:arcTo wR="21600" hR="10187" stAng="-65139" swAng="-5334861"/>
                <a:close/>
              </a:path>
              <a:path fill="darkenLess" w="21600" h="21600">
                <a:moveTo>
                  <a:pt x="0" y="0"/>
                </a:moveTo>
                <a:arcTo wR="21600" hR="10187" stAng="-5400000" swAng="5400000"/>
                <a:lnTo>
                  <a:pt x="21600" y="11005"/>
                </a:lnTo>
                <a:arcTo wR="21600" hR="10187" stAng="0" swAng="-65139"/>
                <a:lnTo>
                  <a:pt x="21583" y="10596"/>
                </a:lnTo>
                <a:arcTo wR="21600" hR="10187" stAng="-65139" swAng="-5334861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2289600" y="24289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2218320" y="7142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о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7068600" y="857160"/>
            <a:ext cx="7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7147080" y="2500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85520" y="42840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 словосочетании причастие может выступать в качест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(запишите в тетради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Зависимого слова                   Определяемого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(к которому задаём вопрос)</a:t>
            </a: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mbria"/>
              </a:rPr>
              <a:t>(от которого задаём вопрос)</a:t>
            </a:r>
            <a:r>
              <a:rPr b="0" i="1" lang="ru-RU" sz="1800" spc="-1" strike="noStrike">
                <a:solidFill>
                  <a:srgbClr val="ff3300"/>
                </a:solidFill>
                <a:latin typeface="Cambria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причастие"/>
          <p:cNvPicPr/>
          <p:nvPr/>
        </p:nvPicPr>
        <p:blipFill>
          <a:blip r:embed="rId1"/>
          <a:stretch/>
        </p:blipFill>
        <p:spPr>
          <a:xfrm>
            <a:off x="1071720" y="3929040"/>
            <a:ext cx="3168360" cy="19400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257" name="Picture 5" descr="Копия причастие"/>
          <p:cNvPicPr/>
          <p:nvPr/>
        </p:nvPicPr>
        <p:blipFill>
          <a:blip r:embed="rId2"/>
          <a:stretch/>
        </p:blipFill>
        <p:spPr>
          <a:xfrm>
            <a:off x="5357880" y="3929040"/>
            <a:ext cx="3024000" cy="20001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1785960" y="14292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785880" y="928800"/>
            <a:ext cx="578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a070c"/>
                </a:solidFill>
                <a:latin typeface="Times New Roman"/>
              </a:rPr>
              <a:t>это причастие с зависимыми слов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70c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0a070c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64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олилиния 26"/>
          <p:cNvSpPr/>
          <p:nvPr/>
        </p:nvSpPr>
        <p:spPr>
          <a:xfrm>
            <a:off x="1185840" y="4433760"/>
            <a:ext cx="3648240" cy="192240"/>
          </a:xfrm>
          <a:prstGeom prst="pie">
            <a:avLst/>
          </a:pr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71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70c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0a070c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78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олилиния 54"/>
          <p:cNvSpPr/>
          <p:nvPr/>
        </p:nvSpPr>
        <p:spPr>
          <a:xfrm>
            <a:off x="3714840" y="6000840"/>
            <a:ext cx="3462120" cy="153720"/>
          </a:xfrm>
          <a:prstGeom prst="pie">
            <a:avLst/>
          </a:pr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1"/>
          <p:cNvSpPr/>
          <p:nvPr/>
        </p:nvSpPr>
        <p:spPr>
          <a:xfrm>
            <a:off x="3715560" y="52149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4" descr="мальчик думает.gif"/>
          <p:cNvPicPr/>
          <p:nvPr/>
        </p:nvPicPr>
        <p:blipFill>
          <a:blip r:embed="rId1"/>
          <a:stretch/>
        </p:blipFill>
        <p:spPr>
          <a:xfrm>
            <a:off x="6858000" y="571680"/>
            <a:ext cx="1982880" cy="23572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31"/>
          <p:cNvSpPr/>
          <p:nvPr/>
        </p:nvSpPr>
        <p:spPr>
          <a:xfrm>
            <a:off x="714240" y="27147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</a:rPr>
              <a:t>Запишите пример предложений в тетради  и разбор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5712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колько зависимых слов в причаст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бороте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овосочетании, где причастие является главным словом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f2936"/>
                </a:solidFill>
                <a:uFillTx/>
                <a:latin typeface="Times New Roman"/>
              </a:rPr>
              <a:t>может быть не одно, а два и более зависимых слова</a:t>
            </a: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Увлекающийся музыкой </a:t>
            </a:r>
            <a:r>
              <a:rPr b="0" i="1" lang="ru-RU" sz="2800" spc="-1" strike="noStrike">
                <a:solidFill>
                  <a:srgbClr val="0033cc"/>
                </a:solidFill>
                <a:latin typeface="Times New Roman"/>
              </a:rPr>
              <a:t>(образец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4" descr="причастие3"/>
          <p:cNvPicPr/>
          <p:nvPr/>
        </p:nvPicPr>
        <p:blipFill>
          <a:blip r:embed="rId1"/>
          <a:stretch/>
        </p:blipFill>
        <p:spPr>
          <a:xfrm>
            <a:off x="714240" y="3214800"/>
            <a:ext cx="7500960" cy="7858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642960" y="51436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2. Стелющийся над ре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3. Задержанный на улиц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2214720" y="42148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936"/>
                </a:solidFill>
                <a:latin typeface="Times New Roman"/>
              </a:rPr>
              <a:t>Предложения 2 и 3 сделайте самостоятельно по образц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56800" y="247320"/>
            <a:ext cx="8285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Запишите предложения!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71680" y="1285560"/>
            <a:ext cx="857088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 полем располож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усадьба,  заросшая цветами</a:t>
            </a:r>
            <a:r>
              <a:rPr b="0" lang="en-US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Усадьба,  заросшая цветами</a:t>
            </a:r>
            <a:r>
              <a:rPr b="0" lang="en-US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, расположена за поле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 полем располож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a070c"/>
                </a:solidFill>
                <a:latin typeface="Cambria"/>
              </a:rPr>
              <a:t>заросшая цветами  усадьб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2145960" y="1785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Выгнутая вправо стрелка 7"/>
          <p:cNvSpPr/>
          <p:nvPr/>
        </p:nvSpPr>
        <p:spPr>
          <a:xfrm rot="16200000">
            <a:off x="4032360" y="1039680"/>
            <a:ext cx="288720" cy="2067120"/>
          </a:xfrm>
          <a:custGeom>
            <a:avLst/>
            <a:gdLst>
              <a:gd name="textAreaLeft" fmla="*/ 38520 w 288720"/>
              <a:gd name="textAreaRight" fmla="*/ 250200 w 288720"/>
              <a:gd name="textAreaTop" fmla="*/ 489600 h 2067120"/>
              <a:gd name="textAreaBottom" fmla="*/ 1541520 h 206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35" stAng="-5400000" swAng="5400000"/>
                <a:lnTo>
                  <a:pt x="21600" y="10989"/>
                </a:lnTo>
                <a:arcTo wR="21600" hR="10235" stAng="0" swAng="3684830"/>
                <a:lnTo>
                  <a:pt x="5400" y="21275"/>
                </a:lnTo>
                <a:lnTo>
                  <a:pt x="0" y="20847"/>
                </a:lnTo>
                <a:lnTo>
                  <a:pt x="5400" y="19769"/>
                </a:lnTo>
                <a:lnTo>
                  <a:pt x="5400" y="20145"/>
                </a:lnTo>
                <a:arcTo wR="21600" hR="10235" stAng="3684830" swAng="-3624794"/>
                <a:lnTo>
                  <a:pt x="21585" y="10612"/>
                </a:lnTo>
                <a:arcTo wR="21600" hR="10235" stAng="-60036" swAng="-5339964"/>
                <a:close/>
              </a:path>
              <a:path fill="darkenLess" w="21600" h="21600">
                <a:moveTo>
                  <a:pt x="0" y="0"/>
                </a:moveTo>
                <a:arcTo wR="21600" hR="10235" stAng="-5400000" swAng="5400000"/>
                <a:lnTo>
                  <a:pt x="21600" y="10989"/>
                </a:lnTo>
                <a:arcTo wR="21600" hR="10235" stAng="0" swAng="-60036"/>
                <a:lnTo>
                  <a:pt x="21585" y="10612"/>
                </a:lnTo>
                <a:arcTo wR="21600" hR="10235" stAng="-60036" swAng="-533996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928880" y="30718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Выгнутая вправо стрелка 9"/>
          <p:cNvSpPr/>
          <p:nvPr/>
        </p:nvSpPr>
        <p:spPr>
          <a:xfrm rot="16200000">
            <a:off x="3967920" y="2175480"/>
            <a:ext cx="258840" cy="2050920"/>
          </a:xfrm>
          <a:custGeom>
            <a:avLst/>
            <a:gdLst>
              <a:gd name="textAreaLeft" fmla="*/ 34560 w 258840"/>
              <a:gd name="textAreaRight" fmla="*/ 224280 w 258840"/>
              <a:gd name="textAreaTop" fmla="*/ 488520 h 2050920"/>
              <a:gd name="textAreaBottom" fmla="*/ 153036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91" stAng="-5400000" swAng="5400000"/>
                <a:lnTo>
                  <a:pt x="21600" y="10970"/>
                </a:lnTo>
                <a:arcTo wR="21600" hR="10291" stAng="0" swAng="3692630"/>
                <a:lnTo>
                  <a:pt x="5400" y="21273"/>
                </a:lnTo>
                <a:lnTo>
                  <a:pt x="0" y="20921"/>
                </a:lnTo>
                <a:lnTo>
                  <a:pt x="5400" y="19914"/>
                </a:lnTo>
                <a:lnTo>
                  <a:pt x="5400" y="20254"/>
                </a:lnTo>
                <a:arcTo wR="21600" hR="10291" stAng="3692630" swAng="-3638572"/>
                <a:lnTo>
                  <a:pt x="21588" y="10630"/>
                </a:lnTo>
                <a:arcTo wR="21600" hR="10291" stAng="-54058" swAng="-5345942"/>
                <a:close/>
              </a:path>
              <a:path fill="darkenLess" w="21600" h="21600">
                <a:moveTo>
                  <a:pt x="0" y="0"/>
                </a:moveTo>
                <a:arcTo wR="21600" hR="10291" stAng="-5400000" swAng="5400000"/>
                <a:lnTo>
                  <a:pt x="21600" y="10970"/>
                </a:lnTo>
                <a:arcTo wR="21600" hR="10291" stAng="0" swAng="-54058"/>
                <a:lnTo>
                  <a:pt x="21588" y="10630"/>
                </a:lnTo>
                <a:arcTo wR="21600" hR="10291" stAng="-54058" swAng="-534594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0"/>
          <p:cNvSpPr/>
          <p:nvPr/>
        </p:nvSpPr>
        <p:spPr>
          <a:xfrm>
            <a:off x="6217920" y="4643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Выгнутая влево стрелка 11"/>
          <p:cNvSpPr/>
          <p:nvPr/>
        </p:nvSpPr>
        <p:spPr>
          <a:xfrm rot="5400000">
            <a:off x="4082760" y="3489480"/>
            <a:ext cx="142920" cy="2879640"/>
          </a:xfrm>
          <a:custGeom>
            <a:avLst/>
            <a:gdLst>
              <a:gd name="textAreaLeft" fmla="*/ 19080 w 142920"/>
              <a:gd name="textAreaRight" fmla="*/ 123840 w 142920"/>
              <a:gd name="textAreaTop" fmla="*/ 706320 h 2879640"/>
              <a:gd name="textAreaBottom" fmla="*/ 21553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599" stAng="-5400000" swAng="-5400000"/>
                <a:lnTo>
                  <a:pt x="0" y="10868"/>
                </a:lnTo>
                <a:arcTo wR="21600" hR="10599" stAng="10800000" swAng="-3734757"/>
                <a:lnTo>
                  <a:pt x="16200" y="21263"/>
                </a:lnTo>
                <a:lnTo>
                  <a:pt x="21600" y="21332"/>
                </a:lnTo>
                <a:lnTo>
                  <a:pt x="16200" y="20726"/>
                </a:lnTo>
                <a:lnTo>
                  <a:pt x="16200" y="20860"/>
                </a:lnTo>
                <a:arcTo wR="21600" hR="10599" stAng="7065243" swAng="3713350"/>
                <a:lnTo>
                  <a:pt x="2" y="10733"/>
                </a:lnTo>
                <a:arcTo wR="21600" hR="10599" stAng="-10778592" swAng="5378592"/>
                <a:close/>
              </a:path>
              <a:path fill="darkenLess" w="21600" h="21600">
                <a:moveTo>
                  <a:pt x="21600" y="0"/>
                </a:moveTo>
                <a:arcTo wR="21600" hR="10599" stAng="-5400000" swAng="-5400000"/>
                <a:lnTo>
                  <a:pt x="0" y="10599"/>
                </a:lnTo>
                <a:arcTo wR="21600" hR="10599" stAng="10800000" swAng="-21408"/>
                <a:lnTo>
                  <a:pt x="2" y="10733"/>
                </a:lnTo>
                <a:arcTo wR="21600" hR="10599" stAng="-10778592" swAng="537859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инус 15"/>
          <p:cNvSpPr/>
          <p:nvPr/>
        </p:nvSpPr>
        <p:spPr>
          <a:xfrm rot="5400000">
            <a:off x="2500200" y="2142720"/>
            <a:ext cx="50004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инус 16"/>
          <p:cNvSpPr/>
          <p:nvPr/>
        </p:nvSpPr>
        <p:spPr>
          <a:xfrm rot="5400000">
            <a:off x="6535800" y="2178720"/>
            <a:ext cx="57168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инус 17"/>
          <p:cNvSpPr/>
          <p:nvPr/>
        </p:nvSpPr>
        <p:spPr>
          <a:xfrm rot="5400000">
            <a:off x="2535840" y="3393360"/>
            <a:ext cx="57132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инус 19"/>
          <p:cNvSpPr/>
          <p:nvPr/>
        </p:nvSpPr>
        <p:spPr>
          <a:xfrm rot="5400000">
            <a:off x="4571640" y="5072040"/>
            <a:ext cx="50004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инус 20"/>
          <p:cNvSpPr/>
          <p:nvPr/>
        </p:nvSpPr>
        <p:spPr>
          <a:xfrm rot="5400000">
            <a:off x="392400" y="5107680"/>
            <a:ext cx="642960" cy="142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инус 21"/>
          <p:cNvSpPr/>
          <p:nvPr/>
        </p:nvSpPr>
        <p:spPr>
          <a:xfrm rot="5400000">
            <a:off x="6571800" y="3286080"/>
            <a:ext cx="642960" cy="2142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5861520" y="164304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23"/>
          <p:cNvSpPr/>
          <p:nvPr/>
        </p:nvSpPr>
        <p:spPr>
          <a:xfrm>
            <a:off x="5933520" y="28576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1643040" y="4572000"/>
            <a:ext cx="11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.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олилиния 38"/>
          <p:cNvSpPr/>
          <p:nvPr/>
        </p:nvSpPr>
        <p:spPr>
          <a:xfrm>
            <a:off x="2714760" y="2500200"/>
            <a:ext cx="4000320" cy="2145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олилиния 40"/>
          <p:cNvSpPr/>
          <p:nvPr/>
        </p:nvSpPr>
        <p:spPr>
          <a:xfrm>
            <a:off x="2928960" y="3714840"/>
            <a:ext cx="3929040" cy="142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олилиния 41"/>
          <p:cNvSpPr/>
          <p:nvPr/>
        </p:nvSpPr>
        <p:spPr>
          <a:xfrm>
            <a:off x="714240" y="5429160"/>
            <a:ext cx="4214880" cy="357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3858120" y="164304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3645720" y="271476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4788720" y="457200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8:33:01Z</dcterms:created>
  <dc:creator>жилин олег юрьевич</dc:creator>
  <dc:description/>
  <dc:language>en-US</dc:language>
  <cp:lastModifiedBy>admin</cp:lastModifiedBy>
  <dcterms:modified xsi:type="dcterms:W3CDTF">2020-11-17T03:42:42Z</dcterms:modified>
  <cp:revision>81</cp:revision>
  <dc:subject/>
  <dc:title>Слайд 1</dc:title>
</cp:coreProperties>
</file>