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BED-16C0-4F09-B8D6-D214C4DB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EF4-C08B-443B-A32A-1007293B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F86-C5CF-4A8E-8B83-7446E52F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854-75FF-4E9A-B31F-DCFA207C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BF5-564B-4CA6-A55D-A38E5BAD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C4E-8C96-48A1-A2AB-316AE9E6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B6B-1765-48D1-9539-F117872C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9A1-AD29-4047-A810-A61843A0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7544-231E-462B-88E9-DB9CD48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E17-A537-464B-A100-80CE32E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F05-2F48-4C3B-B523-4DDF8EF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06E-9251-4FCB-B6CD-99E19F0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8A66-D876-4461-BD82-B54E02CFB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97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6769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РАЗВИТИЕ РЕЧИ ДЕТЕЙ РАННЕ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642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Основная задача данного периода:   постепенное формирование способности к элементарному вербальному высказыв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51280" y="6340320"/>
            <a:ext cx="439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ff"/>
                </a:solidFill>
                <a:latin typeface="Arial"/>
              </a:rPr>
              <a:t>Презентацию подготовила учитель-логопед МКДОУ детский сад «Умка» Курышева Е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2852640"/>
            <a:ext cx="91440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Реальную и полноценную помощь малышу 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при развитии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его речи 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оказывает 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СОТРУДНИЧЕСТВО взрослого и ребенка</a:t>
            </a:r>
            <a:r>
              <a:rPr b="0" i="1" lang="en-US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АЖНО ПОМ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0"/>
            <a:ext cx="849780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3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99"/>
                </a:solidFill>
                <a:latin typeface="Arial"/>
              </a:rPr>
              <a:t>Основные направления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99"/>
                </a:solidFill>
                <a:latin typeface="Arial"/>
              </a:rPr>
              <a:t>работы над речью детей 2-3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822200">
            <a:off x="0" y="1699920"/>
            <a:ext cx="295272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683000">
            <a:off x="324360" y="2133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Развитие понимания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2852640"/>
            <a:ext cx="2808360" cy="20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3500280"/>
            <a:ext cx="25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Развитие слухового, зрительн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788000">
            <a:off x="6190920" y="1413000"/>
            <a:ext cx="295272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37200">
            <a:off x="644292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Воспитание общих речевы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213200">
            <a:off x="6191280" y="4723920"/>
            <a:ext cx="2952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125360"/>
            <a:ext cx="2952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408400">
            <a:off x="-180720" y="4724280"/>
            <a:ext cx="2952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2000" y="5202360"/>
            <a:ext cx="2952720" cy="165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52000">
            <a:off x="-360" y="51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Формирование активного слов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9289400">
            <a:off x="6372720" y="5229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Развитие связ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55166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Формирование грамматического строя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26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Развитие артикуляционной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мото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89000"/>
            <a:ext cx="561636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33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164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витие слухов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витие зритель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Развитие понимания речи </a:t>
            </a:r>
            <a:br>
              <a:rPr sz="2800"/>
            </a:b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предполагает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Воспит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умения вслушиваться в ре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Развит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ассивного слова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вопросов по предметной картинке со зрительной оп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Развит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умения  узнавать по описанию животных, предметы посуды, мебели, одежды, игру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Усвоение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глагольного словар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и различение элементарных обобщающих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редложных конструкций с предлогами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на, в, по,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и различение противоположных по значению прилаг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ызывание подражания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(речь с движе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Пе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распевок, припевов, содержащих звукоподраж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оспитание диафрагмального дыхания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(игра «Животик дышит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Работа над речевым дыханием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при использовании речевых подражаний (вокализаций): Кукла плачет: «А-а-а»; Гудит паровоз: «у-у-у»; Ржет лошадка: «и-и-и»; Рычит мишка: «о-о-о»; Плачет малыш: «уа-уа-уа»; Кричит ослик: «иа - иа - иа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ыработка артикуляции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гласных звуков(а, у, и, о),  согласных звуков(м  м' п  п'  б  б'  т т' д  д'  н  н'  в  в'  ф  ф'  к  к' г  г'  х  х' с' з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362680" y="749160"/>
            <a:ext cx="4634640" cy="9666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Воспитание общих речевых навыков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витие зритель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51640" y="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витие слухов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Воспит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слухового внимания к звучащим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Узна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и различение звуковых сигналов (2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Дифференциация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отдельных шумов, неречевых зву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азличение и поним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отдельных слов, интонаций личностно-адресованной речи взрос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Выполне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односложных инструк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Развит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тактильного восприятия предметов (объемные предметы), зрительного восприятия плоскостных объектов (парные картинки, разрезные картинки на 2-3 ча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Закрепле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цвета - красный, синий, зеленый, жел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73280" y="42732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Что способствует развитию слухового, зрительного восприят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ызывать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у детей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потребнос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роизносить слова, подражая взросл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Правильно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оспроизводи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односложные, двухслож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Развивать умение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называ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имена детей, членов семьи, предметы, предметные картинки по лексическим т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Пополнять словар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детей за счет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прилагательных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- признаков, которые можно воспринимать тактильно, т.е услышать - ощу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Учить сопоставля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редметы по их размерам, по вкусовым качеств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Учить образовыва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 существительные с уменьшительно-ласкательным отт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Активизировать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глагольный сло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44560" y="16704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Формирование активного слова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Построе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двухсловных предло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Формир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умения правильно отвечать на вопросы: «Кто?» «Что дела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Соглас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существительного с прилагательным в роде, числе («Какой?» «Какая?» «Какие?». Например,  синий мяч,  красная машина,  веселый миш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Образ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единственного и множественного числа существительных в именительном падеже  («кукла - куклы», «мишка - мишки», «книга - книги», «рука -руки», «нога - ног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Образ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повелительного наклонения глаголов (сидит - сиди!, лежит — лежи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Согласование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местоимений  </a:t>
            </a:r>
            <a:r>
              <a:rPr b="1" i="1" lang="en-US" sz="2400" spc="-1" strike="noStrike">
                <a:solidFill>
                  <a:srgbClr val="cc0099"/>
                </a:solidFill>
                <a:latin typeface="Arial"/>
              </a:rPr>
              <a:t>мой,  моя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 с существительными  ( мяч – мой ,  книжка –моя,  папа –мой ,  мама –моя ,  ножка –моя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73280" y="-432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Формирование грамматического строя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Проговарива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вместе со взрослыми стишков, потешек, песе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Договарива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слов, словосочетаний в разучиваемых потешках, стихах, сказ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осприят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содержания маленьких рассказов, сказок, стихов с опорой на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Ответы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на вопросы по картинке, демонстрации 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Подбор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глаголов к существительным и существительных к глаго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Развит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умения самостоятельно составлять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Введе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в активный словарь слов «хочу», «иди», «надо», «не надо», «да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99"/>
                </a:solidFill>
                <a:latin typeface="Arial"/>
              </a:rPr>
              <a:t>Заучивание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 маленьких стихов, сказок с опорой на карт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44560" y="16704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Развитие  связ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1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6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1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1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6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Активная, пассивная гимнастика для развития мелкой мото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Развитие артикуляционной моторики и двигательной активности артикуляционного аппарата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Основной комплекс артикуляционных упражнений (по заданию логопеда) Для подбора артикуляционных упражнений используется пособие В. Н. Костыгина «Тру - ля - ля» (Артикуляционная гимнастика для самых - самых маленьк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73280" y="427320"/>
            <a:ext cx="5819760" cy="808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Развитие мелкой и артикуляционной мото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07:05:42Z</dcterms:created>
  <dc:creator>User</dc:creator>
  <dc:description/>
  <dc:language>en-US</dc:language>
  <cp:lastModifiedBy>YOY</cp:lastModifiedBy>
  <dcterms:modified xsi:type="dcterms:W3CDTF">2020-11-17T17:26:34Z</dcterms:modified>
  <cp:revision>84</cp:revision>
  <dc:subject/>
  <dc:title>РЕЧЕВОЕ РАЗВИТИЕ ДЕТЕЙ РАННЕГО ВОЗРАСТА</dc:title>
</cp:coreProperties>
</file>