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1AE-E479-4C13-9506-FA2E1861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C3D-CF18-4CF9-B9FF-76A3F0B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74F-433A-400E-8F38-F0C9556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F50-3519-4B9F-AE63-48A81615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61D-E5BF-4DEB-8A88-A5AF3748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167-340F-4F94-B7ED-0787E3A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A52-6A8E-4AC2-A6E2-4399984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3A0-AAB4-454A-BC43-12968937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EDE-8999-41A8-8550-061F76C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835-AC2C-4675-9100-64BF544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9A5-345C-496B-84F1-A7E10E8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662-D71D-49CF-B8C1-1AA511D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0F1F-A931-4C46-A3A8-B20C31669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6769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РЕЧИ ДЕТЕЙ РАННЕ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642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Основная задача данного периода:   постепенное формирование способности к элементарному вербальному высказы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51280" y="6340320"/>
            <a:ext cx="43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Презентацию подготовила учитель-логопед МКДОУ детский сад «Умка» Курышева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Реальную и полноценную помощь малышу 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при развитии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его речи 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оказывает 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СОТРУДНИЧЕСТВО взрослого и ребенка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АЖНО 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0"/>
            <a:ext cx="849780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3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99"/>
                </a:solidFill>
                <a:latin typeface="Arial"/>
              </a:rPr>
              <a:t>Основные направления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99"/>
                </a:solidFill>
                <a:latin typeface="Arial"/>
              </a:rPr>
              <a:t>работы над речью детей 2-3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822200">
            <a:off x="0" y="1699920"/>
            <a:ext cx="2952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683000">
            <a:off x="324360" y="213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Развитие понимания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852640"/>
            <a:ext cx="280836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35002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Развитие слухового, зрительн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788000">
            <a:off x="6190920" y="1413000"/>
            <a:ext cx="2952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37200">
            <a:off x="64429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Воспитание общих речевы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213200">
            <a:off x="6191280" y="4723920"/>
            <a:ext cx="2952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125360"/>
            <a:ext cx="2952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408400">
            <a:off x="-180720" y="4724280"/>
            <a:ext cx="2952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5202360"/>
            <a:ext cx="2952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52000">
            <a:off x="-360" y="51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Формирование активного слов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289400">
            <a:off x="6372720" y="52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Развитие связ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5516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Формирование грамматического строя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26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Развитие артикуляционной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ото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89000"/>
            <a:ext cx="5616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164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слух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зритель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понимания речи </a:t>
            </a:r>
            <a:br>
              <a:rPr sz="2800"/>
            </a:b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предполагает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Воспит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умения вслушиваться в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ассивного слова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вопросов по предметной картинке со зрительной оп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умения  узнавать по описанию животных, предметы посуды, мебели, одежды, игр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Усвоение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глагольного слова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 различение элементарных обобщающих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редложных конструкций с предлогами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на, в, по,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 различение противоположных по значению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ызывание подражания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(речь с движе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Пе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распевок, припевов, содержащих звукоподра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оспитание диафрагмального дыхания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(игра «Животик дышит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абота над речевым дыханием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при использовании речевых подражаний (вокализаций): Кукла плачет: «А-а-а»; Гудит паровоз: «у-у-у»; Ржет лошадка: «и-и-и»; Рычит мишка: «о-о-о»; Плачет малыш: «уа-уа-уа»; Кричит ослик: «иа - иа - иа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ыработка артикуляции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гласных звуков(а, у, и, о),  согласных звуков(м  м' п  п'  б  б'  т т' д  д'  н  н'  в  в'  ф  ф'  к  к' г  г'  х  х' с' з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362680" y="749160"/>
            <a:ext cx="4634640" cy="966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Воспитание общих речевых навыков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зритель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164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слух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Воспит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слухового внимания к звучащим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Узна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 различение звуковых сигналов (2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Дифференциация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тдельных шумов, неречевых зву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азличение и 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тдельных слов, интонаций личностно-адресованной речи 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Выполне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дносложных инстру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тактильного восприятия предметов (объемные предметы), зрительного восприятия плоскостных объектов (парные картинки, разрезные картинки на 2-3 ча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Закрепле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цвета - красный, синий, зеленый, жел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73280" y="42732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Что способствует развитию слухового, зрительного воспри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ызывать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у детей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отребнос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роизносить слова, подражая взросл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Правильно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оспроизводи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дносложные, двухслож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Развивать умение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называ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мена детей, членов семьи, предметы, предметные картинки по лексическим т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ополнять словар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детей за счет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рилагательных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- признаков, которые можно воспринимать тактильно, т.е услышать - ощу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Учить сопоставля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редметы по их размерам, по вкусовым качест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Учить образовыва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 существительные с уменьшительно-ласкательным отт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Активизирова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глагольный сло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44560" y="16704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Формирование активного сло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строе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двухсловных пред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Формир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умения правильно отвечать на вопросы: «Кто?» «Что дела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Соглас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существительного с прилагательным в роде, числе («Какой?» «Какая?» «Какие?». Например,  синий мяч,  красная машина,  веселый миш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Образ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единственного и множественного числа существительных в именительном падеже  («кукла - куклы», «мишка - мишки», «книга - книги», «рука -руки», «нога - ног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Образ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овелительного наклонения глаголов (сидит - сиди!, лежит — лежи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Соглас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местоимений 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мой,  моя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 с существительными  ( мяч – мой ,  книжка –моя,  папа –мой ,  мама –моя ,  ножка –мо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73280" y="-432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Формирование грамматического строя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Проговарива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вместе со взрослыми стишков, потешек, пес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Договарива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слов, словосочетаний в разучиваемых потешках, стихах, сказ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осприят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содержания маленьких рассказов, сказок, стихов с опорой на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Ответы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на вопросы по картинке, демонстрации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Подбор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глаголов к существительным и существительных к глаго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умения самостоятельно составлять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веде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в активный словарь слов «хочу», «иди», «надо», «не надо», «д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Заучива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маленьких стихов, сказок с опорой на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44560" y="16704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 связ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1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Активная, пассивная гимнастика для развития мелкой мото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артикуляционной моторики и двигательной активности артикуляционного аппарата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Основной комплекс артикуляционных упражнений (по заданию логопеда) Для подбора артикуляционных упражнений используется пособие В. Н. Костыгина «Тру - ля - ля» (Артикуляционная гимнастика для самых - самых маленьк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73280" y="42732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мелкой и артикуляционной мо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7:05:42Z</dcterms:created>
  <dc:creator>User</dc:creator>
  <dc:description/>
  <dc:language>en-US</dc:language>
  <cp:lastModifiedBy>YOY</cp:lastModifiedBy>
  <dcterms:modified xsi:type="dcterms:W3CDTF">2020-11-17T17:26:34Z</dcterms:modified>
  <cp:revision>84</cp:revision>
  <dc:subject/>
  <dc:title>РЕЧЕВОЕ РАЗВИТИЕ ДЕТЕЙ РАННЕГО ВОЗРАСТА</dc:title>
</cp:coreProperties>
</file>