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767-57F4-43E4-B604-A17AA856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B50-73F1-4706-A1B6-7B3CE261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9CC-5479-40FD-BE17-2AC7C3CB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A39-BE16-46CE-93DA-57705912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AF79-FF1A-4356-AD01-210EE5E7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9AFC-4F18-4EA2-A4CD-826C82EA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91B1-B593-40B1-A2F5-4EF6038A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701B-2F08-4297-983F-C3D89AED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6E72-45B7-4389-9298-F7F71C56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A0A7-D390-46D2-A6D0-929DE786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7FAA-3F05-4048-AE5E-C3BE90B4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E3F-E953-4FD2-B915-EB29FBE4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9526-B69A-4F81-95EE-40E80B4A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2000-9A94-4D60-B0FF-958FC832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B742-9EDD-436C-A4CF-2EE54CF4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A1C2-FE4F-4EF0-96C9-314BBA46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3427-1EFA-4581-A6FF-848A02FB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3E7-4F7D-4078-90FA-E9EA57D1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4E9-6D10-4249-8D19-0059D096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C57-3541-42C6-AEDE-7D08826C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BC6-1225-4836-90B7-53D79CB5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8A6-A3E4-469D-A417-243BDE80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8F4-3E4F-4D84-B5C4-29A5E8B5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11B-0DE8-4CD1-A9CF-F16B4E46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10EC-1960-43F1-9DAE-3F1AF781887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9051-A990-4556-A72B-985810DE45F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1773000"/>
            <a:ext cx="753732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ru-RU" sz="4800" spc="-1" strike="noStrike">
                <a:solidFill>
                  <a:srgbClr val="336600"/>
                </a:solidFill>
                <a:latin typeface="Tahoma"/>
              </a:rPr>
              <a:t>Склонение имен </a:t>
            </a:r>
            <a:r>
              <a:rPr b="1" lang="ru-RU" sz="48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ru-RU" sz="4800" spc="-1" strike="noStrike">
                <a:solidFill>
                  <a:srgbClr val="336600"/>
                </a:solidFill>
                <a:latin typeface="Tahoma"/>
              </a:rPr>
              <a:t>существительных </a:t>
            </a:r>
            <a:br>
              <a:rPr sz="4800"/>
            </a:br>
            <a:endParaRPr b="1" lang="en-US" sz="4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4"/>
          <p:cNvGraphicFramePr/>
          <p:nvPr/>
        </p:nvGraphicFramePr>
        <p:xfrm>
          <a:off x="2544840" y="476280"/>
          <a:ext cx="4294080" cy="56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76280"/>
                    <a:ext cx="42940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AutoShape 7"/>
          <p:cNvSpPr/>
          <p:nvPr/>
        </p:nvSpPr>
        <p:spPr>
          <a:xfrm>
            <a:off x="6443640" y="1628640"/>
            <a:ext cx="1944720" cy="1148040"/>
          </a:xfrm>
          <a:prstGeom prst="wedgeEllipseCallout">
            <a:avLst>
              <a:gd name="adj1" fmla="val -84694"/>
              <a:gd name="adj2" fmla="val 57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КЕМ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ЧЕМ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012120" y="98100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Showcard Gothic"/>
              </a:rPr>
              <a:t>ТВОРИТЕЛЬНЫЙ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Showcard Gothic"/>
              </a:rPr>
              <a:t>ПАДЕЖ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transition spd="slow"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4"/>
          <p:cNvGraphicFramePr/>
          <p:nvPr/>
        </p:nvGraphicFramePr>
        <p:xfrm>
          <a:off x="2424240" y="620640"/>
          <a:ext cx="38671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4240" y="620640"/>
                    <a:ext cx="38671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AutoShape 7"/>
          <p:cNvSpPr/>
          <p:nvPr/>
        </p:nvSpPr>
        <p:spPr>
          <a:xfrm>
            <a:off x="6227640" y="2205000"/>
            <a:ext cx="1729080" cy="1368360"/>
          </a:xfrm>
          <a:prstGeom prst="wedgeEllipseCallout">
            <a:avLst>
              <a:gd name="adj1" fmla="val -89027"/>
              <a:gd name="adj2" fmla="val 39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О КОМ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О ЧЕМ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066840" y="112536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Showcard Gothic"/>
              </a:rPr>
              <a:t>ПРЕДЛОЖНЫЙ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Showcard Gothic"/>
              </a:rPr>
              <a:t>ПАДЕЖ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transition spd="slow"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66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339966"/>
                </a:solidFill>
                <a:latin typeface="Tahoma"/>
              </a:rPr>
              <a:t>СКЛОНЕНИЕ ИМЕН СУЩЕСТВИТЕЛЬНЫХ</a:t>
            </a:r>
            <a:endParaRPr b="1" lang="en-US" sz="2000" spc="-1" strike="noStrike">
              <a:solidFill>
                <a:srgbClr val="339966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6680" y="1981080"/>
          <a:ext cx="7543800" cy="4114800"/>
        </p:xfrm>
        <a:graphic>
          <a:graphicData uri="http://schemas.openxmlformats.org/drawingml/2006/table">
            <a:tbl>
              <a:tblPr/>
              <a:tblGrid>
                <a:gridCol w="2514600"/>
                <a:gridCol w="2513160"/>
                <a:gridCol w="251604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мен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оряк ,лод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од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ого? 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оряка, лод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Да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ому? 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оряку, ло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Вин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ог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оряка, лод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вор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ем?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оряком, лодк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едло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 ком? о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 моряке, о ло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15640" y="2636640"/>
            <a:ext cx="7615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Лиса – хитрый звер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У (кого?) пушистый хвос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(Кому?) т..пло зим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Охотник высл..дил (кого?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Заяц не любит встреч..ться с (кем?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О (ком?) народ сложил сказ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Вместо вопросов вставьте 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существительное «лиса».</a:t>
            </a: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69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69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69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69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6920" y="213372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Лиса – хитрый звер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У </a:t>
            </a: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лисы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 пушистый хвос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Лисе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 т</a:t>
            </a: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е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пло зим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Охотник высл</a:t>
            </a: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е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дил </a:t>
            </a: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лис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Заяц не любит встреч</a:t>
            </a: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а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ться с </a:t>
            </a: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лис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О </a:t>
            </a: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лисе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 народ сложил сказ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339966"/>
                </a:solidFill>
                <a:latin typeface="Tahoma"/>
              </a:rPr>
              <a:t>Проверь свою работу!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slow">
    <p:diamond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3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3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3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Найдите ошибку!</a:t>
            </a:r>
            <a:endParaRPr b="1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2707920"/>
            <a:ext cx="7759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Долго я брожу в л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ahoma"/>
              </a:rPr>
              <a:t>и</a:t>
            </a: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су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Не найду нигде л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ahoma"/>
              </a:rPr>
              <a:t>и</a:t>
            </a: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с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380"/>
                            </p:stCondLst>
                            <p:childTnLst>
                              <p:par>
                                <p:cTn id="3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3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116000" y="1989000"/>
          <a:ext cx="7494480" cy="4106880"/>
        </p:xfrm>
        <a:graphic>
          <a:graphicData uri="http://schemas.openxmlformats.org/drawingml/2006/table">
            <a:tbl>
              <a:tblPr/>
              <a:tblGrid>
                <a:gridCol w="3747960"/>
                <a:gridCol w="3746520"/>
              </a:tblGrid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мен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од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ого? 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Да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ому? 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Вин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ог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вор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ем?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едло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 ком? о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Выучить!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slow">
    <p:push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608960" cy="59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ligraph"/>
              </a:rPr>
              <a:t>Море, моряк, морской, мореход, морячок, морячка, моряцкий, морячить, взморье, поморье, поморец, поморка.</a:t>
            </a:r>
            <a:r>
              <a:rPr b="1" lang="ru-RU" sz="4000" spc="-1" strike="noStrike">
                <a:solidFill>
                  <a:srgbClr val="339966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488360" cy="44924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Cooper Black"/>
              </a:rPr>
              <a:t>	</a:t>
            </a:r>
            <a:r>
              <a:rPr b="1" lang="ru-RU" sz="4000" spc="-1" strike="noStrike">
                <a:solidFill>
                  <a:srgbClr val="336600"/>
                </a:solidFill>
                <a:latin typeface="Cooper Black"/>
              </a:rPr>
              <a:t>	</a:t>
            </a:r>
            <a:r>
              <a:rPr b="1" lang="ru-RU" sz="4000" spc="-1" strike="noStrike">
                <a:solidFill>
                  <a:srgbClr val="336600"/>
                </a:solidFill>
                <a:latin typeface="Cooper Black"/>
              </a:rPr>
              <a:t>Карта страны </a:t>
            </a:r>
            <a:br>
              <a:rPr sz="4000"/>
            </a:br>
            <a:r>
              <a:rPr b="1" lang="ru-RU" sz="4000" spc="-1" strike="noStrike">
                <a:solidFill>
                  <a:srgbClr val="336600"/>
                </a:solidFill>
                <a:latin typeface="Cooper Black"/>
              </a:rPr>
              <a:t>	</a:t>
            </a:r>
            <a:r>
              <a:rPr b="1" lang="ru-RU" sz="4000" spc="-1" strike="noStrike">
                <a:solidFill>
                  <a:srgbClr val="336600"/>
                </a:solidFill>
                <a:latin typeface="Cooper Black"/>
              </a:rPr>
              <a:t>имен существительных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slow">
    <p:strips dir="r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708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Forte"/>
              </a:rPr>
              <a:t>	</a:t>
            </a:r>
            <a:r>
              <a:rPr b="1" i="1" lang="ru-RU" sz="4800" spc="-1" strike="noStrike">
                <a:solidFill>
                  <a:srgbClr val="0000ff"/>
                </a:solidFill>
                <a:latin typeface="Forte"/>
              </a:rPr>
              <a:t>Нам нужны такой корабль на море, чтобы мы мог с любая волна поспорить</a:t>
            </a:r>
            <a:r>
              <a:rPr b="0" lang="ru-RU" sz="4800" spc="-1" strike="noStrike">
                <a:solidFill>
                  <a:srgbClr val="0000ff"/>
                </a:solidFill>
                <a:latin typeface="Fort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1981080"/>
            <a:ext cx="807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4800" spc="-1" strike="noStrike">
                <a:solidFill>
                  <a:srgbClr val="0000ff"/>
                </a:solidFill>
                <a:latin typeface="Forte"/>
              </a:rPr>
              <a:t>Нам нужны так</a:t>
            </a:r>
            <a:r>
              <a:rPr b="1" i="1" lang="ru-RU" sz="4800" spc="-1" strike="noStrike">
                <a:solidFill>
                  <a:srgbClr val="cc3300"/>
                </a:solidFill>
                <a:latin typeface="Forte"/>
              </a:rPr>
              <a:t>ие</a:t>
            </a:r>
            <a:r>
              <a:rPr b="1" i="1" lang="ru-RU" sz="4800" spc="-1" strike="noStrike">
                <a:solidFill>
                  <a:srgbClr val="0000ff"/>
                </a:solidFill>
                <a:latin typeface="Forte"/>
              </a:rPr>
              <a:t> корабл</a:t>
            </a:r>
            <a:r>
              <a:rPr b="1" i="1" lang="ru-RU" sz="4800" spc="-1" strike="noStrike">
                <a:solidFill>
                  <a:srgbClr val="cc3300"/>
                </a:solidFill>
                <a:latin typeface="Forte"/>
              </a:rPr>
              <a:t>и</a:t>
            </a:r>
            <a:r>
              <a:rPr b="1" i="1" lang="ru-RU" sz="4800" spc="-1" strike="noStrike">
                <a:solidFill>
                  <a:srgbClr val="0000ff"/>
                </a:solidFill>
                <a:latin typeface="Forte"/>
              </a:rPr>
              <a:t> на море, чтобы мы могл</a:t>
            </a:r>
            <a:r>
              <a:rPr b="1" i="1" lang="ru-RU" sz="4800" spc="-1" strike="noStrike">
                <a:solidFill>
                  <a:srgbClr val="cc3300"/>
                </a:solidFill>
                <a:latin typeface="Forte"/>
              </a:rPr>
              <a:t>и</a:t>
            </a:r>
            <a:r>
              <a:rPr b="1" i="1" lang="ru-RU" sz="4800" spc="-1" strike="noStrike">
                <a:solidFill>
                  <a:srgbClr val="0000ff"/>
                </a:solidFill>
                <a:latin typeface="Forte"/>
              </a:rPr>
              <a:t> с люб</a:t>
            </a:r>
            <a:r>
              <a:rPr b="1" i="1" lang="ru-RU" sz="4800" spc="-1" strike="noStrike">
                <a:solidFill>
                  <a:srgbClr val="cc3300"/>
                </a:solidFill>
                <a:latin typeface="Forte"/>
              </a:rPr>
              <a:t>ой</a:t>
            </a:r>
            <a:r>
              <a:rPr b="1" i="1" lang="ru-RU" sz="4800" spc="-1" strike="noStrike">
                <a:solidFill>
                  <a:srgbClr val="0000ff"/>
                </a:solidFill>
                <a:latin typeface="Forte"/>
              </a:rPr>
              <a:t> волн</a:t>
            </a:r>
            <a:r>
              <a:rPr b="1" i="1" lang="ru-RU" sz="4800" spc="-1" strike="noStrike">
                <a:solidFill>
                  <a:srgbClr val="cc3300"/>
                </a:solidFill>
                <a:latin typeface="Forte"/>
              </a:rPr>
              <a:t>ой</a:t>
            </a:r>
            <a:r>
              <a:rPr b="1" i="1" lang="ru-RU" sz="4800" spc="-1" strike="noStrike">
                <a:solidFill>
                  <a:srgbClr val="0000ff"/>
                </a:solidFill>
                <a:latin typeface="Forte"/>
              </a:rPr>
              <a:t> поспорить.</a:t>
            </a:r>
            <a:r>
              <a:rPr b="0" lang="ru-RU" sz="4800" spc="-1" strike="noStrike">
                <a:solidFill>
                  <a:srgbClr val="0000ff"/>
                </a:solidFill>
                <a:latin typeface="Fort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10"/>
          <p:cNvGraphicFramePr/>
          <p:nvPr/>
        </p:nvGraphicFramePr>
        <p:xfrm>
          <a:off x="2881440" y="836640"/>
          <a:ext cx="414000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1440" y="836640"/>
                    <a:ext cx="41400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11"/>
          <p:cNvSpPr/>
          <p:nvPr/>
        </p:nvSpPr>
        <p:spPr>
          <a:xfrm>
            <a:off x="3132000" y="126828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Showcard Gothic"/>
              </a:rPr>
              <a:t>Именительный </a:t>
            </a:r>
            <a:r>
              <a:rPr b="1" lang="ru-RU" sz="2400" spc="-1" strike="noStrike">
                <a:solidFill>
                  <a:srgbClr val="0000ff"/>
                </a:solidFill>
                <a:latin typeface="Showcard Gothic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Showcard Gothic"/>
              </a:rPr>
              <a:t>падеж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6443640" y="2060640"/>
            <a:ext cx="1584360" cy="936720"/>
          </a:xfrm>
          <a:prstGeom prst="wedgeEllipseCallout">
            <a:avLst>
              <a:gd name="adj1" fmla="val -76050"/>
              <a:gd name="adj2" fmla="val 46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КТО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transition spd="slow" advTm="1000"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6"/>
          <p:cNvGraphicFramePr/>
          <p:nvPr/>
        </p:nvGraphicFramePr>
        <p:xfrm>
          <a:off x="2700360" y="404640"/>
          <a:ext cx="4022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404640"/>
                    <a:ext cx="4022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9"/>
          <p:cNvSpPr/>
          <p:nvPr/>
        </p:nvSpPr>
        <p:spPr>
          <a:xfrm>
            <a:off x="3027240" y="692280"/>
            <a:ext cx="247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Showcard Gothic"/>
              </a:rPr>
              <a:t>Родительный 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Showcard Gothic"/>
              </a:rPr>
              <a:t>падеж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6227640" y="1557360"/>
            <a:ext cx="1729080" cy="1224000"/>
          </a:xfrm>
          <a:prstGeom prst="wedgeEllipseCallout">
            <a:avLst>
              <a:gd name="adj1" fmla="val -72129"/>
              <a:gd name="adj2" fmla="val 29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КОГО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ЧЕГО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transition spd="slow">
    <p:wipe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2700360" y="549360"/>
          <a:ext cx="4019400" cy="56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49360"/>
                    <a:ext cx="401940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7"/>
          <p:cNvSpPr/>
          <p:nvPr/>
        </p:nvSpPr>
        <p:spPr>
          <a:xfrm>
            <a:off x="6372360" y="1916280"/>
            <a:ext cx="1728720" cy="1225440"/>
          </a:xfrm>
          <a:prstGeom prst="wedgeEllipseCallout">
            <a:avLst>
              <a:gd name="adj1" fmla="val -87375"/>
              <a:gd name="adj2" fmla="val 200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КОМУ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ЧЕМУ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437280" y="105264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Showcard Gothic"/>
              </a:rPr>
              <a:t>ДАТЕЛЬНЫЙ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Showcard Gothic"/>
              </a:rPr>
              <a:t>ПАДЕЖ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transition spd="slow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4"/>
          <p:cNvGraphicFramePr/>
          <p:nvPr/>
        </p:nvGraphicFramePr>
        <p:xfrm>
          <a:off x="2340000" y="692280"/>
          <a:ext cx="391968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2280"/>
                    <a:ext cx="3919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7"/>
          <p:cNvSpPr/>
          <p:nvPr/>
        </p:nvSpPr>
        <p:spPr>
          <a:xfrm>
            <a:off x="2771640" y="1052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Showcard Gothic"/>
              </a:rPr>
              <a:t>ВИНИТЕЛЬНЫЙ ПАДЕЖ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5867280" y="2276640"/>
            <a:ext cx="1657440" cy="1147680"/>
          </a:xfrm>
          <a:prstGeom prst="wedgeEllipseCallout">
            <a:avLst>
              <a:gd name="adj1" fmla="val -78638"/>
              <a:gd name="adj2" fmla="val 233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КОГО? ЧТО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transition spd="slow">
    <p:wipe dir="u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4:49:14Z</dcterms:created>
  <dc:creator>СЕМЬЯ РЕПИНЫХ</dc:creator>
  <dc:description/>
  <dc:language>en-US</dc:language>
  <cp:lastModifiedBy>DNS</cp:lastModifiedBy>
  <dcterms:modified xsi:type="dcterms:W3CDTF">2020-11-17T04:03:33Z</dcterms:modified>
  <cp:revision>3</cp:revision>
  <dc:subject/>
  <dc:title>Слайд 1</dc:title>
</cp:coreProperties>
</file>