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5122-709A-47AE-BDCD-94CCBE33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E97-C15F-4AA5-9D73-F29FB4F6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B8F-D1E4-4F0F-98E5-45D1874B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286-0673-4D8B-A3E6-4DF5A2F1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DD6F-5321-4A54-B6D9-35FE9979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D6BA-2DF0-4A0D-A473-66F9C507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31BB-F322-4DE6-A102-2366E204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819B-BCE7-47A2-B5FF-9E56B3F8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FC75-F5E6-483D-9602-C18BC7B0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3CF4-CCD1-4A90-9635-EFDF6EB6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6033-29D3-4886-B04A-90BF0149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E05-E0D0-4A3B-9992-16CB2741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9E29-FEA9-4B22-B026-90D54919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571C-5E29-4F31-9B81-360E7445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BD75-BDF6-43C6-B2DF-47864EA5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C6D7-F4F5-4ACA-ADD9-02F42CE5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3EB6-5B3E-428E-820A-B4ABEAB5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90D-2D07-419A-AA4B-A6E4DCD6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1CF8-51A5-475F-98E6-F74C1368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9B9-314A-47A5-BEC4-D6681935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507-5768-403B-995F-906781DE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84D-3FF2-459C-9A1E-75C2CDFD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1FB-E5BF-4083-86EE-6F8A488D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337-768D-45AA-B347-DBA5EBCC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B4B0-2308-48BD-8541-4B3AD8D3AB7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Showcard Gothic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0722-FDFB-4378-A912-C85B218461B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1773000"/>
            <a:ext cx="753732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ru-RU" sz="4800" spc="-1" strike="noStrike">
                <a:solidFill>
                  <a:srgbClr val="336600"/>
                </a:solidFill>
                <a:latin typeface="Tahoma"/>
              </a:rPr>
              <a:t>Склонение имен </a:t>
            </a:r>
            <a:r>
              <a:rPr b="1" lang="ru-RU" sz="4800" spc="-1" strike="noStrike">
                <a:solidFill>
                  <a:srgbClr val="336600"/>
                </a:solidFill>
                <a:latin typeface="Tahoma"/>
              </a:rPr>
              <a:t>	</a:t>
            </a:r>
            <a:r>
              <a:rPr b="1" lang="ru-RU" sz="4800" spc="-1" strike="noStrike">
                <a:solidFill>
                  <a:srgbClr val="336600"/>
                </a:solidFill>
                <a:latin typeface="Tahoma"/>
              </a:rPr>
              <a:t>существительных </a:t>
            </a:r>
            <a:br>
              <a:rPr sz="4800"/>
            </a:b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4"/>
          <p:cNvGraphicFramePr/>
          <p:nvPr/>
        </p:nvGraphicFramePr>
        <p:xfrm>
          <a:off x="2544840" y="476280"/>
          <a:ext cx="4294080" cy="56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4840" y="476280"/>
                    <a:ext cx="42940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AutoShape 7"/>
          <p:cNvSpPr/>
          <p:nvPr/>
        </p:nvSpPr>
        <p:spPr>
          <a:xfrm>
            <a:off x="6443640" y="1628640"/>
            <a:ext cx="1944720" cy="1148040"/>
          </a:xfrm>
          <a:prstGeom prst="wedgeEllipseCallout">
            <a:avLst>
              <a:gd name="adj1" fmla="val -84694"/>
              <a:gd name="adj2" fmla="val 573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КЕМ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ЧЕМ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012120" y="98100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ТВОРИТЕЛЬНЫЙ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ПАДЕЖ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transition spd="slow"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4"/>
          <p:cNvGraphicFramePr/>
          <p:nvPr/>
        </p:nvGraphicFramePr>
        <p:xfrm>
          <a:off x="2424240" y="620640"/>
          <a:ext cx="38671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4240" y="620640"/>
                    <a:ext cx="38671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AutoShape 7"/>
          <p:cNvSpPr/>
          <p:nvPr/>
        </p:nvSpPr>
        <p:spPr>
          <a:xfrm>
            <a:off x="6227640" y="2205000"/>
            <a:ext cx="1729080" cy="1368360"/>
          </a:xfrm>
          <a:prstGeom prst="wedgeEllipseCallout">
            <a:avLst>
              <a:gd name="adj1" fmla="val -89027"/>
              <a:gd name="adj2" fmla="val 39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О КОМ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О ЧЕМ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066840" y="112536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ПРЕДЛОЖНЫЙ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ПАДЕЖ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transition spd="slow"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339966"/>
                </a:solidFill>
                <a:latin typeface="Tahoma"/>
              </a:rPr>
              <a:t>СКЛОНЕНИЕ ИМЕН СУЩЕСТВИТЕЛЬНЫХ</a:t>
            </a:r>
            <a:endParaRPr b="1" lang="en-US" sz="2000" spc="-1" strike="noStrike">
              <a:solidFill>
                <a:srgbClr val="339966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6680" y="1981080"/>
          <a:ext cx="7543800" cy="4114800"/>
        </p:xfrm>
        <a:graphic>
          <a:graphicData uri="http://schemas.openxmlformats.org/drawingml/2006/table">
            <a:tbl>
              <a:tblPr/>
              <a:tblGrid>
                <a:gridCol w="2514600"/>
                <a:gridCol w="2513160"/>
                <a:gridCol w="251604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ме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оряк ,лод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од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го? 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оряка, лод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а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му? 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оряку, ло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Ви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г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оряка, лод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вор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ем?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моряком, лодк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едло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 ком? 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 моряке, о ло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15640" y="2636640"/>
            <a:ext cx="7615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Лиса – хитрый звер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У (кого?) пушистый хвос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(Кому?) т..пло зим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Охотник высл..дил (кого?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Заяц не любит встреч..ться с (кем?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О (ком?) народ сложил сказ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Вместо вопросов вставьте 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существительное «лиса».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69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69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69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69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6920" y="213372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Лиса – хитрый звер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У </a:t>
            </a: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лисы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 пушистый хвос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Лисе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 т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е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пло зим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Охотник высл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е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дил </a:t>
            </a: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лис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Заяц не любит встреч</a:t>
            </a:r>
            <a:r>
              <a:rPr b="1" i="1" lang="ru-RU" sz="2800" spc="-1" strike="noStrike">
                <a:solidFill>
                  <a:srgbClr val="cc3300"/>
                </a:solidFill>
                <a:latin typeface="Tahoma"/>
              </a:rPr>
              <a:t>а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ться с </a:t>
            </a: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лис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О </a:t>
            </a:r>
            <a:r>
              <a:rPr b="1" i="1" lang="ru-RU" sz="2800" spc="-1" strike="noStrike">
                <a:solidFill>
                  <a:srgbClr val="009900"/>
                </a:solidFill>
                <a:latin typeface="Tahoma"/>
              </a:rPr>
              <a:t>лисе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 народ сложил сказ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339966"/>
                </a:solidFill>
                <a:latin typeface="Tahoma"/>
              </a:rPr>
              <a:t>Проверь свою работу!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slow">
    <p:diamond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3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3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3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Найдите ошибку!</a:t>
            </a: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2707920"/>
            <a:ext cx="7759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Долго я брожу в л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ahoma"/>
              </a:rPr>
              <a:t>и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су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Не найду нигде л</a:t>
            </a: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ahoma"/>
              </a:rPr>
              <a:t>и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с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380"/>
                            </p:stCondLst>
                            <p:childTnLst>
                              <p:par>
                                <p:cTn id="3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3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116000" y="1989000"/>
          <a:ext cx="7494480" cy="4106880"/>
        </p:xfrm>
        <a:graphic>
          <a:graphicData uri="http://schemas.openxmlformats.org/drawingml/2006/table">
            <a:tbl>
              <a:tblPr/>
              <a:tblGrid>
                <a:gridCol w="3747960"/>
                <a:gridCol w="3746520"/>
              </a:tblGrid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ме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Род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го? 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Да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му? 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Вин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г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ворите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ем?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едло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 ком? 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Showcard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Выучить!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slow">
    <p:push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608960" cy="59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ligraph"/>
              </a:rPr>
              <a:t>Море, моряк, морской, мореход, морячок, морячка, моряцкий, морячить, взморье, поморье, поморец, поморка.</a:t>
            </a:r>
            <a:r>
              <a:rPr b="1" lang="ru-RU" sz="4000" spc="-1" strike="noStrike">
                <a:solidFill>
                  <a:srgbClr val="339966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7488360" cy="4492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Cooper Black"/>
              </a:rPr>
              <a:t>	</a:t>
            </a:r>
            <a:r>
              <a:rPr b="1" lang="ru-RU" sz="4000" spc="-1" strike="noStrike">
                <a:solidFill>
                  <a:srgbClr val="336600"/>
                </a:solidFill>
                <a:latin typeface="Cooper Black"/>
              </a:rPr>
              <a:t>	</a:t>
            </a:r>
            <a:r>
              <a:rPr b="1" lang="ru-RU" sz="4000" spc="-1" strike="noStrike">
                <a:solidFill>
                  <a:srgbClr val="336600"/>
                </a:solidFill>
                <a:latin typeface="Cooper Black"/>
              </a:rPr>
              <a:t>Карта страны 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Cooper Black"/>
              </a:rPr>
              <a:t>	</a:t>
            </a:r>
            <a:r>
              <a:rPr b="1" lang="ru-RU" sz="4000" spc="-1" strike="noStrike">
                <a:solidFill>
                  <a:srgbClr val="336600"/>
                </a:solidFill>
                <a:latin typeface="Cooper Black"/>
              </a:rPr>
              <a:t>имен существительных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slow">
    <p:strips dir="r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708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Forte"/>
              </a:rPr>
              <a:t>	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Нам нужны такой корабль на море, чтобы мы мог с любая волна поспорить</a:t>
            </a:r>
            <a:r>
              <a:rPr b="0" lang="ru-RU" sz="4800" spc="-1" strike="noStrike">
                <a:solidFill>
                  <a:srgbClr val="0000ff"/>
                </a:solidFill>
                <a:latin typeface="Fort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198108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Нам нужны так</a:t>
            </a:r>
            <a:r>
              <a:rPr b="1" i="1" lang="ru-RU" sz="4800" spc="-1" strike="noStrike">
                <a:solidFill>
                  <a:srgbClr val="cc3300"/>
                </a:solidFill>
                <a:latin typeface="Forte"/>
              </a:rPr>
              <a:t>ие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 корабл</a:t>
            </a:r>
            <a:r>
              <a:rPr b="1" i="1" lang="ru-RU" sz="4800" spc="-1" strike="noStrike">
                <a:solidFill>
                  <a:srgbClr val="cc3300"/>
                </a:solidFill>
                <a:latin typeface="Forte"/>
              </a:rPr>
              <a:t>и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 на море, чтобы мы могл</a:t>
            </a:r>
            <a:r>
              <a:rPr b="1" i="1" lang="ru-RU" sz="4800" spc="-1" strike="noStrike">
                <a:solidFill>
                  <a:srgbClr val="cc3300"/>
                </a:solidFill>
                <a:latin typeface="Forte"/>
              </a:rPr>
              <a:t>и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 с люб</a:t>
            </a:r>
            <a:r>
              <a:rPr b="1" i="1" lang="ru-RU" sz="4800" spc="-1" strike="noStrike">
                <a:solidFill>
                  <a:srgbClr val="cc3300"/>
                </a:solidFill>
                <a:latin typeface="Forte"/>
              </a:rPr>
              <a:t>ой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 волн</a:t>
            </a:r>
            <a:r>
              <a:rPr b="1" i="1" lang="ru-RU" sz="4800" spc="-1" strike="noStrike">
                <a:solidFill>
                  <a:srgbClr val="cc3300"/>
                </a:solidFill>
                <a:latin typeface="Forte"/>
              </a:rPr>
              <a:t>ой</a:t>
            </a:r>
            <a:r>
              <a:rPr b="1" i="1" lang="ru-RU" sz="4800" spc="-1" strike="noStrike">
                <a:solidFill>
                  <a:srgbClr val="0000ff"/>
                </a:solidFill>
                <a:latin typeface="Forte"/>
              </a:rPr>
              <a:t> поспорить.</a:t>
            </a:r>
            <a:r>
              <a:rPr b="0" lang="ru-RU" sz="4800" spc="-1" strike="noStrike">
                <a:solidFill>
                  <a:srgbClr val="0000ff"/>
                </a:solidFill>
                <a:latin typeface="Fort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10"/>
          <p:cNvGraphicFramePr/>
          <p:nvPr/>
        </p:nvGraphicFramePr>
        <p:xfrm>
          <a:off x="2881440" y="836640"/>
          <a:ext cx="414000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1440" y="836640"/>
                    <a:ext cx="41400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11"/>
          <p:cNvSpPr/>
          <p:nvPr/>
        </p:nvSpPr>
        <p:spPr>
          <a:xfrm>
            <a:off x="3132000" y="126828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Showcard Gothic"/>
              </a:rPr>
              <a:t>Именительный </a:t>
            </a:r>
            <a:r>
              <a:rPr b="1" lang="ru-RU" sz="2400" spc="-1" strike="noStrike">
                <a:solidFill>
                  <a:srgbClr val="0000ff"/>
                </a:solidFill>
                <a:latin typeface="Showcard Gothic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Showcard Gothic"/>
              </a:rPr>
              <a:t>падеж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6443640" y="2060640"/>
            <a:ext cx="1584360" cy="936720"/>
          </a:xfrm>
          <a:prstGeom prst="wedgeEllipseCallout">
            <a:avLst>
              <a:gd name="adj1" fmla="val -76050"/>
              <a:gd name="adj2" fmla="val 46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КТО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transition spd="slow" advTm="1000"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6"/>
          <p:cNvGraphicFramePr/>
          <p:nvPr/>
        </p:nvGraphicFramePr>
        <p:xfrm>
          <a:off x="2700360" y="404640"/>
          <a:ext cx="4022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404640"/>
                    <a:ext cx="4022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9"/>
          <p:cNvSpPr/>
          <p:nvPr/>
        </p:nvSpPr>
        <p:spPr>
          <a:xfrm>
            <a:off x="3027240" y="692280"/>
            <a:ext cx="247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Showcard Gothic"/>
              </a:rPr>
              <a:t>Родительный 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Showcard Gothic"/>
              </a:rPr>
              <a:t>падеж</a:t>
            </a:r>
            <a:endParaRPr b="0" lang="en-US" sz="2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6227640" y="1557360"/>
            <a:ext cx="1729080" cy="1224000"/>
          </a:xfrm>
          <a:prstGeom prst="wedgeEllipseCallout">
            <a:avLst>
              <a:gd name="adj1" fmla="val -72129"/>
              <a:gd name="adj2" fmla="val 29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КОГО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ЧЕГО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transition spd="slow">
    <p:wipe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2700360" y="549360"/>
          <a:ext cx="4019400" cy="56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49360"/>
                    <a:ext cx="401940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7"/>
          <p:cNvSpPr/>
          <p:nvPr/>
        </p:nvSpPr>
        <p:spPr>
          <a:xfrm>
            <a:off x="6372360" y="1916280"/>
            <a:ext cx="1728720" cy="1225440"/>
          </a:xfrm>
          <a:prstGeom prst="wedgeEllipseCallout">
            <a:avLst>
              <a:gd name="adj1" fmla="val -87375"/>
              <a:gd name="adj2" fmla="val 20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КОМУ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ЧЕМУ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437280" y="105264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ДАТЕЛЬНЫЙ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ПАДЕЖ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transition spd="slow"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4"/>
          <p:cNvGraphicFramePr/>
          <p:nvPr/>
        </p:nvGraphicFramePr>
        <p:xfrm>
          <a:off x="2340000" y="692280"/>
          <a:ext cx="391968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2280"/>
                    <a:ext cx="3919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7"/>
          <p:cNvSpPr/>
          <p:nvPr/>
        </p:nvSpPr>
        <p:spPr>
          <a:xfrm>
            <a:off x="2771640" y="1052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Showcard Gothic"/>
              </a:rPr>
              <a:t>ВИНИТЕЛЬНЫЙ ПАДЕЖ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5867280" y="2276640"/>
            <a:ext cx="1657440" cy="1147680"/>
          </a:xfrm>
          <a:prstGeom prst="wedgeEllipseCallout">
            <a:avLst>
              <a:gd name="adj1" fmla="val -78638"/>
              <a:gd name="adj2" fmla="val 2330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КОГО? ЧТО?</a:t>
            </a:r>
            <a:endParaRPr b="0" lang="en-US" sz="20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transition spd="slow">
    <p:wipe dir="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4:49:14Z</dcterms:created>
  <dc:creator>СЕМЬЯ РЕПИНЫХ</dc:creator>
  <dc:description/>
  <dc:language>en-US</dc:language>
  <cp:lastModifiedBy>DNS</cp:lastModifiedBy>
  <dcterms:modified xsi:type="dcterms:W3CDTF">2020-11-17T04:03:33Z</dcterms:modified>
  <cp:revision>3</cp:revision>
  <dc:subject/>
  <dc:title>Слайд 1</dc:title>
</cp:coreProperties>
</file>