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47A-FC81-4A18-81BB-579207A8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4BF-991E-4E4E-AA8B-041618F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33F0-A84E-4393-810F-945023F4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6E9-B7C4-4C6E-AA4A-7E6923AB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5D32-5E84-454B-B44D-805FB5F6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80D6-BF25-45F1-84D0-A15CB9DB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7A29-83F0-46AE-8B42-0A56B5FC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596-C17A-4F66-B3B0-BA888886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4A59-EC10-473E-929D-51C24AFD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3E3E-13F5-46AE-8F10-AFD46C5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8F87-6603-4039-BF05-90369984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55C-970B-4155-98DE-D133E44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3D8-961F-4868-8BA7-374878D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7BAE-F55C-4E0C-B9C3-423586F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C9CD-E36A-4F69-B1AE-43B49DC8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4E59-0145-4139-8EA3-71A9F87A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586-8E1A-4B89-B8AD-1591A26A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6247-AE6E-4B3C-BA85-48811B5F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26CA-A914-4D11-B592-4381BC2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E01E-4F3E-4063-9F74-22A7657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0EDF-F117-4336-80AE-169A433A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7F84-BEF8-497E-BFFA-E610B8B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1BD-0C4A-4199-BDCF-CA29E39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5F45-B72E-4221-A493-776B604B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E461-846C-4494-AB4F-7229FE39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DDC8-80CC-4D32-8555-B2E79C1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B1BD-A235-4D76-9D20-7D422B6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0FA8-1839-44A3-962C-496E285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5796-9E9E-4F7F-944E-8092D028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3058-47EA-4455-9933-41C0EAD1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64A-63D4-4057-AFBF-F0ED633D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CB0-9BE5-4E47-B0A1-26450A9E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2CB-4C16-42F5-98A6-8EFFCA17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895-3B85-40D0-9E35-FB105CA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762-CC8D-4045-8F82-DB95730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0A4-6971-4B34-9B02-28B17A9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94A299-A03A-4930-9163-947DE11CC38D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07A3D2-0D45-4CC8-A884-13552A374D70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Равнобедренный треугольник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F0077B0-BBBE-4E66-9727-171D713EFC45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C:/Users/&#1041;&#1086;&#1075;&#1076;&#1072;&#1085;/Desktop/&#1052;&#1054;&#1049;%20&#1091;&#1088;&#1086;&#1082;/pril3.MP3" TargetMode="External"/><Relationship Id="rId3" Type="http://schemas.microsoft.com/office/2007/relationships/media" Target="file:///C:/Users/&#1041;&#1086;&#1075;&#1076;&#1072;&#1085;/Desktop/&#1052;&#1054;&#1049;%20&#1091;&#1088;&#1086;&#1082;/pril3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rono.info/dokum/1000dok/pravda72.php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620640"/>
            <a:ext cx="850068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a57b6e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a57b6e"/>
                </a:solidFill>
                <a:latin typeface="Comic Sans MS"/>
              </a:rPr>
              <a:t>«Русское государство при Ярославе Мудром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716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6516360" y="4934880"/>
            <a:ext cx="244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Омельченко И.В.,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учитель истории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МБОУ СОШ № 100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34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1459440"/>
            <a:ext cx="4071600" cy="5398200"/>
          </a:xfrm>
          <a:prstGeom prst="rect">
            <a:avLst/>
          </a:prstGeom>
          <a:ln w="38100">
            <a:solidFill>
              <a:srgbClr val="727ca3"/>
            </a:solidFill>
            <a:miter/>
          </a:ln>
          <a:effectLst>
            <a:softEdge rad="317520"/>
          </a:effectLst>
        </p:spPr>
      </p:pic>
      <p:sp>
        <p:nvSpPr>
          <p:cNvPr id="143" name="Прямоугольник 4"/>
          <p:cNvSpPr/>
          <p:nvPr/>
        </p:nvSpPr>
        <p:spPr>
          <a:xfrm>
            <a:off x="3929040" y="3357720"/>
            <a:ext cx="5214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a57b6e"/>
                </a:solidFill>
                <a:latin typeface="Gill Sans MT"/>
              </a:rPr>
              <a:t>1019-10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214200" y="214200"/>
            <a:ext cx="8786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a57b6e"/>
                </a:solidFill>
                <a:latin typeface="Gill Sans MT"/>
              </a:rPr>
              <a:t>Ярослав Мудр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Group 58"/>
          <p:cNvGraphicFramePr/>
          <p:nvPr/>
        </p:nvGraphicFramePr>
        <p:xfrm>
          <a:off x="214200" y="2500200"/>
          <a:ext cx="8786520" cy="3500280"/>
        </p:xfrm>
        <a:graphic>
          <a:graphicData uri="http://schemas.openxmlformats.org/drawingml/2006/table">
            <a:tbl>
              <a:tblPr/>
              <a:tblGrid>
                <a:gridCol w="2928600"/>
                <a:gridCol w="2928600"/>
                <a:gridCol w="2928600"/>
              </a:tblGrid>
              <a:tr h="10234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Прямоугольник 2"/>
          <p:cNvSpPr/>
          <p:nvPr/>
        </p:nvSpPr>
        <p:spPr>
          <a:xfrm>
            <a:off x="214200" y="785880"/>
            <a:ext cx="8786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a57b6e"/>
                </a:solidFill>
                <a:latin typeface="Gill Sans MT"/>
              </a:rPr>
              <a:t>Работа в групп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Group 58"/>
          <p:cNvGraphicFramePr/>
          <p:nvPr/>
        </p:nvGraphicFramePr>
        <p:xfrm>
          <a:off x="142920" y="214200"/>
          <a:ext cx="8857800" cy="838440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881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b292ca"/>
                        </a:buClr>
                        <a:buSzPct val="120000"/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Group 58"/>
          <p:cNvGraphicFramePr/>
          <p:nvPr/>
        </p:nvGraphicFramePr>
        <p:xfrm>
          <a:off x="142920" y="214200"/>
          <a:ext cx="8857800" cy="847584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9284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иевский князь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издание законов , определение внешней политики ,  руководство вооруженными силами , судебн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нязь – наместни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правление от имени киевского князя в крупных землях- волост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Друж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веч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решение вопросов войны и мира, денежных и земельных проблем, вопросов княжения, обсуждения зак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Group 58"/>
          <p:cNvGraphicFramePr/>
          <p:nvPr/>
        </p:nvGraphicFramePr>
        <p:xfrm>
          <a:off x="142920" y="0"/>
          <a:ext cx="8857800" cy="906084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1010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иевский князь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издание законов , определение внешней политики ,  руководство вооруженными силами , судебн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нязь – наместни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правление от имени киевского князя в крупных землях- волост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Друж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веч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решение вопросов войны и мира, денежных и земельных проблем, вопросов княжения, обсуждения зак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Укрепление южных границ Руси, строительство городов-крепостей.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1036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– разгром печене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Укрепление безопасности северо-западных границ.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1030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– утверждение власти на западном берегу Чудского оз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1041г – заключение союзного договора с польским коро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b292ca"/>
                        </a:buClr>
                        <a:buSzPct val="120000"/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43г – последнее военное столкновение с Византией. Неудача  Мирный договор 1946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Укрепление международного авторитета с помощью династических брак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24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1" i="1" lang="ru-RU" sz="8000" spc="-1" strike="noStrike">
                <a:solidFill>
                  <a:srgbClr val="a57b6e"/>
                </a:solidFill>
                <a:latin typeface="Bookman Old Style"/>
              </a:rPr>
              <a:t>Решить тест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7000"/>
          </a:bodyPr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1) Годы правления Ярослава Мудрого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1019-1054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1019-1036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1019-1027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2) Ярослав Мудрый положил  начало созданию на Руси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монастырей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письменности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письменного свода (сборника) законов 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г) летописного свода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3) При Ярославе Мудром высшая власть в Древнерусском государстве принадлежала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вече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киевскому князю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вече и совету старейшин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г) совету старейшин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51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4)Вотчина – это: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а) земля, являющаяся совместной собственностью общин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) сдаваемая в аренду земля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) наследственное земельное держание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) земля, отданная в пользование общиннику, за которую он платил дань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5) Категория населения на Руси, близкая к рабам: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а) холоп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) закуп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) младшая дружин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) рядович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a57b6e"/>
                </a:solidFill>
                <a:latin typeface="Bookman Old Style"/>
              </a:rPr>
              <a:t>Домашнее задание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1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Базовый уровень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- параграф 6 вопр. 1,4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Gill Sans MT"/>
              </a:rPr>
              <a:t>Повышенный уровен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- параграф 6 вопр. 2,3 зад.20 в рабочей тетради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428760" y="3214800"/>
            <a:ext cx="8214840" cy="4163400"/>
          </a:xfrm>
          <a:prstGeom prst="rect">
            <a:avLst/>
          </a:prstGeom>
          <a:gradFill rotWithShape="0">
            <a:gsLst>
              <a:gs pos="0">
                <a:srgbClr val="f4efef"/>
              </a:gs>
              <a:gs pos="100000">
                <a:srgbClr val="d5c7c3"/>
              </a:gs>
            </a:gsLst>
            <a:lin ang="5400000"/>
          </a:gradFill>
          <a:ln>
            <a:solidFill>
              <a:srgbClr val="8e736a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a57b6e"/>
                </a:solidFill>
                <a:latin typeface="Gill Sans MT"/>
              </a:rPr>
              <a:t>Карта маршрут для  выполнения 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1. Выйти на сайт </a:t>
            </a:r>
            <a:r>
              <a:rPr b="0" lang="ru-RU" sz="24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hrono.info/dokum/1000dok/pravda72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2. Внимательно прочитать источник "Русская Правд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3. Выбрать и записать в тетради категории населения, упоминаемые в "Русской Правд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4. На основании прочитанного , выполнить задание 20 на странице 28 в рабочей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5. Сделать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67</TotalTime>
  <Application>LibreOffice/7.4.7.2$Linux_X86_64 LibreOffice_project/40$Build-2</Application>
  <AppVersion>15.0000</AppVersion>
  <Words>680</Words>
  <Paragraphs>94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6:58:52Z</dcterms:created>
  <dc:creator>Админ</dc:creator>
  <dc:description/>
  <dc:language>en-US</dc:language>
  <cp:lastModifiedBy>Богдан</cp:lastModifiedBy>
  <dcterms:modified xsi:type="dcterms:W3CDTF">2020-11-17T19:32:05Z</dcterms:modified>
  <cp:revision>91</cp:revision>
  <dc:subject/>
  <dc:title>Правильно соотнесите события истории Руси со временами правления княз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