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0F9-1F44-49C2-AF9E-90AA8071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85A-E5D7-4C3E-8A25-F751985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D95-B5D8-4836-B29C-77CAB6CC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EF3-CBE5-4771-ADE9-864E366F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B6F4-22DA-4BB8-9D23-5C66CD21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8F1-DCBA-47EF-B3EF-F8379EC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2119-4808-4C97-92E7-E566D409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C3A7-9CCC-43CC-A86C-C3549F60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08EE-67C5-4AD1-904A-DE5AB62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EA04-206E-4E70-A7D9-CB13788C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3D3C-DC12-4C3F-8DBC-CD331229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2A4B-9422-40C5-9F8E-813B9D20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4ED5-A202-44BF-A785-1F6CE98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90E-0651-4C4F-8D4F-35744B72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523B-9F0A-4D88-B23F-D0F476C1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CFA-1A96-4FE7-B4C1-BFE125DE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BB33-6AE6-4D09-940A-89D2816A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178E-E71D-416E-910A-4EF4AAE5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F46C2-23F7-4669-B157-0909516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7B8B-13B2-468F-B741-48F7819C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DF57-3CFB-4349-90D5-DE9EFEC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DCBB-EA3F-4692-A674-51F0812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042-CC52-40E7-92A5-D7C44782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88AF5-ED14-4621-B8BF-EEF4EC15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3B18-4BA1-4475-9A20-4844D9B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37342-739B-4D0F-97D5-5F952F67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73C7-8845-45CD-B6A8-FC3C2F73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C5EC-0267-4E5D-8A84-6C8D32E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9B02-A349-434E-BC3B-473849D7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D3240-106D-411A-BC6F-0D8BEADB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5DC-D858-438B-96FC-205DA42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B1F-DC5D-46FB-A950-D785D21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423-ED5B-458A-A562-F5F515F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451-0FB9-412D-8CBC-65EDC976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CAF-6CAB-480B-AB2D-934C1B33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D6E-074A-4205-A523-495AE48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DEAF6BA-305D-4F02-8F2B-735D73BF92EB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DCE1A61-CF1B-4DEA-BF04-E4129C68B7D4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Равнобедренный треугольник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E028DF9-D927-4C5D-AD06-73B7180DF9E7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C:/Users/&#1041;&#1086;&#1075;&#1076;&#1072;&#1085;/Desktop/&#1052;&#1054;&#1049;%20&#1091;&#1088;&#1086;&#1082;/pril3.MP3" TargetMode="External"/><Relationship Id="rId3" Type="http://schemas.microsoft.com/office/2007/relationships/media" Target="file:///C:/Users/&#1041;&#1086;&#1075;&#1076;&#1072;&#1085;/Desktop/&#1052;&#1054;&#1049;%20&#1091;&#1088;&#1086;&#1082;/pril3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rono.info/dokum/1000dok/pravda72.php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  <a:effectLst>
            <a:softEdge rad="635040"/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620640"/>
            <a:ext cx="850068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a57b6e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a57b6e"/>
                </a:solidFill>
                <a:latin typeface="Comic Sans MS"/>
              </a:rPr>
              <a:t>«Русское государство при Ярославе Мудром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7160" y="63579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6516360" y="4934880"/>
            <a:ext cx="24480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Омельченко И.В.,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учитель истории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МБОУ СОШ № 100</a:t>
            </a:r>
            <a:br>
              <a:rPr sz="1800"/>
            </a:br>
            <a:r>
              <a:rPr b="0" lang="ru-RU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ea typeface="Times New Roman"/>
              </a:rPr>
              <a:t>Красн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34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1459440"/>
            <a:ext cx="4071600" cy="5398200"/>
          </a:xfrm>
          <a:prstGeom prst="rect">
            <a:avLst/>
          </a:prstGeom>
          <a:ln w="38100">
            <a:solidFill>
              <a:srgbClr val="727ca3"/>
            </a:solidFill>
            <a:miter/>
          </a:ln>
          <a:effectLst>
            <a:softEdge rad="317520"/>
          </a:effectLst>
        </p:spPr>
      </p:pic>
      <p:sp>
        <p:nvSpPr>
          <p:cNvPr id="143" name="Прямоугольник 4"/>
          <p:cNvSpPr/>
          <p:nvPr/>
        </p:nvSpPr>
        <p:spPr>
          <a:xfrm>
            <a:off x="3929040" y="3357720"/>
            <a:ext cx="52146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a57b6e"/>
                </a:solidFill>
                <a:latin typeface="Gill Sans MT"/>
              </a:rPr>
              <a:t>1019-105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5"/>
          <p:cNvSpPr/>
          <p:nvPr/>
        </p:nvSpPr>
        <p:spPr>
          <a:xfrm>
            <a:off x="214200" y="214200"/>
            <a:ext cx="8786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a57b6e"/>
                </a:solidFill>
                <a:latin typeface="Gill Sans MT"/>
              </a:rPr>
              <a:t>Ярослав Мудр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Group 58"/>
          <p:cNvGraphicFramePr/>
          <p:nvPr/>
        </p:nvGraphicFramePr>
        <p:xfrm>
          <a:off x="214200" y="2500200"/>
          <a:ext cx="8786520" cy="3500280"/>
        </p:xfrm>
        <a:graphic>
          <a:graphicData uri="http://schemas.openxmlformats.org/drawingml/2006/table">
            <a:tbl>
              <a:tblPr/>
              <a:tblGrid>
                <a:gridCol w="2928600"/>
                <a:gridCol w="2928600"/>
                <a:gridCol w="2928600"/>
              </a:tblGrid>
              <a:tr h="10234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Прямоугольник 2"/>
          <p:cNvSpPr/>
          <p:nvPr/>
        </p:nvSpPr>
        <p:spPr>
          <a:xfrm>
            <a:off x="214200" y="785880"/>
            <a:ext cx="8786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a57b6e"/>
                </a:solidFill>
                <a:latin typeface="Gill Sans MT"/>
              </a:rPr>
              <a:t>Работа в группа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Group 58"/>
          <p:cNvGraphicFramePr/>
          <p:nvPr/>
        </p:nvGraphicFramePr>
        <p:xfrm>
          <a:off x="142920" y="214200"/>
          <a:ext cx="8857800" cy="838440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8816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b292ca"/>
                        </a:buClr>
                        <a:buSzPct val="120000"/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Group 58"/>
          <p:cNvGraphicFramePr/>
          <p:nvPr/>
        </p:nvGraphicFramePr>
        <p:xfrm>
          <a:off x="142920" y="214200"/>
          <a:ext cx="8857800" cy="847584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9284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иевский князь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издание законов , определение внешней политики ,  руководство вооруженными силами , судебн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нязь – наместни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правление от имени киевского князя в крупных землях- волост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Друж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веч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решение вопросов войны и мира, денежных и земельных проблем, вопросов княжения, обсуждения зак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ru-RU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Group 58"/>
          <p:cNvGraphicFramePr/>
          <p:nvPr/>
        </p:nvGraphicFramePr>
        <p:xfrm>
          <a:off x="142920" y="0"/>
          <a:ext cx="8857800" cy="9060840"/>
        </p:xfrm>
        <a:graphic>
          <a:graphicData uri="http://schemas.openxmlformats.org/drawingml/2006/table">
            <a:tbl>
              <a:tblPr/>
              <a:tblGrid>
                <a:gridCol w="2952720"/>
                <a:gridCol w="2952720"/>
                <a:gridCol w="2952720"/>
              </a:tblGrid>
              <a:tr h="1010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утрен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Управление государ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Внешняя поли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Ст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Рост городов как центров ремесла и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Меры по развитию культуры: строительство храмов, создаются библиотеки, перевод книг, открываются школ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Меры по укреплению независимости и самостоятельности русской церкви. Митрополит – русский. Первый – Илларио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В 1016г введен в действие первый на Руси писанный свод законов «Русская правд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иевский князь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 издание законов , определение внешней политики ,  руководство вооруженными силами , судебн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 князь – наместник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правление от имени киевского князя в крупных землях- волостя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Друж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-вече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решение вопросов войны и мира, денежных и земельных проблем, вопросов княжения, обсуждения закон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Укрепление южных границ Руси, строительство городов-крепостей.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1036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– разгром печенег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Укрепление безопасности северо-западных границ.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1030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– утверждение власти на западном берегу Чудского оз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 1041г – заключение союзного договора с польским корол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buClr>
                          <a:srgbClr val="b292ca"/>
                        </a:buClr>
                        <a:buSzPct val="120000"/>
                        <a:buFont typeface="StarSymbol"/>
                        <a:buChar char="-"/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43г – последнее военное столкновение с Византией. Неудача  Мирный договор 1946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Укрепление международного авторитета с помощью династических брак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24000"/>
          </a:bodyPr>
          <a:p>
            <a:pPr indent="0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1" i="1" lang="ru-RU" sz="8000" spc="-1" strike="noStrike">
                <a:solidFill>
                  <a:srgbClr val="a57b6e"/>
                </a:solidFill>
                <a:latin typeface="Bookman Old Style"/>
              </a:rPr>
              <a:t>Решить тест</a:t>
            </a:r>
            <a:endParaRPr b="0" lang="ru-RU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56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7000"/>
          </a:bodyPr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1) Годы правления Ярослава Мудрого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1019-1054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1019-1036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1019-1027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2) Ярослав Мудрый положил  начало созданию на Руси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монастырей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письменности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письменного свода (сборника) законов 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г) летописного свода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3) При Ярославе Мудром высшая власть в Древнерусском государстве принадлежала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а) вече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б) киевскому князю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в) вече и совету старейшин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Gill Sans MT"/>
              </a:rPr>
              <a:t>г) совету старейшин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240" cy="551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4)Вотчина – это: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а) земля, являющаяся совместной собственностью общин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) сдаваемая в аренду земля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) наследственное земельное держание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) земля, отданная в пользование общиннику, за которую он платил дань 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5) Категория населения на Руси, близкая к рабам: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а) холоп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б) закуп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) младшая дружин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г) рядовичи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a57b6e"/>
                </a:solidFill>
                <a:latin typeface="Bookman Old Style"/>
              </a:rPr>
              <a:t>Домашнее задание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1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Базовый уровень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Gill Sans MT"/>
              </a:rPr>
              <a:t>- параграф 6 вопр. 1,4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44800" indent="-2448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Gill Sans MT"/>
              </a:rPr>
              <a:t>Повышенный уровен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- параграф 6 вопр. 2,3 зад.20 в рабочей тетради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428760" y="3214800"/>
            <a:ext cx="8214840" cy="4163400"/>
          </a:xfrm>
          <a:prstGeom prst="rect">
            <a:avLst/>
          </a:prstGeom>
          <a:gradFill rotWithShape="0">
            <a:gsLst>
              <a:gs pos="0">
                <a:srgbClr val="f4efef"/>
              </a:gs>
              <a:gs pos="100000">
                <a:srgbClr val="d5c7c3"/>
              </a:gs>
            </a:gsLst>
            <a:lin ang="5400000"/>
          </a:gradFill>
          <a:ln>
            <a:solidFill>
              <a:srgbClr val="8e736a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a57b6e"/>
                </a:solidFill>
                <a:latin typeface="Gill Sans MT"/>
              </a:rPr>
              <a:t>Карта маршрут для  выполнения  домашне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1. Выйти на сайт </a:t>
            </a:r>
            <a:r>
              <a:rPr b="0" lang="ru-RU" sz="24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hrono.info/dokum/1000dok/pravda72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2. Внимательно прочитать источник "Русская Правд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3. Выбрать и записать в тетради категории населения, упоминаемые в "Русской Правд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4. На основании прочитанного , выполнить задание 20 на странице 28 в рабочей тетр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Gill Sans MT"/>
              </a:rPr>
              <a:t>5. Сделать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867</TotalTime>
  <Application>LibreOffice/7.4.7.2$Linux_X86_64 LibreOffice_project/40$Build-2</Application>
  <AppVersion>15.0000</AppVersion>
  <Words>680</Words>
  <Paragraphs>94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6:58:52Z</dcterms:created>
  <dc:creator>Админ</dc:creator>
  <dc:description/>
  <dc:language>en-US</dc:language>
  <cp:lastModifiedBy>Богдан</cp:lastModifiedBy>
  <dcterms:modified xsi:type="dcterms:W3CDTF">2020-11-17T19:32:05Z</dcterms:modified>
  <cp:revision>91</cp:revision>
  <dc:subject/>
  <dc:title>Правильно соотнесите события истории Руси со временами правления княз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