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027-6F4D-42C2-ADBF-9D4F8BECC2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C2E7-B602-4F86-9321-F7F9B349F5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EDE-8F25-4D66-88F9-17E76F3EB5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C42-D97D-49FC-84F9-8D62AC91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E8D-A353-46BC-9E7E-D7939039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2FD-6E92-4CD0-8487-250DEBCB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DD4-DE4B-42B9-81E8-C3842F4A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4B4-4E46-4E53-AD7A-90EAEC2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772-A31B-4368-8370-9289D8E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43B-902B-4340-A0D9-21AB359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247D-008A-4420-A2DC-44F0A108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9CA-0FAD-4856-91C9-8CA13CE8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DCC-57CD-4DFA-BA89-830C92C4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068-138E-45A8-B85F-FB118331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685-A86C-437D-BCAB-017D2B9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15BF-D5BE-4C17-B722-51D6CB63E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рок по  вокала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ма: «Веселые задания по вокал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120" y="4652640"/>
            <a:ext cx="6248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: Годухина О.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ДО ЦРТДиЮ им.А.Гайд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Арзам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выработки и закрепления умений и навы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здание положительной установки на ход и результа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концентрировать внимание учащихся, настроить их на совместную работу, подготовить голосовой аппарат к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ое упраж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265480" y="4986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Веселый урок во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978200" y="19051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с веселыми зада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xxx\Мои документы\Мои рисунки\сайт\pozitiv095.jpg"/>
          <p:cNvPicPr/>
          <p:nvPr/>
        </p:nvPicPr>
        <p:blipFill>
          <a:blip r:embed="rId2"/>
          <a:stretch/>
        </p:blipFill>
        <p:spPr>
          <a:xfrm>
            <a:off x="457200" y="3581280"/>
            <a:ext cx="324792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853520" y="3627360"/>
            <a:ext cx="278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Смотри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в режиме «кл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 выполняй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257800" y="5375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447920" y="380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трабатываем певческ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xxx\Рабочий стол\i - 6.jpg"/>
          <p:cNvPicPr/>
          <p:nvPr/>
        </p:nvPicPr>
        <p:blipFill>
          <a:blip r:embed="rId2"/>
          <a:stretch/>
        </p:blipFill>
        <p:spPr>
          <a:xfrm>
            <a:off x="0" y="1981080"/>
            <a:ext cx="3240000" cy="362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920400" y="21034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Лягте на ров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60720" y="26370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Положите игрушку на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412520" y="332280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Медленно в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грушка подним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008240" y="4770360"/>
            <a:ext cx="29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Медленно вы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грушка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xxx\Рабочий стол\i _17.jpg"/>
          <p:cNvPicPr/>
          <p:nvPr/>
        </p:nvPicPr>
        <p:blipFill>
          <a:blip r:embed="rId2"/>
          <a:stretch/>
        </p:blipFill>
        <p:spPr>
          <a:xfrm>
            <a:off x="380880" y="3809880"/>
            <a:ext cx="2505240" cy="2471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691280" y="35100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редставьте, что вы большой надувной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осле игры вас положили на тра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и вытащили загл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Вы отдыхаете и медленно выпускаете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Зачем сп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8920" y="3246480"/>
            <a:ext cx="419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одумайте о прия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Улыбнит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Тоненькой струйкой на звук «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выдыхайте возд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звиваем артикуляцион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xxx\Рабочий стол\i_18.jpg"/>
          <p:cNvPicPr/>
          <p:nvPr/>
        </p:nvPicPr>
        <p:blipFill>
          <a:blip r:embed="rId2"/>
          <a:stretch/>
        </p:blipFill>
        <p:spPr>
          <a:xfrm>
            <a:off x="457200" y="152388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922480" y="164628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Бык - тупогуб, тупогубенький бы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У быка бела губа была 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Documents and Settings\xxx\Рабочий стол\i - 19.jpg"/>
          <p:cNvPicPr/>
          <p:nvPr/>
        </p:nvPicPr>
        <p:blipFill>
          <a:blip r:embed="rId3"/>
          <a:stretch/>
        </p:blipFill>
        <p:spPr>
          <a:xfrm>
            <a:off x="6858000" y="2971800"/>
            <a:ext cx="1914480" cy="1428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029960" y="32464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а траве трава, на дворе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е руби дрова, на дворе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C:\Documents and Settings\xxx\Рабочий стол\i. - 20jpg.jpg"/>
          <p:cNvPicPr/>
          <p:nvPr/>
        </p:nvPicPr>
        <p:blipFill>
          <a:blip r:embed="rId4"/>
          <a:stretch/>
        </p:blipFill>
        <p:spPr>
          <a:xfrm>
            <a:off x="457200" y="4876920"/>
            <a:ext cx="1652760" cy="13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3063960" y="492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От топота к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пыль по полю л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xxx\Рабочий стол\i - 20.jpg"/>
          <p:cNvPicPr/>
          <p:nvPr/>
        </p:nvPicPr>
        <p:blipFill>
          <a:blip r:embed="rId2"/>
          <a:stretch/>
        </p:blipFill>
        <p:spPr>
          <a:xfrm>
            <a:off x="380880" y="457200"/>
            <a:ext cx="2162160" cy="182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Documents and Settings\xxx\Рабочий стол\i. - 22jpg.jpg"/>
          <p:cNvPicPr/>
          <p:nvPr/>
        </p:nvPicPr>
        <p:blipFill>
          <a:blip r:embed="rId3"/>
          <a:stretch/>
        </p:blipFill>
        <p:spPr>
          <a:xfrm>
            <a:off x="7315200" y="2133720"/>
            <a:ext cx="1468440" cy="207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xxx\Рабочий стол\i - 22.jpg"/>
          <p:cNvPicPr/>
          <p:nvPr/>
        </p:nvPicPr>
        <p:blipFill>
          <a:blip r:embed="rId4"/>
          <a:stretch/>
        </p:blipFill>
        <p:spPr>
          <a:xfrm>
            <a:off x="685800" y="4648320"/>
            <a:ext cx="1701720" cy="1863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561480" y="42696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Водовоз вез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Из - под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84600" y="492300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Мама мыла Милу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Мила мыло не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298240" y="27129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Шла Саша по шо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1295280"/>
            <a:ext cx="516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Повторяем скороговор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в различных обр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и с эмоциями, присущими персонаж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изображенному на карти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xxx\Рабочий стол\i - 24.jpg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xxx\Рабочий стол\i - 25.jpg"/>
          <p:cNvPicPr/>
          <p:nvPr/>
        </p:nvPicPr>
        <p:blipFill>
          <a:blip r:embed="rId3"/>
          <a:stretch/>
        </p:blipFill>
        <p:spPr>
          <a:xfrm>
            <a:off x="386244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xxx\Рабочий стол\i - 26.jpg"/>
          <p:cNvPicPr/>
          <p:nvPr/>
        </p:nvPicPr>
        <p:blipFill>
          <a:blip r:embed="rId4"/>
          <a:stretch/>
        </p:blipFill>
        <p:spPr>
          <a:xfrm>
            <a:off x="7077240" y="403848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44520" y="499428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551040" y="4156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842160" y="54752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424240" y="4516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847240" y="5027760"/>
            <a:ext cx="268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укушка кукушо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к в капюш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он сме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Молодцы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Вы замечательно выполнили все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xxx\Рабочий стол\i. - 4jpg.jpg"/>
          <p:cNvPicPr/>
          <p:nvPr/>
        </p:nvPicPr>
        <p:blipFill>
          <a:blip r:embed="rId2"/>
          <a:stretch/>
        </p:blipFill>
        <p:spPr>
          <a:xfrm>
            <a:off x="2514600" y="2057400"/>
            <a:ext cx="4206960" cy="3156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65040" y="560880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е забудьте повторить упражнения и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8:00:48Z</dcterms:created>
  <dc:creator>xxx</dc:creator>
  <dc:description/>
  <dc:language>en-US</dc:language>
  <cp:lastModifiedBy>RePack by Diakov</cp:lastModifiedBy>
  <dcterms:modified xsi:type="dcterms:W3CDTF">2020-06-03T12:28:09Z</dcterms:modified>
  <cp:revision>11</cp:revision>
  <dc:subject/>
  <dc:title>Заголовок слайда отсутствует</dc:title>
</cp:coreProperties>
</file>