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3169-E2B5-451E-B639-6F06F4F068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6DC4-F43F-44F6-BACE-603175326E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9B05-F94B-4732-8B8F-FF012DE7FA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8DB-C486-40DC-A7B8-E3507820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4B0-5F40-4F51-97C7-AC5C8578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431-141D-4F89-9ABB-879EDFA2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14D-B74A-4BFA-9E11-DB749A3E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9692-A4C3-4D87-907B-CE4D0F06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1A9-A58D-42D3-B3BE-BEA7FE05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8FE-3F0E-4C86-954A-75D139E4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915-A8C5-4E05-8E74-787AAFCA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53EB-B99E-4CB3-8CC2-2B65994A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BD05-934F-47F8-B97D-DC3558E6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E42-1162-490C-B41E-87AC9F2F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301-7641-44B0-A551-B64D0553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E9AC-6F1D-496B-8E45-B44FA46B6B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792468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урок по  вокалау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ема: «Веселые задания по вокал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95120" y="4652640"/>
            <a:ext cx="62485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: Годухина О.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У ДО ЦРТДиЮ им.А.Гайд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Арзам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рок выработки и закрепления умений и навы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изационный мо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оздание положительной установки на ход и результаты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сконцентрировать внимание учащихся, настроить их на совместную работу, подготовить голосовой аппарат к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ыхательное упраж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2265480" y="498600"/>
            <a:ext cx="47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Веселый урок во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978200" y="190512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Comic Sans MS"/>
              </a:rPr>
              <a:t>с веселыми задани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C:\Documents and Settings\xxx\Мои документы\Мои рисунки\сайт\pozitiv095.jpg"/>
          <p:cNvPicPr/>
          <p:nvPr/>
        </p:nvPicPr>
        <p:blipFill>
          <a:blip r:embed="rId2"/>
          <a:stretch/>
        </p:blipFill>
        <p:spPr>
          <a:xfrm>
            <a:off x="457200" y="3581280"/>
            <a:ext cx="3247920" cy="2857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4708440" y="30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853520" y="3627360"/>
            <a:ext cx="278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Смотри презент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в режиме «кл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и выполняй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257800" y="53751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Comic Sans MS"/>
              </a:rPr>
              <a:t>Удач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447920" y="3808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Отрабатываем певческое дых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Documents and Settings\xxx\Рабочий стол\i - 6.jpg"/>
          <p:cNvPicPr/>
          <p:nvPr/>
        </p:nvPicPr>
        <p:blipFill>
          <a:blip r:embed="rId2"/>
          <a:stretch/>
        </p:blipFill>
        <p:spPr>
          <a:xfrm>
            <a:off x="0" y="1981080"/>
            <a:ext cx="3240000" cy="3621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920400" y="2103480"/>
            <a:ext cx="38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Лягте на ровную поверх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960720" y="2637000"/>
            <a:ext cx="37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Положите игрушку на жив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4412520" y="3322800"/>
            <a:ext cx="30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Медленно вдыхаем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игрушка подним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008240" y="4770360"/>
            <a:ext cx="294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Медленно выдыхаем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игрушка опуск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Documents and Settings\xxx\Рабочий стол\i _17.jpg"/>
          <p:cNvPicPr/>
          <p:nvPr/>
        </p:nvPicPr>
        <p:blipFill>
          <a:blip r:embed="rId2"/>
          <a:stretch/>
        </p:blipFill>
        <p:spPr>
          <a:xfrm>
            <a:off x="380880" y="3809880"/>
            <a:ext cx="2505240" cy="24717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1691280" y="351000"/>
            <a:ext cx="584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Представьте, что вы большой надувной мя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После игры вас положили на трав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и вытащили загл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Вы отдыхаете и медленно выпускаете возду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      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Зачем спеши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958920" y="3246480"/>
            <a:ext cx="4191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Подумайте о прият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Улыбнит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Тоненькой струйкой на звук «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       </a:t>
            </a: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выдыхайте возду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              </a:t>
            </a: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Удач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Развиваем артикуляционный аппа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Documents and Settings\xxx\Рабочий стол\i_18.jpg"/>
          <p:cNvPicPr/>
          <p:nvPr/>
        </p:nvPicPr>
        <p:blipFill>
          <a:blip r:embed="rId2"/>
          <a:stretch/>
        </p:blipFill>
        <p:spPr>
          <a:xfrm>
            <a:off x="457200" y="1523880"/>
            <a:ext cx="1171440" cy="14288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11788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922480" y="1646280"/>
            <a:ext cx="45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Бык - тупогуб, тупогубенький быч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У быка бела губа была ту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C:\Documents and Settings\xxx\Рабочий стол\i - 19.jpg"/>
          <p:cNvPicPr/>
          <p:nvPr/>
        </p:nvPicPr>
        <p:blipFill>
          <a:blip r:embed="rId3"/>
          <a:stretch/>
        </p:blipFill>
        <p:spPr>
          <a:xfrm>
            <a:off x="6858000" y="2971800"/>
            <a:ext cx="1914480" cy="14288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1029960" y="3246480"/>
            <a:ext cx="40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На траве трава, на дворе тр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Не руби дрова, на дворе тр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C:\Documents and Settings\xxx\Рабочий стол\i. - 20jpg.jpg"/>
          <p:cNvPicPr/>
          <p:nvPr/>
        </p:nvPicPr>
        <p:blipFill>
          <a:blip r:embed="rId4"/>
          <a:stretch/>
        </p:blipFill>
        <p:spPr>
          <a:xfrm>
            <a:off x="457200" y="4876920"/>
            <a:ext cx="1652760" cy="1309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"/>
          <p:cNvSpPr/>
          <p:nvPr/>
        </p:nvSpPr>
        <p:spPr>
          <a:xfrm>
            <a:off x="3063960" y="4923000"/>
            <a:ext cx="31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От топота коп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        </a:t>
            </a: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пыль по полю лет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Documents and Settings\xxx\Рабочий стол\i - 20.jpg"/>
          <p:cNvPicPr/>
          <p:nvPr/>
        </p:nvPicPr>
        <p:blipFill>
          <a:blip r:embed="rId2"/>
          <a:stretch/>
        </p:blipFill>
        <p:spPr>
          <a:xfrm>
            <a:off x="380880" y="457200"/>
            <a:ext cx="2162160" cy="1820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:\Documents and Settings\xxx\Рабочий стол\i. - 22jpg.jpg"/>
          <p:cNvPicPr/>
          <p:nvPr/>
        </p:nvPicPr>
        <p:blipFill>
          <a:blip r:embed="rId3"/>
          <a:stretch/>
        </p:blipFill>
        <p:spPr>
          <a:xfrm>
            <a:off x="7315200" y="2133720"/>
            <a:ext cx="1468440" cy="2074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xxx\Рабочий стол\i - 22.jpg"/>
          <p:cNvPicPr/>
          <p:nvPr/>
        </p:nvPicPr>
        <p:blipFill>
          <a:blip r:embed="rId4"/>
          <a:stretch/>
        </p:blipFill>
        <p:spPr>
          <a:xfrm>
            <a:off x="685800" y="4648320"/>
            <a:ext cx="1701720" cy="1863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3561480" y="426960"/>
            <a:ext cx="26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omic Sans MS"/>
              </a:rPr>
              <a:t>Водовоз вез в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omic Sans MS"/>
              </a:rPr>
              <a:t>Из - под водопро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684600" y="4923000"/>
            <a:ext cx="31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omic Sans MS"/>
              </a:rPr>
              <a:t>Мама мыла Милу мыл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omic Sans MS"/>
              </a:rPr>
              <a:t>Мила мыло не люб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298240" y="2712960"/>
            <a:ext cx="24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omic Sans MS"/>
              </a:rPr>
              <a:t>Шла Саша по шо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Comic Sans MS"/>
              </a:rPr>
              <a:t>И сосала с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Развиваем сценическое мастер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981080" y="1295280"/>
            <a:ext cx="516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99ff"/>
                </a:solidFill>
                <a:latin typeface="Comic Sans MS"/>
              </a:rPr>
              <a:t>Повторяем скороговор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99ff"/>
                </a:solidFill>
                <a:latin typeface="Comic Sans MS"/>
              </a:rPr>
              <a:t>в различных образ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99ff"/>
                </a:solidFill>
                <a:latin typeface="Comic Sans MS"/>
              </a:rPr>
              <a:t>и с эмоциями, присущими персонаж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99ff"/>
                </a:solidFill>
                <a:latin typeface="Comic Sans MS"/>
              </a:rPr>
              <a:t>изображенному на карти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C:\Documents and Settings\xxx\Рабочий стол\i - 24.jpg"/>
          <p:cNvPicPr/>
          <p:nvPr/>
        </p:nvPicPr>
        <p:blipFill>
          <a:blip r:embed="rId2"/>
          <a:stretch/>
        </p:blipFill>
        <p:spPr>
          <a:xfrm>
            <a:off x="533520" y="3657600"/>
            <a:ext cx="1244520" cy="1419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Documents and Settings\xxx\Рабочий стол\i - 25.jpg"/>
          <p:cNvPicPr/>
          <p:nvPr/>
        </p:nvPicPr>
        <p:blipFill>
          <a:blip r:embed="rId3"/>
          <a:stretch/>
        </p:blipFill>
        <p:spPr>
          <a:xfrm>
            <a:off x="3862440" y="2714760"/>
            <a:ext cx="1490760" cy="1500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Documents and Settings\xxx\Рабочий стол\i - 26.jpg"/>
          <p:cNvPicPr/>
          <p:nvPr/>
        </p:nvPicPr>
        <p:blipFill>
          <a:blip r:embed="rId4"/>
          <a:stretch/>
        </p:blipFill>
        <p:spPr>
          <a:xfrm>
            <a:off x="7077240" y="4038480"/>
            <a:ext cx="2066760" cy="1428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344520" y="499428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Comic Sans MS"/>
              </a:rPr>
              <a:t>веселый зая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551040" y="4156200"/>
            <a:ext cx="173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Comic Sans MS"/>
              </a:rPr>
              <a:t>грустный ще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6842160" y="5475240"/>
            <a:ext cx="19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Comic Sans MS"/>
              </a:rPr>
              <a:t>довольный к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2424240" y="45165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2847240" y="5027760"/>
            <a:ext cx="2683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Кукушка кукушон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купила капюш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Как в капюш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он смеш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 октября 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Documents and Settings\xxx\Мои документы\Мои рисунки\сайт\фон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Молодцы!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Вы замечательно выполнили все зад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C:\Documents and Settings\xxx\Рабочий стол\i. - 4jpg.jpg"/>
          <p:cNvPicPr/>
          <p:nvPr/>
        </p:nvPicPr>
        <p:blipFill>
          <a:blip r:embed="rId2"/>
          <a:stretch/>
        </p:blipFill>
        <p:spPr>
          <a:xfrm>
            <a:off x="2514600" y="2057400"/>
            <a:ext cx="4206960" cy="3156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365040" y="5608800"/>
            <a:ext cx="81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i="1" lang="ru-RU" sz="1800" spc="-1" strike="noStrike">
                <a:solidFill>
                  <a:srgbClr val="ff6600"/>
                </a:solidFill>
                <a:latin typeface="Comic Sans MS"/>
              </a:rPr>
              <a:t>Не забудьте повторить упражнения и завтр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08:00:48Z</dcterms:created>
  <dc:creator>xxx</dc:creator>
  <dc:description/>
  <dc:language>en-US</dc:language>
  <cp:lastModifiedBy>RePack by Diakov</cp:lastModifiedBy>
  <dcterms:modified xsi:type="dcterms:W3CDTF">2020-06-03T12:28:09Z</dcterms:modified>
  <cp:revision>11</cp:revision>
  <dc:subject/>
  <dc:title>Заголовок слайда отсутствует</dc:title>
</cp:coreProperties>
</file>