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ED0-E168-4934-A1C2-D91632F1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673-4729-482C-893C-3ED2CCAF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6A4-89A7-4618-A403-C2265AF4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FD2-12BF-4E43-8913-899AC592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266-3693-4296-BDD1-EE3F3A99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82A-185C-4F69-9FE3-8103A87C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8A6-9DD1-48E0-AED7-81455A7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B47-42B6-4777-93D9-7343B51B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06E-38F9-4D75-B141-893B68AD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B3D-1D61-4C24-9ADB-D42441C5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423-D2B5-4A09-AB6E-0D3D3612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50C-DC33-4987-8A39-AA2867A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ABCD-6648-4A95-8AB6-3016BFEEE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908280" y="152280"/>
            <a:ext cx="647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4000" spc="-1" strike="noStrike">
                <a:solidFill>
                  <a:srgbClr val="000066"/>
                </a:solidFill>
                <a:latin typeface="Blackadder ITC"/>
              </a:rPr>
              <a:t>«Военный треуголь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880960" y="5713560"/>
            <a:ext cx="301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еника 5 класса 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БОУ СОШ №5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емлянского Влади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1752480" y="1225440"/>
            <a:ext cx="571500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457200" y="4160520"/>
            <a:ext cx="838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ходили письма с фро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Я внимательно прочитал их. Каждое письмо наполнено любовью к родным, к Родине, ненавистью к врагу, пустяковыми просьбами выслать теплые носки из козьего пуха и надеждами на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апреле 1942 года мой прадед погиб в бою. Похоронен он в Тверской области, город Торопе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4419720" y="76320"/>
            <a:ext cx="421956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1181160" y="22860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221120" y="56412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хема, как сделать военный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726666"/>
          <p:cNvPicPr/>
          <p:nvPr/>
        </p:nvPicPr>
        <p:blipFill>
          <a:blip r:embed="rId2"/>
          <a:stretch/>
        </p:blipFill>
        <p:spPr>
          <a:xfrm>
            <a:off x="1447920" y="1523880"/>
            <a:ext cx="63054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3137760" y="244440"/>
            <a:ext cx="577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мните! Через века, через года, — помните!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О тех, кто уже не придет никогда, — помните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берт Рождественски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677160" y="5713920"/>
            <a:ext cx="797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Благодарю за внимание, желаю всем добра и мирного неба!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752480" y="1405080"/>
            <a:ext cx="57913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04920" y="45720"/>
            <a:ext cx="8534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Цель исследования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зучить военные треугольники, выяснить, что поддерживало моральный дух бойцов, а также помогло выстоять и победить вр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28600" y="2556000"/>
            <a:ext cx="8610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Задачи: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учить содержание пи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ценить роль писем для бойцов, а также для нашего поко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вести анкетирование на предмет военных пи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учится делать военный треуголь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277920"/>
            <a:ext cx="899172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Гипотеза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я считаю, что изучение военных писем времен Великой отечественной войны способствует сохранению памяти о героях того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Актуальность работы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фронтовые письма – это носители особой, ценной информации о человеке военного времени, о его характере, стойкости, отваге. Через изучение писем можно представить, как воевал советский солд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бъект исследования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письма военных лет, как один из видов архивных док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едмет исследования: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содержание военных писем Ильиных Виктора Александрови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28600" y="533520"/>
            <a:ext cx="8534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еоретические метод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изучение литературы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изучение и анализ военных пи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актические методы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нкетирование одноклассников и составление таблицы по его результат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учение и анализ фотографий, писем, архивных документов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- практическое изготовление военного треугольник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497880" y="5790240"/>
            <a:ext cx="5402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В опросе участвовало 35 человек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1219320"/>
          <a:ext cx="7467480" cy="4182840"/>
        </p:xfrm>
        <a:graphic>
          <a:graphicData uri="http://schemas.openxmlformats.org/drawingml/2006/table">
            <a:tbl>
              <a:tblPr/>
              <a:tblGrid>
                <a:gridCol w="4052880"/>
                <a:gridCol w="1706400"/>
                <a:gridCol w="1708200"/>
              </a:tblGrid>
              <a:tr h="455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даваемый 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зультаты опр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человек, давшие положительный от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. Есть - ли в Вашей семье участники Великой отечественной войны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. Знаете – ли Вы как называются военные письма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. Имеются – ли в Вашем семейном архиве письма военных лет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93"/>
          <p:cNvSpPr/>
          <p:nvPr/>
        </p:nvSpPr>
        <p:spPr>
          <a:xfrm>
            <a:off x="1390680" y="532440"/>
            <a:ext cx="61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Таблица 1. Результаты анкет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228600" y="603360"/>
            <a:ext cx="3657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оенно – полевая почта была важнейшей формой связи фронта и ты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сновная переписка шала между родными на фронте и родными в тыл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Ежемесячно в дейст-вущую армию доставля-лось около 70 миллионов пис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4648320" cy="3314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6477120" y="327672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3962520" y="3581280"/>
            <a:ext cx="2438280" cy="1749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news_1431208189"/>
          <p:cNvPicPr/>
          <p:nvPr/>
        </p:nvPicPr>
        <p:blipFill>
          <a:blip r:embed="rId5"/>
          <a:stretch/>
        </p:blipFill>
        <p:spPr>
          <a:xfrm>
            <a:off x="4267080" y="5410080"/>
            <a:ext cx="20574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5820840" y="41184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уть письма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5715000" y="990720"/>
            <a:ext cx="2590920" cy="1066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писанное письм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падало в почт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я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715000" y="2438280"/>
            <a:ext cx="2590920" cy="990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чтальон доставл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сьмо на поле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чтовую стан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5715000" y="3809880"/>
            <a:ext cx="2590920" cy="1067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сьмо про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оенную ценз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15000" y="5257800"/>
            <a:ext cx="2590920" cy="1066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исьмо отпра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дрес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6858000" y="20574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685800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6934320" y="48769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2"/>
          <a:stretch/>
        </p:blipFill>
        <p:spPr>
          <a:xfrm>
            <a:off x="2438280" y="380880"/>
            <a:ext cx="3048120" cy="214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2047680" cy="213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"/>
          <p:cNvPicPr/>
          <p:nvPr/>
        </p:nvPicPr>
        <p:blipFill>
          <a:blip r:embed="rId4"/>
          <a:stretch/>
        </p:blipFill>
        <p:spPr>
          <a:xfrm>
            <a:off x="304920" y="2666880"/>
            <a:ext cx="232092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uzn_1388137150"/>
          <p:cNvPicPr/>
          <p:nvPr/>
        </p:nvPicPr>
        <p:blipFill>
          <a:blip r:embed="rId5"/>
          <a:stretch/>
        </p:blipFill>
        <p:spPr>
          <a:xfrm>
            <a:off x="2819520" y="2590920"/>
            <a:ext cx="2361960" cy="22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6"/>
          <a:stretch/>
        </p:blipFill>
        <p:spPr>
          <a:xfrm>
            <a:off x="2666880" y="5029200"/>
            <a:ext cx="2743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029200" y="1143000"/>
            <a:ext cx="3819600" cy="5257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85800" y="3427560"/>
            <a:ext cx="3990960" cy="282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988200" y="6231600"/>
            <a:ext cx="34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Фотография: Фронтовые товарищи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914400" y="763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льиных Виктор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922-19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0880" y="129528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одился в  деревни Крепость Мокроусовского рай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1941году  был призван в ряды Советской армии. Окончил учебную подготовку, получил звание лейтенанта и был зачислен в 130-ю Стрелковую бригаду командиром вз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25360" y="533520"/>
            <a:ext cx="4498920" cy="4876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912600" y="5638680"/>
            <a:ext cx="312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Фотография фронтового пись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648320" y="228600"/>
            <a:ext cx="45720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ривет Мама! Шура и Ла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Мама! Тебе пишу об одном, ты не беспокойся обо м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Не плач, твои слезы не помогут ни тебе, ни мн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Шура, ты слушай маму и Лану. Я надеюсь на тебя, помогай во всем. Учись только на хорошо и отлич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о скорого свидания, Ваш с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Лейтенант Виктор Ильи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ишите письма, жд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5029200" y="4521240"/>
            <a:ext cx="36576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6T03:13:32Z</dcterms:created>
  <dc:creator>Наталья Землянская</dc:creator>
  <dc:description/>
  <dc:language>en-US</dc:language>
  <cp:lastModifiedBy>Александр Капитонов</cp:lastModifiedBy>
  <dcterms:modified xsi:type="dcterms:W3CDTF">2020-11-17T16:49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