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20F-C5F2-4875-8744-968E9947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B2FE-3ED4-434B-8F8D-733F1172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8DE-1E7C-498F-95B5-6172FDAA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700-1E78-4C42-9E81-07BD2E17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29A-8413-4BB8-A388-F203B6AD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E5C-F665-47AE-BCE3-BDC83F5A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51A-16B3-4437-9BBE-1BE0D477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651-07F0-48B7-B137-86EC55CB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D1D-A22C-40F4-8CAC-51840692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C7A-FA5C-4292-AA53-105B7262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876-FA61-4547-91C2-17BAB92D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98E-2710-485E-867D-A7143E9C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7135-56F4-49FB-9278-BDC8DABE4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908280" y="152280"/>
            <a:ext cx="647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4000" spc="-1" strike="noStrike">
                <a:solidFill>
                  <a:srgbClr val="000066"/>
                </a:solidFill>
                <a:latin typeface="Blackadder ITC"/>
              </a:rPr>
              <a:t>«Военный треугольн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880960" y="5713560"/>
            <a:ext cx="301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еника 5 класса А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БОУ СОШ №5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емлянского Влади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1752480" y="1225440"/>
            <a:ext cx="5715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457200" y="4160520"/>
            <a:ext cx="838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ходили письма с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Я внимательно прочитал их. Каждое письмо наполнено любовью к родным, к Родине, ненавистью к врагу, пустяковыми просьбами выслать теплые носки из козьего пуха и надеждами на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апреле 1942 года мой прадед погиб в бою. Похоронен он в Тверской области, город Торопе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4419720" y="76320"/>
            <a:ext cx="421956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1181160" y="22860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221120" y="56412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хема, как сделать военный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726666"/>
          <p:cNvPicPr/>
          <p:nvPr/>
        </p:nvPicPr>
        <p:blipFill>
          <a:blip r:embed="rId2"/>
          <a:stretch/>
        </p:blipFill>
        <p:spPr>
          <a:xfrm>
            <a:off x="1447920" y="1523880"/>
            <a:ext cx="63054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137760" y="244440"/>
            <a:ext cx="577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мните! Через века, через года, — помните!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 тех, кто уже не придет никогда, — помните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оберт Рождественски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77160" y="5713920"/>
            <a:ext cx="797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Благодарю за внимание, желаю всем добра и мирного неба!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752480" y="1405080"/>
            <a:ext cx="57913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04920" y="45720"/>
            <a:ext cx="85341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Цель исследования: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изучить военные треугольники, выяснить, что поддерживало моральный дух бойцов, а также помогло выстоять и победить вра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228600" y="2556000"/>
            <a:ext cx="86104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Задачи: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учить содержание пи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ценить роль писем для бойцов, а также для нашего поко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вести анкетирование на предмет военных пи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учится делать военный треуголь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277920"/>
            <a:ext cx="899172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Гипотеза: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я считаю, что изучение военных писем времен Великой отечественной войны способствует сохранению памяти о героях того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Актуальность работы: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фронтовые письма – это носители особой, ценной информации о человеке военного времени, о его характере, стойкости, отваге. Через изучение писем можно представить, как воевал советский солд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Объект исследования: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письма военных лет, как один из видов архивных док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едмет исследования: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одержание военных писем Ильиных Виктора Александрови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28600" y="533520"/>
            <a:ext cx="8534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еоретические метод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изучение литературы по 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изучение и анализ военных пи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актические методы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нкетирование одноклассников и составление таблицы по его результат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учение и анализ фотографий, писем, архивных документов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практическое изготовление военного треугольник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497880" y="5790240"/>
            <a:ext cx="5402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В опросе участвовало 35 человек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1219320"/>
          <a:ext cx="7467480" cy="4182840"/>
        </p:xfrm>
        <a:graphic>
          <a:graphicData uri="http://schemas.openxmlformats.org/drawingml/2006/table">
            <a:tbl>
              <a:tblPr/>
              <a:tblGrid>
                <a:gridCol w="4052880"/>
                <a:gridCol w="1706400"/>
                <a:gridCol w="1708200"/>
              </a:tblGrid>
              <a:tr h="455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даваемый 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зультаты опр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человек, давшие положительный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. Есть - ли в Вашей семье участники Великой отечественной войны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. Знаете – ли Вы как называются военные письма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. Имеются – ли в Вашем семейном архиве письма военных лет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93"/>
          <p:cNvSpPr/>
          <p:nvPr/>
        </p:nvSpPr>
        <p:spPr>
          <a:xfrm>
            <a:off x="1390680" y="532440"/>
            <a:ext cx="61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Таблица 1. Результаты анкет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28600" y="603360"/>
            <a:ext cx="3657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оенно – полевая почта была важнейшей формой связи фронта и ты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сновная переписка шала между родными на фронте и родными в ты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Ежемесячно в дейст-вущую армию доставля-лось около 70 миллионов пис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4648320" cy="3314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6477120" y="3276720"/>
            <a:ext cx="246204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3962520" y="3581280"/>
            <a:ext cx="2438280" cy="174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news_1431208189"/>
          <p:cNvPicPr/>
          <p:nvPr/>
        </p:nvPicPr>
        <p:blipFill>
          <a:blip r:embed="rId5"/>
          <a:stretch/>
        </p:blipFill>
        <p:spPr>
          <a:xfrm>
            <a:off x="4267080" y="5410080"/>
            <a:ext cx="20574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5820840" y="41184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уть письма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5715000" y="990720"/>
            <a:ext cx="2590920" cy="1066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писанное пись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падало в почт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я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715000" y="2438280"/>
            <a:ext cx="2590920" cy="99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чтальон доставл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исьмо на поле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чтовую стан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5715000" y="3809880"/>
            <a:ext cx="2590920" cy="1067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исьмо прохо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оенную ценз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15000" y="5257800"/>
            <a:ext cx="2590920" cy="1066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исьмо отпра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дреса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6858000" y="20574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6858000" y="3429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6934320" y="48769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2"/>
          <a:stretch/>
        </p:blipFill>
        <p:spPr>
          <a:xfrm>
            <a:off x="2438280" y="380880"/>
            <a:ext cx="3048120" cy="214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204768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4"/>
          <a:stretch/>
        </p:blipFill>
        <p:spPr>
          <a:xfrm>
            <a:off x="304920" y="2666880"/>
            <a:ext cx="232092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uzn_1388137150"/>
          <p:cNvPicPr/>
          <p:nvPr/>
        </p:nvPicPr>
        <p:blipFill>
          <a:blip r:embed="rId5"/>
          <a:stretch/>
        </p:blipFill>
        <p:spPr>
          <a:xfrm>
            <a:off x="2819520" y="2590920"/>
            <a:ext cx="2361960" cy="22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6"/>
          <a:stretch/>
        </p:blipFill>
        <p:spPr>
          <a:xfrm>
            <a:off x="2666880" y="5029200"/>
            <a:ext cx="2743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819600" cy="5257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85800" y="3427560"/>
            <a:ext cx="3990960" cy="2820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988200" y="6231600"/>
            <a:ext cx="34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Фотография: Фронтовые товарищи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914400" y="763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льиных Виктор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922-1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0880" y="1295280"/>
            <a:ext cx="457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одился в  деревни Крепость Мокроусовского рай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1941году  был призван в ряды Советской армии. Окончил учебную подготовку, получил звание лейтенанта и был зачислен в 130-ю Стрелковую бригаду командиром вз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25360" y="533520"/>
            <a:ext cx="4498920" cy="48765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912600" y="5638680"/>
            <a:ext cx="312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Фотография фронтового пись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648320" y="228600"/>
            <a:ext cx="457200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ривет Мама! Шура и Ла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Мама! Тебе пишу об одном, ты не беспокойся обо м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Не плач, твои слезы не помогут ни тебе, ни мн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Шура, ты слушай маму и Лану. Я надеюсь на тебя, помогай во всем. Учись только на хорошо и отлич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о скорого свидания, Ваш с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Лейтенант Виктор Ильи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ишите письма, жд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5029200" y="4521240"/>
            <a:ext cx="36576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6T03:13:32Z</dcterms:created>
  <dc:creator>Наталья Землянская</dc:creator>
  <dc:description/>
  <dc:language>en-US</dc:language>
  <cp:lastModifiedBy>Александр Капитонов</cp:lastModifiedBy>
  <dcterms:modified xsi:type="dcterms:W3CDTF">2020-11-17T16:49:3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