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4.gif" ContentType="image/gif"/>
  <Override PartName="/ppt/media/image1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379-903A-48E4-9BFC-F2D1FDBA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4CA-CA43-4994-A431-D4CB4A85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42F-0C77-4E2E-AB4D-FD84AD2D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303-38BC-4A65-8F0C-43928E30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1D74-B795-4650-9C68-240A7A05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C808-4DED-410C-B31A-106FBBA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CF6-EBA8-4E54-9D83-29E63DF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E4F6-54FE-4271-A32F-E19366D3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5F31-55E0-4C6E-866F-5CE3BCE5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2FC8-08E2-4142-88A5-BF99BB4D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ACA3-E562-47FD-BE18-F73381C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229-0D6F-4C4A-9778-A52F1BD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F4EF-DCAC-4509-A138-11E90E8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F10-D307-4024-8FD5-A054DF0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CD6-C91F-4083-9FC4-55048DA8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1A53-29FE-4C85-BBF9-2D18665A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592-ABDC-4599-AC44-78AFED55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29F-B6D6-4A64-898B-8B7AA6FA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F6E-DA35-491D-8337-28A8723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2B9-64D7-42C2-A2FF-50D575ED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8B3-091B-4D46-817A-18266BD2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2A9-516D-410B-9BD1-C8104F15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2F6-751D-4CD7-9D58-7668D41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D4C-0E9E-4AD7-A9B6-76F984A0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F0A6-C685-444C-AA9C-E66AFB6EB8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DA6-0E54-426B-9009-A53F78184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yandsearch%3Bweb%3B%3B&amp;text=&#1082;&#1072;&#1088;&#1090;&#1080;&#1085;&#1082;&#1080;%20&#1087;&#1086;%20&#1086;&#1073;&#1078;%20&#1076;&#1083;&#1103;%20&#1076;&#1077;&#1090;&#1077;&#1081;&amp;state=AiuY0DBWFJ4ePaEse6rgeKdnI0e4oXuRYo0IEhrXr7zk7-LazHAr5Rwrl5F4jVTbvY6-a5YkcN73kPbnnENhLa26HkF7R1Cqh9N4eXmVb5FKdfqDbbrcLaRJ7aKPnaPKr82chsSJTiFrcro0eNkGdvtCDvgHnPQh63NtoRf4ewpnmbOUfqZcmDob5ISAjJmLm-sAWJw5AR4&amp;data=UlNrNmk5WktYejR0eWJFYk1Ldmtxc1BVRGRXS3ZmN2ZHWmg3WF9mbmloVWkzQW9RWnVuSDNXZ2J2cEk1NHZidTAyZERhY1Yyb0pIenRzN1NxNWZuUzd0bjFZc2g5aEdVMGdOUDJ6SzhEanM&amp;b64e=2&amp;sign=5d74712e1c8e396e7a51e64b1bce70a9&amp;keyno=0&amp;l10n=ru&amp;mc=3.2321018048454135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ГКОУ школа-интерна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VIII вида ст. Тацин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(начальные класс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читель Маратканов С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9429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340000" y="1125360"/>
            <a:ext cx="6335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Летние канику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492360" y="404640"/>
            <a:ext cx="2762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37160" cy="5503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Посмотрите мультик и сделайте правильные вывод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401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-68400"/>
            <a:ext cx="7848720" cy="692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нтернет-ресурсы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tskiysad76.ucoz.ru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– карт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tu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com - мультфиль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26160" cy="4803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Исправьте ошибку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520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531200" cy="5167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гналы светоф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Чтобы не получить тепловой 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01080" cy="494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2010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501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490160" cy="502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справьте ошибк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правьте ошиб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201080" cy="481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2010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1859040"/>
            <a:ext cx="6985080" cy="4765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юбишь чит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69994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2880" cy="514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59492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очется шашлыков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Переход через дорог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501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3:17:30Z</dcterms:created>
  <dc:creator>Сергей Маратканов</dc:creator>
  <dc:description/>
  <dc:language>en-US</dc:language>
  <cp:lastModifiedBy>Сергей Маратканов</cp:lastModifiedBy>
  <dcterms:modified xsi:type="dcterms:W3CDTF">2013-09-04T12:30:58Z</dcterms:modified>
  <cp:revision>12</cp:revision>
  <dc:subject/>
  <dc:title>Исправьте ошиб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60000000000010243100207f6000400038000</vt:lpwstr>
  </property>
</Properties>
</file>