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6.jpeg" ContentType="image/jpeg"/>
  <Override PartName="/ppt/media/image5.gif" ContentType="image/gif"/>
  <Override PartName="/ppt/media/image14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4.gif" ContentType="image/gif"/>
  <Override PartName="/ppt/media/image1.gif" ContentType="image/gif"/>
  <Override PartName="/ppt/media/image18.jpeg" ContentType="image/jpeg"/>
  <Override PartName="/ppt/media/image3.gif" ContentType="image/gi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C05-CFCC-46ED-90B0-02EC43FD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C9B-4E5A-432B-B54A-38137071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BB1-4A39-4C3D-B2E4-3ED4D396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9BC-7405-4ADD-B1EC-507CC4B3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679C-73A0-4325-82DF-44DA84A8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7699-47DD-4C0A-B914-F843015B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3853-2AD4-4E60-8D1B-78F8AF98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B0FF-DD7D-4D8B-BD22-6EBC747F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2B6F-BE3C-40D1-B690-B2F61E8E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2794-C6C0-4178-B9F2-32AE0773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3C81-06E9-4380-ACAB-3469D647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B2D-8B74-4D0C-9B1A-ACE2EEAE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EADA-273D-4D6C-BBD4-AE5B0258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299B-F7CA-4926-84C5-65C9E484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A532-5AD8-463F-B1A6-FD09106B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CBA1-C799-44DD-9251-399C168A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4EE9-8834-4B63-AE85-DB98EC46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CD20-E76D-4C52-8C28-D19D04EA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4BB-70E0-49D3-BCE2-0974D227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7A0-B00E-47EF-9CA3-EA4C8456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4DC-4B8C-4483-826D-0D87200E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B0B-F981-472D-89EC-A6CCE3DC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0B3-0E3F-42E3-9ED0-4604EA23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82E-94AD-4D1E-9E85-D079CA3E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63B4-A7FA-4552-BFE1-CB242FAA56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EFAF-EC80-4B50-8CAC-FA3ECCE50F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yandex.ru/clck/jsredir?from=yandex.ru%3Byandsearch%3Bweb%3B%3B&amp;text=&#1082;&#1072;&#1088;&#1090;&#1080;&#1085;&#1082;&#1080;%20&#1087;&#1086;%20&#1086;&#1073;&#1078;%20&#1076;&#1083;&#1103;%20&#1076;&#1077;&#1090;&#1077;&#1081;&amp;state=AiuY0DBWFJ4ePaEse6rgeKdnI0e4oXuRYo0IEhrXr7zk7-LazHAr5Rwrl5F4jVTbvY6-a5YkcN73kPbnnENhLa26HkF7R1Cqh9N4eXmVb5FKdfqDbbrcLaRJ7aKPnaPKr82chsSJTiFrcro0eNkGdvtCDvgHnPQh63NtoRf4ewpnmbOUfqZcmDob5ISAjJmLm-sAWJw5AR4&amp;data=UlNrNmk5WktYejR0eWJFYk1Ldmtxc1BVRGRXS3ZmN2ZHWmg3WF9mbmloVWkzQW9RWnVuSDNXZ2J2cEk1NHZidTAyZERhY1Yyb0pIenRzN1NxNWZuUzd0bjFZc2g5aEdVMGdOUDJ6SzhEanM&amp;b64e=2&amp;sign=5d74712e1c8e396e7a51e64b1bce70a9&amp;keyno=0&amp;l10n=ru&amp;mc=3.2321018048454135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 Black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ГКОУ школа-интерна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VIII вида ст. Тацинс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(начальные класс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Учитель Маратканов С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1942920" cy="1816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012000" y="3789360"/>
            <a:ext cx="1247760" cy="1152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340000" y="1125360"/>
            <a:ext cx="6335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Летние каникул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492360" y="404640"/>
            <a:ext cx="2762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337160" cy="5503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Посмотрите мультик и сделайте правильные выводы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626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9401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-68400"/>
            <a:ext cx="7848720" cy="6926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38512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Интернет-ресурсы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detskiysad76.ucoz.ru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– картин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tu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com - мультфиль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626160" cy="4803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Исправьте ошибку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696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490160" cy="5202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7531200" cy="5167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игналы светофо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Чтобы не получить тепловой удар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201080" cy="4949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720108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90160" cy="5011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490160" cy="502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Исправьте ошибку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справьте ошибк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201080" cy="4815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72010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0000" y="1859040"/>
            <a:ext cx="6985080" cy="4765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юбишь читать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699948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562880" cy="5141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59492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Хочется шашлыков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Переход через дорог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24720" cy="5015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13:17:30Z</dcterms:created>
  <dc:creator>Сергей Маратканов</dc:creator>
  <dc:description/>
  <dc:language>en-US</dc:language>
  <cp:lastModifiedBy>Сергей Маратканов</cp:lastModifiedBy>
  <dcterms:modified xsi:type="dcterms:W3CDTF">2013-09-04T12:30:58Z</dcterms:modified>
  <cp:revision>12</cp:revision>
  <dc:subject/>
  <dc:title>Исправьте ошиб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160000000000010243100207f6000400038000</vt:lpwstr>
  </property>
</Properties>
</file>