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15.gif" ContentType="image/gif"/>
  <Override PartName="/ppt/media/image7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EE9-8BF7-4607-8444-6C0BF72F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9BB-74F2-4153-AC8A-ED081F0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D0B-61E2-429A-96C7-A84997A6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4F0-3922-49C6-9C42-21E4CC3B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90D7-970A-4F70-AD60-9E72508D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8301-3ED7-4D89-BF77-FAB5939B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DD5B-200D-408A-9A24-F09B73D0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B6F6-0E7E-41B8-B3F5-632E049E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E8B5-E7C4-4AC9-A8FC-B5518233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B559-23D4-4589-9E06-931828F9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7CF8-66C1-463B-8E5C-B13CCCF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CCA-49CA-4BBE-A9E5-3F5EB563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AC7-DF59-43DC-A70C-AC95414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C10E-02F9-4504-BDC8-A77E5A17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CBC3-A6DA-4B14-B344-28ECF49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BC1B-22D9-4BCA-B176-6A33EDD9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7237-D3D6-41E8-99A6-17341C83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1A8DE-AABF-4926-A311-E6EBBD40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9BA7-1ACF-4067-ADA6-9B835555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2A5D-54DA-4C19-A58A-805F6BC4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A742-FCD9-4594-82D7-10F152B3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044F-1886-4B6A-9713-18424A5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8D2-F054-4D29-B1C0-CE4BC4A9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23DC-2938-47CD-B914-ACBA6286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56D7-A0BD-4A1B-B5B5-360179A1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1965-A7D0-4869-B7D2-72ACB75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749E-C4F9-4D7B-9D6A-640FE09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086A-245F-4A34-BE81-6A45178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F43D-090A-4CB2-B38E-9D2C48A3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2402-EE54-4B80-8AA4-5EED7D01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6C5-252E-4BF3-9B98-450680A8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C65-2092-4668-B498-F5E44B1D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EEA-9567-4D97-A9F2-CEB718A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7D5-EF49-48C2-ACD1-09E3951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755-7DFA-4CD0-BC5F-8A78F580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7F2-0B80-4939-BF9A-FBD2666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5180AE-55C8-4495-991A-FC6A606AE9B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9853D-B4E5-4F9E-83CB-961C5C47331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DC1B8B-ED43-4B4E-8EB0-D552913673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radikal.ru/" TargetMode="Externa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28080" y="540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1763640" y="1268640"/>
            <a:ext cx="60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нь рожден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 </a:t>
            </a:r>
            <a:r>
              <a:rPr b="1" i="1" lang="ru-RU" sz="8000" spc="-1" strike="noStrike">
                <a:solidFill>
                  <a:srgbClr val="c6d9f1"/>
                </a:solidFill>
                <a:latin typeface="Arial Narrow"/>
                <a:ea typeface="Times New Roman"/>
              </a:rPr>
              <a:t>Деда Моро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В декабре 1998 года из Лапландии Дед Мороз перебрался в Великий Устюг, ставший отныне его вотчино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Великий Устюг Великоустюгский район Вологда и Вологодская область"/>
          <p:cNvPicPr/>
          <p:nvPr/>
        </p:nvPicPr>
        <p:blipFill>
          <a:blip r:embed="rId2"/>
          <a:stretch/>
        </p:blipFill>
        <p:spPr>
          <a:xfrm>
            <a:off x="1259640" y="1556640"/>
            <a:ext cx="6480360" cy="5042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336699"/>
                </a:solidFill>
                <a:latin typeface="Times New Roman"/>
              </a:rPr>
              <a:t>18 ноября Дед Мороз и Снегурочка встречают огромное количество гостей, которые съезжаются на празднество со всего света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Волшебная мельница и 97 желаний: в гостях у Деда Мороза в Бе…"/>
          <p:cNvPicPr/>
          <p:nvPr/>
        </p:nvPicPr>
        <p:blipFill>
          <a:blip r:embed="rId2"/>
          <a:stretch/>
        </p:blipFill>
        <p:spPr>
          <a:xfrm>
            <a:off x="1043640" y="1700640"/>
            <a:ext cx="7272360" cy="4839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640" y="274680"/>
            <a:ext cx="43920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з Украины приезжает Святой Никола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Дед мороз - святой Николай"/>
          <p:cNvPicPr/>
          <p:nvPr/>
        </p:nvPicPr>
        <p:blipFill>
          <a:blip r:embed="rId2"/>
          <a:stretch/>
        </p:blipFill>
        <p:spPr>
          <a:xfrm>
            <a:off x="179640" y="1127520"/>
            <a:ext cx="3926880" cy="4620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67560" y="0"/>
            <a:ext cx="2476080" cy="2999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&quot;Дед Мороз&quot; и новогодние /рождественские традиции"/>
          <p:cNvPicPr/>
          <p:nvPr/>
        </p:nvPicPr>
        <p:blipFill>
          <a:blip r:embed="rId5"/>
          <a:stretch/>
        </p:blipFill>
        <p:spPr>
          <a:xfrm>
            <a:off x="4163040" y="1080360"/>
            <a:ext cx="3168000" cy="5333400"/>
          </a:xfrm>
          <a:prstGeom prst="rect">
            <a:avLst/>
          </a:prstGeom>
          <a:ln w="0">
            <a:noFill/>
          </a:ln>
        </p:spPr>
      </p:pic>
      <p:sp>
        <p:nvSpPr>
          <p:cNvPr id="168" name="Заголовок 1"/>
          <p:cNvSpPr/>
          <p:nvPr/>
        </p:nvSpPr>
        <p:spPr>
          <a:xfrm>
            <a:off x="2339640" y="5536080"/>
            <a:ext cx="82188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Из Германии – Вайнахтс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-33840" y="-2448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440" cy="777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chemeClr val="accent1"/>
                </a:solidFill>
                <a:latin typeface="Times New Roman"/>
              </a:rPr>
              <a:t>Из Гатчины – Всемирный казачий Дед Мороз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Материалы за Декабрь 2012 года &quot; banana.by - Самые желтые но…"/>
          <p:cNvPicPr/>
          <p:nvPr/>
        </p:nvPicPr>
        <p:blipFill>
          <a:blip r:embed="rId2"/>
          <a:stretch/>
        </p:blipFill>
        <p:spPr>
          <a:xfrm>
            <a:off x="2267640" y="980640"/>
            <a:ext cx="3800160" cy="571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Picture 2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980640"/>
            <a:ext cx="247608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85280" y="21240"/>
            <a:ext cx="8229240" cy="141732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В День рождения Деда Мороза в Великом Устюге зажигаются огни на первой российской новогодней ёл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Новый 2012 год"/>
          <p:cNvPicPr/>
          <p:nvPr/>
        </p:nvPicPr>
        <p:blipFill>
          <a:blip r:embed="rId2"/>
          <a:stretch/>
        </p:blipFill>
        <p:spPr>
          <a:xfrm>
            <a:off x="1187640" y="1556640"/>
            <a:ext cx="6696360" cy="5022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Этот день приходится на 18 ноября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Психологический форум :: Просмотр темы - С Днём рождения!"/>
          <p:cNvPicPr/>
          <p:nvPr/>
        </p:nvPicPr>
        <p:blipFill>
          <a:blip r:embed="rId1"/>
          <a:stretch/>
        </p:blipFill>
        <p:spPr>
          <a:xfrm>
            <a:off x="220320" y="1355400"/>
            <a:ext cx="4498920" cy="326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>
            <a:off x="5076000" y="1906560"/>
            <a:ext cx="4067640" cy="27115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"/>
          <p:cNvPicPr/>
          <p:nvPr/>
        </p:nvPicPr>
        <p:blipFill>
          <a:blip r:embed="rId3"/>
          <a:stretch/>
        </p:blipFill>
        <p:spPr>
          <a:xfrm>
            <a:off x="444600" y="5065200"/>
            <a:ext cx="82418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1"/>
                </a:solidFill>
                <a:latin typeface="Times New Roman"/>
              </a:rPr>
              <a:t>Рождение трех прадедов современного Деда Мороза пришлось на времена древних восточнославянских племен, поклоняющихся языческим божествам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бог Правда-TV - Part 6"/>
          <p:cNvPicPr/>
          <p:nvPr/>
        </p:nvPicPr>
        <p:blipFill>
          <a:blip r:embed="rId1"/>
          <a:stretch/>
        </p:blipFill>
        <p:spPr>
          <a:xfrm>
            <a:off x="611640" y="1556640"/>
            <a:ext cx="7920360" cy="517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7360" y="476640"/>
            <a:ext cx="4544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Дух холода Трескун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052640"/>
            <a:ext cx="4172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Calibri"/>
              </a:rPr>
              <a:t>Занимался он делами жуткими: насылал на землю стужу, губил посевы, морозил людей и животных. Люди пытались откупиться от злого духа заговорами да подарками, приносили ему кашу, кисель, уговаривали пощадить посевы и скот. Трескун оставался непреклонен</a:t>
            </a:r>
            <a:r>
              <a:rPr b="0" i="1" lang="ru-RU" sz="2800" spc="-1" strike="noStrike">
                <a:solidFill>
                  <a:srgbClr val="558ed5"/>
                </a:solidFill>
                <a:latin typeface="Calibri"/>
              </a:rPr>
              <a:t>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Дед Мороз. Мифологические корни."/>
          <p:cNvPicPr/>
          <p:nvPr/>
        </p:nvPicPr>
        <p:blipFill>
          <a:blip r:embed="rId2"/>
          <a:stretch/>
        </p:blipFill>
        <p:spPr>
          <a:xfrm rot="21365400">
            <a:off x="539280" y="1196640"/>
            <a:ext cx="4026240" cy="5073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Дух холода Карачун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908640"/>
            <a:ext cx="42440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рачун обитал под землей. Он превращал в лёд воду в колодцах, родниках, замораживал реки. А людям вообще не советовали с ним встречаться, плачевны были последствия таких встреч. Да что долго рассказывать, его лицо говорит само за себ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MAYBE.RU: МейБлог - &quot;Дед Мороз и Снегурочка. Мифологические …"/>
          <p:cNvPicPr/>
          <p:nvPr/>
        </p:nvPicPr>
        <p:blipFill>
          <a:blip r:embed="rId2"/>
          <a:stretch/>
        </p:blipFill>
        <p:spPr>
          <a:xfrm rot="21345600">
            <a:off x="395280" y="1052640"/>
            <a:ext cx="4340160" cy="5563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Дух холода Зимник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38440" y="908640"/>
            <a:ext cx="4453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Зимник же был сутулым старичком низенького роста, с длинной белой бородой. В руке держал он железную булаву. К чему та булава прикасалась, то в лед превращалось, гласили народные пред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Сегодня день рождения Деда Мороза"/>
          <p:cNvPicPr/>
          <p:nvPr/>
        </p:nvPicPr>
        <p:blipFill>
          <a:blip r:embed="rId2"/>
          <a:stretch/>
        </p:blipFill>
        <p:spPr>
          <a:xfrm rot="21376200">
            <a:off x="827640" y="1073160"/>
            <a:ext cx="3240000" cy="5333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Мороз Иванович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32000" y="1052640"/>
            <a:ext cx="37544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Вскоре вышла в свет литературная обработка Одоевского, объединившая мифы и сказания. В ней перед нами впервые предстаёт уже несколько подобревший (в сравнении с предками) старик Мороз Иванович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Мороз Иванович 1981 смотреть онлайн"/>
          <p:cNvPicPr/>
          <p:nvPr/>
        </p:nvPicPr>
        <p:blipFill>
          <a:blip r:embed="rId2"/>
          <a:srcRect l="5090" t="7688" r="5090" b="8922"/>
          <a:stretch/>
        </p:blipFill>
        <p:spPr>
          <a:xfrm rot="21087600">
            <a:off x="755280" y="1236240"/>
            <a:ext cx="3960000" cy="4856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ramki-vsem.ru/fon/sinij-fon37.jpg"/>
          <p:cNvPicPr/>
          <p:nvPr/>
        </p:nvPicPr>
        <p:blipFill>
          <a:blip r:embed="rId1"/>
          <a:stretch/>
        </p:blipFill>
        <p:spPr>
          <a:xfrm>
            <a:off x="0" y="0"/>
            <a:ext cx="9199800" cy="6857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5680" y="404640"/>
            <a:ext cx="432432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14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И когда настала пора сменить отца на тяжёлом морозном поприще, юный Дед Мороз решил: «Я сделаю все, чтобы доставлять детишкам радость. Я каждый год буду дарить им подарки, выполнять все их пожелания. Тогда малыши вырастут умными и добрыми». Купил наш Дед Мороз огромный мешок, в который стал складывать многочисленные подарки. А в новогоднюю ночь он тайком пробирался в дома, где жили маленькие ребятишки, и прятал подарки под ёлк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Плейкаст &quot;ВЫБИРАЕМ САМОГО КЛАССНОГО ДЕДА МОРОЗА."/>
          <p:cNvPicPr/>
          <p:nvPr/>
        </p:nvPicPr>
        <p:blipFill>
          <a:blip r:embed="rId2"/>
          <a:stretch/>
        </p:blipFill>
        <p:spPr>
          <a:xfrm>
            <a:off x="611640" y="404640"/>
            <a:ext cx="4248000" cy="6068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Дед Мороз со Снегурочкой приходят на все детские новогодние утренники. Дети с нетерпением ждут дорогого волшебни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Работа в Киеве &quot; Город Киев: актуальные киевские новости"/>
          <p:cNvPicPr/>
          <p:nvPr/>
        </p:nvPicPr>
        <p:blipFill>
          <a:blip r:embed="rId1"/>
          <a:stretch/>
        </p:blipFill>
        <p:spPr>
          <a:xfrm>
            <a:off x="1475640" y="1628640"/>
            <a:ext cx="6336360" cy="497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  <Words>377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7T11:58:41Z</dcterms:created>
  <dc:creator>ммвм</dc:creator>
  <dc:description/>
  <dc:language>en-US</dc:language>
  <cp:lastModifiedBy>user</cp:lastModifiedBy>
  <dcterms:modified xsi:type="dcterms:W3CDTF">2016-11-23T17:05:21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