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15.gif" ContentType="image/gif"/>
  <Override PartName="/ppt/media/image7.jpeg" ContentType="image/jpeg"/>
  <Override PartName="/ppt/media/image4.png" ContentType="image/png"/>
  <Override PartName="/ppt/media/image2.gif" ContentType="image/gif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0AED-3ABC-45FF-850C-1773B739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EBF7-9F92-4255-84BD-8B7176AF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B4BB-0311-4F3D-92E5-F57A6DFB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5CE6-DB7C-4E78-988B-05E5DEE3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2CB7-713B-419A-8556-0E64BC32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704F-12AD-40A1-9280-06F568C3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4A2D-0B42-43B6-9334-AC4A5A27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A08A-BE2D-4874-A1E9-AD8493AE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5B1F-66D1-465D-8D6F-58C4EE6D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AA69-924E-4BE1-B816-A3D10B3D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26E1-4A1E-4514-A361-B24A952E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696A-4DF6-4BF0-9620-24546DCF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2024-79BA-4FB5-9270-3FE98CE7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7EFB-1FF2-4660-9566-849D9476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202B-F4B7-4B84-809C-B40E0D84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8827-66B8-4A9A-A9E2-84122288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1D83-3CFF-47A8-8D88-33AB0A2B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BB89C-0D1A-4B60-8F95-57D5EC9D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02F46-72C2-4032-97F5-6AD6CEE3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A0188-F094-4CF0-B5DD-2E6B5C35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2E251-046D-4EC0-9951-49F8B9BE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E20A1-C372-47E8-AAD7-F533B3E7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0FD6-AC2E-41AB-9830-8CF3B756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B0A09-BC44-4098-A624-611F49DD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83D87-4985-4B16-9D3B-2C301091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ED86E-EDC7-4E2A-BA6E-EB68D263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D13AA-6F82-4A61-B231-BAAC77AA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171A4-4903-4171-9918-642457C0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6F520-C62D-409E-AD98-30800DAC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97AFC-9213-4A90-963B-7A3C6363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63C9-CC59-49C6-8E57-82AC0825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2C6D-0F50-43FA-921F-4413D002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3DF1-35D6-41E5-9929-575369BA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677-A020-48B4-83AD-541E32EC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992A-413C-4582-915E-392531A2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CB4B-A750-4E76-8FC4-6B5C3343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8B8341-76BA-48A3-B0B1-8FEB536958C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241B1E-1621-4CEF-9F6A-B590CBFB422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B146F9-92A3-4682-B2E0-BC6E99A31ED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hyperlink" Target="http://www.radikal.ru/" TargetMode="External"/><Relationship Id="rId4" Type="http://schemas.openxmlformats.org/officeDocument/2006/relationships/image" Target="../media/image15.gi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hyperlink" Target="http://www.radikal.ru/" TargetMode="External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-28080" y="540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2"/>
          <p:cNvSpPr/>
          <p:nvPr/>
        </p:nvSpPr>
        <p:spPr>
          <a:xfrm>
            <a:off x="1763640" y="1268640"/>
            <a:ext cx="6048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8000" spc="-1" strike="noStrike">
                <a:solidFill>
                  <a:srgbClr val="c6d9f1"/>
                </a:solidFill>
                <a:latin typeface="Arial Narrow"/>
                <a:ea typeface="Times New Roman"/>
              </a:rPr>
              <a:t>День рожден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8000" spc="-1" strike="noStrike">
                <a:solidFill>
                  <a:srgbClr val="c6d9f1"/>
                </a:solidFill>
                <a:latin typeface="Arial Narrow"/>
                <a:ea typeface="Times New Roman"/>
              </a:rPr>
              <a:t> </a:t>
            </a:r>
            <a:r>
              <a:rPr b="1" i="1" lang="ru-RU" sz="8000" spc="-1" strike="noStrike">
                <a:solidFill>
                  <a:srgbClr val="c6d9f1"/>
                </a:solidFill>
                <a:latin typeface="Arial Narrow"/>
                <a:ea typeface="Times New Roman"/>
              </a:rPr>
              <a:t>Деда Мороз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В декабре 1998 года из Лапландии Дед Мороз перебрался в Великий Устюг, ставший отныне его вотчино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Великий Устюг Великоустюгский район Вологда и Вологодская область"/>
          <p:cNvPicPr/>
          <p:nvPr/>
        </p:nvPicPr>
        <p:blipFill>
          <a:blip r:embed="rId2"/>
          <a:stretch/>
        </p:blipFill>
        <p:spPr>
          <a:xfrm>
            <a:off x="1259640" y="1556640"/>
            <a:ext cx="6480360" cy="5042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100" spc="-1" strike="noStrike">
                <a:solidFill>
                  <a:srgbClr val="336699"/>
                </a:solidFill>
                <a:latin typeface="Times New Roman"/>
              </a:rPr>
              <a:t>18 ноября Дед Мороз и Снегурочка встречают огромное количество гостей, которые съезжаются на празднество со всего света.</a:t>
            </a: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Волшебная мельница и 97 желаний: в гостях у Деда Мороза в Бе…"/>
          <p:cNvPicPr/>
          <p:nvPr/>
        </p:nvPicPr>
        <p:blipFill>
          <a:blip r:embed="rId2"/>
          <a:stretch/>
        </p:blipFill>
        <p:spPr>
          <a:xfrm>
            <a:off x="1043640" y="1700640"/>
            <a:ext cx="7272360" cy="4839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1640" y="274680"/>
            <a:ext cx="43920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Из Украины приезжает Святой Николай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Дед мороз - святой Николай"/>
          <p:cNvPicPr/>
          <p:nvPr/>
        </p:nvPicPr>
        <p:blipFill>
          <a:blip r:embed="rId2"/>
          <a:stretch/>
        </p:blipFill>
        <p:spPr>
          <a:xfrm>
            <a:off x="179640" y="1127520"/>
            <a:ext cx="3926880" cy="46202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66" name="Picture 4" descr="Изображени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67560" y="0"/>
            <a:ext cx="2476080" cy="2999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&quot;Дед Мороз&quot; и новогодние /рождественские традиции"/>
          <p:cNvPicPr/>
          <p:nvPr/>
        </p:nvPicPr>
        <p:blipFill>
          <a:blip r:embed="rId5"/>
          <a:stretch/>
        </p:blipFill>
        <p:spPr>
          <a:xfrm>
            <a:off x="4163040" y="1080360"/>
            <a:ext cx="3168000" cy="5333400"/>
          </a:xfrm>
          <a:prstGeom prst="rect">
            <a:avLst/>
          </a:prstGeom>
          <a:ln w="0">
            <a:noFill/>
          </a:ln>
        </p:spPr>
      </p:pic>
      <p:sp>
        <p:nvSpPr>
          <p:cNvPr id="168" name="Заголовок 1"/>
          <p:cNvSpPr/>
          <p:nvPr/>
        </p:nvSpPr>
        <p:spPr>
          <a:xfrm>
            <a:off x="2339640" y="5536080"/>
            <a:ext cx="821880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Из Германии – Вайнахтсм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-33840" y="-2448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440" cy="77760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chemeClr val="accent1"/>
                </a:solidFill>
                <a:latin typeface="Times New Roman"/>
              </a:rPr>
              <a:t>Из Гатчины – Всемирный казачий Дед Мороз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Материалы за Декабрь 2012 года &quot; banana.by - Самые желтые но…"/>
          <p:cNvPicPr/>
          <p:nvPr/>
        </p:nvPicPr>
        <p:blipFill>
          <a:blip r:embed="rId2"/>
          <a:stretch/>
        </p:blipFill>
        <p:spPr>
          <a:xfrm>
            <a:off x="2267640" y="980640"/>
            <a:ext cx="3800160" cy="5714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72" name="Picture 2" descr="Изображени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980640"/>
            <a:ext cx="2476080" cy="29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85280" y="21240"/>
            <a:ext cx="8229240" cy="141732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В День рождения Деда Мороза в Великом Устюге зажигаются огни на первой российской новогодней ёлк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Новый 2012 год"/>
          <p:cNvPicPr/>
          <p:nvPr/>
        </p:nvPicPr>
        <p:blipFill>
          <a:blip r:embed="rId2"/>
          <a:stretch/>
        </p:blipFill>
        <p:spPr>
          <a:xfrm>
            <a:off x="1187640" y="1556640"/>
            <a:ext cx="6696360" cy="5022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Этот день приходится на 18 ноября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Психологический форум :: Просмотр темы - С Днём рождения!"/>
          <p:cNvPicPr/>
          <p:nvPr/>
        </p:nvPicPr>
        <p:blipFill>
          <a:blip r:embed="rId1"/>
          <a:stretch/>
        </p:blipFill>
        <p:spPr>
          <a:xfrm>
            <a:off x="220320" y="1355400"/>
            <a:ext cx="4498920" cy="326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Сегодня день рождения Деда Мороза"/>
          <p:cNvPicPr/>
          <p:nvPr/>
        </p:nvPicPr>
        <p:blipFill>
          <a:blip r:embed="rId2"/>
          <a:stretch/>
        </p:blipFill>
        <p:spPr>
          <a:xfrm>
            <a:off x="5076000" y="1906560"/>
            <a:ext cx="4067640" cy="27115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2" descr=""/>
          <p:cNvPicPr/>
          <p:nvPr/>
        </p:nvPicPr>
        <p:blipFill>
          <a:blip r:embed="rId3"/>
          <a:stretch/>
        </p:blipFill>
        <p:spPr>
          <a:xfrm>
            <a:off x="444600" y="5065200"/>
            <a:ext cx="824184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1"/>
                </a:solidFill>
                <a:latin typeface="Times New Roman"/>
              </a:rPr>
              <a:t>Рождение трех прадедов современного Деда Мороза пришлось на времена древних восточнославянских племен, поклоняющихся языческим божествам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бог Правда-TV - Part 6"/>
          <p:cNvPicPr/>
          <p:nvPr/>
        </p:nvPicPr>
        <p:blipFill>
          <a:blip r:embed="rId1"/>
          <a:stretch/>
        </p:blipFill>
        <p:spPr>
          <a:xfrm>
            <a:off x="611640" y="1556640"/>
            <a:ext cx="7920360" cy="517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47360" y="476640"/>
            <a:ext cx="45446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Дух холода Трескун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052640"/>
            <a:ext cx="4172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558ed5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336699"/>
                </a:solidFill>
                <a:latin typeface="Calibri"/>
              </a:rPr>
              <a:t>Занимался он делами жуткими: насылал на землю стужу, губил посевы, морозил людей и животных. Люди пытались откупиться от злого духа заговорами да подарками, приносили ему кашу, кисель, уговаривали пощадить посевы и скот. Трескун оставался непреклонен</a:t>
            </a:r>
            <a:r>
              <a:rPr b="0" i="1" lang="ru-RU" sz="2800" spc="-1" strike="noStrike">
                <a:solidFill>
                  <a:srgbClr val="558ed5"/>
                </a:solidFill>
                <a:latin typeface="Calibri"/>
              </a:rPr>
              <a:t>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Дед Мороз. Мифологические корни."/>
          <p:cNvPicPr/>
          <p:nvPr/>
        </p:nvPicPr>
        <p:blipFill>
          <a:blip r:embed="rId2"/>
          <a:stretch/>
        </p:blipFill>
        <p:spPr>
          <a:xfrm rot="21365400">
            <a:off x="539280" y="1196640"/>
            <a:ext cx="4026240" cy="5073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Дух холода Карачун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908640"/>
            <a:ext cx="424404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Карачун обитал под землей. Он превращал в лёд воду в колодцах, родниках, замораживал реки. А людям вообще не советовали с ним встречаться, плачевны были последствия таких встреч. Да что долго рассказывать, его лицо говорит само за себ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MAYBE.RU: МейБлог - &quot;Дед Мороз и Снегурочка. Мифологические …"/>
          <p:cNvPicPr/>
          <p:nvPr/>
        </p:nvPicPr>
        <p:blipFill>
          <a:blip r:embed="rId2"/>
          <a:stretch/>
        </p:blipFill>
        <p:spPr>
          <a:xfrm rot="21345600">
            <a:off x="395280" y="1052640"/>
            <a:ext cx="4340160" cy="5563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Дух холода Зимник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438440" y="908640"/>
            <a:ext cx="44539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Зимник же был сутулым старичком низенького роста, с длинной белой бородой. В руке держал он железную булаву. К чему та булава прикасалась, то в лед превращалось, гласили народные предан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Сегодня день рождения Деда Мороза"/>
          <p:cNvPicPr/>
          <p:nvPr/>
        </p:nvPicPr>
        <p:blipFill>
          <a:blip r:embed="rId2"/>
          <a:stretch/>
        </p:blipFill>
        <p:spPr>
          <a:xfrm rot="21376200">
            <a:off x="827640" y="1073160"/>
            <a:ext cx="3240000" cy="5333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Мороз Иванович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32000" y="1052640"/>
            <a:ext cx="3754440" cy="50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337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скоре вышла в свет литературная обработка Одоевского, объединившая мифы и сказания. В ней перед нами впервые предстаёт уже несколько подобревший (в сравнении с предками) старик Мороз Иванович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Мороз Иванович 1981 смотреть онлайн"/>
          <p:cNvPicPr/>
          <p:nvPr/>
        </p:nvPicPr>
        <p:blipFill>
          <a:blip r:embed="rId2"/>
          <a:srcRect l="5090" t="7688" r="5090" b="8922"/>
          <a:stretch/>
        </p:blipFill>
        <p:spPr>
          <a:xfrm rot="21087600">
            <a:off x="755280" y="1236240"/>
            <a:ext cx="3960000" cy="4856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95680" y="404640"/>
            <a:ext cx="4324320" cy="612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146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И когда настала пора сменить отца на тяжёлом морозном поприще, юный Дед Мороз решил: «Я сделаю все, чтобы доставлять детишкам радость. Я каждый год буду дарить им подарки, выполнять все их пожелания. Тогда малыши вырастут умными и добрыми». Купил наш Дед Мороз огромный мешок, в который стал складывать многочисленные подарки. А в новогоднюю ночь он тайком пробирался в дома, где жили маленькие ребятишки, и прятал подарки под ёлку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Плейкаст &quot;ВЫБИРАЕМ САМОГО КЛАССНОГО ДЕДА МОРОЗА."/>
          <p:cNvPicPr/>
          <p:nvPr/>
        </p:nvPicPr>
        <p:blipFill>
          <a:blip r:embed="rId2"/>
          <a:stretch/>
        </p:blipFill>
        <p:spPr>
          <a:xfrm>
            <a:off x="611640" y="404640"/>
            <a:ext cx="4248000" cy="60688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Дед Мороз со Снегурочкой приходят на все детские новогодние утренники. Дети с нетерпением ждут дорогого волшебни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Работа в Киеве &quot; Город Киев: актуальные киевские новости"/>
          <p:cNvPicPr/>
          <p:nvPr/>
        </p:nvPicPr>
        <p:blipFill>
          <a:blip r:embed="rId1"/>
          <a:stretch/>
        </p:blipFill>
        <p:spPr>
          <a:xfrm>
            <a:off x="1475640" y="1628640"/>
            <a:ext cx="6336360" cy="4979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  <Words>377</Words>
  <Paragraphs>2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7T11:58:41Z</dcterms:created>
  <dc:creator>ммвм</dc:creator>
  <dc:description/>
  <dc:language>en-US</dc:language>
  <cp:lastModifiedBy>user</cp:lastModifiedBy>
  <dcterms:modified xsi:type="dcterms:W3CDTF">2016-11-23T17:05:21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