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0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21.jpeg" ContentType="image/jpeg"/>
  <Override PartName="/ppt/media/image17.gif" ContentType="image/gif"/>
  <Override PartName="/ppt/media/image50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7.gif" ContentType="image/gif"/>
  <Override PartName="/ppt/media/image28.jpeg" ContentType="image/jpeg"/>
  <Override PartName="/ppt/media/image22.jpeg" ContentType="image/jpeg"/>
  <Override PartName="/ppt/media/image1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gif" ContentType="image/gif"/>
  <Override PartName="/ppt/media/image31.jpeg" ContentType="image/jpeg"/>
  <Override PartName="/ppt/media/image34.jpeg" ContentType="image/jpeg"/>
  <Override PartName="/ppt/media/image40.gif" ContentType="image/gif"/>
  <Override PartName="/ppt/media/image42.jpeg" ContentType="image/jpeg"/>
  <Override PartName="/ppt/media/image43.gif" ContentType="image/gif"/>
  <Override PartName="/ppt/media/image44.jpeg" ContentType="image/jpeg"/>
  <Override PartName="/ppt/media/image35.gif" ContentType="image/gif"/>
  <Override PartName="/ppt/media/image7.jpeg" ContentType="image/jpeg"/>
  <Override PartName="/ppt/media/image38.jpeg" ContentType="image/jpeg"/>
  <Override PartName="/ppt/media/image46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8.gif" ContentType="image/gif"/>
  <Override PartName="/ppt/media/image49.jpeg" ContentType="image/jpeg"/>
  <Override PartName="/ppt/media/image13.jpeg" ContentType="image/jpeg"/>
  <Override PartName="/ppt/media/image18.gif" ContentType="image/gif"/>
  <Override PartName="/ppt/media/image12.jpeg" ContentType="image/jpeg"/>
  <Override PartName="/ppt/media/image45.gif" ContentType="image/gi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6.jpeg" ContentType="image/jpeg"/>
  <Override PartName="/ppt/media/image4.gif" ContentType="image/gif"/>
  <Override PartName="/ppt/media/image3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BDBE-336D-4CE6-BE00-A5E9501FC0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8A15-D8E2-4362-9C2E-C837A0438B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8A68-4F26-428E-9AF4-23D8622F69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F431-CCC7-43C1-ACBA-8A36F07D5F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BE74-916D-4E3C-8606-21DA73AE55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1489-F274-4D8B-B5CF-6FA9F0D3B8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8BD7-3CB3-4280-8679-1A62BD1243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1384-D204-4DE9-9329-29FDE24FD9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11E6-24B8-48CC-BB9B-55DF7F840C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509B-AD6D-4885-86A6-49FD853899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3DE7-16DE-409C-AC71-754280686A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9464-FA01-4581-82D6-BA536A14D4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D991-4439-45C3-AABB-5FC6AFD4E4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5765-3414-4C2D-A849-9D0D1F8D64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20F8-63C8-4FA0-B6C0-C6CAFD616D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C4C-4EE8-4D1F-AF5B-56BB921F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629-F531-4DFF-9CDA-7B9D47A0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D901-2997-4FEB-89E6-3AAD16CB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8BFD-613F-4D4D-BCF3-905E1ECA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97C0-4502-46F5-BEF3-5DB79753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BA97-912B-43F0-BA5A-8FB90DFD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A97F-DCD3-4DA5-91CE-EA1DDDEF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FF14-3CE1-43BB-8655-25A960EC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3D35-022D-43D6-96C8-319855BF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FF9A-3EEE-4454-ADFD-1D91AD47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5EEC-2E79-4612-81CF-FD7E98C1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A74-7FA3-4E7B-B57E-CD0372D0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E4ED-4006-49E1-B10E-3E7DA7FC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2A03-41AC-4B9E-90EE-090A85DC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5EDE-E1E3-4CEC-A006-9BB9A7DE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B6C8-F154-4F51-AA17-BBA0930D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F286-A582-4230-BB96-843EADEF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F9DD-9DE7-4A28-ACEF-A87224FA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3986-3BA9-4033-8B93-4CB88AB2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22BD-9222-4E4E-B3CE-6CF00E5B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65BF-1100-4622-AAC0-A523232F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ECDE-49C7-4942-A754-56B10DCC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7DA8-9BC2-4A93-A2BA-0A1490B7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0243-0A47-4142-8DED-9B3E3544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C634-A728-40D3-B9DF-FBAED7935C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5B21-EE39-471C-8F00-2574CF5A88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gif"/><Relationship Id="rId5" Type="http://schemas.openxmlformats.org/officeDocument/2006/relationships/image" Target="../media/image44.jpeg"/><Relationship Id="rId6" Type="http://schemas.openxmlformats.org/officeDocument/2006/relationships/image" Target="../media/image45.gif"/><Relationship Id="rId7" Type="http://schemas.openxmlformats.org/officeDocument/2006/relationships/image" Target="../media/image46.jpeg"/><Relationship Id="rId8" Type="http://schemas.openxmlformats.org/officeDocument/2006/relationships/image" Target="../media/image47.gif"/><Relationship Id="rId9" Type="http://schemas.openxmlformats.org/officeDocument/2006/relationships/image" Target="../media/image48.gif"/><Relationship Id="rId10" Type="http://schemas.openxmlformats.org/officeDocument/2006/relationships/image" Target="../media/image49.jpeg"/><Relationship Id="rId11" Type="http://schemas.openxmlformats.org/officeDocument/2006/relationships/image" Target="../media/image5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История развития ФИЗИКИ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. </a:t>
            </a:r>
            <a:r>
              <a:rPr b="0" lang="ru-RU" sz="4000" spc="-1" strike="noStrike">
                <a:solidFill>
                  <a:srgbClr val="99cccc"/>
                </a:solidFill>
                <a:latin typeface="Arial"/>
              </a:rPr>
              <a:t>ФИЗИКА И ТЕХНИК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5" descr="images5"/>
          <p:cNvPicPr/>
          <p:nvPr/>
        </p:nvPicPr>
        <p:blipFill>
          <a:blip r:embed="rId1"/>
          <a:stretch/>
        </p:blipFill>
        <p:spPr>
          <a:xfrm>
            <a:off x="0" y="3141720"/>
            <a:ext cx="3565440" cy="2674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о1"/>
          <p:cNvPicPr/>
          <p:nvPr/>
        </p:nvPicPr>
        <p:blipFill>
          <a:blip r:embed="rId2"/>
          <a:stretch/>
        </p:blipFill>
        <p:spPr>
          <a:xfrm>
            <a:off x="3578400" y="2492280"/>
            <a:ext cx="2466720" cy="4365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images768"/>
          <p:cNvPicPr/>
          <p:nvPr/>
        </p:nvPicPr>
        <p:blipFill>
          <a:blip r:embed="rId3"/>
          <a:stretch/>
        </p:blipFill>
        <p:spPr>
          <a:xfrm>
            <a:off x="6046920" y="3141720"/>
            <a:ext cx="309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физика ХХ века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5" descr="ман2"/>
          <p:cNvPicPr/>
          <p:nvPr/>
        </p:nvPicPr>
        <p:blipFill>
          <a:blip r:embed="rId1"/>
          <a:stretch/>
        </p:blipFill>
        <p:spPr>
          <a:xfrm>
            <a:off x="324000" y="1484280"/>
            <a:ext cx="1357200" cy="1871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прох2"/>
          <p:cNvPicPr/>
          <p:nvPr/>
        </p:nvPicPr>
        <p:blipFill>
          <a:blip r:embed="rId2"/>
          <a:stretch/>
        </p:blipFill>
        <p:spPr>
          <a:xfrm>
            <a:off x="7323120" y="1628640"/>
            <a:ext cx="1517760" cy="21607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1979640" y="1773360"/>
            <a:ext cx="511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ый этап бурного развития физики начался в ХХ веке. Возникли и стали развиваться новые направления: яерная физика, физика элементарных частиц, физика твердого тела идр .Возросла роль физики и её влияние на технический и социальный прогресс. Свой вклад в развитие современной физики внесли видные ученые России: М.Г.Басов, П.П.Капица,Л.Б.Ландау, Л.И.Мандельштам, А.М.Прохоров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7236000" y="3933720"/>
            <a:ext cx="19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А.М.Прохор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179280" y="350028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Л.И.Мандельшта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г2"/>
          <p:cNvPicPr/>
          <p:nvPr/>
        </p:nvPicPr>
        <p:blipFill>
          <a:blip r:embed="rId1"/>
          <a:stretch/>
        </p:blipFill>
        <p:spPr>
          <a:xfrm>
            <a:off x="6372360" y="1979640"/>
            <a:ext cx="2592360" cy="2090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сп4"/>
          <p:cNvPicPr/>
          <p:nvPr/>
        </p:nvPicPr>
        <p:blipFill>
          <a:blip r:embed="rId2"/>
          <a:stretch/>
        </p:blipFill>
        <p:spPr>
          <a:xfrm>
            <a:off x="250920" y="333360"/>
            <a:ext cx="2232000" cy="1996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к2"/>
          <p:cNvPicPr/>
          <p:nvPr/>
        </p:nvPicPr>
        <p:blipFill>
          <a:blip r:embed="rId3"/>
          <a:stretch/>
        </p:blipFill>
        <p:spPr>
          <a:xfrm>
            <a:off x="395280" y="4292640"/>
            <a:ext cx="3313080" cy="1909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9"/>
          <p:cNvSpPr/>
          <p:nvPr/>
        </p:nvSpPr>
        <p:spPr>
          <a:xfrm>
            <a:off x="2700360" y="476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рким подтверждением связи науки и техники явился огромный прорыв в освоении космоса. Так, 4 октября 1957 г. в СССР был запущен первый в мире искусственный спутник Зем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900000" y="2565360"/>
            <a:ext cx="51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2 апреля 1961 года Юрий Алексеевич Гагарин, гражданин СССР, стал первым космонавтом, облетевшим земной ша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3924360" y="522936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ольшой вклад в научную и техническую разработку космических полетов сделал Сергей Павлович Короле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12" descr="hbc8"/>
          <p:cNvPicPr/>
          <p:nvPr/>
        </p:nvPicPr>
        <p:blipFill>
          <a:blip r:embed="rId4"/>
          <a:stretch/>
        </p:blipFill>
        <p:spPr>
          <a:xfrm rot="5400000">
            <a:off x="4667400" y="3548880"/>
            <a:ext cx="20163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ервый космонавт Земл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3" name="Picture 4" descr="г3"/>
          <p:cNvPicPr/>
          <p:nvPr/>
        </p:nvPicPr>
        <p:blipFill>
          <a:blip r:embed="rId1"/>
          <a:stretch/>
        </p:blipFill>
        <p:spPr>
          <a:xfrm>
            <a:off x="250920" y="1773360"/>
            <a:ext cx="2334960" cy="2952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г7"/>
          <p:cNvPicPr/>
          <p:nvPr/>
        </p:nvPicPr>
        <p:blipFill>
          <a:blip r:embed="rId2"/>
          <a:stretch/>
        </p:blipFill>
        <p:spPr>
          <a:xfrm>
            <a:off x="2198520" y="3429000"/>
            <a:ext cx="2519640" cy="3240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г4"/>
          <p:cNvPicPr/>
          <p:nvPr/>
        </p:nvPicPr>
        <p:blipFill>
          <a:blip r:embed="rId3"/>
          <a:stretch/>
        </p:blipFill>
        <p:spPr>
          <a:xfrm>
            <a:off x="250920" y="189000"/>
            <a:ext cx="1512720" cy="1245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г5"/>
          <p:cNvPicPr/>
          <p:nvPr/>
        </p:nvPicPr>
        <p:blipFill>
          <a:blip r:embed="rId4"/>
          <a:stretch/>
        </p:blipFill>
        <p:spPr>
          <a:xfrm>
            <a:off x="4572000" y="2060640"/>
            <a:ext cx="2620800" cy="3887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г8"/>
          <p:cNvPicPr/>
          <p:nvPr/>
        </p:nvPicPr>
        <p:blipFill>
          <a:blip r:embed="rId5"/>
          <a:stretch/>
        </p:blipFill>
        <p:spPr>
          <a:xfrm>
            <a:off x="6300720" y="1557360"/>
            <a:ext cx="2664000" cy="2360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г1"/>
          <p:cNvPicPr/>
          <p:nvPr/>
        </p:nvPicPr>
        <p:blipFill>
          <a:blip r:embed="rId6"/>
          <a:stretch/>
        </p:blipFill>
        <p:spPr>
          <a:xfrm>
            <a:off x="2771640" y="1700280"/>
            <a:ext cx="962280" cy="13240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1"/>
          <p:cNvSpPr/>
          <p:nvPr/>
        </p:nvSpPr>
        <p:spPr>
          <a:xfrm>
            <a:off x="1072080" y="6165720"/>
            <a:ext cx="65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ahoma"/>
              </a:rPr>
              <a:t>Летчик – космонавт СССР Ю.А.Гагар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амст3"/>
          <p:cNvPicPr/>
          <p:nvPr/>
        </p:nvPicPr>
        <p:blipFill>
          <a:blip r:embed="rId1"/>
          <a:stretch/>
        </p:blipFill>
        <p:spPr>
          <a:xfrm>
            <a:off x="6539040" y="388800"/>
            <a:ext cx="2146320" cy="2503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hbc9"/>
          <p:cNvPicPr/>
          <p:nvPr/>
        </p:nvPicPr>
        <p:blipFill>
          <a:blip r:embed="rId2"/>
          <a:stretch/>
        </p:blipFill>
        <p:spPr>
          <a:xfrm>
            <a:off x="539640" y="190440"/>
            <a:ext cx="2303640" cy="920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амст1"/>
          <p:cNvPicPr/>
          <p:nvPr/>
        </p:nvPicPr>
        <p:blipFill>
          <a:blip r:embed="rId3"/>
          <a:stretch/>
        </p:blipFill>
        <p:spPr>
          <a:xfrm>
            <a:off x="324000" y="3213000"/>
            <a:ext cx="2592360" cy="2554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амст2"/>
          <p:cNvPicPr/>
          <p:nvPr/>
        </p:nvPicPr>
        <p:blipFill>
          <a:blip r:embed="rId4"/>
          <a:stretch/>
        </p:blipFill>
        <p:spPr>
          <a:xfrm>
            <a:off x="2195640" y="4484520"/>
            <a:ext cx="3600360" cy="23734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0"/>
          <p:cNvSpPr/>
          <p:nvPr/>
        </p:nvSpPr>
        <p:spPr>
          <a:xfrm>
            <a:off x="1116000" y="1341360"/>
            <a:ext cx="49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1 июля 1969 года впервые была осуществлена посадка на Луну американского космического корабля с астронавтами на борту: Нейлом Армстронгом и Эдвином Олдрин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6372360" y="2924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йл Армстрон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12" descr="олдр3"/>
          <p:cNvPicPr/>
          <p:nvPr/>
        </p:nvPicPr>
        <p:blipFill>
          <a:blip r:embed="rId5"/>
          <a:stretch/>
        </p:blipFill>
        <p:spPr>
          <a:xfrm>
            <a:off x="6732720" y="3429000"/>
            <a:ext cx="2052360" cy="2052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3"/>
          <p:cNvSpPr/>
          <p:nvPr/>
        </p:nvSpPr>
        <p:spPr>
          <a:xfrm>
            <a:off x="6372360" y="573408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двин Олдр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14" descr="олдрин1"/>
          <p:cNvPicPr/>
          <p:nvPr/>
        </p:nvPicPr>
        <p:blipFill>
          <a:blip r:embed="rId6"/>
          <a:stretch/>
        </p:blipFill>
        <p:spPr>
          <a:xfrm>
            <a:off x="4791240" y="2924280"/>
            <a:ext cx="17269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Физика и техни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ажное значение имеют открытия в области физики для развития техники. Автомобили, тепловозы, морские суда, самолеты, кино, телевидение, компьютеры, сотовые телефоны и многое другое было создано после того, как были изучены многие звуковые, тепловые световые, электрические явле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4" descr="9b4b59761c0d"/>
          <p:cNvPicPr/>
          <p:nvPr/>
        </p:nvPicPr>
        <p:blipFill>
          <a:blip r:embed="rId1"/>
          <a:stretch/>
        </p:blipFill>
        <p:spPr>
          <a:xfrm>
            <a:off x="250920" y="347760"/>
            <a:ext cx="1944720" cy="1146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103"/>
          <p:cNvPicPr/>
          <p:nvPr/>
        </p:nvPicPr>
        <p:blipFill>
          <a:blip r:embed="rId2"/>
          <a:stretch/>
        </p:blipFill>
        <p:spPr>
          <a:xfrm>
            <a:off x="7596360" y="3429000"/>
            <a:ext cx="1238040" cy="1362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CAYVCO5H"/>
          <p:cNvPicPr/>
          <p:nvPr/>
        </p:nvPicPr>
        <p:blipFill>
          <a:blip r:embed="rId3"/>
          <a:stretch/>
        </p:blipFill>
        <p:spPr>
          <a:xfrm>
            <a:off x="179280" y="5016600"/>
            <a:ext cx="1800360" cy="1438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sci-bulldozer"/>
          <p:cNvPicPr/>
          <p:nvPr/>
        </p:nvPicPr>
        <p:blipFill>
          <a:blip r:embed="rId4"/>
          <a:stretch/>
        </p:blipFill>
        <p:spPr>
          <a:xfrm>
            <a:off x="6948360" y="5084640"/>
            <a:ext cx="1766880" cy="1202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а3"/>
          <p:cNvPicPr/>
          <p:nvPr/>
        </p:nvPicPr>
        <p:blipFill>
          <a:blip r:embed="rId5"/>
          <a:stretch/>
        </p:blipFill>
        <p:spPr>
          <a:xfrm>
            <a:off x="395280" y="3591000"/>
            <a:ext cx="2160720" cy="143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2"/>
          <p:cNvPicPr/>
          <p:nvPr/>
        </p:nvPicPr>
        <p:blipFill>
          <a:blip r:embed="rId6"/>
          <a:stretch/>
        </p:blipFill>
        <p:spPr>
          <a:xfrm rot="2049000">
            <a:off x="5940000" y="5229360"/>
            <a:ext cx="846360" cy="1268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о5"/>
          <p:cNvPicPr/>
          <p:nvPr/>
        </p:nvPicPr>
        <p:blipFill>
          <a:blip r:embed="rId7"/>
          <a:stretch/>
        </p:blipFill>
        <p:spPr>
          <a:xfrm>
            <a:off x="2736720" y="3429000"/>
            <a:ext cx="1357560" cy="180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ком1"/>
          <p:cNvPicPr/>
          <p:nvPr/>
        </p:nvPicPr>
        <p:blipFill>
          <a:blip r:embed="rId8"/>
          <a:stretch/>
        </p:blipFill>
        <p:spPr>
          <a:xfrm>
            <a:off x="7093080" y="130320"/>
            <a:ext cx="2050920" cy="1879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" descr="sci-mustang"/>
          <p:cNvPicPr/>
          <p:nvPr/>
        </p:nvPicPr>
        <p:blipFill>
          <a:blip r:embed="rId9"/>
          <a:stretch/>
        </p:blipFill>
        <p:spPr>
          <a:xfrm>
            <a:off x="1979640" y="5661000"/>
            <a:ext cx="1995480" cy="1071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4" descr="п1"/>
          <p:cNvPicPr/>
          <p:nvPr/>
        </p:nvPicPr>
        <p:blipFill>
          <a:blip r:embed="rId10"/>
          <a:stretch/>
        </p:blipFill>
        <p:spPr>
          <a:xfrm>
            <a:off x="3995640" y="4888080"/>
            <a:ext cx="2160720" cy="1617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" descr="тх1"/>
          <p:cNvPicPr/>
          <p:nvPr/>
        </p:nvPicPr>
        <p:blipFill>
          <a:blip r:embed="rId11"/>
          <a:stretch/>
        </p:blipFill>
        <p:spPr>
          <a:xfrm>
            <a:off x="5286240" y="3500280"/>
            <a:ext cx="151128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екоторые этапы развития физик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ченые Древней Гре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алилео Галил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саак Ньютон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жеймс Максвел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Физика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XX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век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baby07"/>
          <p:cNvPicPr/>
          <p:nvPr/>
        </p:nvPicPr>
        <p:blipFill>
          <a:blip r:embed="rId1"/>
          <a:stretch/>
        </p:blipFill>
        <p:spPr>
          <a:xfrm>
            <a:off x="6372360" y="2349360"/>
            <a:ext cx="2070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Arial"/>
              </a:rPr>
              <a:t>Ученые Древней Греции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6600ff"/>
                </a:solidFill>
                <a:latin typeface="Verdana"/>
              </a:rPr>
              <a:t>Аристотель </a:t>
            </a:r>
            <a:r>
              <a:rPr b="0" lang="ru-RU" sz="1900" spc="-1" strike="noStrike">
                <a:solidFill>
                  <a:srgbClr val="6600ff"/>
                </a:solidFill>
                <a:latin typeface="Verdana"/>
              </a:rPr>
              <a:t>(384 -322 гг. до нашей эры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ар2"/>
          <p:cNvPicPr/>
          <p:nvPr/>
        </p:nvPicPr>
        <p:blipFill>
          <a:blip r:embed="rId1"/>
          <a:stretch/>
        </p:blipFill>
        <p:spPr>
          <a:xfrm>
            <a:off x="5940360" y="2565360"/>
            <a:ext cx="2594160" cy="3384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900000" y="2781360"/>
            <a:ext cx="468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ристотель сделал много открытий, положил начало новым наукам. Одним из первых он открыл, что Земля и Луна имеют шарообразную форму. Конечно, Аристотель был прав не во всем. Он полагал, что все тела состоят из огня, земли, воздуха и воды. Ученый считал, например, что Земля находится в центре мира, Вселенной, верил , что Вселенная – сфе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Ученые Древней Грец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3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Verdana"/>
              </a:rPr>
              <a:t>Архимед</a:t>
            </a:r>
            <a:r>
              <a:rPr b="0" lang="ru-RU" sz="19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ff"/>
                </a:solidFill>
                <a:latin typeface="Verdana"/>
              </a:rPr>
              <a:t>(около 287 – 212 гг. до нашей эры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4284720" y="3141720"/>
            <a:ext cx="46083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рхимед был одним из величайших ученых Древней Греции. Он занимался изучением законов действия рычагов. «Дайте мне точку опоры, и я сдвину Землю…».И ученый не хвастался. Он это точно высчитал. Архимед первым понял, как меняется давление в жидкостях в зависимости от глубины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ссмотрел условия плавания те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7" descr="арх5"/>
          <p:cNvPicPr/>
          <p:nvPr/>
        </p:nvPicPr>
        <p:blipFill>
          <a:blip r:embed="rId1"/>
          <a:stretch/>
        </p:blipFill>
        <p:spPr>
          <a:xfrm>
            <a:off x="1187280" y="3164040"/>
            <a:ext cx="2089440" cy="2089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арх2"/>
          <p:cNvPicPr/>
          <p:nvPr/>
        </p:nvPicPr>
        <p:blipFill>
          <a:blip r:embed="rId2"/>
          <a:stretch/>
        </p:blipFill>
        <p:spPr>
          <a:xfrm>
            <a:off x="2411280" y="5084640"/>
            <a:ext cx="172908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Ученые Древней Грец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ff00"/>
                </a:solidFill>
                <a:latin typeface="Verdana"/>
              </a:rPr>
              <a:t>Демокрит </a:t>
            </a:r>
            <a:r>
              <a:rPr b="0" lang="ru-RU" sz="1900" spc="-1" strike="noStrike">
                <a:solidFill>
                  <a:srgbClr val="00ff00"/>
                </a:solidFill>
                <a:latin typeface="Verdana"/>
              </a:rPr>
              <a:t>(около 460 – 370 гг.до нашей эры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7" descr="демок1"/>
          <p:cNvPicPr/>
          <p:nvPr/>
        </p:nvPicPr>
        <p:blipFill>
          <a:blip r:embed="rId1"/>
          <a:stretch/>
        </p:blipFill>
        <p:spPr>
          <a:xfrm>
            <a:off x="5462640" y="2565360"/>
            <a:ext cx="2771640" cy="3095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684360" y="2781360"/>
            <a:ext cx="45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клад Демокрита в развитие физики связан с разработкой и отражением в материалистических источниках положений об атоме как некотором неделимом, неразрушимом, не подверженным какому – либо воздействию извне , материальном индивидуум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Галилео Галилей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(1564 – 1642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гал4"/>
          <p:cNvPicPr/>
          <p:nvPr/>
        </p:nvPicPr>
        <p:blipFill>
          <a:blip r:embed="rId1"/>
          <a:stretch/>
        </p:blipFill>
        <p:spPr>
          <a:xfrm>
            <a:off x="395280" y="1916280"/>
            <a:ext cx="2027160" cy="2449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2484360" y="2276640"/>
            <a:ext cx="59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тальянский физик, механик, астроном, один из основателей естествознания. В 1609 г Галилей построил свой первый телескоп. Наблюдения, произведенные с его помощью, разрушили «идеальные сферы» Аристотеля. На Луне были обнаружены горы и кратеры, у Юпитера – 4 спут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6" descr="гал3"/>
          <p:cNvPicPr/>
          <p:nvPr/>
        </p:nvPicPr>
        <p:blipFill>
          <a:blip r:embed="rId2"/>
          <a:stretch/>
        </p:blipFill>
        <p:spPr>
          <a:xfrm>
            <a:off x="5867280" y="4581360"/>
            <a:ext cx="2521080" cy="18878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395280" y="458136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лияние Галилея на развитие механики, оптики и астрономии в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VII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еке неоценимо. Его научная деятельность, огромной важности открытия, научная смелость имели решающее значение для победы гелиоцентрической системы ми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Исаак Ньютон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(1643 – 1727 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4" descr="н4"/>
          <p:cNvPicPr/>
          <p:nvPr/>
        </p:nvPicPr>
        <p:blipFill>
          <a:blip r:embed="rId1"/>
          <a:stretch/>
        </p:blipFill>
        <p:spPr>
          <a:xfrm>
            <a:off x="149400" y="1268280"/>
            <a:ext cx="1904760" cy="2305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268360" y="1628640"/>
            <a:ext cx="640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нглийский физик и математик, создавший теоретические основы механики и астрономии, открыл закон всемирного тяготения, единые законы механики, изготовил зеркальный телескоп и многое другое. Вершиной научного творчества Ньютона являются «Начала», в которых он впервые создал единую стройную систему земн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324000" y="3933720"/>
            <a:ext cx="56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небесной механики, которая легла в основу всей классической физики. Влияние взглядов Ньютона на дальнейшее развитие физики огромно. «Ньютон заставил физику мыслить по-своему, «классически», как мы выражаемся теперь…» (Вавилов С.И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н3"/>
          <p:cNvPicPr/>
          <p:nvPr/>
        </p:nvPicPr>
        <p:blipFill>
          <a:blip r:embed="rId2"/>
          <a:stretch/>
        </p:blipFill>
        <p:spPr>
          <a:xfrm>
            <a:off x="6151680" y="3716280"/>
            <a:ext cx="2182680" cy="2808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н1"/>
          <p:cNvPicPr/>
          <p:nvPr/>
        </p:nvPicPr>
        <p:blipFill>
          <a:blip r:embed="rId3"/>
          <a:stretch/>
        </p:blipFill>
        <p:spPr>
          <a:xfrm>
            <a:off x="7164360" y="330120"/>
            <a:ext cx="18003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ихаил Васильевич Ломоносов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(1711 – 1765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4" descr="лом3"/>
          <p:cNvPicPr/>
          <p:nvPr/>
        </p:nvPicPr>
        <p:blipFill>
          <a:blip r:embed="rId1"/>
          <a:stretch/>
        </p:blipFill>
        <p:spPr>
          <a:xfrm>
            <a:off x="179280" y="1628640"/>
            <a:ext cx="2055960" cy="244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2411280" y="1557360"/>
            <a:ext cx="648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рвый русский ученый-естествоиспытатель мирового значения, человек энциклопедических знаний, разносторонних интересов и способностей, один из основоположников физической химии. Поэт, заложивший основы литературного языка, художник. Историк, поборник отечественного просвещения и развития самостоятельной русской наук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6" descr="лом2"/>
          <p:cNvPicPr/>
          <p:nvPr/>
        </p:nvPicPr>
        <p:blipFill>
          <a:blip r:embed="rId2"/>
          <a:stretch/>
        </p:blipFill>
        <p:spPr>
          <a:xfrm>
            <a:off x="6372360" y="3933720"/>
            <a:ext cx="1996920" cy="2592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395280" y="4005360"/>
            <a:ext cx="561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…Все перемены, в натуре случающиеся. Такого суть состояния, что сколько чего у одного тела отымется, столько присовокупится к другому… Сей всеобщий естественный закон простирается и в самые правила движения: ибо тело, движущее своею силою другое. столько же оныя у себя теряет, сколько сообщает другому, которое от него движение получает.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Джеймс Максвелл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(1831 – 1879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4" descr="ма2"/>
          <p:cNvPicPr/>
          <p:nvPr/>
        </p:nvPicPr>
        <p:blipFill>
          <a:blip r:embed="rId1"/>
          <a:stretch/>
        </p:blipFill>
        <p:spPr>
          <a:xfrm>
            <a:off x="6497640" y="1628640"/>
            <a:ext cx="1987560" cy="2305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539640" y="1557360"/>
            <a:ext cx="57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льнейшее развитие физики определилось изучением тепловых и электромагнитных явлений. Исследования электромагнитных явлений коренным образом изменило научную картину мира. Оказалось , что нас окружают физические тела и поля. Общую теорию электромагнитных явлений создал Джеймс Максвел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68360" y="4437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ория Максвелла объяснила природу света и помогла разработке новых технических приборов и устройств, основанных на явлении электромагнетизм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8" descr="computer_ideas_md_wht"/>
          <p:cNvPicPr/>
          <p:nvPr/>
        </p:nvPicPr>
        <p:blipFill>
          <a:blip r:embed="rId2"/>
          <a:stretch/>
        </p:blipFill>
        <p:spPr>
          <a:xfrm>
            <a:off x="7093080" y="5157720"/>
            <a:ext cx="1584360" cy="1457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e65"/>
          <p:cNvPicPr/>
          <p:nvPr/>
        </p:nvPicPr>
        <p:blipFill>
          <a:blip r:embed="rId3"/>
          <a:stretch/>
        </p:blipFill>
        <p:spPr>
          <a:xfrm>
            <a:off x="4208400" y="5157720"/>
            <a:ext cx="1017720" cy="136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sci-japanese_train"/>
          <p:cNvPicPr/>
          <p:nvPr/>
        </p:nvPicPr>
        <p:blipFill>
          <a:blip r:embed="rId4"/>
          <a:stretch/>
        </p:blipFill>
        <p:spPr>
          <a:xfrm>
            <a:off x="971640" y="5442120"/>
            <a:ext cx="2087640" cy="1098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ам2"/>
          <p:cNvPicPr/>
          <p:nvPr/>
        </p:nvPicPr>
        <p:blipFill>
          <a:blip r:embed="rId5"/>
          <a:stretch/>
        </p:blipFill>
        <p:spPr>
          <a:xfrm>
            <a:off x="3276720" y="5805360"/>
            <a:ext cx="847440" cy="876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з5"/>
          <p:cNvPicPr/>
          <p:nvPr/>
        </p:nvPicPr>
        <p:blipFill>
          <a:blip r:embed="rId6"/>
          <a:stretch/>
        </p:blipFill>
        <p:spPr>
          <a:xfrm>
            <a:off x="5580000" y="5516640"/>
            <a:ext cx="12668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4:00:08Z</dcterms:created>
  <dc:creator>Плуталовы</dc:creator>
  <dc:description/>
  <dc:language>en-US</dc:language>
  <cp:lastModifiedBy>Учитель</cp:lastModifiedBy>
  <dcterms:modified xsi:type="dcterms:W3CDTF">2019-09-17T08:56:46Z</dcterms:modified>
  <cp:revision>11</cp:revision>
  <dc:subject/>
  <dc:title>Физика и техника</dc:title>
</cp:coreProperties>
</file>