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21.jpeg" ContentType="image/jpeg"/>
  <Override PartName="/ppt/media/image17.gif" ContentType="image/gif"/>
  <Override PartName="/ppt/media/image50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34.jpeg" ContentType="image/jpeg"/>
  <Override PartName="/ppt/media/image40.gif" ContentType="image/gif"/>
  <Override PartName="/ppt/media/image42.jpeg" ContentType="image/jpeg"/>
  <Override PartName="/ppt/media/image43.gif" ContentType="image/gif"/>
  <Override PartName="/ppt/media/image44.jpeg" ContentType="image/jpeg"/>
  <Override PartName="/ppt/media/image35.gif" ContentType="image/gif"/>
  <Override PartName="/ppt/media/image7.jpeg" ContentType="image/jpeg"/>
  <Override PartName="/ppt/media/image38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49.jpeg" ContentType="image/jpeg"/>
  <Override PartName="/ppt/media/image13.jpeg" ContentType="image/jpeg"/>
  <Override PartName="/ppt/media/image18.gif" ContentType="image/gif"/>
  <Override PartName="/ppt/media/image12.jpeg" ContentType="image/jpeg"/>
  <Override PartName="/ppt/media/image45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jpeg" ContentType="image/jpeg"/>
  <Override PartName="/ppt/media/image4.gif" ContentType="image/gif"/>
  <Override PartName="/ppt/media/image3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E6A4-D5D1-4E1C-A4E6-377A623F9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B656-526D-4B90-A2FF-B47F25DA3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E1D5-43F2-4DD8-996A-C586ADEF4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68DF-8117-405A-84C0-15EF9FF02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ECE9-F0CA-4F35-9C2B-18872D1E4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7762-EF08-4524-A2C1-BEC4FE221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8AA7-CA3F-40C0-BEB6-58CA9BB88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D778-E0D7-445E-8E43-EC6BBF6AE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4B5D-367B-4E11-80D7-D627526F9F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A703-EBB7-48CD-9636-33440680E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ECCF-8A42-481A-89E3-48709C71DA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2895-8F19-4C90-BA79-9FE14F4C9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BD18-48DB-4E31-8A2B-8517E77A36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4B6A-8CEC-4E84-8497-2F98059A4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37B0-51DD-4297-B36F-9F98DD5A3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8C1-1C0F-46AC-969A-0DB9E38A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B7E-F6FC-4316-B750-5F5A69D4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EA6-0D41-4654-AC42-535899BE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08A-971D-47CE-B159-DC33D3A2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9DC2-F51E-40A6-8732-A0072361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9B30-19B7-4847-ABA3-86DCD5AF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BDAB-484E-4A06-8E3B-049C2913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788B-3394-4806-AADA-8B3E3D3A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00C3-972B-44EE-B5E5-9770074D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42BA-4BE5-4D78-BCC6-E68F64A6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946A-C03F-4711-8E69-E81E66E7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63E-3D7F-4A7A-B9CF-70E90CEF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2AF6-389C-4031-9C44-CBCF9F1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8CB7-37CF-4A66-8A58-93C93567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99A7-ECFE-438B-AD7D-06B1987B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6736-430A-4A18-9E98-CE2655A8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D306-E214-403F-81B5-4E369291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C3C-D13A-4F8E-9FE8-8BB69A6E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27D-74E1-4487-B652-E9D8AFD9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73F-96CD-4EF1-9C52-37291E32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821-7EB7-49BA-B80A-F47C45A7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5B8-13E0-431D-81ED-6C044688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987-5CA7-45A9-B748-202F1F11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E79-5188-4EB0-9EB0-62979F1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2459-FB00-4A6B-A84F-A7D8A68D9A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9FDC-B809-4EBA-86CD-4081899323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jpeg"/><Relationship Id="rId8" Type="http://schemas.openxmlformats.org/officeDocument/2006/relationships/image" Target="../media/image47.gif"/><Relationship Id="rId9" Type="http://schemas.openxmlformats.org/officeDocument/2006/relationships/image" Target="../media/image48.gif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тория развития ФИЗИКИ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ru-RU" sz="4000" spc="-1" strike="noStrike">
                <a:solidFill>
                  <a:srgbClr val="99cccc"/>
                </a:solidFill>
                <a:latin typeface="Arial"/>
              </a:rPr>
              <a:t>ФИЗИКА И ТЕХН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images5"/>
          <p:cNvPicPr/>
          <p:nvPr/>
        </p:nvPicPr>
        <p:blipFill>
          <a:blip r:embed="rId1"/>
          <a:stretch/>
        </p:blipFill>
        <p:spPr>
          <a:xfrm>
            <a:off x="0" y="3141720"/>
            <a:ext cx="3565440" cy="267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о1"/>
          <p:cNvPicPr/>
          <p:nvPr/>
        </p:nvPicPr>
        <p:blipFill>
          <a:blip r:embed="rId2"/>
          <a:stretch/>
        </p:blipFill>
        <p:spPr>
          <a:xfrm>
            <a:off x="3578400" y="2492280"/>
            <a:ext cx="2466720" cy="4365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images768"/>
          <p:cNvPicPr/>
          <p:nvPr/>
        </p:nvPicPr>
        <p:blipFill>
          <a:blip r:embed="rId3"/>
          <a:stretch/>
        </p:blipFill>
        <p:spPr>
          <a:xfrm>
            <a:off x="6046920" y="314172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физика ХХ века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5" descr="ман2"/>
          <p:cNvPicPr/>
          <p:nvPr/>
        </p:nvPicPr>
        <p:blipFill>
          <a:blip r:embed="rId1"/>
          <a:stretch/>
        </p:blipFill>
        <p:spPr>
          <a:xfrm>
            <a:off x="324000" y="1484280"/>
            <a:ext cx="1357200" cy="187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прох2"/>
          <p:cNvPicPr/>
          <p:nvPr/>
        </p:nvPicPr>
        <p:blipFill>
          <a:blip r:embed="rId2"/>
          <a:stretch/>
        </p:blipFill>
        <p:spPr>
          <a:xfrm>
            <a:off x="7323120" y="1628640"/>
            <a:ext cx="1517760" cy="2160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79640" y="1773360"/>
            <a:ext cx="511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ый этап бурного развития физики начался в ХХ веке. Возникли и стали развиваться новые направления: яерная физика, физика элементарных частиц, физика твердого тела идр .Возросла роль физики и её влияние на технический и социальный прогресс. Свой вклад в развитие современной физики внесли видные ученые России: М.Г.Басов, П.П.Капица,Л.Б.Ландау, Л.И.Мандельштам, А.М.Прохоров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236000" y="3933720"/>
            <a:ext cx="19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.М.Прох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179280" y="3500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Л.И.Мандельшта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г2"/>
          <p:cNvPicPr/>
          <p:nvPr/>
        </p:nvPicPr>
        <p:blipFill>
          <a:blip r:embed="rId1"/>
          <a:stretch/>
        </p:blipFill>
        <p:spPr>
          <a:xfrm>
            <a:off x="6372360" y="1979640"/>
            <a:ext cx="2592360" cy="2090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сп4"/>
          <p:cNvPicPr/>
          <p:nvPr/>
        </p:nvPicPr>
        <p:blipFill>
          <a:blip r:embed="rId2"/>
          <a:stretch/>
        </p:blipFill>
        <p:spPr>
          <a:xfrm>
            <a:off x="250920" y="333360"/>
            <a:ext cx="2232000" cy="19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к2"/>
          <p:cNvPicPr/>
          <p:nvPr/>
        </p:nvPicPr>
        <p:blipFill>
          <a:blip r:embed="rId3"/>
          <a:stretch/>
        </p:blipFill>
        <p:spPr>
          <a:xfrm>
            <a:off x="395280" y="4292640"/>
            <a:ext cx="3313080" cy="1909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2700360" y="476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рким подтверждением связи науки и техники явился огромный прорыв в освоении космоса. Так, 4 октября 1957 г. в СССР был запущен первый в мире искусственный спутник Зем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900000" y="256536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2 апреля 1961 года Юрий Алексеевич Гагарин, гражданин СССР, стал первым космонавтом, облетевшим земной ша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3924360" y="5229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шой вклад в научную и техническую разработку космических полетов сделал Сергей Павлович Короле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12" descr="hbc8"/>
          <p:cNvPicPr/>
          <p:nvPr/>
        </p:nvPicPr>
        <p:blipFill>
          <a:blip r:embed="rId4"/>
          <a:stretch/>
        </p:blipFill>
        <p:spPr>
          <a:xfrm rot="5400000">
            <a:off x="4667400" y="3548880"/>
            <a:ext cx="20163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ервый космонавт Земл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3" name="Picture 4" descr="г3"/>
          <p:cNvPicPr/>
          <p:nvPr/>
        </p:nvPicPr>
        <p:blipFill>
          <a:blip r:embed="rId1"/>
          <a:stretch/>
        </p:blipFill>
        <p:spPr>
          <a:xfrm>
            <a:off x="250920" y="1773360"/>
            <a:ext cx="2334960" cy="295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г7"/>
          <p:cNvPicPr/>
          <p:nvPr/>
        </p:nvPicPr>
        <p:blipFill>
          <a:blip r:embed="rId2"/>
          <a:stretch/>
        </p:blipFill>
        <p:spPr>
          <a:xfrm>
            <a:off x="2198520" y="3429000"/>
            <a:ext cx="25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г4"/>
          <p:cNvPicPr/>
          <p:nvPr/>
        </p:nvPicPr>
        <p:blipFill>
          <a:blip r:embed="rId3"/>
          <a:stretch/>
        </p:blipFill>
        <p:spPr>
          <a:xfrm>
            <a:off x="250920" y="189000"/>
            <a:ext cx="1512720" cy="124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г5"/>
          <p:cNvPicPr/>
          <p:nvPr/>
        </p:nvPicPr>
        <p:blipFill>
          <a:blip r:embed="rId4"/>
          <a:stretch/>
        </p:blipFill>
        <p:spPr>
          <a:xfrm>
            <a:off x="4572000" y="2060640"/>
            <a:ext cx="2620800" cy="38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г8"/>
          <p:cNvPicPr/>
          <p:nvPr/>
        </p:nvPicPr>
        <p:blipFill>
          <a:blip r:embed="rId5"/>
          <a:stretch/>
        </p:blipFill>
        <p:spPr>
          <a:xfrm>
            <a:off x="6300720" y="155736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г1"/>
          <p:cNvPicPr/>
          <p:nvPr/>
        </p:nvPicPr>
        <p:blipFill>
          <a:blip r:embed="rId6"/>
          <a:stretch/>
        </p:blipFill>
        <p:spPr>
          <a:xfrm>
            <a:off x="2771640" y="1700280"/>
            <a:ext cx="962280" cy="1324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1"/>
          <p:cNvSpPr/>
          <p:nvPr/>
        </p:nvSpPr>
        <p:spPr>
          <a:xfrm>
            <a:off x="1072080" y="6165720"/>
            <a:ext cx="65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ahoma"/>
              </a:rPr>
              <a:t>Летчик – космонавт СССР Ю.А.Гагар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амст3"/>
          <p:cNvPicPr/>
          <p:nvPr/>
        </p:nvPicPr>
        <p:blipFill>
          <a:blip r:embed="rId1"/>
          <a:stretch/>
        </p:blipFill>
        <p:spPr>
          <a:xfrm>
            <a:off x="6539040" y="388800"/>
            <a:ext cx="2146320" cy="2503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bc9"/>
          <p:cNvPicPr/>
          <p:nvPr/>
        </p:nvPicPr>
        <p:blipFill>
          <a:blip r:embed="rId2"/>
          <a:stretch/>
        </p:blipFill>
        <p:spPr>
          <a:xfrm>
            <a:off x="539640" y="190440"/>
            <a:ext cx="2303640" cy="920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амст1"/>
          <p:cNvPicPr/>
          <p:nvPr/>
        </p:nvPicPr>
        <p:blipFill>
          <a:blip r:embed="rId3"/>
          <a:stretch/>
        </p:blipFill>
        <p:spPr>
          <a:xfrm>
            <a:off x="324000" y="3213000"/>
            <a:ext cx="2592360" cy="255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амст2"/>
          <p:cNvPicPr/>
          <p:nvPr/>
        </p:nvPicPr>
        <p:blipFill>
          <a:blip r:embed="rId4"/>
          <a:stretch/>
        </p:blipFill>
        <p:spPr>
          <a:xfrm>
            <a:off x="2195640" y="4484520"/>
            <a:ext cx="3600360" cy="23734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1116000" y="134136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1 июля 1969 года впервые была осуществлена посадка на Луну американского космического корабля с астронавтами на борту: Нейлом Армстронгом и Эдвином Олдрин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6372360" y="29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йл Армстро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2" descr="олдр3"/>
          <p:cNvPicPr/>
          <p:nvPr/>
        </p:nvPicPr>
        <p:blipFill>
          <a:blip r:embed="rId5"/>
          <a:stretch/>
        </p:blipFill>
        <p:spPr>
          <a:xfrm>
            <a:off x="6732720" y="3429000"/>
            <a:ext cx="2052360" cy="2052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6372360" y="57340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двин Олдр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14" descr="олдрин1"/>
          <p:cNvPicPr/>
          <p:nvPr/>
        </p:nvPicPr>
        <p:blipFill>
          <a:blip r:embed="rId6"/>
          <a:stretch/>
        </p:blipFill>
        <p:spPr>
          <a:xfrm>
            <a:off x="4791240" y="2924280"/>
            <a:ext cx="1726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изика и техни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ажное значение имеют открытия в области физики для развития техники. Автомобили, тепловозы, морские суда, самолеты, кино, телевидение, компьютеры, сотовые телефоны и многое другое было создано после того, как были изучены многие звуковые, тепловые световые, электрические я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4" descr="9b4b59761c0d"/>
          <p:cNvPicPr/>
          <p:nvPr/>
        </p:nvPicPr>
        <p:blipFill>
          <a:blip r:embed="rId1"/>
          <a:stretch/>
        </p:blipFill>
        <p:spPr>
          <a:xfrm>
            <a:off x="250920" y="347760"/>
            <a:ext cx="1944720" cy="1146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103"/>
          <p:cNvPicPr/>
          <p:nvPr/>
        </p:nvPicPr>
        <p:blipFill>
          <a:blip r:embed="rId2"/>
          <a:stretch/>
        </p:blipFill>
        <p:spPr>
          <a:xfrm>
            <a:off x="7596360" y="3429000"/>
            <a:ext cx="1238040" cy="1362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AYVCO5H"/>
          <p:cNvPicPr/>
          <p:nvPr/>
        </p:nvPicPr>
        <p:blipFill>
          <a:blip r:embed="rId3"/>
          <a:stretch/>
        </p:blipFill>
        <p:spPr>
          <a:xfrm>
            <a:off x="179280" y="5016600"/>
            <a:ext cx="1800360" cy="1438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sci-bulldozer"/>
          <p:cNvPicPr/>
          <p:nvPr/>
        </p:nvPicPr>
        <p:blipFill>
          <a:blip r:embed="rId4"/>
          <a:stretch/>
        </p:blipFill>
        <p:spPr>
          <a:xfrm>
            <a:off x="6948360" y="5084640"/>
            <a:ext cx="1766880" cy="1202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а3"/>
          <p:cNvPicPr/>
          <p:nvPr/>
        </p:nvPicPr>
        <p:blipFill>
          <a:blip r:embed="rId5"/>
          <a:stretch/>
        </p:blipFill>
        <p:spPr>
          <a:xfrm>
            <a:off x="395280" y="3591000"/>
            <a:ext cx="2160720" cy="143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2"/>
          <p:cNvPicPr/>
          <p:nvPr/>
        </p:nvPicPr>
        <p:blipFill>
          <a:blip r:embed="rId6"/>
          <a:stretch/>
        </p:blipFill>
        <p:spPr>
          <a:xfrm rot="2049000">
            <a:off x="5940000" y="5229360"/>
            <a:ext cx="846360" cy="1268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о5"/>
          <p:cNvPicPr/>
          <p:nvPr/>
        </p:nvPicPr>
        <p:blipFill>
          <a:blip r:embed="rId7"/>
          <a:stretch/>
        </p:blipFill>
        <p:spPr>
          <a:xfrm>
            <a:off x="2736720" y="3429000"/>
            <a:ext cx="1357560" cy="180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ком1"/>
          <p:cNvPicPr/>
          <p:nvPr/>
        </p:nvPicPr>
        <p:blipFill>
          <a:blip r:embed="rId8"/>
          <a:stretch/>
        </p:blipFill>
        <p:spPr>
          <a:xfrm>
            <a:off x="7093080" y="130320"/>
            <a:ext cx="2050920" cy="1879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sci-mustang"/>
          <p:cNvPicPr/>
          <p:nvPr/>
        </p:nvPicPr>
        <p:blipFill>
          <a:blip r:embed="rId9"/>
          <a:stretch/>
        </p:blipFill>
        <p:spPr>
          <a:xfrm>
            <a:off x="1979640" y="5661000"/>
            <a:ext cx="1995480" cy="107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п1"/>
          <p:cNvPicPr/>
          <p:nvPr/>
        </p:nvPicPr>
        <p:blipFill>
          <a:blip r:embed="rId10"/>
          <a:stretch/>
        </p:blipFill>
        <p:spPr>
          <a:xfrm>
            <a:off x="3995640" y="4888080"/>
            <a:ext cx="2160720" cy="161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тх1"/>
          <p:cNvPicPr/>
          <p:nvPr/>
        </p:nvPicPr>
        <p:blipFill>
          <a:blip r:embed="rId11"/>
          <a:stretch/>
        </p:blipFill>
        <p:spPr>
          <a:xfrm>
            <a:off x="5286240" y="3500280"/>
            <a:ext cx="1511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которые этапы развития физи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ченые Древней Гре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лилео Галил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аак Ньюто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жеймс Максвел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изика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ве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baby07"/>
          <p:cNvPicPr/>
          <p:nvPr/>
        </p:nvPicPr>
        <p:blipFill>
          <a:blip r:embed="rId1"/>
          <a:stretch/>
        </p:blipFill>
        <p:spPr>
          <a:xfrm>
            <a:off x="6372360" y="2349360"/>
            <a:ext cx="2070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Ученые Древней Грец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00ff"/>
                </a:solidFill>
                <a:latin typeface="Verdana"/>
              </a:rPr>
              <a:t>Аристотель </a:t>
            </a:r>
            <a:r>
              <a:rPr b="0" lang="ru-RU" sz="1900" spc="-1" strike="noStrike">
                <a:solidFill>
                  <a:srgbClr val="6600ff"/>
                </a:solidFill>
                <a:latin typeface="Verdana"/>
              </a:rPr>
              <a:t>(384 -322 гг. до нашей эры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ар2"/>
          <p:cNvPicPr/>
          <p:nvPr/>
        </p:nvPicPr>
        <p:blipFill>
          <a:blip r:embed="rId1"/>
          <a:stretch/>
        </p:blipFill>
        <p:spPr>
          <a:xfrm>
            <a:off x="5940360" y="2565360"/>
            <a:ext cx="2594160" cy="3384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900000" y="2781360"/>
            <a:ext cx="46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ристотель сделал много открытий, положил начало новым наукам. Одним из первых он открыл, что Земля и Луна имеют шарообразную форму. Конечно, Аристотель был прав не во всем. Он полагал, что все тела состоят из огня, земли, воздуха и воды. Ученый считал, например, что Земля находится в центре мира, Вселенной, верил , что Вселенная – сфе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Ученые Древней Гре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3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Архимед</a:t>
            </a: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ff"/>
                </a:solidFill>
                <a:latin typeface="Verdana"/>
              </a:rPr>
              <a:t>(около 287 – 212 гг. до нашей эры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284720" y="3141720"/>
            <a:ext cx="4608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рхимед был одним из величайших ученых Древней Греции. Он занимался изучением законов действия рычагов. «Дайте мне точку опоры, и я сдвину Землю…».И ученый не хвастался. Он это точно высчитал. Архимед первым понял, как меняется давление в жидкостях в зависимости от глуби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смотрел условия плавания те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арх5"/>
          <p:cNvPicPr/>
          <p:nvPr/>
        </p:nvPicPr>
        <p:blipFill>
          <a:blip r:embed="rId1"/>
          <a:stretch/>
        </p:blipFill>
        <p:spPr>
          <a:xfrm>
            <a:off x="1187280" y="316404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арх2"/>
          <p:cNvPicPr/>
          <p:nvPr/>
        </p:nvPicPr>
        <p:blipFill>
          <a:blip r:embed="rId2"/>
          <a:stretch/>
        </p:blipFill>
        <p:spPr>
          <a:xfrm>
            <a:off x="2411280" y="5084640"/>
            <a:ext cx="172908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Ученые Древней Гре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ff00"/>
                </a:solidFill>
                <a:latin typeface="Verdana"/>
              </a:rPr>
              <a:t>Демокрит </a:t>
            </a:r>
            <a:r>
              <a:rPr b="0" lang="ru-RU" sz="1900" spc="-1" strike="noStrike">
                <a:solidFill>
                  <a:srgbClr val="00ff00"/>
                </a:solidFill>
                <a:latin typeface="Verdana"/>
              </a:rPr>
              <a:t>(около 460 – 370 гг.до нашей эры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демок1"/>
          <p:cNvPicPr/>
          <p:nvPr/>
        </p:nvPicPr>
        <p:blipFill>
          <a:blip r:embed="rId1"/>
          <a:stretch/>
        </p:blipFill>
        <p:spPr>
          <a:xfrm>
            <a:off x="5462640" y="2565360"/>
            <a:ext cx="2771640" cy="3095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684360" y="278136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клад Демокрита в развитие физики связан с разработкой и отражением в материалистических источниках положений об атоме как некотором неделимом, неразрушимом, не подверженным какому – либо воздействию извне , материальном индивидуу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алилео Галилей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(1564 – 1642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гал4"/>
          <p:cNvPicPr/>
          <p:nvPr/>
        </p:nvPicPr>
        <p:blipFill>
          <a:blip r:embed="rId1"/>
          <a:stretch/>
        </p:blipFill>
        <p:spPr>
          <a:xfrm>
            <a:off x="395280" y="1916280"/>
            <a:ext cx="2027160" cy="2449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484360" y="2276640"/>
            <a:ext cx="59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тальянский физик, механик, астроном, один из основателей естествознания. В 1609 г Галилей построил свой первый телескоп. Наблюдения, произведенные с его помощью, разрушили «идеальные сферы» Аристотеля. На Луне были обнаружены горы и кратеры, у Юпитера – 4 спу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" descr="гал3"/>
          <p:cNvPicPr/>
          <p:nvPr/>
        </p:nvPicPr>
        <p:blipFill>
          <a:blip r:embed="rId2"/>
          <a:stretch/>
        </p:blipFill>
        <p:spPr>
          <a:xfrm>
            <a:off x="5867280" y="4581360"/>
            <a:ext cx="2521080" cy="18878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95280" y="458136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ияние Галилея на развитие механики, оптики и астрономии 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ке неоценимо. Его научная деятельность, огромной важности открытия, научная смелость имели решающее значение для победы гелиоцентрической системы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саак Ньютон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1643 – 1727 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н4"/>
          <p:cNvPicPr/>
          <p:nvPr/>
        </p:nvPicPr>
        <p:blipFill>
          <a:blip r:embed="rId1"/>
          <a:stretch/>
        </p:blipFill>
        <p:spPr>
          <a:xfrm>
            <a:off x="149400" y="1268280"/>
            <a:ext cx="190476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268360" y="1628640"/>
            <a:ext cx="640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глийский физик и математик, создавший теоретические основы механики и астрономии, открыл закон всемирного тяготения, единые законы механики, изготовил зеркальный телескоп и многое другое. Вершиной научного творчества Ньютона являются «Начала», в которых он впервые создал единую стройную систему зем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24000" y="393372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небесной механики, которая легла в основу всей классической физики. Влияние взглядов Ньютона на дальнейшее развитие физики огромно. «Ньютон заставил физику мыслить по-своему, «классически», как мы выражаемся теперь…» (Вавилов С.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н3"/>
          <p:cNvPicPr/>
          <p:nvPr/>
        </p:nvPicPr>
        <p:blipFill>
          <a:blip r:embed="rId2"/>
          <a:stretch/>
        </p:blipFill>
        <p:spPr>
          <a:xfrm>
            <a:off x="6151680" y="3716280"/>
            <a:ext cx="2182680" cy="280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н1"/>
          <p:cNvPicPr/>
          <p:nvPr/>
        </p:nvPicPr>
        <p:blipFill>
          <a:blip r:embed="rId3"/>
          <a:stretch/>
        </p:blipFill>
        <p:spPr>
          <a:xfrm>
            <a:off x="7164360" y="330120"/>
            <a:ext cx="1800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 Васильевич Ломоносов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(1711 – 1765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лом3"/>
          <p:cNvPicPr/>
          <p:nvPr/>
        </p:nvPicPr>
        <p:blipFill>
          <a:blip r:embed="rId1"/>
          <a:stretch/>
        </p:blipFill>
        <p:spPr>
          <a:xfrm>
            <a:off x="179280" y="1628640"/>
            <a:ext cx="2055960" cy="244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411280" y="1557360"/>
            <a:ext cx="64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ый русский ученый-естествоиспытатель мирового значения, человек энциклопедических знаний, разносторонних интересов и способностей, один из основоположников физической химии. Поэт, заложивший основы литературного языка, художник. Историк, поборник отечественного просвещения и развития самостоятельной русской нау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6" descr="лом2"/>
          <p:cNvPicPr/>
          <p:nvPr/>
        </p:nvPicPr>
        <p:blipFill>
          <a:blip r:embed="rId2"/>
          <a:stretch/>
        </p:blipFill>
        <p:spPr>
          <a:xfrm>
            <a:off x="6372360" y="3933720"/>
            <a:ext cx="199692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395280" y="400536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…Все перемены, в натуре случающиеся. Такого суть состояния, что сколько чего у одного тела отымется, столько присовокупится к другому… Сей всеобщий естественный закон простирается и в самые правила движения: ибо тело, движущее своею силою другое. столько же оныя у себя теряет, сколько сообщает другому, которое от него движение получает.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жеймс Максвелл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1831 – 1879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ма2"/>
          <p:cNvPicPr/>
          <p:nvPr/>
        </p:nvPicPr>
        <p:blipFill>
          <a:blip r:embed="rId1"/>
          <a:stretch/>
        </p:blipFill>
        <p:spPr>
          <a:xfrm>
            <a:off x="6497640" y="1628640"/>
            <a:ext cx="1987560" cy="2305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539640" y="155736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ейшее развитие физики определилось изучением тепловых и электромагнитных явлений. Исследования электромагнитных явлений коренным образом изменило научную картину мира. Оказалось , что нас окружают физические тела и поля. Общую теорию электромагнитных явлений создал Джеймс Максвел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68360" y="4437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ория Максвелла объяснила природу света и помогла разработке новых технических приборов и устройств, основанных на явлении электромагнетизм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8" descr="computer_ideas_md_wht"/>
          <p:cNvPicPr/>
          <p:nvPr/>
        </p:nvPicPr>
        <p:blipFill>
          <a:blip r:embed="rId2"/>
          <a:stretch/>
        </p:blipFill>
        <p:spPr>
          <a:xfrm>
            <a:off x="7093080" y="5157720"/>
            <a:ext cx="1584360" cy="145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e65"/>
          <p:cNvPicPr/>
          <p:nvPr/>
        </p:nvPicPr>
        <p:blipFill>
          <a:blip r:embed="rId3"/>
          <a:stretch/>
        </p:blipFill>
        <p:spPr>
          <a:xfrm>
            <a:off x="4208400" y="5157720"/>
            <a:ext cx="1017720" cy="136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sci-japanese_train"/>
          <p:cNvPicPr/>
          <p:nvPr/>
        </p:nvPicPr>
        <p:blipFill>
          <a:blip r:embed="rId4"/>
          <a:stretch/>
        </p:blipFill>
        <p:spPr>
          <a:xfrm>
            <a:off x="971640" y="5442120"/>
            <a:ext cx="2087640" cy="109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ам2"/>
          <p:cNvPicPr/>
          <p:nvPr/>
        </p:nvPicPr>
        <p:blipFill>
          <a:blip r:embed="rId5"/>
          <a:stretch/>
        </p:blipFill>
        <p:spPr>
          <a:xfrm>
            <a:off x="3276720" y="5805360"/>
            <a:ext cx="847440" cy="876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з5"/>
          <p:cNvPicPr/>
          <p:nvPr/>
        </p:nvPicPr>
        <p:blipFill>
          <a:blip r:embed="rId6"/>
          <a:stretch/>
        </p:blipFill>
        <p:spPr>
          <a:xfrm>
            <a:off x="5580000" y="5516640"/>
            <a:ext cx="12668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4:00:08Z</dcterms:created>
  <dc:creator>Плуталовы</dc:creator>
  <dc:description/>
  <dc:language>en-US</dc:language>
  <cp:lastModifiedBy>Учитель</cp:lastModifiedBy>
  <dcterms:modified xsi:type="dcterms:W3CDTF">2019-09-17T08:56:46Z</dcterms:modified>
  <cp:revision>11</cp:revision>
  <dc:subject/>
  <dc:title>Физика и техника</dc:title>
</cp:coreProperties>
</file>