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media/image1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A262-D39E-454A-AA0F-0275B11FE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DA07-FEF8-4FAF-926D-C6A8B145F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31DF-988D-4F80-AA6A-C32F6BF78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07C1-DC4B-40EE-89BB-92CA469B0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F66D4-BA5F-4A7F-AEC0-A1C1DBE28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B5FD2-4E9F-46AE-AAF4-457EE9EBE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18E3C-83FA-465C-A653-8F2675E5C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BD381-C884-49A5-907B-AE80A01FC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0E9B1-E865-4BDC-8EC5-F45975212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8933D-68D1-4EDE-BCA5-BC2EA0518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CF281-1013-473C-B0E6-2A4E33F8B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61BD-0723-44BB-B3E3-83122DE45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E0B53-88DC-4369-91ED-72F95EB34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55DFF-0DAC-45DC-8736-E15538870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229BA-78F8-4CEF-9E92-530AFCDD1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52948-DAA2-48CF-829C-9FB09ABE7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6E8D3-F287-4091-95E1-30C741399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0FAA1-0F46-4584-8176-8F37EF7E7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0BC49-EB82-4934-8026-A267CE6C2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44FB5-2B6A-42BC-95BE-933A47FE3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B7BF0-AEF5-4F4A-8804-03C5E2BEC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913C7-49F1-4855-B87A-75E41EFF5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DA5D-1619-4EC8-A6E2-25C7D6CA5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82BA6-3BFD-4F22-A477-C28EE0FDE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9C2A8-2561-48F7-8E51-7EA6226EA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0DC5D-DC50-4265-8B18-DBA102D4F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EB76A-E1AB-434D-9722-53D8D6AA3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7D601-B399-4F6E-BB5B-7C5014091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BD5B5-DE3E-4DA1-A889-EBC529B28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C4092-0337-4B68-88BD-E22E3482A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2F9294-A81E-469E-8BE3-764EBE905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2AE2D-D03D-44C0-BEB6-C4F972A2F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DB25F-52DA-474C-940C-864D7AB40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D1C9-B93D-4568-9711-32C8100AF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FCDBF-167E-4D2C-A406-367424B56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772A5-52D4-4700-96E4-BDB4AFFD0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CBAFD-ABFB-4F30-9C29-2C525E031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54F5A-C67E-475F-B439-C25B7F1EB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3173B-12A3-4A7D-92B2-3CA062164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D745D-E0B3-4ECA-ABC7-1F548D3E0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D2993-9616-4936-9046-F41E2BBE7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632CC-5B65-4801-9D9A-625D13230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0EBF8-1EFC-493F-B2AD-684005C13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5AA3BD-2D6D-4931-BE12-CB0B1658C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6022-F8F2-4EB0-9322-DB423A866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A29A14-9AB8-44AC-9875-A94FD91AA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7E4858-AEE7-43B2-A08F-4FBC80386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88471B-F88D-4681-A720-BD42224B3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1F0270-82B2-48D3-9371-76CA386F1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9248FF-138D-4835-9834-7E93AEC24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F1B1C6-D0BD-48D7-B8F2-422CCD18E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DB7CEE-4944-4079-9536-2D4DA14FC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BA78A2-13CB-41C1-8D80-34492EA9D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FDDC31-0FD9-4444-9E3D-64ABA6D1C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D6FCF3-7ECD-4B82-8184-81B7905DA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5E08-CF78-46DF-BD4D-1D50C1034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22AD83-7F88-4BC4-A3D0-A87ACDE3D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D605-5CE7-47CF-A86E-3306C7CA3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0E12-C629-49A7-BFF2-230F341BB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A7D1-1D21-4D48-B5E8-AB3AEA029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DE9F4-6A4F-4056-8431-9D9BEF8D0806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B9895-CB83-4B7A-A466-4006CD208C09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8D06D-1630-4F69-97FE-7F25747B3978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12E47-DDF9-4165-B8B4-FFC039E536EB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5EDF5-BD62-4D07-A730-DEF58906C8EB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2" descr=""/>
          <p:cNvPicPr/>
          <p:nvPr/>
        </p:nvPicPr>
        <p:blipFill>
          <a:blip r:embed="rId1"/>
          <a:stretch/>
        </p:blipFill>
        <p:spPr>
          <a:xfrm>
            <a:off x="-6480" y="1920960"/>
            <a:ext cx="9717120" cy="20178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786120" y="48578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Выполнила: ученица 5 «Б» класса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МКОУ Таловской СОШ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Юдина Арина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https://ds04.infourok.ru/uploads/ex/088b/000684b2-9178ca12/img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1214280" y="-4329360"/>
            <a:ext cx="642600" cy="5792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285480" y="-360"/>
            <a:ext cx="790092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 rot="10800000">
            <a:off x="9144000" y="6500880"/>
            <a:ext cx="642960" cy="3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Прямоугольник 5"/>
          <p:cNvSpPr/>
          <p:nvPr/>
        </p:nvSpPr>
        <p:spPr>
          <a:xfrm>
            <a:off x="1428840" y="0"/>
            <a:ext cx="5572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1. x - (133 + 75) = 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2. 145 - (x + 45) = 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3. (39 + x) - 27 = 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4. 500 – (120 – х) = 479-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5. 220 + (х - 120) =997 -7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6. 472 – (z - 444) = 3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7. 6x + 131 = 4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8. 490 – y · 7 = 3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9.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(128 + 49) - x = 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"/>
          <p:cNvSpPr/>
          <p:nvPr/>
        </p:nvSpPr>
        <p:spPr>
          <a:xfrm>
            <a:off x="0" y="0"/>
            <a:ext cx="7500960" cy="27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2"/>
          <p:cNvSpPr/>
          <p:nvPr/>
        </p:nvSpPr>
        <p:spPr>
          <a:xfrm>
            <a:off x="1430280" y="-1460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Прямоугольник 3"/>
          <p:cNvSpPr/>
          <p:nvPr/>
        </p:nvSpPr>
        <p:spPr>
          <a:xfrm>
            <a:off x="928800" y="117360"/>
            <a:ext cx="58579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10. 8 · (х - 7) = 10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11.  (k + 11): 23 = 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12. 900 : (210 +х) =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13.  40 + х : 70 = 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14.  142 – (123 - х) + 14 =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15.  67 – 36 : х = 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16. 24 : (х +2) = 60 :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17. 17 + 6·(х - 5) =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18.  40 – 3 · (х + 2)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Прямоугольник 1"/>
          <p:cNvSpPr/>
          <p:nvPr/>
        </p:nvSpPr>
        <p:spPr>
          <a:xfrm>
            <a:off x="785880" y="214200"/>
            <a:ext cx="614340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19.  2 · (х - 12) +19 = 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20. 63 : (2х - 1) = 21 :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21. 248 : (41 – 2х) =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22. 18 · (7х + 26) = 18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23. 336:(5х+1)=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24.  21· (5х+14)=24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25.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K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 : 16 – 109 = 2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оугольник 2"/>
          <p:cNvSpPr/>
          <p:nvPr/>
        </p:nvSpPr>
        <p:spPr>
          <a:xfrm>
            <a:off x="3521160" y="3244680"/>
            <a:ext cx="21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Прямоугольник 1"/>
          <p:cNvSpPr/>
          <p:nvPr/>
        </p:nvSpPr>
        <p:spPr>
          <a:xfrm>
            <a:off x="1071720" y="214200"/>
            <a:ext cx="5715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26. 55 – 8х =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  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27. (60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 - 30) : 5 =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28.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27 : 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y 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+ 29 = 38  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29.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92 + 56 : (14 - 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b) 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=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30.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(t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 - 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25): 20 = 9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 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31.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(c : 9) • 15 - 47 = 2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32.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6 • (18 - 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k) 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= 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     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33.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(410 – 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d)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: 7 + 70 = 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Заголовок 1" descr=""/>
          <p:cNvPicPr/>
          <p:nvPr/>
        </p:nvPicPr>
        <p:blipFill>
          <a:blip r:embed="rId1"/>
          <a:stretch/>
        </p:blipFill>
        <p:spPr>
          <a:xfrm>
            <a:off x="493560" y="1706400"/>
            <a:ext cx="14418000" cy="20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https://ds02.infourok.ru/uploads/ex/12f4/00052f8b-1e120162/img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https://cf.ppt-online.org/files/slide/l/LF4Yxkf1ldRtWn8VsTmq90j5MiCXyI2aEeAUNc/slide-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2" descr="https://ds03.infourok.ru/uploads/ex/051d/0002eb4c-5babcd45/2/img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ebf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0" y="0"/>
            <a:ext cx="8143920" cy="685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9000"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1. На первой полке было 8 книг, а на второй - в 2 раза больше. Сколько книг было на двух полках вместе 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2. В магазин продуктов привезли 500 килограммов яблок. В первый день продали 60 кг яблок, а во второй день - в 4 раза меньше, чем в первый. Сколько килограммов яблок осталось продать 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3. Даше 14 лет, ее сестренке Маше 2 года, а их папе 42 года. Во сколько раз Маша моложе папы и во сколько раз папа старше Даши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Прямоугольник 2"/>
          <p:cNvSpPr/>
          <p:nvPr/>
        </p:nvSpPr>
        <p:spPr>
          <a:xfrm>
            <a:off x="0" y="9288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4. Женя прочел 81 страницу, ему осталось прочесть в 3 раза меньше, чем он уже прочел. Сколько всего страниц должен прочесть Жен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5. Ира купила 7 ручек по 15 рублей и 5 карандашей по 10 рублей. Сколько сдачи должна получить Ира с 300 рубле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6. В 10 ящиках 142 кг яблок. Сколько килограмм яблок в 14 таких ящика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7. В первый день машина проехала 250 км., а во второй день в 2 раза больше. Какой путь преодолела машина за 2 дн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ebf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0" y="428760"/>
            <a:ext cx="8215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8. В кинотеатр на первый сеанс пришло 80 человек, а на второй в 3 раза больше. Сколько людей посетили кинотеатр за 2 сеанса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9. Для наполнения одного бассейна требуется 560 литров воды, а для наполнения другого – в 3 раза больше. Сколько воды нужно, чтобы заполнить оба бассейна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10. Иван за 4 дня прочитал книгу, а Маша за 6 дней. В день Маша читает 42 страницы. Сколько страниц Иван прочитает за 2 дня, если каждый день он читает одинаковое количество страниц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http://900igr.net/up/datas/196097/002.jpg"/>
          <p:cNvPicPr/>
          <p:nvPr/>
        </p:nvPicPr>
        <p:blipFill>
          <a:blip r:embed="rId1"/>
          <a:stretch/>
        </p:blipFill>
        <p:spPr>
          <a:xfrm>
            <a:off x="-214200" y="0"/>
            <a:ext cx="9358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https://fs00.infourok.ru/images/doc/165/190546/img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лександр</dc:creator>
  <dc:description/>
  <dc:language>en-US</dc:language>
  <cp:lastModifiedBy>user</cp:lastModifiedBy>
  <dcterms:modified xsi:type="dcterms:W3CDTF">2020-11-07T12:32:33Z</dcterms:modified>
  <cp:revision>36</cp:revision>
  <dc:subject/>
  <dc:title>Слайд 1</dc:title>
</cp:coreProperties>
</file>