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E17-9C72-488F-85F2-26046B92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776-5850-4EC9-9F79-60F43CB7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778-F9B2-49B3-93A5-F52CCD77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9FAD-1C2F-431A-988E-6356D77C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D816-CC47-49C8-B57C-121E25A6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A881-2704-4723-B17A-349D38A9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F4F3-7C5E-40B2-8285-BE67869B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5A72-78BA-4663-A531-BD1C0CCE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5E45-77EA-428D-A2D5-EEBC3053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6A55-F9BE-445F-946F-9222EF5B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D683-1F87-43B1-991F-B6568666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41B-395B-49C7-BB87-45AB717D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B98D-4734-4001-93DE-45A8F52F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6CDD-F58E-4E6B-AE63-34E1A3A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EEEB-AB90-4F8D-AB2F-19E34A51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856E-BD11-4850-98CA-FFE7BAF1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E589-B579-4E51-B6FD-1A0A996D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066E-BD38-486D-9CAC-30A7EABC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5658-454C-4837-A4E2-F2967A0F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DAAEA-49E4-4B1A-A12C-B48BBD4C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676E-BE1D-443E-9B67-B82ACEB5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37A8-2B8A-4914-A7AD-983F37BC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B18-5BFE-447A-A40F-C11BA0D6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A848-717A-4093-A6AA-C31C0079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9306-5BE3-485E-AA8A-BDFB434D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56E72-384C-4CF4-981F-9D122B94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131C-BAB4-4065-BA4D-D3405E3A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B5FF-37DC-41E6-8D9E-BB6E5EA5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F2EE-B4AA-4092-BA0D-445EFDC1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56E80-457C-403E-B3A4-C4E46DFD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CA11-2712-426F-9DAD-0715989A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C8D8D-B780-42BF-9F84-0F730422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434C-AF5C-47B5-9868-54E05629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C7F-A40A-47DF-B614-41911B15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0892A-521A-43BD-A247-4B574E9E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14DF-035F-42E0-968C-C832359A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5188-F323-4EF4-BE76-AE7FC8D4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42EE-CE6C-4EE8-AC71-78607D6A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2D98-D4E3-4A3C-AEDE-F41C7DD0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AF39-C7CB-448A-A0E7-35197D27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EF38-6A49-4051-8528-E44D3413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CA9F6-61C4-4276-B60F-0AC1135C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0E88-CB97-4E82-A20F-150CAF6B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E601D-9345-410E-91BB-3F05D6D3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AC6-F4EA-4B84-BB8A-F0920854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CE66-7C5D-4C3F-A73A-5E66EB1D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21F2E-387D-4365-9826-83EF532E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EBF64-A390-4C18-875D-3F2392BC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D6954-2911-48DF-8DA7-0B4D96C0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A793-DEF6-4972-82C7-0941EFE5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9C12A-9418-454A-96CB-8A44F40B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8FCD9-B44D-458F-9B76-D2C7A2F8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0355E-BD1E-46C1-A40B-CC6D08EF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3007D-A263-424E-954B-19953463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F75B1-2BF7-4C32-9A5F-9B69C3A7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156-18A5-4BD0-8A4A-564D7D83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30C61-C06D-43C6-AA1C-4800058D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44B-AD03-41AC-BCBC-263647B4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94A-BA6D-4F07-8EF0-C0F4E309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EFC-F440-46FE-9A4D-62D703F5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D96F-B1FE-4C1C-B895-3ACFB53C115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F21E-8E72-4C21-B39C-E80D9CAD9A48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3627-0E40-49BF-B24A-7CAD6449C96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41F4-EB0C-4294-AE79-CA42CE7F2E0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806B-726D-4EB2-A5FC-D25F1C6FD7A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2" descr=""/>
          <p:cNvPicPr/>
          <p:nvPr/>
        </p:nvPicPr>
        <p:blipFill>
          <a:blip r:embed="rId1"/>
          <a:stretch/>
        </p:blipFill>
        <p:spPr>
          <a:xfrm>
            <a:off x="-6480" y="1920960"/>
            <a:ext cx="9717120" cy="2017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786120" y="48578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Выполнила: ученица 5 «Б» класс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КОУ Таловской СОШ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Юдина Ари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s://ds04.infourok.ru/uploads/ex/088b/000684b2-9178ca12/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1214280" y="-4329360"/>
            <a:ext cx="642600" cy="5792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5480" y="-360"/>
            <a:ext cx="7900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 rot="10800000">
            <a:off x="914400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1428840" y="0"/>
            <a:ext cx="5572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. x - (133 + 75) =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. 145 - (x + 45)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3. (39 + x) - 27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4. 500 – (120 – х) = 479-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5. 220 + (х - 120) =997 -7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6. 472 – (z - 444) = 3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7. 6x + 131 = 4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8. 490 – y · 7 = 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128 + 49) - x =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0" y="0"/>
            <a:ext cx="750096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1430280" y="-1460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928800" y="117360"/>
            <a:ext cx="5857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0. 8 · (х - 7) = 10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1.  (k + 11): 23 =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2. 900 : (210 +х) =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3.  40 + х : 70 =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4.  142 – (123 - х) + 14 =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5.  67 – 36 : х =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6. 24 : (х +2) = 60 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7. 17 + 6·(х - 5) =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8.  40 – 3 · (х + 2)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785880" y="214200"/>
            <a:ext cx="61434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9.  2 · (х - 12) +19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0. 63 : (2х - 1) = 21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1. 248 : (41 – 2х)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2. 18 · (7х + 26) = 18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3. 336:(5х+1)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4.  21· (5х+14)=24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5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: 16 – 109 = 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3521160" y="324468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1071720" y="214200"/>
            <a:ext cx="5715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6. 55 – 8х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7. (6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- 30) :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8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7 : 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y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+ 29 = 38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9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92 + 56 : (14 - 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b)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30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 -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5): 20 = 9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31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c : 9) • 15 - 47 = 2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32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6 • (18 - 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k)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33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410 – 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7 + 70 =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93560" y="1706400"/>
            <a:ext cx="1441800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ds02.infourok.ru/uploads/ex/12f4/00052f8b-1e120162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ttps://cf.ppt-online.org/files/slide/l/LF4Yxkf1ldRtWn8VsTmq90j5MiCXyI2aEeAUNc/slide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2" descr="https://ds03.infourok.ru/uploads/ex/051d/0002eb4c-5babcd45/2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. На первой полке было 8 книг, а на второй - в 2 раза больше. Сколько книг было на двух полках вместе 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. В магазин продуктов привезли 500 килограммов яблок. В первый день продали 60 кг яблок, а во второй день - в 4 раза меньше, чем в первый. Сколько килограммов яблок осталось продать 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3. Даше 14 лет, ее сестренке Маше 2 года, а их папе 42 года. Во сколько раз Маша моложе папы и во сколько раз папа старше Даш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"/>
          <p:cNvSpPr/>
          <p:nvPr/>
        </p:nvSpPr>
        <p:spPr>
          <a:xfrm>
            <a:off x="0" y="9288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4. Женя прочел 81 страницу, ему осталось прочесть в 3 раза меньше, чем он уже прочел. Сколько всего страниц должен прочесть Же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5. Ира купила 7 ручек по 15 рублей и 5 карандашей по 10 рублей. Сколько сдачи должна получить Ира с 300 руб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6. В 10 ящиках 142 кг яблок. Сколько килограмм яблок в 14 таких ящи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7. В первый день машина проехала 250 км., а во второй день в 2 раза больше. Какой путь преодолела машина за 2 д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42876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8. В кинотеатр на первый сеанс пришло 80 человек, а на второй в 3 раза больше. Сколько людей посетили кинотеатр за 2 сеанс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9. Для наполнения одного бассейна требуется 560 литров воды, а для наполнения другого – в 3 раза больше. Сколько воды нужно, чтобы заполнить оба бассейн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0. Иван за 4 дня прочитал книгу, а Маша за 6 дней. В день Маша читает 42 страницы. Сколько страниц Иван прочитает за 2 дня, если каждый день он читает одинаковое количество страниц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://900igr.net/up/datas/196097/002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s://fs00.infourok.ru/images/doc/165/190546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user</cp:lastModifiedBy>
  <dcterms:modified xsi:type="dcterms:W3CDTF">2020-11-07T12:32:33Z</dcterms:modified>
  <cp:revision>36</cp:revision>
  <dc:subject/>
  <dc:title>Слайд 1</dc:title>
</cp:coreProperties>
</file>