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685B-6CA2-480E-AD71-C8A8354502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7E4B-F9A2-4AD0-BF32-7E0085BE3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524D-F95A-4877-8758-B070BA781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359-E1B9-4B4F-AC3D-A1C8C05E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ECE-D7D4-4CE0-912C-F7EBB02B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9E5E1-5096-4E6B-9A25-8BE73205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3604B-13F9-4D13-B6CA-4AB2990F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B1492-9CD6-42BC-B3FD-6CBA2F1C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253E7-9C8B-421F-B21C-EA04CFB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C3F34-1734-468E-95B2-3F928A7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D63F3-1103-4C92-8FFE-F2126A6C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505FF-FF63-4A7A-B7D5-B74462B9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FCD7B-E681-4F7A-B6D7-4103C4DC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E5058-1667-49E2-B324-3D871985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05D15-B852-4EB9-A6F9-7AA108BD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4DF-526C-4969-B105-2D79D4B2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9CF26-E1F8-47F7-B625-4F346BC6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10366-91E9-41BD-BF28-BAB9069E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81294-3821-4E8C-A71E-C455C495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08EAF-1030-4914-8B66-38CDEB0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7591F-C863-4F08-B131-9891771A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3D2B9-8E33-440F-916F-B4A2565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63C6E-3E45-4D15-92EB-14C0CE99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C65BE-D6BD-4FDC-B532-4A0BBBA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B55DB-6346-45DD-A75F-53460808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F8C78-E002-459A-A18D-1E38D861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09A-D2BD-4327-80EA-D4EC2F21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FFA8A-1803-4B9C-8CEB-CF1F63ED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198B1-3BE8-4368-9946-7139F6F8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3D598-7328-4226-81A6-9054EA7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F1C02-C279-40D5-BEC7-34192313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1F452-7B8A-4538-9605-73FC6BCD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8F114-5467-4429-BAC7-F253DDDC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B5D27-FF87-47D1-A0CC-5D892859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3133C-E6C7-45AB-BFF1-5B31041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F8E08-005C-4E91-943E-FF76EDC9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E4271-37D7-4DA8-94F1-C88AAEB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38A2-70DB-4F77-9137-4B1B425D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0225B-07F7-4CC9-94B8-FCF58CA8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586B6-165A-4405-849F-9BD7B090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71196-96DF-44E5-A031-36AA8382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E499C-3C53-4FEC-A123-CD592C77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411C2-740B-48B9-9385-B8B8B9CE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395A7-1640-432B-928C-A40ED7BC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EEED7-FBA3-4834-8736-3F66473D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858D1-E0A2-4311-8692-9559E803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B79EC-CE73-4CB0-B7C0-83E58260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B9A94-D0E0-4C87-BF9C-F5C3CF24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DBEF-4D2E-49ED-9909-369D96E7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94DAD-701A-4CDB-9FA9-C5D446C7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DA752-F38D-442C-A06A-0B118AF6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61C96-48C4-4DC3-BF7D-697BB78B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16182-4FA8-4401-8BF6-61B0BA1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DB44B-78C5-4F1E-904F-433D06ED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11990-D62C-4507-BE69-31486B89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07C8A-7E74-40CC-8C98-BA69DFAF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443F5-4D01-4E5C-A95A-35F635C7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57402-CD9E-4B84-BEA6-EACA05A5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00C64-5D11-4F4E-BE93-3E113F5B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A71A-2D5C-4905-915F-A9407198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F02B4-5C6E-4557-B287-58F5D171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F5575-9BC3-49BD-B2BE-4939B8E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9649F-4E48-4E00-A970-77855B1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E236B-D47C-428A-8709-BD6B078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E165C-9530-4252-97D4-8217F884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D382F-95AC-4A88-8410-D5FB6891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621BF-5E52-414A-8FA0-197521A5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F7274-0A59-4360-B960-2D9487CC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A451B-6B39-47CD-8101-C7662BB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54BA6-793D-4C20-AF67-1C9161F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7B44-33DA-46D0-80D1-30A0E582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C9556-839F-47AD-9F09-1C4E042D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C262D-EE46-4791-9AE9-A549736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1AB74-2309-44C0-BED7-3B343367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B13B2-387E-47EF-BEC3-3C86E184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28BCB-EC74-45E9-857B-65FEEEFA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C4756-AAF6-4320-BC12-D75D4A80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52AE1-1EC8-4E43-A46D-F124F1AC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07D83-93C2-44C8-8B11-595F1BE6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F39F0-7710-44C3-97AB-041C4C11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D08A3-AAF7-4710-9BDC-A453919E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5286-BB38-43C2-824B-1407A081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3592C-E78E-44D0-92FD-4DC828B5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2038B-ECCF-4D07-AC55-E4FAF7D6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1F8AF-1911-4182-BCC3-A46C5138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1AE1D-59A6-40E1-81EF-AF6EB1A7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545CB-186F-4AC5-A374-FDC7DAAC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5AA0C-1D18-4036-A3BB-9E49951A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82A25-3904-4E36-963D-2611844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E7E54-6346-425D-A30E-7CBE868F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C9F37-AD42-448F-91B5-985F15A1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42377-DAFB-4906-BAA5-9D0BEB63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E837-7CE2-49BF-A51E-10783C0B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B1374-499E-4673-8E66-4C31C0EC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A4DAA8-6265-4920-9C3D-2639BEC7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DB69A7-7101-41B8-8F03-26E710B5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FC991-E693-45B4-A0E5-39D304A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E0747-CFFA-45CC-9FF8-40333D1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7E84D-CC2A-4BB4-8636-C422AB43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A3B41-FF16-42F0-80FE-BDBE8A4B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E1072-20E0-485A-98C8-1F1C28F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DE71E-C143-49C8-8FB3-FBA3A4AA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B58FC-3217-4F97-BE77-63735E1C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DCB1-92CF-4448-AA97-3791967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BB2EC-79B7-4C32-8BCF-A8C2FBF8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8A610-8D76-42C1-8169-1B097BF0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6CC0F-C2D7-43D6-8BCE-AF95AA23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AC874-2733-45F3-9124-FAB1F8BB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5C007-2875-44DE-B26D-08BBFAEF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F9AE2-405F-4B9E-BF34-77744C1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7FB7F-BC64-427F-BC75-AA232E50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407A4-E134-4D40-9EF0-45D8440F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B08EB-0CB6-4E86-8B55-F0F3E75A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B6354-C15D-48CF-9B85-C53DCCC7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5A6-7BBE-41C7-8727-0816083F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4A27-3D75-4152-B856-7308ABFA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C4F6F-3C06-4C62-865B-D96FCAA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7F81F-78BE-474E-B60E-6D5B6EC1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658D5-AACD-4AE7-AB66-802BB0A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0C47FA-5B7A-42B0-B819-C47565DC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B908E-094D-4A38-9F34-65A92C66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3DF1-B5CF-413F-8D90-AAB3C0C3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9BE9-EC70-4F1B-AFC9-3570EB4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876E-8A9D-4055-91F2-839779C5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DCE9-EC6A-4A49-9A62-018BBC6F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AED1-308F-46E4-A002-21938364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F27C-78CF-449F-9451-467014A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BD3D-1F82-4DC8-AD43-0EE9644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18B1-85DE-47D9-AC2E-BA81AC2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5028-18B0-4C20-8AA8-62765257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846-F2B5-4982-8BA7-D5FC0E10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F05B-3647-4439-A397-E1A55BCB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DADA-DAF4-4E92-B049-5A46895B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EA2D-8045-408A-864E-85C2193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2E57-9D1A-4208-9C8E-43EAB685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1DFA-2D9D-45C9-AA82-BFBA2C87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1E02-5BDA-4CC1-9575-32F6DA4E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A6F33-AAB3-4479-8B8D-4D5FDFD9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F0E4-CF99-4442-B84D-01CF342D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211B-95D6-4530-A6DB-483E1A13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E0EB-A47B-4AEA-9CF1-4ED96F4A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FFB-3516-450A-9A06-B8335D73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5278-29EB-4A0D-8C0F-9065CD5B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EB1D9-7CB7-4673-B67E-D69B6157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FC7B-7411-40BA-8C46-342772EC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020A-A782-48F3-B0F9-467061D2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891E-38A7-46F5-B9CB-38B9183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40EE-E1B9-4C89-9C6F-420547CD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F2C0-7C7E-4943-9E5F-CF1BC77F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9BE2-367F-4818-BD39-0AE8396D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614C-AEE5-4626-B926-566DFB12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6CDF5-0E7F-4D5B-A230-DC68BD1C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911-17BE-485C-8C24-EEB1F441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BD517-B922-4994-8AF4-EC3804DA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100A-6343-4343-8B0A-FE99C3ED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1A9A3-8AE9-4B8A-9212-96E71AA6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10C50-C1A0-4F21-B8AE-7AEF4ADC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8BFD-E8EA-4D3C-93AA-F056F71B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13DFB-C197-44C8-832B-BE35C6C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A7270-58B4-48F8-9688-2147E1B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595A-3DA0-45A9-96B4-5922BDF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8F84-94B7-40FC-A6F6-4E26A94B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90277-BB50-4A95-A49E-BAFE6423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297-C2D8-4DBD-AA5D-2E21D364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7CC7A-2575-4C62-81CF-EAE7D902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A8885-DBED-4F95-B33E-1C505A0B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80B4A-4122-494F-B6DE-163D5B60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C613-3B7F-4BEE-A4C4-C9D6168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8072-715F-4070-9649-3CB5D3AB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C395E-EC80-4557-A13A-C636536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EAEFD-EE52-49B4-83D8-10E1257F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DF7D-4B3F-4E7A-A0B0-FB1B50A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3A7C2-1898-42B8-942D-CADA4E6E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159A4-94D7-486D-99DC-3EE9C48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202-914F-451A-9D14-E3194803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2C993-2B23-4ED5-B502-EA475CAD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5DB25-FFA0-43B0-BABB-7BEA26E6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ADB0F-AD49-438E-A953-22DD6C00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80C40-CD67-485B-9DA7-C458C5D9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A3862-3DB9-41BC-9D6E-060AAF82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64E0F-C79E-41E4-B2C1-69CCF573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70AE-46CE-46A7-8752-637B304B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F7186-1735-4DED-902D-24862F41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6B0BF-CAD2-41C4-A80C-6B9CCA72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34B2E-6F52-419B-B135-C9622D5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21E-4957-4B9A-919D-97E72518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75355-4A52-4CFA-97FE-52E1928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C30BB-5138-4EA0-AC31-E7BED2A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655EB-E5E3-48D3-B9EE-6E57D490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30382-47FA-469A-B954-E5EC8E6C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6BD7-B863-4F6D-8EAA-06727D54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C0743-3806-4840-B35B-86972B0D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E4E83-CCB5-4C11-B8EA-6F5E1F7D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9B50F-A580-4D79-8C58-753566E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29A53-E4C2-41D6-A365-51E104AF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147A9-A13A-4580-BAB9-305CD63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1B3-A1CB-4D07-9BE6-3068E52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6CC2-8D61-4901-B97D-A9D24D2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75270-8245-46CD-9D26-E7D320E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16D19-D976-40B1-A308-45C2BFE5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B8CE3-FC97-46C6-A871-7082505A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46C8E-9C7A-468B-AC0E-3F788E66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185DE-413C-4777-B323-3834E32A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40543-EB5C-4DD2-96CB-813C89C5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EE1AC-C47D-46B9-806F-0255A726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7E9F4-74E8-4E55-9164-1C29D50B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BBC87-7702-4117-B32B-2DB9A80A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71E-EB38-49B9-A307-3E3C36F887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7C46-C9DC-40D1-96F4-AC697FBBE2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B5ED-4FB8-440A-835C-438D0838830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33E0-52CE-4D8B-B975-26ED75AB87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20FA-D2D4-4B3D-847C-23728131D68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29F5-EE7D-427A-8EC2-227C6640F4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AADF-3F7D-4DCF-842A-2BE4EFBEC5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0CFD-811B-48BB-9B55-9BC1E48C4A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8C4C-0316-43C5-880B-0C1E622462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0F64-A183-46D4-9ED3-383A542661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4D12-32B6-4DA9-B732-66C19601C3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4027-A7B1-4128-9458-8795B23ACF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00C0-1180-4306-A78B-7B654C6EF20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6E3C-C440-4299-AF36-98EA37ECAB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7556-CCD6-42B3-AB87-E284CF945E4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36E3-C99E-47CA-A3EF-45C12EAB64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DB60-40B4-4C4D-AD5A-AE016DC725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255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Порядок приобретения товаров. 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922400" y="4365360"/>
            <a:ext cx="5308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Учитель СБО  Прокофьева Е.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12"/>
          <p:cNvSpPr/>
          <p:nvPr/>
        </p:nvSpPr>
        <p:spPr>
          <a:xfrm>
            <a:off x="755640" y="31064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ы для снаб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я предметами, вещ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ми для нормальной жизни и деятельности человека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6536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ВСПОМНИМ!!!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entury Gothic"/>
              </a:rPr>
              <a:t>Магазины промышленных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entury Gothic"/>
              </a:rPr>
              <a:t> товаров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144080" y="476280"/>
            <a:ext cx="67993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купки товар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755640" y="1483920"/>
            <a:ext cx="7561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Заранее подумай, что бы ты хотел купить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Рассмотри товар на витрине, обрати внимание на стоимость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Обратись к продавцу с просьбой показать товар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проси продавца о качестве товара, о сроках гаранти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Оплати покупк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Возьми чек, проверь по нему сдач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Положи чек на хранение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360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Гарантия</a:t>
            </a:r>
            <a:r>
              <a:rPr b="0" lang="ru-RU" sz="2200" spc="-1" strike="noStrike">
                <a:solidFill>
                  <a:srgbClr val="66ff33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262626"/>
                </a:solidFill>
                <a:latin typeface="Century Gothic"/>
              </a:rPr>
              <a:t>– единственный период, установленный производителем или продавцом, во время действия которого можно произвести бесплатный </a:t>
            </a:r>
            <a:r>
              <a:rPr b="1" lang="ru-RU" sz="2200" spc="-1" strike="noStrike">
                <a:solidFill>
                  <a:srgbClr val="262626"/>
                </a:solidFill>
                <a:latin typeface="Century Gothic"/>
              </a:rPr>
              <a:t>гарантийный</a:t>
            </a:r>
            <a:r>
              <a:rPr b="0" lang="ru-RU" sz="2200" spc="-1" strike="noStrike">
                <a:solidFill>
                  <a:srgbClr val="262626"/>
                </a:solidFill>
                <a:latin typeface="Century Gothic"/>
              </a:rPr>
              <a:t> ремонт </a:t>
            </a:r>
            <a:r>
              <a:rPr b="1" lang="ru-RU" sz="2200" spc="-1" strike="noStrike">
                <a:solidFill>
                  <a:srgbClr val="262626"/>
                </a:solidFill>
                <a:latin typeface="Century Gothic"/>
              </a:rPr>
              <a:t>товара</a:t>
            </a:r>
            <a:r>
              <a:rPr b="0" lang="ru-RU" sz="2200" spc="-1" strike="noStrike">
                <a:solidFill>
                  <a:srgbClr val="262626"/>
                </a:solidFill>
                <a:latin typeface="Century Gothic"/>
              </a:rPr>
              <a:t>, его замену или даже возврат денег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10920" y="2852280"/>
            <a:ext cx="777708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ежда и обувь: 14 дней со дня покупки или с начала сезона,  в крупных специализированных магазинах до 60 дне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ытовая техника, теле-радио аппаратура: от 1 года до 3 л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арантийные сроки обозначены в уголке покупател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Прямоугольник 1"/>
          <p:cNvSpPr/>
          <p:nvPr/>
        </p:nvSpPr>
        <p:spPr>
          <a:xfrm>
            <a:off x="755640" y="23702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 разное время для разных товар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73240" y="549000"/>
            <a:ext cx="6797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охранили чек, и время гарантии не истекл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имеете право: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менять некачественный товар на качественны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зить цену и вернуть разниц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волить продавцу устранить дефект или оплатить ремонт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нуть вещь, взять деньг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27:29Z</dcterms:created>
  <dc:creator>Татьтьяна Григоревна</dc:creator>
  <dc:description/>
  <dc:language>en-US</dc:language>
  <cp:lastModifiedBy>Елена</cp:lastModifiedBy>
  <dcterms:modified xsi:type="dcterms:W3CDTF">2020-11-18T06:02:48Z</dcterms:modified>
  <cp:revision>32</cp:revision>
  <dc:subject/>
  <dc:title>Тема урока: Магазин промышленных товаров</dc:title>
</cp:coreProperties>
</file>