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25D6-8892-4AE3-9664-CE484385E3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6952-C201-4464-94A3-34183A7279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AA00-BEC5-4237-93B7-F3E002B0E4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F9B-0FEC-4ED8-A802-176AAAAC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8A7-E381-408A-A388-7D6B63BE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F46D8-9C7C-4515-B7A6-9779DE8D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78495-21B8-4E2A-A5C2-0F7259B2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09D78-3331-423A-B433-48439DF3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40ED7-E16F-443E-874A-C32F70A8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38EE5-370E-422C-A3EA-B3BF7A7B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D5438-2D9C-4BAE-BE03-00C55C0F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D01C8-0D7C-49F8-A521-0755FDAC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A642D-69CC-45B0-BAD0-B7156F38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4580B-56DA-45DB-847A-CB47704A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FE698-1097-4994-88DE-E17149AC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7BE-7F08-4449-B735-35A39E77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9D856-EA07-4BE8-9089-45B604B0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3C537-93B1-4227-B091-1E407297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BA3A9-5330-4740-A440-19EEF7DF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71285-AE96-4284-A7C8-83DB470E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245D1-B46E-49F6-9EC6-B459DE92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D12ED-5818-4746-BB3F-AA7046F0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3D9C2-EA97-49F6-B327-76C0B270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397C4-F153-4A5B-AA76-FBA795E0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CD94E-9F52-4447-A03F-E133E42C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D25D1-A807-4081-8159-DF76B9B7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8AB-7C08-4D40-AA57-784A198F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CDF37-1B78-4943-904E-EE86F62F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8D71B-879A-452C-8316-DA247A93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D4EE9-2FF2-48C1-8E25-D52B51AC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8E7DC-0724-4FAE-BE38-35F62A27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965A6-5810-40AC-842D-CA625983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FC0D4-E9E7-4431-824F-41FBA3C1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54701-A534-4D2A-9BA2-EBA41669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3D18E-840C-4B8E-B7AC-158E838F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6E5C9-6F57-4793-8629-4BD9A332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6E19C-82E7-44F9-899A-5C171791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F131-770B-43FB-8ADB-FCF78416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F31AC-F6D3-4887-8605-7591AC97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EB8BF-A041-4122-8BBB-A92486A9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EEB60-D3BA-4E0B-BF5F-0AE0F00E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E4465-CA36-4021-B318-D93D19CE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E04AE-E2BB-41FE-A3EF-6D0FD959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85613-B00C-4A3E-8F1C-A89CC2A5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D38C7-A899-4F06-B643-0A2052F4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D1FD1-F37F-4CB6-93FC-231867B9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2019E-C122-4AB2-B485-2B8DE65C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516E7-1803-470F-998A-1215134D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6430-8869-4302-8C23-BA4E296E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87F5A-52B7-4E1B-9B54-D30798E6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E4B28-6E8A-4BAE-B6E2-E248D460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78F24-966C-4DB3-80E2-54D7FF6E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FED40-963A-48A2-B3A9-2760C5C6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1F8FA-CBE4-47E1-B214-34CC5035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14D9B-FF80-484F-9615-DA11F130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7F311-5EF8-46A9-834A-370544C2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66B55C-75EA-4B3D-B3EB-43976885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3DF18-FC2F-47EF-9E6E-F09C550D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0CF77-6ED3-49DC-92B2-6A9708C2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6A55-5643-4188-8919-384265EF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79ED4-1579-483F-BCB2-44623300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5E671-9B6F-4B13-B049-872E1B6D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13B32-751F-4702-A152-1E252052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01A70-8A04-4364-9385-F602FBB3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21393-75D8-4CC7-947A-B08BBA2D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90F40-CD22-4FBC-9438-829A5BFD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2079C-15D2-46D1-A048-41E6F8BA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6176F2-38F2-4B5B-BE73-E6EF5BAA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4236B-4EB9-4EA6-B1E2-1A98FC43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6AE6CE-0666-4524-8D1B-9B4CADCC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16FE-9797-4B5D-8886-2A906A26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6DF64-6D2F-4630-93BF-0A993C16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C2DB1F-4DC0-4C22-86D1-AD8F569F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08F828-4B77-48ED-8B84-B527B36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3A986-494B-4A91-85B0-C6B61AD0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1F7F4-CD20-4E4F-ACA3-B3B8FA1F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0CFE60-F3DE-46FE-A739-4DA96A28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A3330-1375-42B4-8F1D-705545D5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5E12C5-13BA-46E3-B3FD-D000D8C0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6B2944-16C5-41E5-B8DF-D4D7E019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FB40DD-858B-432F-9349-D80CAD7F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7064-0C76-4611-BFD4-C083AC20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D7C99-AD7C-4E83-AA23-0AFBC585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DE7BF5-BE87-4DC5-B06D-D84D26DF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57D1B9-C5CE-4922-A2AF-3E1BE34E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90D82-6E9E-4A17-964B-90C61B06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33C9F6-754D-4F61-9E88-2BCABC9A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E1DEE-1232-41AE-950F-EEF07E93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8DCB5-D644-44CD-8B44-6A63D678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45663D-318F-4A62-BBF8-AD697C25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4C006-62D2-45E8-9432-DD99B288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86E27B-C9AA-4D1F-9C45-B149A8C5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0BE7-8F68-4467-A249-570FD541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14E03-C421-43D0-B651-E9C8C801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455910-B348-4E67-B06A-EA1DF607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9F5D6-61DE-488A-95CC-087ED8A4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AE5340-8D3D-44B2-A8D0-5D9BD999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42F5E-3562-48B8-8428-00F1CC09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61E36-CB35-4215-9352-B8E4E49D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456F5B-9B56-4B76-8613-E86A9DAE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C6816F-A8B0-49BB-B0E8-97561DB9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4D9145-DD11-4AE2-B6EF-357EA37D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87FD1-F531-47BE-8130-3CE7CC54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BD62-241F-4E36-8E63-78AE0DFB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F1EA2B-9CE1-4CB8-A959-A6F5A2C3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4B71D-31C4-4A44-9C3D-FF4E7AB3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98B8C8-CB5F-4C67-8265-29B70B8B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258369-36B3-4579-8EBC-ECB0C261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AD9E3B-0E73-44F2-8481-2FABFE65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50418-388A-400A-AC74-8EA56077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18F4B-1967-4CB6-8AFE-B2A4B9E8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370ADD-813E-4318-92EB-0BA7879E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CECAC9-000C-421D-9431-039D8778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D2958A-42A5-431D-9A2D-4C660512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149-D91C-4FA1-86A1-614EF065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1919-B6AD-4AF5-9168-02D8A732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18FF39-B0B7-4138-8F3C-52A8DFF8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FAFBE2-47C3-4998-806A-3E5EC87A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ECA66A-F126-4681-845F-3CC2E570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871225-FDCE-4DF6-83D7-45E1F3CC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244D8A-4EC5-4462-922E-71CE9E4D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AB3B-215E-423B-A4A4-ADC7DCDF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E6B9-4B60-4459-8BD3-3EA498CB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E871-761B-40D2-80AF-7AC89448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ACB8-BBCD-421E-A386-B701745E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14A9-1C89-4270-A1DE-32CBB8D3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8372E-B2CF-4DD2-AA75-D25F7CCC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8388F-BD3A-4F83-BF7B-D7229B09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84AEE-F467-4C7A-926E-1BA8DB94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B525B-3E24-4DC7-811B-C64B72D6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5CE-8709-4B51-A79C-090C4F01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2E4E7-7BF5-4F95-A32F-CF910E96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5438A-9E0C-4EBA-AE44-8D37C963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5E12-2EA4-4460-9214-2CB25A7D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C4A93-306D-48FA-82A5-F4C93874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FC2CE-3A36-4DC9-AAC4-4CB62A1A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1280E-4DA3-4205-9903-7C3E741C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B3094-49EC-40F8-8B5A-717B0F47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0616E-E3C5-448E-A809-89F41610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70320-F4AF-4697-8401-4959FAC0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65AF0-E207-4084-9B56-3DC5659C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D77-E455-4766-9E84-47C6FAA6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BD15A-AA43-4D9C-B47E-4C7A07B7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8B0B2-B67B-450B-B0AB-529FE113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B5F13-39C1-4CD6-A46C-A0C14667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ED388-27D0-4AD6-A966-7DD9EDFD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9DED2-A16D-42F8-A688-CC97DD29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70275-E033-49E8-93DB-FA97F079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17AAD-6D40-4917-8E13-D5EB7DF0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392E5-385F-4430-B5B6-57D368A4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947F2-5192-43F9-A0ED-D5387BA5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95E4D-0D5F-4CF1-B338-96596AFF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861-0752-4871-BD28-3501D54E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8CDC4-6037-4F68-9ACB-D1E974C6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FB476-96E4-44AB-BB6E-A991C8C1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D1BA1-DBA3-47DE-83B2-0FC4C6A8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E3338-8A43-4CF6-B273-C1C6EBF7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05200-2040-4539-AE9B-280931C4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854A2-5BFA-4965-8C2C-8FEC2239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2ABBE-84AD-49BD-894E-E8833AD0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EE742-A511-490C-A3AF-26C7311D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7F379-7747-4AF3-8369-F5E06941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0292A-1EFF-4239-921B-08DEC750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919-27EB-4F47-8638-62FE78CC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FEF8D-F4D2-4BDF-BD5D-B4EE66E6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47B09-3A5E-4DC0-8B6C-4D454857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FC86B-F004-4015-B539-A103B2E9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5B413-77A9-4CE7-B562-E8D36302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726B0-93BE-4B21-BC87-57A8EAFA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75879-B23A-454E-92A0-F6C29C2A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785C9-0987-4FC5-A98A-AFB5918C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A3232-665C-4C08-B858-84024817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6077E-413D-47B5-BC2E-8B8A41C0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1FAD7-F03A-411B-B97F-3736DA28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422-DF5D-4D0F-B97F-4D27CED7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9EF60-99D6-4A02-8224-5F9FDF90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C4C73-7D70-4132-9810-A6B0AB58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0A88B-92B6-4FD9-8CB9-CF0B9D7D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C2DCC-BCE2-4141-BA76-35B85219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708DE-9F2F-4D23-A662-02FDA9AB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FBA9E-7F89-4DF4-B272-EE92166D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1DEF2-4C52-42F2-B9AD-785AC7FF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B4713-07E5-431F-8ACF-A215D338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F4B22-CA91-481A-B6EB-37B6CB19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BA671-481A-452E-B202-EA7011EE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2E6-6406-4EAA-85F2-18E69ACD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D00AF-44BF-4FDA-9570-F8A0893C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65CF4-44F0-46F4-9E57-C0F55FD0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E32A3-8A78-44E3-863A-727CCF8E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52D26-DB9C-4803-90F9-093D0FE1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683EF-8887-4E5B-9E49-184386DA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7468F-FB24-459B-B4F5-4F7E48E8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44783-8ABF-431D-9EFF-791DE9F3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5D73E-671C-4C29-9F21-28D1CA99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60279-6F5B-48A4-BBA3-311BA405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9FA18-0181-4289-BAEF-FBC3ED52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E35-A5E1-43EA-B2CF-62EF361B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9B750-F661-43D9-B6E5-B8A6172C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46504-E7D5-4813-ABA2-74A4D77D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2D0B9-147E-48BD-8068-1379ACA0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3F4BA-3005-49E3-8CFC-F7AECDD9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9B260-B623-4A27-9DD5-F3EAE8C8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21610-B3D0-4325-ACD2-77C8997A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E716F-7104-4F16-BE5C-45804A99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4370E-16F3-4ED1-BF0E-3DD0E240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B9BED-0D07-4630-8C53-F50ECF7E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8ED06-1EC4-4490-86CD-74E913B4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85E5-4213-4B31-887A-320F8633C1E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5576-F0FA-4231-AB96-6BE9D01AA21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F69A-DC20-44E1-A602-B846FD5A6BF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C824-4E7D-487B-A07D-2F192A4CA19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E26C-043B-4E5F-BE98-CCB53C47E21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8910-7A96-4DB0-B193-2A1CCDC8E8E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A07A-B277-412A-A8EA-5CAB5F0ABB8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D54E-9829-48A5-80A9-6184795BF86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C68B-CB88-493A-96F0-8445FBAD443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7B23-2AC0-41E4-B014-7AD817E876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2D99-FDDD-4814-827F-8481C53049C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6960-A8F2-4B9D-A29A-046844453A5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8F49-7CE7-4F69-B6D8-D8043BD5304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C9AA-A772-4FF9-82FF-FC1C46179F3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5EC8-662D-43A9-B3D3-943102125B8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F136-D0CE-424B-BAD1-C5931E68587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E512-358D-4579-8DF9-3D179CFDB8B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922400" y="1811160"/>
            <a:ext cx="5308560" cy="255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r>
              <a:rPr b="0" lang="ru-RU" sz="4900" spc="-1" strike="noStrike">
                <a:solidFill>
                  <a:srgbClr val="262626"/>
                </a:solidFill>
                <a:latin typeface="Century Gothic"/>
              </a:rPr>
              <a:t>Порядок приобретения товаров. 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1922400" y="4365360"/>
            <a:ext cx="53085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Учитель СБО  Прокофьева Е.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12"/>
          <p:cNvSpPr/>
          <p:nvPr/>
        </p:nvSpPr>
        <p:spPr>
          <a:xfrm>
            <a:off x="755640" y="310644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ы для снаб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я предметами, вещ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ми для нормальной жизни и деятельности человека и живо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65360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ВСПОМНИМ!!!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Century Gothic"/>
              </a:rPr>
              <a:t>Магазины промышленных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Century Gothic"/>
              </a:rPr>
              <a:t> товаров</a:t>
            </a: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144080" y="476280"/>
            <a:ext cx="67993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купки товар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755640" y="1483920"/>
            <a:ext cx="7561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Заранее подумай, что бы ты хотел купить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Рассмотри товар на витрине, обрати внимание на стоимость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Обратись к продавцу с просьбой показать товар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Спроси продавца о качестве товара, о сроках гарантии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Оплати покупку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– Возьми чек, проверь по нему сдачу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Положи чек на хранение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3600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Гарантия</a:t>
            </a:r>
            <a:r>
              <a:rPr b="0" lang="ru-RU" sz="2200" spc="-1" strike="noStrike">
                <a:solidFill>
                  <a:srgbClr val="66ff33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262626"/>
                </a:solidFill>
                <a:latin typeface="Century Gothic"/>
              </a:rPr>
              <a:t>– единственный период, установленный производителем или продавцом, во время действия которого можно произвести бесплатный </a:t>
            </a:r>
            <a:r>
              <a:rPr b="1" lang="ru-RU" sz="2200" spc="-1" strike="noStrike">
                <a:solidFill>
                  <a:srgbClr val="262626"/>
                </a:solidFill>
                <a:latin typeface="Century Gothic"/>
              </a:rPr>
              <a:t>гарантийный</a:t>
            </a:r>
            <a:r>
              <a:rPr b="0" lang="ru-RU" sz="2200" spc="-1" strike="noStrike">
                <a:solidFill>
                  <a:srgbClr val="262626"/>
                </a:solidFill>
                <a:latin typeface="Century Gothic"/>
              </a:rPr>
              <a:t> ремонт </a:t>
            </a:r>
            <a:r>
              <a:rPr b="1" lang="ru-RU" sz="2200" spc="-1" strike="noStrike">
                <a:solidFill>
                  <a:srgbClr val="262626"/>
                </a:solidFill>
                <a:latin typeface="Century Gothic"/>
              </a:rPr>
              <a:t>товара</a:t>
            </a:r>
            <a:r>
              <a:rPr b="0" lang="ru-RU" sz="2200" spc="-1" strike="noStrike">
                <a:solidFill>
                  <a:srgbClr val="262626"/>
                </a:solidFill>
                <a:latin typeface="Century Gothic"/>
              </a:rPr>
              <a:t>, его замену или даже возврат денег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10920" y="2852280"/>
            <a:ext cx="777708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дежда и обувь: 14 дней со дня покупки или с начала сезона,  в крупных специализированных магазинах до 60 дне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ытовая техника, теле-радио аппаратура: от 1 года до 3 ле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арантийные сроки обозначены в уголке покупател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1" name="Прямоугольник 1"/>
          <p:cNvSpPr/>
          <p:nvPr/>
        </p:nvSpPr>
        <p:spPr>
          <a:xfrm>
            <a:off x="755640" y="23702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ся на разное время для разных товар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173240" y="549000"/>
            <a:ext cx="67975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сохранили чек, и время гарантии не истекл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имеете право: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менять некачественный товар на качественный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изить цену и вернуть разницу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зволить продавцу устранить дефект или оплатить ремонт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рнуть вещь, взять деньги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9:27:29Z</dcterms:created>
  <dc:creator>Татьтьяна Григоревна</dc:creator>
  <dc:description/>
  <dc:language>en-US</dc:language>
  <cp:lastModifiedBy>Елена</cp:lastModifiedBy>
  <dcterms:modified xsi:type="dcterms:W3CDTF">2020-11-18T06:02:48Z</dcterms:modified>
  <cp:revision>32</cp:revision>
  <dc:subject/>
  <dc:title>Тема урока: Магазин промышленных товаров</dc:title>
</cp:coreProperties>
</file>