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C185-9016-4F06-9A32-F85A4281F8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2571-791F-404B-9371-ECD679EEDA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DC6-737D-4782-A0D0-A0F9CE09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159-8941-4EB6-B11E-068CC5F1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E17-0D91-412D-94B3-40C3CDE5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ABD-D229-4E32-8417-F67A944A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983A-4059-4C2B-8A50-B64657A2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05C6-FA59-4BB7-8D5E-F48C4849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AB30-B43C-4C6E-B041-2E0B93CD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A82D-6828-42B9-86AC-C81071A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8D56-4EE8-4CF1-8E09-8ACB5498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B995-62CD-4066-A7F8-D2EFDF35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B223-26EC-44E0-A57A-C9DECBC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752-7573-42B5-BFEB-2A3E9D7B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D5CD-6BA2-4E24-B7BA-401E366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32BA-B5BB-4FDE-A268-284EB1E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4220-7D7D-489C-85CA-961A09E2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5F72-626F-47E9-BC0C-8F21C36B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26E1-6414-4694-9AB4-DFA436A1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CEC-7FCF-4BEB-BF7D-A3F375A3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C14-0E84-40AF-8B87-04EA1DF7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8A1-D03C-4773-A113-2F65F56E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6AC-1B21-4996-B080-8BBE7216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85E-4D76-47A6-9FD4-4A3F399D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89B-64E7-4B52-96F5-CE483E60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30B-ED56-4F1F-9168-D417715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627C-2B4B-475C-B8D6-E013A7C6DF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5174-CCBA-4F23-B410-3B89DDD0F7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Экстремизм и экстремистская деятельност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7592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преподавателя-организатора ОБЖ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нязева И.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571680"/>
            <a:ext cx="8472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ятие «экстремизм» происходит от латинского слова extremus, что означает «крайний». Экстремисты, занимая агрессивную позицию в обществе, преступают грань дозволенного моралью и законом. В случае перехода за эту грань их поступки по степени общественной опасности квалифицируются как криминаль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российском законодательстве определение экстремизма содержится в Федеральном законе «О противодействии экстремистской деятельност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19280" y="1268280"/>
            <a:ext cx="6048360" cy="4537080"/>
          </a:xfrm>
          <a:prstGeom prst="rect">
            <a:avLst/>
          </a:prstGeom>
          <a:gradFill rotWithShape="0">
            <a:gsLst>
              <a:gs pos="0">
                <a:srgbClr val="77f177">
                  <a:alpha val="50196"/>
                </a:srgbClr>
              </a:gs>
              <a:gs pos="50000">
                <a:srgbClr val="6bc7c3">
                  <a:alpha val="50196"/>
                </a:srgbClr>
              </a:gs>
              <a:gs pos="100000">
                <a:srgbClr val="77f177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63640" y="333360"/>
            <a:ext cx="5543640" cy="934920"/>
          </a:xfrm>
          <a:prstGeom prst="rect">
            <a:avLst/>
          </a:prstGeom>
          <a:gradFill rotWithShape="0">
            <a:gsLst>
              <a:gs pos="0">
                <a:srgbClr val="9933ff">
                  <a:alpha val="60392"/>
                </a:srgbClr>
              </a:gs>
              <a:gs pos="50000">
                <a:srgbClr val="ff00ff">
                  <a:alpha val="60392"/>
                </a:srgbClr>
              </a:gs>
              <a:gs pos="100000">
                <a:srgbClr val="9933ff">
                  <a:alpha val="60392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Ы ПРОЯВ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ОГО ЭКСТРЕМИЗ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3132000" y="1484280"/>
            <a:ext cx="1656000" cy="50472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68360" y="1700280"/>
            <a:ext cx="237636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ИЧЕ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48360" y="441972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ЕЖН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749920" y="318780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4716000" y="1557360"/>
            <a:ext cx="142920" cy="374472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042920" y="299736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908000" y="429264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НИЧЕ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399360" y="2163600"/>
            <a:ext cx="2305080" cy="79236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ГРА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64000" y="5467320"/>
            <a:ext cx="2305080" cy="79236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ОР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4859280" y="1484280"/>
            <a:ext cx="684360" cy="244944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4859280" y="1484280"/>
            <a:ext cx="1130400" cy="14716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3995280" y="1557360"/>
            <a:ext cx="863640" cy="23032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 flipH="1">
            <a:off x="3348000" y="1484280"/>
            <a:ext cx="1511280" cy="115272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859280" y="1484280"/>
            <a:ext cx="2260800" cy="730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3" descr=""/>
          <p:cNvPicPr/>
          <p:nvPr/>
        </p:nvPicPr>
        <p:blipFill>
          <a:blip r:embed="rId1"/>
          <a:stretch/>
        </p:blipFill>
        <p:spPr>
          <a:xfrm>
            <a:off x="4894200" y="1436760"/>
            <a:ext cx="1677960" cy="11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24" descr=""/>
          <p:cNvPicPr/>
          <p:nvPr/>
        </p:nvPicPr>
        <p:blipFill>
          <a:blip r:embed="rId2"/>
          <a:stretch/>
        </p:blipFill>
        <p:spPr>
          <a:xfrm>
            <a:off x="6989760" y="1184400"/>
            <a:ext cx="2079720" cy="8046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7129440" y="1413000"/>
            <a:ext cx="1808280" cy="4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7337520" y="141912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100"/>
                </a:solidFill>
                <a:latin typeface="Times New Roman"/>
                <a:ea typeface="Times New Roman"/>
              </a:rPr>
              <a:t>ДРУГ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кстрем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сильственное изменение основ конституционного строя и нарушение целостност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чное оправдание терроризма и иная террористическ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збуждение социальной, расовой, национальной или религиозной розн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паганда исключительности, превосходства либо неполноценности человека по признаку его социальной, расовой, национальной, религиозной или языковой принадлежности или отношения к религ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спрепятствование осуществлению гражданами их избирательных прав и права на участие в референдуме или нарушение тайны голосования, соединённые с насилием либо угрозой его примен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ённое с насилием либо угрозой его применени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4200" y="357120"/>
            <a:ext cx="8715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ция и подготовка указанных деяний, а также подстрекательство к их осуществлению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инансирование указанных деяний либо иное содействие в их организации, подготовке и осуществлении, в том числе путём предоставления учебной, полиграфической и материально-технической базы, телефонной и иных видов связи или оказания информационных услуг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правления экстремистской деятель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зическое осуществление массовых беспорядков, хулиганских действий и актов вандализма по идеологическим, политическим, расовым, национальным или религиозным мотив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пространение в обществе экстремистских идей, возбуждение расовой, национальной или религиозной ро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нансирование экстремист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стремистская деятельность создаёт повышенную напряжённость, так как служит возбуждению социальной, расовой, национальной и религиозной розни в обществ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ростки и молодые люди с низким уровнем образования, культуры и правосознания, избытком свободного времени и отсутствием общественно значимых интересов наиболее подвержены влиянию идеологии террори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рроризм является крайней формой экстреми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33:19Z</dcterms:created>
  <dc:creator>Геннадий</dc:creator>
  <dc:description/>
  <dc:language>en-US</dc:language>
  <cp:lastModifiedBy>Пользователь</cp:lastModifiedBy>
  <dcterms:modified xsi:type="dcterms:W3CDTF">2020-11-18T14:12:54Z</dcterms:modified>
  <cp:revision>71</cp:revision>
  <dc:subject/>
  <dc:title>Современные обычные средства поражения</dc:title>
</cp:coreProperties>
</file>