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A10-2E73-4BE8-A7C6-E85441825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22C-5E96-4D27-8147-5C82C780D5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32F-4F3D-4446-BC68-1A9A78D8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4A2-03DB-49B5-8EE3-94A95032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FE5-BAC1-4D08-A1A4-8AD22398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52B-5EC2-4FED-A344-1B8A4D46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C01C-3E19-4FC2-851C-6CFAEDD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26C-76F1-42C1-9C43-DD867821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2D1B-066B-4350-8D40-2378D9A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D702-03EB-4B59-8A16-85493BE4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7C7-E826-4145-B8BD-CC92C470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4B1A-7BD5-470A-B2AB-6139134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A976-F805-4FB9-982C-8E19C95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ABB-B85A-483B-82BA-9FBC8386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53F2-015E-4CE3-AEEA-DB44142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4C3E-256B-431C-84F1-6284A753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524-03AF-49F4-B08B-545C5A9C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02B0-078F-48BB-A314-2F5713DC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DB5-6E56-4B18-AA19-2A9694DC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78D-606C-40B4-96DD-973F077E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5BB-5BFA-40F9-9E2F-27890AB7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E36-D174-45DF-88AA-7305DB75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4D1-A29C-41EC-B2AE-3D6E3A11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0789-C39C-4C44-BB83-3EBD2E21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8C3-0810-4A6B-B724-5BF6A0B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41E-8433-4428-ACDE-8C09AD9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DE6A-B0DA-44DB-A146-0A94F59D8C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53CF-E9B7-4F15-8284-A4FB66D091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Экстремизм и экстремистская деятельность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7592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я преподавателя-организатора ОБЖ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нязева И.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571680"/>
            <a:ext cx="8472600" cy="55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ятие «экстремизм» происходит от латинского слова extremus, что означает «крайний». Экстремисты, занимая агрессивную позицию в обществе, преступают грань дозволенного моралью и законом. В случае перехода за эту грань их поступки по степени общественной опасности квалифицируются как криминальны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российском законодательстве определение экстремизма содержится в Федеральном законе «О противодействии экстремистской деятельност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619280" y="1268280"/>
            <a:ext cx="6048360" cy="4537080"/>
          </a:xfrm>
          <a:prstGeom prst="rect">
            <a:avLst/>
          </a:prstGeom>
          <a:gradFill rotWithShape="0">
            <a:gsLst>
              <a:gs pos="0">
                <a:srgbClr val="77f177">
                  <a:alpha val="50196"/>
                </a:srgbClr>
              </a:gs>
              <a:gs pos="50000">
                <a:srgbClr val="6bc7c3">
                  <a:alpha val="50196"/>
                </a:srgbClr>
              </a:gs>
              <a:gs pos="100000">
                <a:srgbClr val="77f177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63640" y="333360"/>
            <a:ext cx="5543640" cy="934920"/>
          </a:xfrm>
          <a:prstGeom prst="rect">
            <a:avLst/>
          </a:prstGeom>
          <a:gradFill rotWithShape="0">
            <a:gsLst>
              <a:gs pos="0">
                <a:srgbClr val="9933ff">
                  <a:alpha val="60392"/>
                </a:srgbClr>
              </a:gs>
              <a:gs pos="50000">
                <a:srgbClr val="ff00ff">
                  <a:alpha val="60392"/>
                </a:srgbClr>
              </a:gs>
              <a:gs pos="100000">
                <a:srgbClr val="9933ff">
                  <a:alpha val="60392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Ы ПРОЯВ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РЕМЕННОГО ЭКСТРЕМИЗ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3132000" y="1484280"/>
            <a:ext cx="1656000" cy="504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468360" y="1700280"/>
            <a:ext cx="237636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Т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48360" y="441972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ЕЖН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749920" y="318780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4716000" y="1557360"/>
            <a:ext cx="142920" cy="3744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042920" y="299736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908000" y="4292640"/>
            <a:ext cx="2305080" cy="79200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НИЧЕСК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399360" y="2163600"/>
            <a:ext cx="2305080" cy="79236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ГРАЦИОННЫ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64000" y="5467320"/>
            <a:ext cx="2305080" cy="792360"/>
          </a:xfrm>
          <a:prstGeom prst="rect">
            <a:avLst/>
          </a:prstGeom>
          <a:gradFill rotWithShape="0">
            <a:gsLst>
              <a:gs pos="0">
                <a:srgbClr val="ffcccc">
                  <a:alpha val="79215"/>
                </a:srgbClr>
              </a:gs>
              <a:gs pos="50000">
                <a:srgbClr val="ffff99">
                  <a:alpha val="79215"/>
                </a:srgbClr>
              </a:gs>
              <a:gs pos="100000">
                <a:srgbClr val="ffcccc">
                  <a:alpha val="79215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ОРИЗ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4859280" y="1484280"/>
            <a:ext cx="684360" cy="244944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4859280" y="1484280"/>
            <a:ext cx="1130400" cy="14716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3995280" y="1557360"/>
            <a:ext cx="863640" cy="23032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 flipH="1">
            <a:off x="3348000" y="1484280"/>
            <a:ext cx="1511280" cy="115272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859280" y="1484280"/>
            <a:ext cx="2260800" cy="73080"/>
          </a:xfrm>
          <a:prstGeom prst="line">
            <a:avLst/>
          </a:prstGeom>
          <a:ln w="76320">
            <a:solidFill>
              <a:srgbClr val="cc00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3" descr=""/>
          <p:cNvPicPr/>
          <p:nvPr/>
        </p:nvPicPr>
        <p:blipFill>
          <a:blip r:embed="rId1"/>
          <a:stretch/>
        </p:blipFill>
        <p:spPr>
          <a:xfrm>
            <a:off x="4894200" y="1436760"/>
            <a:ext cx="1677960" cy="11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24" descr=""/>
          <p:cNvPicPr/>
          <p:nvPr/>
        </p:nvPicPr>
        <p:blipFill>
          <a:blip r:embed="rId2"/>
          <a:stretch/>
        </p:blipFill>
        <p:spPr>
          <a:xfrm>
            <a:off x="6989760" y="1184400"/>
            <a:ext cx="2079720" cy="8046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7129440" y="1413000"/>
            <a:ext cx="1808280" cy="4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7337520" y="141912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100"/>
                </a:solidFill>
                <a:latin typeface="Times New Roman"/>
                <a:ea typeface="Times New Roman"/>
              </a:rPr>
              <a:t>ДРУГ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кстрем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21392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сильственное изменение основ конституционного строя и нарушение целостности Российской Федерац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убличное оправдание терроризма и иная террористическая деятельность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збуждение социальной, расовой, национальной или религиозной розн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паганда исключительности, превосходства либо неполноценности человека по признаку его социальной, расовой, национальной, религиозной или языковой принадлежности или отношения к религ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спрепятствование осуществлению гражданами их избирательных прав и права на участие в референдуме или нарушение тайны голосования, соединённые с насилием либо угрозой его примен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ённое с насилием либо угрозой его применения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14200" y="357120"/>
            <a:ext cx="8715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рганизация и подготовка указанных деяний, а также подстрекательство к их осуществлению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нансирование указанных деяний либо иное содействие в их организации, подготовке и осуществлении, в том числе путём предоставления учебной, полиграфической и материально-технической базы, телефонной и иных видов связи или оказания информационных услуг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правления экстремистской деятельнос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зическое осуществление массовых беспорядков, хулиганских действий и актов вандализма по идеологическим, политическим, расовым, национальным или религиозным мотив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спространение в обществе экстремистских идей, возбуждение расовой, национальной или религиозной ро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инансирование экстремист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стремистская деятельность создаёт повышенную напряжённость, так как служит возбуждению социальной, расовой, национальной и религиозной розни в обществ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ростки и молодые люди с низким уровнем образования, культуры и правосознания, избытком свободного времени и отсутствием общественно значимых интересов наиболее подвержены влиянию идеологии террор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рроризм является крайней формой экстремиз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4:33:19Z</dcterms:created>
  <dc:creator>Геннадий</dc:creator>
  <dc:description/>
  <dc:language>en-US</dc:language>
  <cp:lastModifiedBy>Пользователь</cp:lastModifiedBy>
  <dcterms:modified xsi:type="dcterms:W3CDTF">2020-11-18T14:12:54Z</dcterms:modified>
  <cp:revision>71</cp:revision>
  <dc:subject/>
  <dc:title>Современные обычные средства поражения</dc:title>
</cp:coreProperties>
</file>