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780-62E4-48A2-A67F-A6003801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248-BC0F-4F24-B91B-63316F3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9A0-D8F4-4767-A245-47A4E837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BAA-00CC-4784-97CE-61059B26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CE2-4381-428F-BF69-0DEE4633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516-F6CE-4F35-BF96-53A66891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EAE-2571-4E96-AC00-F1EC7725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DD17-C5B7-4A0B-9E6D-3533F6B9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779-79AC-4265-860E-FAFEE2DC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A4A7-8C08-4BB6-86C5-3E28E38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9F09-3BE7-4621-83A9-8D1FEDA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016-90D7-4F0B-B101-4BD975F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84B-F989-4953-A5C0-E5E11E1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C3F-4300-49F0-8F5B-79582A4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A495-7206-42B7-AD69-95C13A09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5C2A-8D0D-47CE-82BF-9B2DDC03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1A4-02F0-4FFC-990D-36D2436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5488D-BD2A-40B9-BC7E-F1CD1F66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EC59A-FB94-4FB7-8D28-6603D2AA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A516-7C0B-4C55-8BC9-0E64B8F0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2DF0-E5CB-4E7F-A3CE-8DB5400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47E04-5814-4E1A-9D01-A9E6726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E08-7B52-449D-8D6A-E30A810F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3DC8-D1E1-4609-8713-B7CC867C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903AA-744A-4352-AEAE-B665C64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8231-ED03-44BB-A968-0C8A742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F819-8B2C-4E3B-8401-4EF8025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487D-E9A5-4302-A24C-C53A32F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0762-1D35-41C8-9279-9C0018DE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1D16-6ABF-48ED-A7D0-3D50D352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DD0-7F37-4902-893F-FA33418F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1FB-DF3D-4DA2-A390-991652A4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255-B73A-4BFA-BDCE-2697AD6E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D94-6829-43A6-B648-7FADC32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C64-DDD5-4D54-ABE4-450CD06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CC5-7982-4923-9AE9-FB23F4D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0FB-E517-405A-AA45-F829AA946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22DF-E191-44B4-931E-0A51B9DE33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17AE-C3A2-42ED-9566-6622829781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00"/>
                </a:solidFill>
                <a:latin typeface="Arial"/>
              </a:rPr>
              <a:t>Деформированный текс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39640" y="161928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педическое групповое заня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2-го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кина Наталья Викт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школа №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лининского рай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04.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птицы 2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под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2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весна цветет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вес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2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ручей 2"/>
          <p:cNvPicPr/>
          <p:nvPr/>
        </p:nvPicPr>
        <p:blipFill>
          <a:blip r:embed="rId1"/>
          <a:stretch/>
        </p:blipFill>
        <p:spPr>
          <a:xfrm>
            <a:off x="324000" y="380880"/>
            <a:ext cx="8640720" cy="588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птицы"/>
          <p:cNvPicPr/>
          <p:nvPr/>
        </p:nvPicPr>
        <p:blipFill>
          <a:blip r:embed="rId1"/>
          <a:stretch/>
        </p:blipFill>
        <p:spPr>
          <a:xfrm>
            <a:off x="304920" y="76320"/>
            <a:ext cx="851508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одснежник"/>
          <p:cNvPicPr/>
          <p:nvPr/>
        </p:nvPicPr>
        <p:blipFill>
          <a:blip r:embed="rId1"/>
          <a:stretch/>
        </p:blipFill>
        <p:spPr>
          <a:xfrm>
            <a:off x="250920" y="404640"/>
            <a:ext cx="87138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полянка с подснежниками"/>
          <p:cNvPicPr/>
          <p:nvPr/>
        </p:nvPicPr>
        <p:blipFill>
          <a:blip r:embed="rId1"/>
          <a:stretch/>
        </p:blipFill>
        <p:spPr>
          <a:xfrm>
            <a:off x="250920" y="428760"/>
            <a:ext cx="8569080" cy="59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весенний лес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00920"/>
          </a:xfrm>
          <a:prstGeom prst="rect">
            <a:avLst/>
          </a:prstGeom>
          <a:ln w="0">
            <a:noFill/>
          </a:ln>
        </p:spPr>
      </p:pic>
      <p:pic>
        <p:nvPicPr>
          <p:cNvPr id="154" name="chaykovskiy_petr_ilich_-_vremena_goda_-_aprel_podsnezhnik_(zaycev.net).mp3" descr=""/>
          <p:cNvPicPr/>
          <p:nvPr/>
        </p:nvPicPr>
        <p:blipFill>
          <a:blip r:embed="rId2"/>
          <a:stretch/>
        </p:blipFill>
        <p:spPr>
          <a:xfrm>
            <a:off x="611280" y="589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лошади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58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979640" y="2060640"/>
            <a:ext cx="6121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весна"/>
          <p:cNvPicPr/>
          <p:nvPr/>
        </p:nvPicPr>
        <p:blipFill>
          <a:blip r:embed="rId1"/>
          <a:stretch/>
        </p:blipFill>
        <p:spPr>
          <a:xfrm>
            <a:off x="395280" y="295200"/>
            <a:ext cx="84978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тропинка 3"/>
          <p:cNvPicPr/>
          <p:nvPr/>
        </p:nvPicPr>
        <p:blipFill>
          <a:blip r:embed="rId1"/>
          <a:stretch/>
        </p:blipFill>
        <p:spPr>
          <a:xfrm>
            <a:off x="285840" y="576360"/>
            <a:ext cx="857232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камни3"/>
          <p:cNvPicPr/>
          <p:nvPr/>
        </p:nvPicPr>
        <p:blipFill>
          <a:blip r:embed="rId1"/>
          <a:stretch/>
        </p:blipFill>
        <p:spPr>
          <a:xfrm>
            <a:off x="250920" y="546120"/>
            <a:ext cx="871380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поляна4"/>
          <p:cNvPicPr/>
          <p:nvPr/>
        </p:nvPicPr>
        <p:blipFill>
          <a:blip r:embed="rId1"/>
          <a:stretch/>
        </p:blipFill>
        <p:spPr>
          <a:xfrm>
            <a:off x="468360" y="549360"/>
            <a:ext cx="84232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подснежниеи 4"/>
          <p:cNvPicPr/>
          <p:nvPr/>
        </p:nvPicPr>
        <p:blipFill>
          <a:blip r:embed="rId1"/>
          <a:stretch/>
        </p:blipFill>
        <p:spPr>
          <a:xfrm>
            <a:off x="162000" y="260280"/>
            <a:ext cx="880272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синквей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подснежничек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Спасиб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солнышко 2"/>
          <p:cNvPicPr/>
          <p:nvPr/>
        </p:nvPicPr>
        <p:blipFill>
          <a:blip r:embed="rId1"/>
          <a:stretch/>
        </p:blipFill>
        <p:spPr>
          <a:xfrm>
            <a:off x="250920" y="476280"/>
            <a:ext cx="87138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ручей"/>
          <p:cNvPicPr/>
          <p:nvPr/>
        </p:nvPicPr>
        <p:blipFill>
          <a:blip r:embed="rId1"/>
          <a:stretch/>
        </p:blipFill>
        <p:spPr>
          <a:xfrm>
            <a:off x="179280" y="216000"/>
            <a:ext cx="8713800" cy="60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s1200"/>
          <p:cNvPicPr/>
          <p:nvPr/>
        </p:nvPicPr>
        <p:blipFill>
          <a:blip r:embed="rId1"/>
          <a:stretch/>
        </p:blipFill>
        <p:spPr>
          <a:xfrm>
            <a:off x="233280" y="189000"/>
            <a:ext cx="865980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подснежничек"/>
          <p:cNvPicPr/>
          <p:nvPr/>
        </p:nvPicPr>
        <p:blipFill>
          <a:blip r:embed="rId1"/>
          <a:stretch/>
        </p:blipFill>
        <p:spPr>
          <a:xfrm>
            <a:off x="468360" y="351000"/>
            <a:ext cx="835164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весна 2"/>
          <p:cNvPicPr/>
          <p:nvPr/>
        </p:nvPicPr>
        <p:blipFill>
          <a:blip r:embed="rId1"/>
          <a:stretch/>
        </p:blipFill>
        <p:spPr>
          <a:xfrm>
            <a:off x="250920" y="200160"/>
            <a:ext cx="8424720" cy="62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солнышко"/>
          <p:cNvPicPr/>
          <p:nvPr/>
        </p:nvPicPr>
        <p:blipFill>
          <a:blip r:embed="rId1"/>
          <a:stretch/>
        </p:blipFill>
        <p:spPr>
          <a:xfrm>
            <a:off x="179280" y="285840"/>
            <a:ext cx="878544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руч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3T10:06:54Z</dcterms:created>
  <dc:creator>Наталья</dc:creator>
  <dc:description/>
  <dc:language>en-US</dc:language>
  <cp:lastModifiedBy>Учитель</cp:lastModifiedBy>
  <dcterms:modified xsi:type="dcterms:W3CDTF">2020-11-18T10:46:12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2a0000000000010290110207f7000400038000</vt:lpwstr>
  </property>
</Properties>
</file>