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F50-AB61-4CFB-BF5C-A58A3B2C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6AA-5871-406D-B1A2-9BF404F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2EA-9A67-4D21-B048-6CD66E4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2FA-5AA7-479D-B3F7-D7D6AD81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3583-BBFD-4805-8C15-D5F13E93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7275-A904-406E-B3D7-E083A711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45A-BA0B-452E-8641-3D2BDB87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421B-3CC6-4A66-9D7D-EC115FB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2396-6941-442B-9B52-337F34E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40C0-BF31-4ED8-A942-677FDDD6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F69A-ABDA-4A87-8D89-D52EE02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B8B-F6D5-4C82-86F3-0C488CED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D7A9-2604-4FEE-A516-DDC67A20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B52E-14B4-49E1-9DC3-45A0A91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7186-7DC3-4880-93F5-A33856BA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BCE-0F8E-4B2D-A277-612E535A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99F0-3140-4382-BA8B-6FCFADF3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7355F-9C93-4B91-9925-3E6DC3F0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4A0F-C813-429D-9548-D8030C1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F748-1A0C-4362-8685-7370D78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B69E-E7A8-4956-A503-A96DA7E9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AA57-FA83-40EC-A78E-57F0B71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8D4-9AC8-47AA-B2FF-A0678AD1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3C824-079C-4A74-946E-FBE3D67A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F295-583A-4B15-9DCF-43CD28E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AA5D-DFD9-4D6F-92BC-41F7354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5F0F-915D-44ED-95A0-29ECFC8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E747-F1A4-4E59-9321-14F3B03E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1ACE-6D10-40B6-82AD-9170E07B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4B89-D2D6-45FB-AAD9-DA77033B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4E6-73AD-444A-8935-4C085A11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6E1-FDA1-4BA2-ABF3-861A9D9A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FC5-5EAB-45F9-823E-4C9E855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A22-462C-4A79-A20D-817B06C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A3E-8B8C-462C-99BB-F9FAE5E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A9C-B885-4F40-938F-661556E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58DC-C9BB-496E-98F7-708671C7C8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5DC2-860F-43EA-9B2C-D2447A45ED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6CBD-0E3C-449C-8857-83C15A201D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Деформированный тек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39640" y="161928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педическое групповое зан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2-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кина Наталья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школа №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нинского рай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04.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птицы 2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под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весна цветет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вес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ручей 2"/>
          <p:cNvPicPr/>
          <p:nvPr/>
        </p:nvPicPr>
        <p:blipFill>
          <a:blip r:embed="rId1"/>
          <a:stretch/>
        </p:blipFill>
        <p:spPr>
          <a:xfrm>
            <a:off x="324000" y="380880"/>
            <a:ext cx="864072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птицы"/>
          <p:cNvPicPr/>
          <p:nvPr/>
        </p:nvPicPr>
        <p:blipFill>
          <a:blip r:embed="rId1"/>
          <a:stretch/>
        </p:blipFill>
        <p:spPr>
          <a:xfrm>
            <a:off x="304920" y="76320"/>
            <a:ext cx="851508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одснежник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олянка с подснежниками"/>
          <p:cNvPicPr/>
          <p:nvPr/>
        </p:nvPicPr>
        <p:blipFill>
          <a:blip r:embed="rId1"/>
          <a:stretch/>
        </p:blipFill>
        <p:spPr>
          <a:xfrm>
            <a:off x="250920" y="428760"/>
            <a:ext cx="856908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весенний лес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00920"/>
          </a:xfrm>
          <a:prstGeom prst="rect">
            <a:avLst/>
          </a:prstGeom>
          <a:ln w="0">
            <a:noFill/>
          </a:ln>
        </p:spPr>
      </p:pic>
      <p:pic>
        <p:nvPicPr>
          <p:cNvPr id="154" name="chaykovskiy_petr_ilich_-_vremena_goda_-_aprel_podsnezhnik_(zaycev.net).mp3" descr=""/>
          <p:cNvPicPr/>
          <p:nvPr/>
        </p:nvPicPr>
        <p:blipFill>
          <a:blip r:embed="rId2"/>
          <a:stretch/>
        </p:blipFill>
        <p:spPr>
          <a:xfrm>
            <a:off x="611280" y="589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лошади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979640" y="2060640"/>
            <a:ext cx="6121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весна"/>
          <p:cNvPicPr/>
          <p:nvPr/>
        </p:nvPicPr>
        <p:blipFill>
          <a:blip r:embed="rId1"/>
          <a:stretch/>
        </p:blipFill>
        <p:spPr>
          <a:xfrm>
            <a:off x="395280" y="295200"/>
            <a:ext cx="84978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тропинка 3"/>
          <p:cNvPicPr/>
          <p:nvPr/>
        </p:nvPicPr>
        <p:blipFill>
          <a:blip r:embed="rId1"/>
          <a:stretch/>
        </p:blipFill>
        <p:spPr>
          <a:xfrm>
            <a:off x="285840" y="576360"/>
            <a:ext cx="857232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камни3"/>
          <p:cNvPicPr/>
          <p:nvPr/>
        </p:nvPicPr>
        <p:blipFill>
          <a:blip r:embed="rId1"/>
          <a:stretch/>
        </p:blipFill>
        <p:spPr>
          <a:xfrm>
            <a:off x="250920" y="546120"/>
            <a:ext cx="871380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поляна4"/>
          <p:cNvPicPr/>
          <p:nvPr/>
        </p:nvPicPr>
        <p:blipFill>
          <a:blip r:embed="rId1"/>
          <a:stretch/>
        </p:blipFill>
        <p:spPr>
          <a:xfrm>
            <a:off x="468360" y="549360"/>
            <a:ext cx="84232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подснежниеи 4"/>
          <p:cNvPicPr/>
          <p:nvPr/>
        </p:nvPicPr>
        <p:blipFill>
          <a:blip r:embed="rId1"/>
          <a:stretch/>
        </p:blipFill>
        <p:spPr>
          <a:xfrm>
            <a:off x="162000" y="260280"/>
            <a:ext cx="880272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синквей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подснежничек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солнышко 2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ручей"/>
          <p:cNvPicPr/>
          <p:nvPr/>
        </p:nvPicPr>
        <p:blipFill>
          <a:blip r:embed="rId1"/>
          <a:stretch/>
        </p:blipFill>
        <p:spPr>
          <a:xfrm>
            <a:off x="179280" y="216000"/>
            <a:ext cx="87138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s1200"/>
          <p:cNvPicPr/>
          <p:nvPr/>
        </p:nvPicPr>
        <p:blipFill>
          <a:blip r:embed="rId1"/>
          <a:stretch/>
        </p:blipFill>
        <p:spPr>
          <a:xfrm>
            <a:off x="233280" y="189000"/>
            <a:ext cx="865980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подснежничек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весна 2"/>
          <p:cNvPicPr/>
          <p:nvPr/>
        </p:nvPicPr>
        <p:blipFill>
          <a:blip r:embed="rId1"/>
          <a:stretch/>
        </p:blipFill>
        <p:spPr>
          <a:xfrm>
            <a:off x="250920" y="200160"/>
            <a:ext cx="8424720" cy="62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солнышко"/>
          <p:cNvPicPr/>
          <p:nvPr/>
        </p:nvPicPr>
        <p:blipFill>
          <a:blip r:embed="rId1"/>
          <a:stretch/>
        </p:blipFill>
        <p:spPr>
          <a:xfrm>
            <a:off x="179280" y="285840"/>
            <a:ext cx="878544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руч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3T10:06:54Z</dcterms:created>
  <dc:creator>Наталья</dc:creator>
  <dc:description/>
  <dc:language>en-US</dc:language>
  <cp:lastModifiedBy>Учитель</cp:lastModifiedBy>
  <dcterms:modified xsi:type="dcterms:W3CDTF">2020-11-18T10:46:12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2a0000000000010290110207f7000400038000</vt:lpwstr>
  </property>
</Properties>
</file>