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6.jpeg" ContentType="image/jpeg"/>
  <Override PartName="/ppt/media/image1.png" ContentType="image/png"/>
  <Override PartName="/ppt/media/image25.png" ContentType="image/png"/>
  <Override PartName="/ppt/media/image22.jpeg" ContentType="image/jpeg"/>
  <Override PartName="/ppt/media/image14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8502-B73B-47E3-8822-02E604CA2C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C29B8-D46A-4CF6-954C-F0344C0FD8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CB360-21EF-4735-A6D8-24B9450B227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A6ED2-6B5A-463A-8E77-22979E762F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E2AF-C1C5-4399-B8C6-8034B85F7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BF12-5A11-41B0-A780-CDEEFAAB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A17-5249-4918-82D7-07F5832B2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1012-6343-4EE9-A92B-518AD24ED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2E4F-04AE-4605-87EB-44587BEB9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EFD-36FD-479A-AFEF-6A53724D4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632D-2ECD-48B1-94A8-BEFCF798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2DA2-23A6-4C30-ACD7-8B20A2CB7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5FFC-43C9-4049-95F0-B934A31D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5A89-42A4-4B0B-A7B5-2C82E563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7052-031C-4914-A9E4-08F65696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91F0-3B57-49D9-98D1-85330DFD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F2A5-3269-4AD4-B469-F93F150258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овет №1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Итоги работы школы за 2017 – 2018 учебный год»</a:t>
            </a:r>
            <a:br>
              <a:rPr sz="2800"/>
            </a:br>
            <a:br>
              <a:rPr sz="28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2971800" cy="335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43040" y="4190760"/>
            <a:ext cx="43434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12" descr=""/>
          <p:cNvPicPr/>
          <p:nvPr/>
        </p:nvPicPr>
        <p:blipFill>
          <a:blip r:embed="rId1"/>
          <a:stretch/>
        </p:blipFill>
        <p:spPr>
          <a:xfrm>
            <a:off x="1066680" y="-189000"/>
            <a:ext cx="6858000" cy="3481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57200" y="3425760"/>
            <a:ext cx="3048120" cy="2975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Documents and Settings\Admin\Рабочий стол\скачанные файлы.jpg"/>
          <p:cNvPicPr/>
          <p:nvPr/>
        </p:nvPicPr>
        <p:blipFill>
          <a:blip r:embed="rId3"/>
          <a:stretch/>
        </p:blipFill>
        <p:spPr>
          <a:xfrm>
            <a:off x="3952800" y="3429000"/>
            <a:ext cx="461808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62120" y="1897200"/>
            <a:ext cx="7619760" cy="30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нутренняя самооценка О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совершенствование преподавания предме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корректировка образовательного процесса в О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9" descr=""/>
          <p:cNvPicPr/>
          <p:nvPr/>
        </p:nvPicPr>
        <p:blipFill>
          <a:blip r:embed="rId1"/>
          <a:stretch/>
        </p:blipFill>
        <p:spPr>
          <a:xfrm>
            <a:off x="579600" y="0"/>
            <a:ext cx="8173800" cy="2298600"/>
          </a:xfrm>
          <a:prstGeom prst="rect">
            <a:avLst/>
          </a:prstGeom>
          <a:ln w="0">
            <a:noFill/>
          </a:ln>
        </p:spPr>
      </p:pic>
      <p:grpSp>
        <p:nvGrpSpPr>
          <p:cNvPr id="133" name="Группа 8"/>
          <p:cNvGrpSpPr/>
          <p:nvPr/>
        </p:nvGrpSpPr>
        <p:grpSpPr>
          <a:xfrm>
            <a:off x="214200" y="4357800"/>
            <a:ext cx="1785960" cy="2214360"/>
            <a:chOff x="214200" y="4357800"/>
            <a:chExt cx="1785960" cy="2214360"/>
          </a:xfrm>
        </p:grpSpPr>
        <p:grpSp>
          <p:nvGrpSpPr>
            <p:cNvPr id="134" name="Группа 4"/>
            <p:cNvGrpSpPr/>
            <p:nvPr/>
          </p:nvGrpSpPr>
          <p:grpSpPr>
            <a:xfrm>
              <a:off x="214200" y="4357800"/>
              <a:ext cx="1785960" cy="1509840"/>
              <a:chOff x="214200" y="4357800"/>
              <a:chExt cx="1785960" cy="1509840"/>
            </a:xfrm>
          </p:grpSpPr>
          <p:sp>
            <p:nvSpPr>
              <p:cNvPr id="135" name="Прямоугольник 12"/>
              <p:cNvSpPr/>
              <p:nvPr/>
            </p:nvSpPr>
            <p:spPr>
              <a:xfrm>
                <a:off x="214200" y="4357800"/>
                <a:ext cx="1785960" cy="150012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2" descr="http://www.heraldicum.ru/russia/images/obrnadzor.gif"/>
              <p:cNvPicPr/>
              <p:nvPr/>
            </p:nvPicPr>
            <p:blipFill>
              <a:blip r:embed="rId2"/>
              <a:srcRect l="0" t="0" r="40670" b="0"/>
              <a:stretch/>
            </p:blipFill>
            <p:spPr>
              <a:xfrm>
                <a:off x="214200" y="4357800"/>
                <a:ext cx="1785960" cy="150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" name="Прямоугольник 11"/>
            <p:cNvSpPr/>
            <p:nvPr/>
          </p:nvSpPr>
          <p:spPr>
            <a:xfrm>
              <a:off x="214200" y="5857920"/>
              <a:ext cx="178596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едеральная служба по надзору в сфере образования и нау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6" descr="C:\Documents and Settings\Admin\Рабочий стол\ВПРы.jpg"/>
          <p:cNvPicPr/>
          <p:nvPr/>
        </p:nvPicPr>
        <p:blipFill>
          <a:blip r:embed="rId3"/>
          <a:stretch/>
        </p:blipFill>
        <p:spPr>
          <a:xfrm>
            <a:off x="2819520" y="4419720"/>
            <a:ext cx="578160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Совершенствование  преподавания предметов   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и корректировка образовательного процесса</a:t>
            </a:r>
            <a:r>
              <a:rPr b="1" i="1" lang="ru-RU" sz="3600" spc="-1" strike="noStrike">
                <a:solidFill>
                  <a:srgbClr val="7030a0"/>
                </a:solidFill>
                <a:latin typeface="Monotype Corsiva"/>
              </a:rPr>
              <a:t> 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с целью повышения качества  результатов ВП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514600"/>
            <a:ext cx="35812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Успешность обучающих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в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19720" y="2666880"/>
            <a:ext cx="4495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buClr>
                <a:srgbClr val="7030a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груп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Динамика успешности обучаю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з года в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880" y="1433520"/>
            <a:ext cx="8305920" cy="45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нормативно-правовой докумен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структуры  и  содержания  ВП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ение изменений  в рабочие программы,  с включением резервных часов  для изучения и повторения   наиболее сложных 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ирование и положительный психологический настрой родителей и детей на то, что ВПР – это обычная контрольная работа, которая требует систематизации знаний, и если добросовестно учиться в течение всего учебного года, то ВПР не вызовет затрудн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ПР не влияет на итоговую оц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-115920"/>
            <a:ext cx="8101080" cy="173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61760" y="1304280"/>
            <a:ext cx="7848360" cy="32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в течение года над ключевыми темами, понят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исание пробных работ с обучающими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комство обучающихся с критериями  оценивания работы  и применение для самооценки своего уров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ая  и коллективная работа над ошибкам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-115920"/>
            <a:ext cx="8101080" cy="173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ая гото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ая гото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ная готовность (умение выполнять зад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Прямоугольник 3" descr=""/>
          <p:cNvPicPr/>
          <p:nvPr/>
        </p:nvPicPr>
        <p:blipFill>
          <a:blip r:embed="rId1"/>
          <a:stretch/>
        </p:blipFill>
        <p:spPr>
          <a:xfrm>
            <a:off x="231840" y="365040"/>
            <a:ext cx="8686800" cy="240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5105160"/>
            <a:ext cx="472428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  <a:ea typeface="Calibri"/>
            </a:endParaRPr>
          </a:p>
        </p:txBody>
      </p:sp>
      <p:sp>
        <p:nvSpPr>
          <p:cNvPr id="157" name="Rectangle 10"/>
          <p:cNvSpPr/>
          <p:nvPr/>
        </p:nvSpPr>
        <p:spPr>
          <a:xfrm flipH="1">
            <a:off x="6476400" y="2591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914400" y="228600"/>
            <a:ext cx="7086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0" y="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2"/>
          <p:cNvSpPr/>
          <p:nvPr/>
        </p:nvSpPr>
        <p:spPr>
          <a:xfrm>
            <a:off x="380052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13"/>
          <p:cNvSpPr/>
          <p:nvPr/>
        </p:nvSpPr>
        <p:spPr>
          <a:xfrm>
            <a:off x="152280" y="1676520"/>
            <a:ext cx="2438640" cy="1828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ирование родителей о результатах 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15"/>
          <p:cNvSpPr/>
          <p:nvPr/>
        </p:nvSpPr>
        <p:spPr>
          <a:xfrm>
            <a:off x="3124080" y="304920"/>
            <a:ext cx="243864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езультатов, выявление проблем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16"/>
          <p:cNvSpPr/>
          <p:nvPr/>
        </p:nvSpPr>
        <p:spPr>
          <a:xfrm>
            <a:off x="457200" y="4114800"/>
            <a:ext cx="2266920" cy="12193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ация преемственной связи НОО и 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7"/>
          <p:cNvSpPr/>
          <p:nvPr/>
        </p:nvSpPr>
        <p:spPr>
          <a:xfrm>
            <a:off x="3200400" y="5105520"/>
            <a:ext cx="2819520" cy="144756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ние индивидуальной работы с обучающимися групп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18"/>
          <p:cNvSpPr/>
          <p:nvPr/>
        </p:nvSpPr>
        <p:spPr>
          <a:xfrm>
            <a:off x="6172200" y="411480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оставление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19"/>
          <p:cNvSpPr/>
          <p:nvPr/>
        </p:nvSpPr>
        <p:spPr>
          <a:xfrm>
            <a:off x="6477120" y="1752480"/>
            <a:ext cx="2514600" cy="17528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тировка программ и планирование работы по ликвидации пробе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Скругленный прямоугольник 20" descr=""/>
          <p:cNvPicPr/>
          <p:nvPr/>
        </p:nvPicPr>
        <p:blipFill>
          <a:blip r:embed="rId1"/>
          <a:stretch/>
        </p:blipFill>
        <p:spPr>
          <a:xfrm>
            <a:off x="2773440" y="2030400"/>
            <a:ext cx="3382920" cy="2760840"/>
          </a:xfrm>
          <a:prstGeom prst="rect">
            <a:avLst/>
          </a:prstGeom>
          <a:ln w="0">
            <a:noFill/>
          </a:ln>
        </p:spPr>
      </p:pic>
      <p:cxnSp>
        <p:nvCxnSpPr>
          <p:cNvPr id="168" name="Прямая со стрелкой 22"/>
          <p:cNvCxnSpPr>
            <a:stCxn id="167" idx="0"/>
          </p:cNvCxnSpPr>
          <p:nvPr/>
        </p:nvCxnSpPr>
        <p:spPr>
          <a:xfrm flipV="1">
            <a:off x="4457880" y="1523520"/>
            <a:ext cx="2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Прямая со стрелкой 25"/>
          <p:cNvCxnSpPr>
            <a:endCxn id="165" idx="1"/>
          </p:cNvCxnSpPr>
          <p:nvPr/>
        </p:nvCxnSpPr>
        <p:spPr>
          <a:xfrm>
            <a:off x="5942520" y="4419360"/>
            <a:ext cx="2293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Прямая со стрелкой 29"/>
          <p:cNvCxnSpPr>
            <a:stCxn id="167" idx="3"/>
            <a:endCxn id="166" idx="1"/>
          </p:cNvCxnSpPr>
          <p:nvPr/>
        </p:nvCxnSpPr>
        <p:spPr>
          <a:xfrm flipV="1">
            <a:off x="6095520" y="2628720"/>
            <a:ext cx="3819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Прямая со стрелкой 31"/>
          <p:cNvCxnSpPr/>
          <p:nvPr/>
        </p:nvCxnSpPr>
        <p:spPr>
          <a:xfrm flipH="1" flipV="1">
            <a:off x="2513880" y="2818800"/>
            <a:ext cx="400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Прямая со стрелкой 33"/>
          <p:cNvCxnSpPr/>
          <p:nvPr/>
        </p:nvCxnSpPr>
        <p:spPr>
          <a:xfrm flipH="1">
            <a:off x="4494960" y="4648320"/>
            <a:ext cx="2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35"/>
          <p:cNvCxnSpPr/>
          <p:nvPr/>
        </p:nvCxnSpPr>
        <p:spPr>
          <a:xfrm flipH="1">
            <a:off x="2666160" y="457164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2111400"/>
            <a:ext cx="8229600" cy="360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ая служба проводи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результат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овне ОО, определяет типологию наиболее существенных затруднений и выявляются задания, не вызвавшие затруднений. Разрабатываются методические рекомендации по ликвидации пробелов в зна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208080"/>
            <a:ext cx="810108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2063520"/>
            <a:ext cx="7619760" cy="369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ся информирование родителей о результатах  выполнения В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сопоставляются на муниципальном,    региональном и федеральном уров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оводить анализ  учебных программ и учебников с целью включения дополнительного материала, необходимого для качественной подготовк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0"/>
            <a:ext cx="8101080" cy="174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62120" y="1785600"/>
            <a:ext cx="7619760" cy="421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Использовать  адресную  помощь детям,  показавшим низкий уровень подготовки. Адресная помощь заключается в использовании различных форм и методов дидактической помощи (карточки-памятки, опорные схемы, алгоритмы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ставить план работы  по подготовке к  ВПР  на новый  учебный  год,  с учётом выявленных пробелов по подготовке к ВПР за прошедший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 целью обеспечения преемственности результаты ВПР рассмотреть  на  школьном МО начальных классов с приглашением педагогов основной школы, преподающих русский язык, математику и предметы естественного цикла в пятых клас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208080"/>
            <a:ext cx="810108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62120" y="1447920"/>
            <a:ext cx="761976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азработать  систему мер, направленных на преодоление обнаруженных проблем и повышения качества обучения в соответствии с требованиями ФГОС на 2018-2019 учебный год (для пятиклассник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ключить в содержание уроков задания на работу с информацией, представленной в различном виде(тексты, таблицы, диаграммы, графи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ешать учебные и практические задачи на основе предметных знаний, а также универсальных учебных действий на межпредметной осно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планировании уроков избегать однообразной формулировки за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208080"/>
            <a:ext cx="810108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5105160"/>
            <a:ext cx="472428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  <a:ea typeface="Calibri"/>
            </a:endParaRPr>
          </a:p>
        </p:txBody>
      </p:sp>
      <p:sp>
        <p:nvSpPr>
          <p:cNvPr id="58" name="Rectangle 10"/>
          <p:cNvSpPr/>
          <p:nvPr/>
        </p:nvSpPr>
        <p:spPr>
          <a:xfrm flipH="1">
            <a:off x="6476400" y="2591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914400" y="228600"/>
            <a:ext cx="7086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0" y="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380052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3"/>
          <p:cNvSpPr/>
          <p:nvPr/>
        </p:nvSpPr>
        <p:spPr>
          <a:xfrm>
            <a:off x="380880" y="2286000"/>
            <a:ext cx="2038320" cy="12193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5"/>
          <p:cNvSpPr/>
          <p:nvPr/>
        </p:nvSpPr>
        <p:spPr>
          <a:xfrm>
            <a:off x="3657600" y="533520"/>
            <a:ext cx="1905120" cy="8888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6"/>
          <p:cNvSpPr/>
          <p:nvPr/>
        </p:nvSpPr>
        <p:spPr>
          <a:xfrm>
            <a:off x="457200" y="4114800"/>
            <a:ext cx="2266920" cy="12193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7"/>
          <p:cNvSpPr/>
          <p:nvPr/>
        </p:nvSpPr>
        <p:spPr>
          <a:xfrm>
            <a:off x="3581280" y="533412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8"/>
          <p:cNvSpPr/>
          <p:nvPr/>
        </p:nvSpPr>
        <p:spPr>
          <a:xfrm>
            <a:off x="6172200" y="4114800"/>
            <a:ext cx="2438280" cy="1295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9"/>
          <p:cNvSpPr/>
          <p:nvPr/>
        </p:nvSpPr>
        <p:spPr>
          <a:xfrm>
            <a:off x="6477120" y="2209680"/>
            <a:ext cx="2057400" cy="1295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кругленный прямоугольник 20" descr=""/>
          <p:cNvPicPr/>
          <p:nvPr/>
        </p:nvPicPr>
        <p:blipFill>
          <a:blip r:embed="rId1"/>
          <a:stretch/>
        </p:blipFill>
        <p:spPr>
          <a:xfrm>
            <a:off x="2925720" y="2182680"/>
            <a:ext cx="3146400" cy="2382840"/>
          </a:xfrm>
          <a:prstGeom prst="rect">
            <a:avLst/>
          </a:prstGeom>
          <a:ln w="0">
            <a:noFill/>
          </a:ln>
        </p:spPr>
      </p:pic>
      <p:cxnSp>
        <p:nvCxnSpPr>
          <p:cNvPr id="69" name="Прямая со стрелкой 22"/>
          <p:cNvCxnSpPr>
            <a:stCxn id="68" idx="0"/>
          </p:cNvCxnSpPr>
          <p:nvPr/>
        </p:nvCxnSpPr>
        <p:spPr>
          <a:xfrm flipV="1">
            <a:off x="4494600" y="1449000"/>
            <a:ext cx="252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25"/>
          <p:cNvCxnSpPr>
            <a:endCxn id="66" idx="1"/>
          </p:cNvCxnSpPr>
          <p:nvPr/>
        </p:nvCxnSpPr>
        <p:spPr>
          <a:xfrm>
            <a:off x="5942520" y="4419720"/>
            <a:ext cx="2293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29"/>
          <p:cNvCxnSpPr>
            <a:stCxn id="68" idx="3"/>
            <a:endCxn id="67" idx="1"/>
          </p:cNvCxnSpPr>
          <p:nvPr/>
        </p:nvCxnSpPr>
        <p:spPr>
          <a:xfrm flipV="1">
            <a:off x="6019920" y="2856960"/>
            <a:ext cx="457920" cy="4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31"/>
          <p:cNvCxnSpPr>
            <a:stCxn id="68" idx="1"/>
            <a:endCxn id="62" idx="3"/>
          </p:cNvCxnSpPr>
          <p:nvPr/>
        </p:nvCxnSpPr>
        <p:spPr>
          <a:xfrm flipH="1" flipV="1">
            <a:off x="2418480" y="2895120"/>
            <a:ext cx="553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33"/>
          <p:cNvCxnSpPr/>
          <p:nvPr/>
        </p:nvCxnSpPr>
        <p:spPr>
          <a:xfrm flipH="1">
            <a:off x="4494960" y="4495320"/>
            <a:ext cx="252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35"/>
          <p:cNvCxnSpPr>
            <a:endCxn id="64" idx="3"/>
          </p:cNvCxnSpPr>
          <p:nvPr/>
        </p:nvCxnSpPr>
        <p:spPr>
          <a:xfrm flipH="1">
            <a:off x="2723760" y="4343400"/>
            <a:ext cx="3247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62120" y="1890720"/>
            <a:ext cx="7619760" cy="50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ь ориентироваться в определённой жизненной ситуации, описанной в задании (задаче, опыт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ше внимания уделять обучению выразительному осмысленному чтению текста задания, так как причинами ошибок  является невозможность самостоятельно правильно прочитать задание (задачу), расставить логическое ударение, выявить суть за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учать к внимательному чтению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неукоснительному выполнению инструкций при выполнении контро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ь самоконтро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основе результатов ВПР организовать индивидуальную работу с обучающими  по устранению выявленных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-115920"/>
            <a:ext cx="8101080" cy="174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61760" y="131040"/>
            <a:ext cx="7543800" cy="411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Министр образования О.Ю. Василье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  <a:ea typeface="Calibri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Monotype Corsiva"/>
                <a:ea typeface="Calibri"/>
              </a:rPr>
              <a:t>«Я призываю все оценочные процедуры использовать в дальнейшей деятельности, а самое главное – давать позитивное движение вперёд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7" descr="C:\Documents and Settings\Admin\Рабочий стол\Васильева.jpg"/>
          <p:cNvPicPr/>
          <p:nvPr/>
        </p:nvPicPr>
        <p:blipFill>
          <a:blip r:embed="rId1"/>
          <a:stretch/>
        </p:blipFill>
        <p:spPr>
          <a:xfrm>
            <a:off x="4359240" y="3276720"/>
            <a:ext cx="402264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61760" y="1218960"/>
            <a:ext cx="7543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  <a:ea typeface="Calibri"/>
            </a:endParaRPr>
          </a:p>
        </p:txBody>
      </p:sp>
      <p:pic>
        <p:nvPicPr>
          <p:cNvPr id="208" name="Picture 6" descr="C:\Documents and Settings\Admin\Рабочий стол\images.jpg"/>
          <p:cNvPicPr/>
          <p:nvPr/>
        </p:nvPicPr>
        <p:blipFill>
          <a:blip r:embed="rId1"/>
          <a:stretch/>
        </p:blipFill>
        <p:spPr>
          <a:xfrm>
            <a:off x="6172200" y="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C:\Documents and Settings\Admin\Рабочий стол\ims (1).jpg"/>
          <p:cNvPicPr/>
          <p:nvPr/>
        </p:nvPicPr>
        <p:blipFill>
          <a:blip r:embed="rId2"/>
          <a:stretch/>
        </p:blipFill>
        <p:spPr>
          <a:xfrm>
            <a:off x="2819520" y="2057400"/>
            <a:ext cx="2466720" cy="167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C:\Documents and Settings\Admin\Рабочий стол\скач файлы.png"/>
          <p:cNvPicPr/>
          <p:nvPr/>
        </p:nvPicPr>
        <p:blipFill>
          <a:blip r:embed="rId3"/>
          <a:stretch/>
        </p:blipFill>
        <p:spPr>
          <a:xfrm>
            <a:off x="5791320" y="2133720"/>
            <a:ext cx="2981160" cy="1571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C:\Documents and Settings\Admin\Рабочий стол\скачанные файлы.jpg"/>
          <p:cNvPicPr/>
          <p:nvPr/>
        </p:nvPicPr>
        <p:blipFill>
          <a:blip r:embed="rId4"/>
          <a:stretch/>
        </p:blipFill>
        <p:spPr>
          <a:xfrm>
            <a:off x="3657600" y="4343400"/>
            <a:ext cx="1676520" cy="2390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C:\Documents and Settings\Admin\Рабочий стол\скачаннайлы (1).jpg"/>
          <p:cNvPicPr/>
          <p:nvPr/>
        </p:nvPicPr>
        <p:blipFill>
          <a:blip r:embed="rId5"/>
          <a:stretch/>
        </p:blipFill>
        <p:spPr>
          <a:xfrm>
            <a:off x="0" y="0"/>
            <a:ext cx="2971800" cy="1542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:\Documents and Settings\Admin\Рабочий стол\ВПРы.jpg"/>
          <p:cNvPicPr/>
          <p:nvPr/>
        </p:nvPicPr>
        <p:blipFill>
          <a:blip r:embed="rId6"/>
          <a:srcRect l="0" t="10532" r="0" b="5266"/>
          <a:stretch/>
        </p:blipFill>
        <p:spPr>
          <a:xfrm>
            <a:off x="152280" y="1981080"/>
            <a:ext cx="2362320" cy="1828800"/>
          </a:xfrm>
          <a:prstGeom prst="rect">
            <a:avLst/>
          </a:prstGeom>
          <a:ln w="0">
            <a:noFill/>
          </a:ln>
        </p:spPr>
      </p:pic>
      <p:cxnSp>
        <p:nvCxnSpPr>
          <p:cNvPr id="214" name="Прямая со стрелкой 12"/>
          <p:cNvCxnSpPr/>
          <p:nvPr/>
        </p:nvCxnSpPr>
        <p:spPr>
          <a:xfrm>
            <a:off x="2514600" y="289512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Прямая со стрелкой 14"/>
          <p:cNvCxnSpPr/>
          <p:nvPr/>
        </p:nvCxnSpPr>
        <p:spPr>
          <a:xfrm>
            <a:off x="5285880" y="2895480"/>
            <a:ext cx="505800" cy="2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Прямая со стрелкой 16"/>
          <p:cNvCxnSpPr/>
          <p:nvPr/>
        </p:nvCxnSpPr>
        <p:spPr>
          <a:xfrm flipH="1">
            <a:off x="5409360" y="3705120"/>
            <a:ext cx="1872360" cy="185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30592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7" descr=""/>
          <p:cNvPicPr/>
          <p:nvPr/>
        </p:nvPicPr>
        <p:blipFill>
          <a:blip r:embed="rId1"/>
          <a:stretch/>
        </p:blipFill>
        <p:spPr>
          <a:xfrm>
            <a:off x="165240" y="536400"/>
            <a:ext cx="9064440" cy="673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304920"/>
          <a:ext cx="8229600" cy="6126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340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Педагогическое единство в заинтересованности повышения качества подготовки к проведению  ВП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и коррекционной работы  по  итоговым результатам 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7030a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Интегрированное МО. ( 2 неделя сентября)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ПРИНЯТ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работы по подготовке к В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ПРИНЯТ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2. Проведение пробных работ в январе.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ОТКЛОНЕ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и коррекционная рабо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3. Анализ результатов ВПР (май)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ПРИНЯТ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ние работы МО по предметам с учётом анализа.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ПРИНЯТ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9" descr=""/>
          <p:cNvPicPr/>
          <p:nvPr/>
        </p:nvPicPr>
        <p:blipFill>
          <a:blip r:embed="rId1"/>
          <a:stretch/>
        </p:blipFill>
        <p:spPr>
          <a:xfrm>
            <a:off x="536400" y="231840"/>
            <a:ext cx="7967880" cy="2047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304920" y="220968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ство подходов к составлению, провед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цениванию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современны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временное выполнение работ по всей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на федерально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61760" y="1218960"/>
            <a:ext cx="7543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  <a:ea typeface="Calibri"/>
            </a:endParaRPr>
          </a:p>
        </p:txBody>
      </p:sp>
      <p:pic>
        <p:nvPicPr>
          <p:cNvPr id="83" name="Прямоугольник 9" descr=""/>
          <p:cNvPicPr/>
          <p:nvPr/>
        </p:nvPicPr>
        <p:blipFill>
          <a:blip r:embed="rId1"/>
          <a:stretch/>
        </p:blipFill>
        <p:spPr>
          <a:xfrm>
            <a:off x="536400" y="231840"/>
            <a:ext cx="7967880" cy="828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304920" y="2209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\Рабочий стол\DAxPyi8XYAAWig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"/>
          <p:cNvPicPr/>
          <p:nvPr/>
        </p:nvPicPr>
        <p:blipFill>
          <a:blip r:embed="rId1"/>
          <a:srcRect l="10197" t="17935" r="11732" b="6040"/>
          <a:stretch/>
        </p:blipFill>
        <p:spPr>
          <a:xfrm>
            <a:off x="228600" y="1447920"/>
            <a:ext cx="8610480" cy="5105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График проведения ВПР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в 2018 – 2019 учебном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378000" y="60480"/>
            <a:ext cx="8265960" cy="1555560"/>
          </a:xfrm>
          <a:prstGeom prst="rect">
            <a:avLst/>
          </a:prstGeom>
          <a:ln w="0">
            <a:noFill/>
          </a:ln>
        </p:spPr>
      </p:pic>
      <p:sp>
        <p:nvSpPr>
          <p:cNvPr id="90" name="Овал 4"/>
          <p:cNvSpPr/>
          <p:nvPr/>
        </p:nvSpPr>
        <p:spPr>
          <a:xfrm>
            <a:off x="1371600" y="1295280"/>
            <a:ext cx="6477120" cy="4114800"/>
          </a:xfrm>
          <a:prstGeom prst="ellipse">
            <a:avLst/>
          </a:prstGeom>
          <a:solidFill>
            <a:srgbClr val="92d05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1371600" y="2286000"/>
            <a:ext cx="6400800" cy="3352680"/>
          </a:xfrm>
          <a:prstGeom prst="ellipse">
            <a:avLst/>
          </a:prstGeom>
          <a:solidFill>
            <a:srgbClr val="ffc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2"/>
          <p:cNvSpPr/>
          <p:nvPr/>
        </p:nvSpPr>
        <p:spPr>
          <a:xfrm>
            <a:off x="1371600" y="3124080"/>
            <a:ext cx="6400800" cy="31244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3"/>
          <p:cNvSpPr/>
          <p:nvPr/>
        </p:nvSpPr>
        <p:spPr>
          <a:xfrm>
            <a:off x="1447920" y="3962520"/>
            <a:ext cx="6400800" cy="236196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образовательных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 rot="5400000">
            <a:off x="4076640" y="2476440"/>
            <a:ext cx="609480" cy="7696080"/>
          </a:xfrm>
          <a:custGeom>
            <a:avLst/>
            <a:gdLst>
              <a:gd name="textAreaLeft" fmla="*/ 0 w 609480"/>
              <a:gd name="textAreaRight" fmla="*/ 219960 w 609480"/>
              <a:gd name="textAreaTop" fmla="*/ 200520 h 7696080"/>
              <a:gd name="textAreaBottom" fmla="*/ 749556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62120" y="1896840"/>
            <a:ext cx="7619760" cy="20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мониторинг введения и реализации ФГ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формирование программ развит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9" descr=""/>
          <p:cNvPicPr/>
          <p:nvPr/>
        </p:nvPicPr>
        <p:blipFill>
          <a:blip r:embed="rId1"/>
          <a:stretch/>
        </p:blipFill>
        <p:spPr>
          <a:xfrm>
            <a:off x="579600" y="231840"/>
            <a:ext cx="8173800" cy="1749240"/>
          </a:xfrm>
          <a:prstGeom prst="rect">
            <a:avLst/>
          </a:prstGeom>
          <a:ln w="0">
            <a:noFill/>
          </a:ln>
        </p:spPr>
      </p:pic>
      <p:grpSp>
        <p:nvGrpSpPr>
          <p:cNvPr id="100" name="Группа 8"/>
          <p:cNvGrpSpPr/>
          <p:nvPr/>
        </p:nvGrpSpPr>
        <p:grpSpPr>
          <a:xfrm>
            <a:off x="457200" y="4419720"/>
            <a:ext cx="1785960" cy="2214360"/>
            <a:chOff x="457200" y="4419720"/>
            <a:chExt cx="1785960" cy="2214360"/>
          </a:xfrm>
        </p:grpSpPr>
        <p:grpSp>
          <p:nvGrpSpPr>
            <p:cNvPr id="101" name="Группа 4"/>
            <p:cNvGrpSpPr/>
            <p:nvPr/>
          </p:nvGrpSpPr>
          <p:grpSpPr>
            <a:xfrm>
              <a:off x="457200" y="4419720"/>
              <a:ext cx="1785960" cy="1509840"/>
              <a:chOff x="457200" y="4419720"/>
              <a:chExt cx="1785960" cy="1509840"/>
            </a:xfrm>
          </p:grpSpPr>
          <p:sp>
            <p:nvSpPr>
              <p:cNvPr id="102" name="Прямоугольник 12"/>
              <p:cNvSpPr/>
              <p:nvPr/>
            </p:nvSpPr>
            <p:spPr>
              <a:xfrm>
                <a:off x="457200" y="4419720"/>
                <a:ext cx="1785960" cy="150012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Picture 2" descr="http://www.heraldicum.ru/russia/images/obrnadzor.gif"/>
              <p:cNvPicPr/>
              <p:nvPr/>
            </p:nvPicPr>
            <p:blipFill>
              <a:blip r:embed="rId2"/>
              <a:srcRect l="0" t="0" r="40670" b="0"/>
              <a:stretch/>
            </p:blipFill>
            <p:spPr>
              <a:xfrm>
                <a:off x="457200" y="4419720"/>
                <a:ext cx="1785960" cy="150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Прямоугольник 11"/>
            <p:cNvSpPr/>
            <p:nvPr/>
          </p:nvSpPr>
          <p:spPr>
            <a:xfrm>
              <a:off x="457200" y="5919840"/>
              <a:ext cx="178596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едеральная служба по надзору в сфере образования и нау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6" descr="C:\Documents and Settings\Admin\Рабочий стол\ВПРы.jpg"/>
          <p:cNvPicPr/>
          <p:nvPr/>
        </p:nvPicPr>
        <p:blipFill>
          <a:blip r:embed="rId3"/>
          <a:stretch/>
        </p:blipFill>
        <p:spPr>
          <a:xfrm>
            <a:off x="2819520" y="4419720"/>
            <a:ext cx="586728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1897200"/>
            <a:ext cx="8143920" cy="26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воевременная корректировка отдельных аспектов в системе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орректировка программ курсов повышения квалиф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дресная помощь муниципалите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снование для планирования контрольно-надзор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9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8345520" cy="1841400"/>
          </a:xfrm>
          <a:prstGeom prst="rect">
            <a:avLst/>
          </a:prstGeom>
          <a:ln w="0">
            <a:noFill/>
          </a:ln>
        </p:spPr>
      </p:pic>
      <p:grpSp>
        <p:nvGrpSpPr>
          <p:cNvPr id="111" name="Группа 8"/>
          <p:cNvGrpSpPr/>
          <p:nvPr/>
        </p:nvGrpSpPr>
        <p:grpSpPr>
          <a:xfrm>
            <a:off x="457200" y="4572000"/>
            <a:ext cx="1785960" cy="2138400"/>
            <a:chOff x="457200" y="4572000"/>
            <a:chExt cx="1785960" cy="2138400"/>
          </a:xfrm>
        </p:grpSpPr>
        <p:grpSp>
          <p:nvGrpSpPr>
            <p:cNvPr id="112" name="Группа 4"/>
            <p:cNvGrpSpPr/>
            <p:nvPr/>
          </p:nvGrpSpPr>
          <p:grpSpPr>
            <a:xfrm>
              <a:off x="457200" y="4572000"/>
              <a:ext cx="1785960" cy="1458360"/>
              <a:chOff x="457200" y="4572000"/>
              <a:chExt cx="1785960" cy="1458360"/>
            </a:xfrm>
          </p:grpSpPr>
          <p:sp>
            <p:nvSpPr>
              <p:cNvPr id="113" name="Прямоугольник 12"/>
              <p:cNvSpPr/>
              <p:nvPr/>
            </p:nvSpPr>
            <p:spPr>
              <a:xfrm>
                <a:off x="457200" y="4572000"/>
                <a:ext cx="1785960" cy="144828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Picture 2" descr="http://www.heraldicum.ru/russia/images/obrnadzor.gif"/>
              <p:cNvPicPr/>
              <p:nvPr/>
            </p:nvPicPr>
            <p:blipFill>
              <a:blip r:embed="rId2"/>
              <a:srcRect l="0" t="0" r="40670" b="0"/>
              <a:stretch/>
            </p:blipFill>
            <p:spPr>
              <a:xfrm>
                <a:off x="457200" y="4572000"/>
                <a:ext cx="1785960" cy="145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Прямоугольник 11"/>
            <p:cNvSpPr/>
            <p:nvPr/>
          </p:nvSpPr>
          <p:spPr>
            <a:xfrm>
              <a:off x="457200" y="6019920"/>
              <a:ext cx="1785960" cy="69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едеральная служба по надзору в сфере образования и нау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6" descr="C:\Documents and Settings\Admin\Рабочий стол\ВПРы.jpg"/>
          <p:cNvPicPr/>
          <p:nvPr/>
        </p:nvPicPr>
        <p:blipFill>
          <a:blip r:embed="rId3"/>
          <a:stretch/>
        </p:blipFill>
        <p:spPr>
          <a:xfrm>
            <a:off x="2819520" y="4572000"/>
            <a:ext cx="578160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62120" y="1897200"/>
            <a:ext cx="7619760" cy="26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казание методической помощи ОО, которые показали низкие результ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рганизация методический заседаний по выработке стратегии исправления основных ошиб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рганизация транслирования опыта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9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87966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122" name="Группа 8"/>
          <p:cNvGrpSpPr/>
          <p:nvPr/>
        </p:nvGrpSpPr>
        <p:grpSpPr>
          <a:xfrm>
            <a:off x="457200" y="4572000"/>
            <a:ext cx="1785960" cy="2138400"/>
            <a:chOff x="457200" y="4572000"/>
            <a:chExt cx="1785960" cy="2138400"/>
          </a:xfrm>
        </p:grpSpPr>
        <p:grpSp>
          <p:nvGrpSpPr>
            <p:cNvPr id="123" name="Группа 4"/>
            <p:cNvGrpSpPr/>
            <p:nvPr/>
          </p:nvGrpSpPr>
          <p:grpSpPr>
            <a:xfrm>
              <a:off x="457200" y="4572000"/>
              <a:ext cx="1785960" cy="1458360"/>
              <a:chOff x="457200" y="4572000"/>
              <a:chExt cx="1785960" cy="1458360"/>
            </a:xfrm>
          </p:grpSpPr>
          <p:sp>
            <p:nvSpPr>
              <p:cNvPr id="124" name="Прямоугольник 12"/>
              <p:cNvSpPr/>
              <p:nvPr/>
            </p:nvSpPr>
            <p:spPr>
              <a:xfrm>
                <a:off x="457200" y="4572000"/>
                <a:ext cx="1785960" cy="144828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Picture 2" descr="http://www.heraldicum.ru/russia/images/obrnadzor.gif"/>
              <p:cNvPicPr/>
              <p:nvPr/>
            </p:nvPicPr>
            <p:blipFill>
              <a:blip r:embed="rId2"/>
              <a:srcRect l="0" t="0" r="40670" b="0"/>
              <a:stretch/>
            </p:blipFill>
            <p:spPr>
              <a:xfrm>
                <a:off x="457200" y="4572000"/>
                <a:ext cx="1785960" cy="145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Прямоугольник 11"/>
            <p:cNvSpPr/>
            <p:nvPr/>
          </p:nvSpPr>
          <p:spPr>
            <a:xfrm>
              <a:off x="457200" y="6019920"/>
              <a:ext cx="1785960" cy="69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едеральная служба по надзору в сфере образования и нау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6" descr="C:\Documents and Settings\Admin\Рабочий стол\ВПРы.jpg"/>
          <p:cNvPicPr/>
          <p:nvPr/>
        </p:nvPicPr>
        <p:blipFill>
          <a:blip r:embed="rId3"/>
          <a:stretch/>
        </p:blipFill>
        <p:spPr>
          <a:xfrm>
            <a:off x="2819520" y="4495680"/>
            <a:ext cx="5781600" cy="221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никова</cp:lastModifiedBy>
  <dcterms:modified xsi:type="dcterms:W3CDTF">2018-09-06T02:08:16Z</dcterms:modified>
  <cp:revision>1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