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audio1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5B9-3810-4F59-8A78-8B625085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EFB-8842-440A-8C4F-857AB8A4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2C4-06D2-4142-9103-5D7F55F2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816-939A-44AB-B0E7-3915755D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31B5B-3808-45EE-A188-709A6245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F399B-2F46-4553-BB4B-3D9A1188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F9146-9FD7-400F-9E3E-69575232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1AF19-8A8E-44DF-8BEF-906BAD7A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0AC59-435C-4CBC-94FD-5AA9A71F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0CC7D-8764-49B0-9F1F-47B26BF8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2F6AB-AB60-4D0E-9144-AF6C023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878-E7DD-4A1A-92D7-E6DC2D2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B6E09-D39D-44F5-9D73-D395670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79FD3-0275-4402-AB85-CB4EBB6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91A85-E442-4719-A9F5-5B709E45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63E6A-102C-4026-B792-16B26554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AE35F-AFD1-49FE-ABA5-366D5954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81B9-5B18-40DC-B22D-E047A9B9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52B2-4A0F-44C1-9AFD-8F8E59D6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1C87-C7F6-4769-BB37-526ABD56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3C73B-1825-4611-99F5-1D9183A9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E745-4DB7-4058-BE26-577AA584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D8B-72A9-4F9F-B222-D8C7C838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D9602-AF5D-4DED-B168-D41E86BC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12CAA-5581-4AFA-AC1D-FF44A347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BD12-6523-4EC8-BA27-23CC33EE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4EB5-0618-468A-BE7E-24980DD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48E7-3E78-42C9-BE99-652EE268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845E-A7A5-4185-B83E-210B1C19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EE7F-B275-4B13-A99F-0B57F310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A83C-09A8-46C8-B57A-A2519358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DE6D-41FF-4961-B48C-90ED0946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4E4E7-083B-4E72-A623-D902BDEE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D14-847E-436A-9E4B-6CB16CA0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754A1-A706-4669-9E8E-41FD0A7F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8D9FD-D9AF-44D6-AB6B-B72A12EF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684F-2D27-450D-9351-C1FF3C7D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80A3-09B3-4409-BA1A-C272D88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E71A2-631C-4361-993F-AD29508D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A7FB5-71A2-4D28-8276-C34EB85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8A3D-F506-4974-ABDA-069A211A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4FFB3-FF14-4A48-8D63-C116400E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D6CBA-8EC3-4190-B418-99727FB6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55E-90A0-4E2E-A761-88165C48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E95-E6A3-4B4B-9E12-4512CC2E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03B-61C2-462F-A196-ED0985BD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734-BC6A-4D29-BC45-7F6AAD8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BA1-5DE9-4741-B24B-474A0A90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D11DF3A-3930-4EE9-A69D-E8019CC8077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152280" y="533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152280" y="152280"/>
            <a:ext cx="8832600" cy="3013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152280" y="609480"/>
            <a:ext cx="2742840" cy="586692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Овал 11"/>
          <p:cNvSpPr/>
          <p:nvPr/>
        </p:nvSpPr>
        <p:spPr>
          <a:xfrm>
            <a:off x="1295280" y="22860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Овал 12"/>
          <p:cNvSpPr/>
          <p:nvPr/>
        </p:nvSpPr>
        <p:spPr>
          <a:xfrm>
            <a:off x="1389960" y="32292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Num" idx="4"/>
          </p:nvPr>
        </p:nvSpPr>
        <p:spPr>
          <a:xfrm>
            <a:off x="1371600" y="3128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49B069E-3E2C-4F7B-B82C-872DD3826C2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3000240" y="5029200"/>
            <a:ext cx="5866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Образец заголовка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body"/>
          </p:nvPr>
        </p:nvSpPr>
        <p:spPr>
          <a:xfrm>
            <a:off x="3000240" y="609480"/>
            <a:ext cx="586692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body"/>
          </p:nvPr>
        </p:nvSpPr>
        <p:spPr>
          <a:xfrm>
            <a:off x="380880" y="990720"/>
            <a:ext cx="24379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Образец текста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2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dt" idx="5"/>
          </p:nvPr>
        </p:nvSpPr>
        <p:spPr>
          <a:xfrm>
            <a:off x="578808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 type="ftr" idx="6"/>
          </p:nvPr>
        </p:nvSpPr>
        <p:spPr>
          <a:xfrm>
            <a:off x="301680" y="6410880"/>
            <a:ext cx="3584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Прямоугольник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248" strike="noStrike" cap="all">
                <a:solidFill>
                  <a:srgbClr val="646b86"/>
                </a:solidFill>
                <a:latin typeface="Georgia"/>
              </a:rPr>
              <a:t>Образец текста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Прямоугольник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Прямоугольник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7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Овал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4" name="Овал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9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08D174-AED7-4090-B75C-296552A77289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2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10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ftr" idx="11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2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2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39854C-8BD9-4D16-89F7-15A539606090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myslide.ru/presentation/scenicheskaya-rech-uprazhneniya" TargetMode="External"/><Relationship Id="rId2" Type="http://schemas.openxmlformats.org/officeDocument/2006/relationships/hyperlink" Target="https://myslide.ru/presentation/scenicheskaya-rech-uprazhneniya" TargetMode="External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rgbClr val="7b9899"/>
                </a:solidFill>
                <a:latin typeface="Times New Roman"/>
              </a:rPr>
              <a:t>СЦЕНИЧЕСКАЯ РЕЧЬ. УПРАЖНЕНИЯ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Содержимое 5" descr="2419-e1570268624391.jpg"/>
          <p:cNvPicPr/>
          <p:nvPr/>
        </p:nvPicPr>
        <p:blipFill>
          <a:blip r:embed="rId1"/>
          <a:stretch/>
        </p:blipFill>
        <p:spPr>
          <a:xfrm>
            <a:off x="500040" y="1600200"/>
            <a:ext cx="8000640" cy="452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3416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А теперь к этому звукоряду добавляйте согласные,</a:t>
            </a:r>
            <a:br>
              <a:rPr sz="1800"/>
            </a:b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стараясь постепенно увеличивать громкость голоса,</a:t>
            </a:r>
            <a:br>
              <a:rPr sz="1800"/>
            </a:b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звук направляя вперед как «снежный комочек» в игре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 – БО – БУ – БЭ – БЫ – БИ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 – ПО – ПУ – ПЭ – ПЫ – ПИ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 -ПА - БО -  ПО - БУ -  ПУ - БЭ - ПЭ - БЫ - ПЫ - БИ – ПИ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 – СТО – СТУ –СТЭ – СТЫ – СТИ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КА – ПТКО – ПТКУ – ПТКЭ – ПТКЭ – ПТКИ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ДА – ГБДО – ГБДУ – ГБДЭ – ГБДЫ – ГБДИ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ПА – ВРПО – ВРПУ – ВРПЭ – ВРПЫ – ВРПИ  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пражнения для дикции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тоговорка – произнесение скороговорки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ленно, чётко артикулируя  каждый звук и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деляя окончания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пота коп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полю ле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б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об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об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к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шё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ок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— кип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укр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ушё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ок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— кип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укр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при Прокопе кип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укр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и так и без Прокопа кип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укр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о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п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на копне, колпа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на попе, копна под поп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 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под колпак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ценическая речь и актёрское мастерство неразрывно связаны.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читайте стихотворение со следующего слайд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ромко, чётко, «посылая звук» вперёд со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следующими актёрскими задачами: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бёнок, который только учиться говорить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удья читает приговор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казываете страшилку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ытаетесь незаметно подсказать однокласснику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есняетесь выступать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кажите стих так, как будто ругаете кого-то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Агния  Барто</a:t>
            </a:r>
            <a:br>
              <a:rPr sz="3300"/>
            </a:b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Смешной  цветок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мешной цветок поставлен в вазу!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го не полили ни разу,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му не нужно влаги,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н сделан из бумаги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 почему такой он важный?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 потому, что он бумажный.</a:t>
            </a:r>
            <a:br>
              <a:rPr sz="2700"/>
            </a:br>
            <a:br>
              <a:rPr sz="27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248" strike="noStrike" u="sng" cap="all">
                <a:solidFill>
                  <a:srgbClr val="00a3d6"/>
                </a:solidFill>
                <a:uFillTx/>
                <a:latin typeface="Georgia"/>
                <a:hlinkClick r:id="rId1"/>
              </a:rPr>
              <a:t>https://</a:t>
            </a:r>
            <a:r>
              <a:rPr b="1" lang="en-US" sz="1600" spc="248" strike="noStrike" u="sng" cap="all">
                <a:solidFill>
                  <a:srgbClr val="00a3d6"/>
                </a:solidFill>
                <a:uFillTx/>
                <a:latin typeface="Georgia"/>
                <a:hlinkClick r:id="rId2"/>
              </a:rPr>
              <a:t>myslide.ru/presentation/scenicheskaya-rech-uprazhneni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СПАСИБО!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Georgia"/>
              </a:rPr>
              <a:t>Сценическая</a:t>
            </a: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 </a:t>
            </a:r>
            <a:r>
              <a:rPr b="1" lang="ru-RU" sz="2000" spc="-1" strike="noStrike">
                <a:solidFill>
                  <a:srgbClr val="0070c0"/>
                </a:solidFill>
                <a:latin typeface="Georgia"/>
              </a:rPr>
              <a:t>речь</a:t>
            </a: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 — одно из основных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средств выразительности актёра. 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з мастерство речи актёр передаёт зрителю внутренний мир,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е, психологические, бытовые, национальные особенности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а персонажа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этого артисту нужно владе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кой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торая связана с: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вучностью голос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омкостью голос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м дыхани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кцией (чёткостью и ясностью произношения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онационной выразительностью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00240" y="5029200"/>
            <a:ext cx="5866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646b86"/>
                </a:solidFill>
                <a:latin typeface="Times New Roman"/>
              </a:rPr>
              <a:t>Этими качествами Демосфен, к сожалению, не обладал. У него был слабый голос, он шепелявил и прерывисто дышал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9" descr="pic6825.jpg"/>
          <p:cNvPicPr/>
          <p:nvPr/>
        </p:nvPicPr>
        <p:blipFill>
          <a:blip r:embed="rId1"/>
          <a:stretch/>
        </p:blipFill>
        <p:spPr>
          <a:xfrm>
            <a:off x="3800520" y="609480"/>
            <a:ext cx="4266720" cy="42667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4379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выки сценической речи оттачивали актёры ещё в Древней Греции. Известный оратор Демосфен  много времени посвящал занятиям красноречием, но говорил он невнятно, за что частенько подвергался насмешкам. Совсем отчаявшись, он обратился к своему другу – известному актёру театра. Тот прочитал ему отрывок из произведения Софокла настолько выразительно и живо, что Демосфен понял – важна не только речь, но и произношение, тембр и сила голоса.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2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00240" y="5029200"/>
            <a:ext cx="5866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646b86"/>
                </a:solidFill>
                <a:latin typeface="Georgia"/>
              </a:rPr>
              <a:t>Занятия дали результат. Сегодня мы говорим о Демосфене как о величайшем ораторе античного мира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Рисунок 14" descr="maxresdefault.jpg"/>
          <p:cNvPicPr/>
          <p:nvPr/>
        </p:nvPicPr>
        <p:blipFill>
          <a:blip r:embed="rId1"/>
          <a:srcRect l="11327" t="0" r="11327" b="0"/>
          <a:stretch/>
        </p:blipFill>
        <p:spPr>
          <a:xfrm>
            <a:off x="3000240" y="571320"/>
            <a:ext cx="5866920" cy="426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4379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Оратор начал работать над своими недостатками. Он произносил речи, стоя на краю скалы у моря, преодолевая шум моря и порывы ветра. 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Во рту Демосфен держал мелкие камушки, проговаривал без вдоха длинные фразы и целые предложения.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Несколько месяцев он спускался в пещеру и там разговаривал, слушая свой голос.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2" name="audio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248" strike="noStrike" cap="all">
                <a:solidFill>
                  <a:srgbClr val="646b86"/>
                </a:solidFill>
                <a:latin typeface="Times New Roman"/>
              </a:rPr>
              <a:t>Театральный принцип тренировок таков: сделать сложное привычным, привычное – легким, легкое сделать удовольствием!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ь свой голос может каждый!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этого нужно желание и регулярные тренировки!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пражнения для постановки дыхания.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ое умение для сценического дыхания – формирования вдоха через нос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место привычного «хватания» воздуха рт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открытым ртом сделайте вдох и выдох через нос. Повторите 10 раз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а – на животе. Делаем медленный вдох, считая в уме до 4. Без задержки выдыхаем, снова считая до 4. Во время упражнения важно ощущать рукой как поднимается и опускается живот. Если эти движения едва различимы, следует наклонить корпус вперёд, положа руку на поясницу. На вдохе должно чувствоваться расширение этой области. Каждый следующий вдох-выдох увеличиваем счёт на единицу (5,6,7,…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пражнения для постановки дыхания.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альным дыханием считается грудное. Но его нужно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ть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сходное положение стоя. На вдохе представляем, что нюхаем цветок. Выдох плавный со звуком «пфф», при этом нужно втягивать живот. Вдох короткий, выдох долгий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лассическое упражнение. Нужно вдохнуть и на выдохе, на «одном» дыхании проговорить длинную фразу. Например,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 лукоморья дуб зеленый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латая цепь на дубе том: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днем и ночью кот ученый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ё ходит по цепи круг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пражнения для артикуляции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ртикуля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овокупность работ отдельных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носительных органов при образовании звуков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 лучше развита артикуляция и артикуляционный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парат, тем внятнее и чётче речь человек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9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говорите негромко, но чётко артикулируя каждый звук в такой последовательности: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imes New Roman"/>
              </a:rPr>
              <a:t>А    О    У   Э   Ы   И</a:t>
            </a:r>
            <a:endParaRPr b="0" lang="ru-RU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141</TotalTime>
  <Application>LibreOffice/7.4.7.2$Linux_X86_64 LibreOffice_project/40$Build-2</Application>
  <AppVersion>15.0000</AppVersion>
  <Words>693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4T10:25:40Z</dcterms:created>
  <dc:creator>kores</dc:creator>
  <dc:description/>
  <dc:language>en-US</dc:language>
  <cp:lastModifiedBy>kokain3331@gmail.com</cp:lastModifiedBy>
  <dcterms:modified xsi:type="dcterms:W3CDTF">2020-11-18T21:14:09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