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audio1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FFA-B35A-4B29-BA9A-FB238536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92F-CAFF-46D1-B62A-1AF1725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B1A0-0ED9-4729-BBCD-355791E9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442-878F-4C6E-AE03-C23C5BA9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457F0-A978-48D9-9479-BB22D69A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BA90E-D808-456A-963B-E66667A4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67BB6-A3AA-4543-923D-834CF457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29FC9-0077-401C-B6DE-C403AA6E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0FD7D-21A9-4BD1-B9CA-862327EF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0E188-3E98-4264-82C5-39C0FE85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7DDB5-8561-4A89-A32C-559CF769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C08-81A3-424A-AF6B-C6A1B29A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464CC-F188-4F81-A3CE-0823A2BC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C9C12-A7D5-45E2-8BC3-B49FE6A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38C71-4481-4958-9480-BDAD168A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1FC03-55DD-4D26-9A69-2E5C156A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9BA91-6F7F-4E06-B084-CDDA6B28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34BE-7901-404F-8DF9-E6C79F17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F83B-1B48-4C00-8324-9D7C772B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01C5-9B51-496E-B708-0FDBBF92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1468-4ACF-49E7-99C9-4FA3601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2D9A-C8AE-4A1D-9DDD-55A7DEB5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3BD-030E-42DC-8601-7A17EE80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052B-4F72-431C-AB6F-3680747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175D-532E-4A05-8FB7-D986583E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B3C7-ADF9-4185-990D-8EF25F8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6F45-C56E-400C-9E6B-BE4B6F75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0DD2-79CB-4B1D-98CA-91ED862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0AF1B-55AF-4706-9B76-40A4EC6B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44CB-F5D2-4ADC-8EB3-BBDFCEF3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7CC0-4A88-4B0A-9892-6B5F4497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18BB-DEB4-424E-B6E4-6E50F832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1118A-232D-4FF6-86C8-8B72C7F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5FE9-B42D-4A71-8502-7E9FE3E6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08F6-9CF2-460B-9660-C330E390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B822-2ABE-4416-AB33-A043C9EB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5AD5-F234-4637-B59C-0E6C33BD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885A-9D38-4F71-B2B4-027652B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5A60-83D5-4343-B3A1-5E9B324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2282-C9F1-4A54-887E-25BB089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323B2-807D-4AEE-B572-244B5130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8E65-C070-4944-A197-C8AD748B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11397-DEC3-4E28-9D73-CAA89AFF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E26-157B-43BC-97E1-2460ED38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040" cy="81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B4E-3B0C-427E-9D06-0137408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03F-D5E3-48D7-A4E7-B8D4594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3F5-CEEF-480B-9193-8B36F7A0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3A4-D605-494A-BB3D-A1AE8F7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97B0B8D-9B40-4A86-8997-9B38A5F0088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8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152280" y="533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152280" y="152280"/>
            <a:ext cx="8832600" cy="3013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152280" y="609480"/>
            <a:ext cx="2742840" cy="586692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Овал 11"/>
          <p:cNvSpPr/>
          <p:nvPr/>
        </p:nvSpPr>
        <p:spPr>
          <a:xfrm>
            <a:off x="1295280" y="22860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Овал 12"/>
          <p:cNvSpPr/>
          <p:nvPr/>
        </p:nvSpPr>
        <p:spPr>
          <a:xfrm>
            <a:off x="1389960" y="32292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Num" idx="4"/>
          </p:nvPr>
        </p:nvSpPr>
        <p:spPr>
          <a:xfrm>
            <a:off x="1371600" y="3128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F5C532C-568D-4CA7-B970-3FA8E505FA0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3000240" y="5029200"/>
            <a:ext cx="5866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646b86"/>
                </a:solidFill>
                <a:latin typeface="Georgia"/>
              </a:rPr>
              <a:t>Образец заголовка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body"/>
          </p:nvPr>
        </p:nvSpPr>
        <p:spPr>
          <a:xfrm>
            <a:off x="3000240" y="609480"/>
            <a:ext cx="5866920" cy="42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ставка рисунк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body"/>
          </p:nvPr>
        </p:nvSpPr>
        <p:spPr>
          <a:xfrm>
            <a:off x="380880" y="990720"/>
            <a:ext cx="24379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2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dt" idx="5"/>
          </p:nvPr>
        </p:nvSpPr>
        <p:spPr>
          <a:xfrm>
            <a:off x="578808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 type="ftr" idx="6"/>
          </p:nvPr>
        </p:nvSpPr>
        <p:spPr>
          <a:xfrm>
            <a:off x="301680" y="6410880"/>
            <a:ext cx="3584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Прямоугольник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248" strike="noStrike" cap="all">
                <a:solidFill>
                  <a:srgbClr val="646b86"/>
                </a:solidFill>
                <a:latin typeface="Georgia"/>
              </a:rPr>
              <a:t>Образец текста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Прямоугольник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7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Овал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4" name="Овал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9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1C6E2E-6F8E-4335-B5F1-8D8B62A091EC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Прямоугольник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Прямоугольник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Прямоугольник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Прямоугольник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Овал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Овал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2" name="Прямоугольник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Прямоугольник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Прямоугольник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10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ftr" idx="11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ая соединительная линия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Овал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2" name="Овал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2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9FC1DA1-B175-420D-A5D9-2DD09ABC5184}" type="slidenum">
              <a:rPr b="0" lang="ru-RU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myslide.ru/presentation/scenicheskaya-rech-uprazhneniya" TargetMode="External"/><Relationship Id="rId2" Type="http://schemas.openxmlformats.org/officeDocument/2006/relationships/hyperlink" Target="https://myslide.ru/presentation/scenicheskaya-rech-uprazhneniya" TargetMode="External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rgbClr val="7b9899"/>
                </a:solidFill>
                <a:latin typeface="Times New Roman"/>
              </a:rPr>
              <a:t>СЦЕНИЧЕСКАЯ РЕЧЬ. УПРАЖНЕНИЯ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Содержимое 5" descr="2419-e1570268624391.jpg"/>
          <p:cNvPicPr/>
          <p:nvPr/>
        </p:nvPicPr>
        <p:blipFill>
          <a:blip r:embed="rId1"/>
          <a:stretch/>
        </p:blipFill>
        <p:spPr>
          <a:xfrm>
            <a:off x="500040" y="1600200"/>
            <a:ext cx="8000640" cy="452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audio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3416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А теперь к этому звукоряду добавляйте согласные,</a:t>
            </a:r>
            <a:br>
              <a:rPr sz="1800"/>
            </a:b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стараясь постепенно увеличивать громкость голоса,</a:t>
            </a:r>
            <a:br>
              <a:rPr sz="1800"/>
            </a:b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звук направляя вперед как «снежный комочек» в игре.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 – БО – БУ – БЭ – БЫ – БИ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 – ПО – ПУ – ПЭ – ПЫ – ПИ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 -ПА - БО -  ПО - БУ -  ПУ - БЭ - ПЭ - БЫ - ПЫ - БИ – ПИ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 – СТО – СТУ –СТЭ – СТЫ – СТИ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КА – ПТКО – ПТКУ – ПТКЭ – ПТКЭ – ПТКИ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ДА – ГБДО – ГБДУ – ГБДЭ – ГБДЫ – ГБДИ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ПА – ВРПО – ВРПУ – ВРПЭ – ВРПЫ – ВРПИ  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пражнения для дикции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тоговорка – произнесение скороговорк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дленно, чётко артикулируя  каждый звук 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деляя окончания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топота коп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полю ле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б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об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об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к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шё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ок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— кип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кр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ушё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ок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— кип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кр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ак при Прокопе кип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кр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и так и без Прокопа кип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кр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ои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п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на копне, колпа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на попе, копна под поп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 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под колпако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ценическая речь и актёрское мастерство неразрывно связаны.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читайте стихотворение со следующего слайд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ромко, чётко, «посылая звук» вперёд со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следующими актёрскими задачами: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бёнок, который только учиться говорить;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удья читает приговор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казываете страшилку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ытаетесь незаметно подсказать однокласснику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тесняетесь выступать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-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кажите стих так, как будто ругаете кого-то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Агния  Барто</a:t>
            </a:r>
            <a:br>
              <a:rPr sz="3300"/>
            </a:b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Смешной  цветок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мешной цветок поставлен в вазу!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го не полили ни разу,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му не нужно влаги,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н сделан из бумаги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 почему такой он важный?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 потому, что он бумажный.</a:t>
            </a:r>
            <a:br>
              <a:rPr sz="2700"/>
            </a:br>
            <a:br>
              <a:rPr sz="2700"/>
            </a:b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u="sng" cap="all">
                <a:solidFill>
                  <a:srgbClr val="00a3d6"/>
                </a:solidFill>
                <a:uFillTx/>
                <a:latin typeface="Georgia"/>
                <a:hlinkClick r:id="rId1"/>
              </a:rPr>
              <a:t>https://</a:t>
            </a:r>
            <a:r>
              <a:rPr b="1" lang="en-US" sz="1600" spc="248" strike="noStrike" u="sng" cap="all">
                <a:solidFill>
                  <a:srgbClr val="00a3d6"/>
                </a:solidFill>
                <a:uFillTx/>
                <a:latin typeface="Georgia"/>
                <a:hlinkClick r:id="rId2"/>
              </a:rPr>
              <a:t>myslide.ru/presentation/scenicheskaya-rech-uprazhneni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chemeClr val="accent1"/>
                </a:solidFill>
                <a:latin typeface="Georgia"/>
              </a:rPr>
              <a:t>СПАСИБО!</a:t>
            </a:r>
            <a:endParaRPr b="0" lang="ru-RU" sz="4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Georgia"/>
              </a:rPr>
              <a:t>Сценическая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 </a:t>
            </a:r>
            <a:r>
              <a:rPr b="1" lang="ru-RU" sz="2000" spc="-1" strike="noStrike">
                <a:solidFill>
                  <a:srgbClr val="0070c0"/>
                </a:solidFill>
                <a:latin typeface="Georgia"/>
              </a:rPr>
              <a:t>речь</a:t>
            </a: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 — одно из основных </a:t>
            </a:r>
            <a:br>
              <a:rPr sz="2000"/>
            </a:br>
            <a:r>
              <a:rPr b="0" lang="ru-RU" sz="2000" spc="-1" strike="noStrike">
                <a:solidFill>
                  <a:srgbClr val="0070c0"/>
                </a:solidFill>
                <a:latin typeface="Georgia"/>
              </a:rPr>
              <a:t>средств выразительности актёра. 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мастерство речи актёр передаёт зрителю внутренний мир,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е, психологические, бытовые, национальные особенност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а персонажа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этого артисту нужно владе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кой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торая связана с: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вучностью голос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омкостью голос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м дыхани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кцией (чёткостью и ясностью произношения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онационной выразительностью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00240" y="5029200"/>
            <a:ext cx="5866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646b86"/>
                </a:solidFill>
                <a:latin typeface="Times New Roman"/>
              </a:rPr>
              <a:t>Этими качествами Демосфен, к сожалению, не обладал. У него был слабый голос, он шепелявил и прерывисто дышал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9" descr="pic6825.jpg"/>
          <p:cNvPicPr/>
          <p:nvPr/>
        </p:nvPicPr>
        <p:blipFill>
          <a:blip r:embed="rId1"/>
          <a:stretch/>
        </p:blipFill>
        <p:spPr>
          <a:xfrm>
            <a:off x="3800520" y="609480"/>
            <a:ext cx="4266720" cy="42667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4379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выки сценической речи оттачивали актёры ещё в Древней Греции. Известный оратор Демосфен  много времени посвящал занятиям красноречием, но говорил он невнятно, за что частенько подвергался насмешкам. Совсем отчаявшись, он обратился к своему другу – известному актёру театра. Тот прочитал ему отрывок из произведения Софокла настолько выразительно и живо, что Демосфен понял – важна не только речь, но и произношение, тембр и сила голоса.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2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00240" y="5029200"/>
            <a:ext cx="5866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646b86"/>
                </a:solidFill>
                <a:latin typeface="Georgia"/>
              </a:rPr>
              <a:t>Занятия дали результат. Сегодня мы говорим о Демосфене как о величайшем ораторе античного мира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Рисунок 14" descr="maxresdefault.jpg"/>
          <p:cNvPicPr/>
          <p:nvPr/>
        </p:nvPicPr>
        <p:blipFill>
          <a:blip r:embed="rId1"/>
          <a:srcRect l="11327" t="0" r="11327" b="0"/>
          <a:stretch/>
        </p:blipFill>
        <p:spPr>
          <a:xfrm>
            <a:off x="3000240" y="571320"/>
            <a:ext cx="5866920" cy="426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4379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Оратор начал работать над своими недостатками. Он произносил речи, стоя на краю скалы у моря, преодолевая шум моря и порывы ветра. 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Во рту Демосфен держал мелкие камушки, проговаривал без вдоха длинные фразы и целые предложения.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Несколько месяцев он спускался в пещеру и там разговаривал, слушая свой голос.</a:t>
            </a: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2" name="audio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248" strike="noStrike" cap="all">
                <a:solidFill>
                  <a:srgbClr val="646b86"/>
                </a:solidFill>
                <a:latin typeface="Times New Roman"/>
              </a:rPr>
              <a:t>Театральный принцип тренировок таков: сделать сложное привычным, привычное – легким, легкое сделать удовольствием!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ь свой голос может каждый!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этого нужно желание и регулярные тренировки!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пражнения для постановки дыхания.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ое умение для сценического дыхания – формирования вдоха через нос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место привычного «хватания» воздуха рт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открытым ртом сделайте вдох и выдох через нос. Повторите 10 раз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а – на животе. Делаем медленный вдох, считая в уме до 4. Без задержки выдыхаем, снова считая до 4. Во время упражнения важно ощущать рукой как поднимается и опускается живот. Если эти движения едва различимы, следует наклонить корпус вперёд, положа руку на поясницу. На вдохе должно чувствоваться расширение этой области. Каждый следующий вдох-выдох увеличиваем счёт на единицу (5,6,7,…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пражнения для постановки дыхания.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тимальным дыханием считается грудное. Но его нужно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азвивать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сходное положение стоя. На вдохе представляем, что нюхаем цветок. Выдох плавный со звуком «пфф», при этом нужно втягивать живот. Вдох короткий, выдох долгий.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лассическое упражнение. Нужно вдохнуть и на выдохе, на «одном» дыхании проговорить длинную фразу. Например,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 лукоморья дуб зеленый;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латая цепь на дубе том: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днем и ночью кот ученый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ё ходит по цепи круг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2714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Упражнения для артикуляции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ртикуля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овокупность работ отдельных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носительных органов при образовании звуков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 лучше развита артикуляция и артикуляционный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парат, тем внятнее и чётче речь человек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9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говорите негромко, но чётко артикулируя каждый звук в такой последовательности: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endParaRPr b="0" lang="ru-RU" sz="66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imes New Roman"/>
              </a:rPr>
              <a:t>А    О    У   Э   Ы   И</a:t>
            </a:r>
            <a:endParaRPr b="0" lang="ru-RU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r"/>
    <p:sndAc>
      <p:stSnd>
        <p:snd r:embed="rId1" name="audio1.wav"/>
      </p:stSnd>
    </p:sndAc>
  </p:transition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141</TotalTime>
  <Application>LibreOffice/7.4.7.2$Linux_X86_64 LibreOffice_project/40$Build-2</Application>
  <AppVersion>15.0000</AppVersion>
  <Words>693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4T10:25:40Z</dcterms:created>
  <dc:creator>kores</dc:creator>
  <dc:description/>
  <dc:language>en-US</dc:language>
  <cp:lastModifiedBy>kokain3331@gmail.com</cp:lastModifiedBy>
  <dcterms:modified xsi:type="dcterms:W3CDTF">2020-11-18T21:14:09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