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DFD-B1A1-4612-8D24-CD787D9A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19C-8A1E-415E-9CCD-DE097F64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1B5-BCAE-479F-A6EC-6B4B290D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153E-3321-432D-A7AB-BFE75312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165-E885-44AC-A65F-2128E8B6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664-963E-438C-92F9-90396E51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C3A-7BBD-49D3-BD61-286FD76A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1CA-CC32-4FFB-9F3D-350C26F0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D33-A8EF-4B8D-BAAE-21334E5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DB8-29B7-42A5-A342-7753BE9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E7E-55BD-4513-8755-A9B9499C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F02-74F6-477F-AC6F-6FF8FD2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08ED-A5A0-47AB-ADDB-3BA4FF5D1F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e5ffff"/>
                </a:solidFill>
                <a:latin typeface="Tahoma"/>
              </a:rPr>
              <a:t>Техника речи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пражнения для развития резонаторного звучания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8" descr="Skan_05"/>
          <p:cNvPicPr/>
          <p:nvPr/>
        </p:nvPicPr>
        <p:blipFill>
          <a:blip r:embed="rId1"/>
          <a:stretch/>
        </p:blipFill>
        <p:spPr>
          <a:xfrm>
            <a:off x="1908000" y="1197000"/>
            <a:ext cx="2151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392200" y="58928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759120" y="59641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835280" y="5156280"/>
            <a:ext cx="576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нцип упражнения: от «раскрытых губ к сомкнутым губам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кройте тубы, как бы беззвучно артикулируя гласный «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мкните тубы со звуком «М». Почувствуйте на губах вибрац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фиксируйте это ощущ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ИМАНИЕ: Звук возникает только в момент смыкания губ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могайте себе движением ру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10" descr="Skan_06"/>
          <p:cNvPicPr/>
          <p:nvPr/>
        </p:nvPicPr>
        <p:blipFill>
          <a:blip r:embed="rId2"/>
          <a:stretch/>
        </p:blipFill>
        <p:spPr>
          <a:xfrm>
            <a:off x="5118120" y="1197000"/>
            <a:ext cx="211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Skan_07"/>
          <p:cNvPicPr/>
          <p:nvPr/>
        </p:nvPicPr>
        <p:blipFill>
          <a:blip r:embed="rId1"/>
          <a:stretch/>
        </p:blipFill>
        <p:spPr>
          <a:xfrm>
            <a:off x="1547640" y="1220760"/>
            <a:ext cx="247824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пражнения для развития резонаторного звучания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92200" y="58928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759120" y="59641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476360" y="5222880"/>
            <a:ext cx="612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анное упражнение является продолжением предыдущег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тяните руку или обе руки вперёд, и представьте, что вы «взяли» звук «М», начните звучать, тяните звук на себя вместе со звуча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ИМАНИЕ: Звучание должно быть плавным и протяжны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4" descr="Skan_08"/>
          <p:cNvPicPr/>
          <p:nvPr/>
        </p:nvPicPr>
        <p:blipFill>
          <a:blip r:embed="rId2"/>
          <a:stretch/>
        </p:blipFill>
        <p:spPr>
          <a:xfrm>
            <a:off x="5219640" y="1220760"/>
            <a:ext cx="2236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балансированное дыхание, точная установка звуков, наработка дикционных и голосовых навыков, владение нормами произношения – вот те знания, которые предполагает техника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зделы техники ре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к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ткость, ясность произно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фоэпия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орм национального языка, обеспечивающих качество его звукового оформ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л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икц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иды дикционных недостатков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ческие нарушения (дефекты артикуляционного аппара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ункциональные нарушения (вялая артикуляция; искажение, отсутствие, замены звуков; слабое дых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рфоэп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ношение гласных зву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ношение согласных зву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весное уда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верь себя - расставь удар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год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рф, шарф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остро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нут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орожен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ог, творог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я, асимметри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у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ол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спансе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инари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орожд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фли, туфл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номен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сегдата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почк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люз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ер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и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лер, экл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рев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х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40384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д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рф, ш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ф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ос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нут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орож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, творог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, асимме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спанс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35640" y="692280"/>
            <a:ext cx="32464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орож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фли, 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л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н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сег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п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к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люз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, эк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лассификация типов дыха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удное дых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ри котором вдох происходит за счет поднятия верхней и средней части грудной кле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рюшное дых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ри котором дыхательные движения совершаются в нижних отделах грудной кле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мешанно - диафрагматическое, или полное, дыхание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блюдается в жизни у здоровых людей с хорошей осан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Skan_02"/>
          <p:cNvPicPr/>
          <p:nvPr/>
        </p:nvPicPr>
        <p:blipFill>
          <a:blip r:embed="rId1"/>
          <a:stretch/>
        </p:blipFill>
        <p:spPr>
          <a:xfrm>
            <a:off x="5057640" y="1270080"/>
            <a:ext cx="253872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Skan_01"/>
          <p:cNvPicPr/>
          <p:nvPr/>
        </p:nvPicPr>
        <p:blipFill>
          <a:blip r:embed="rId2"/>
          <a:stretch/>
        </p:blipFill>
        <p:spPr>
          <a:xfrm>
            <a:off x="1547640" y="1270080"/>
            <a:ext cx="251316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37600"/>
            <a:ext cx="83534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Одно из упражнений, развивающих носовое дыхание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2392200" y="58928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759120" y="59641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324000" y="5156280"/>
            <a:ext cx="871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счёт раз - закройте правую ноздрю пальцем правой руки - вдох; на счёт два - фиксируем положение (задержка дыхания), меняем руку; на счёт три - пальцем левой руки закройте левую ноздрю - выдо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ИМАНИЕ: Следите за тем, чтобы плечи не поднимались. Направьте внимание на крылья носа, которые должны активно работа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вторяйте упражнение 3-5 раз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7151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Голос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изиологические свойства голос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 зависит от напора выдыхаемого воздуха, силы смыкания и амплитуды голосовых склад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бр зависит от анатомического устройства речевого аппарата и умения пользоваться резона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та зависит от частоты колебания голосовых склад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пазон зависит от количества речевых то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3:48:36Z</dcterms:created>
  <dc:creator>Admin</dc:creator>
  <dc:description/>
  <dc:language>en-US</dc:language>
  <cp:lastModifiedBy>kokain3331@gmail.com</cp:lastModifiedBy>
  <dcterms:modified xsi:type="dcterms:W3CDTF">2020-11-18T21:06:43Z</dcterms:modified>
  <cp:revision>8</cp:revision>
  <dc:subject/>
  <dc:title>Слайд 1</dc:title>
</cp:coreProperties>
</file>