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82F0-56AF-4B45-8DF9-A07007B0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ABB1-5624-444F-BD64-59F5B817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5494-8AFA-4BC5-8A12-B12F971E6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4DA8-813B-4880-8CB6-129BF2EF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29EA-5512-4E5D-B675-BD4E62B9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63ED-3A61-4170-BABD-C1B97E2B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8110-5E9C-4ABA-B014-1B98608B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B15F-38B3-4C84-AE99-A4998136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0E20-42E0-4CC5-8E6C-611C7250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AE0F-DBF9-4093-97F6-5052409B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8D24-08D3-4253-BEB1-AA7A3D39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5CA5-C58C-4CED-92EE-56327D36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4CD4-E882-4B0C-A9BA-EC206127B25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r>
              <a:rPr b="0" lang="ru-RU" sz="8000" spc="-1" strike="noStrike">
                <a:solidFill>
                  <a:srgbClr val="e5ffff"/>
                </a:solidFill>
                <a:latin typeface="Tahoma"/>
              </a:rPr>
              <a:t>Техника речи</a:t>
            </a:r>
            <a:br>
              <a:rPr sz="8000"/>
            </a:br>
            <a:br>
              <a:rPr sz="8000"/>
            </a:br>
            <a:br>
              <a:rPr sz="8000"/>
            </a:b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Упражнения для развития резонаторного звучания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4" name="Picture 8" descr="Skan_05"/>
          <p:cNvPicPr/>
          <p:nvPr/>
        </p:nvPicPr>
        <p:blipFill>
          <a:blip r:embed="rId1"/>
          <a:stretch/>
        </p:blipFill>
        <p:spPr>
          <a:xfrm>
            <a:off x="1908000" y="1197000"/>
            <a:ext cx="2151360" cy="3816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2392200" y="5892840"/>
            <a:ext cx="563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759120" y="5964120"/>
            <a:ext cx="218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1835280" y="5156280"/>
            <a:ext cx="5761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инцип упражнения: от «раскрытых губ к сомкнутым губам»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аскройте тубы, как бы беззвучно артикулируя гласный «А»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омкните тубы со звуком «М». Почувствуйте на губах вибраци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Зафиксируйте это ощущение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НИМАНИЕ: Звук возникает только в момент смыкания губ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омогайте себе движением рук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10" descr="Skan_06"/>
          <p:cNvPicPr/>
          <p:nvPr/>
        </p:nvPicPr>
        <p:blipFill>
          <a:blip r:embed="rId2"/>
          <a:stretch/>
        </p:blipFill>
        <p:spPr>
          <a:xfrm>
            <a:off x="5118120" y="1197000"/>
            <a:ext cx="21178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8" descr="Skan_07"/>
          <p:cNvPicPr/>
          <p:nvPr/>
        </p:nvPicPr>
        <p:blipFill>
          <a:blip r:embed="rId1"/>
          <a:stretch/>
        </p:blipFill>
        <p:spPr>
          <a:xfrm>
            <a:off x="1547640" y="1220760"/>
            <a:ext cx="2478240" cy="38163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Упражнения для развития резонаторного звучания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392200" y="5892840"/>
            <a:ext cx="563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759120" y="5964120"/>
            <a:ext cx="218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476360" y="5222880"/>
            <a:ext cx="6120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Данное упражнение является продолжением предыдущего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ытяните руку или обе руки вперёд, и представьте, что вы «взяли» звук «М», начните звучать, тяните звук на себя вместе со звучание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НИМАНИЕ: Звучание должно быть плавным и протяжны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14" descr="Skan_08"/>
          <p:cNvPicPr/>
          <p:nvPr/>
        </p:nvPicPr>
        <p:blipFill>
          <a:blip r:embed="rId2"/>
          <a:stretch/>
        </p:blipFill>
        <p:spPr>
          <a:xfrm>
            <a:off x="5219640" y="1220760"/>
            <a:ext cx="22366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так, сбалансированное дыхание, точная установка звуков, наработка дикционных и голосовых навыков, владение нормами произношения – вот те знания, которые предполагает техника реч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азделы техники реч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икция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ткость, ясность произнош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фоэпия 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окупность норм национального языка, обеспечивающих качество его звукового оформ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ых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ло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Дикция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иды дикционных недостатков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ческие нарушения (дефекты артикуляционного аппарат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ункциональные нарушения (вялая артикуляция; искажение, отсутствие, замены звуков; слабое дыхани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рфоэп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изношение гласных зву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изношение согласных зву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ловесное удар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роверь себя - расставь ударе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годиц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арф, шарф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построф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гнуты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вороженны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ворог, творог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симметрия, асимметрии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дуг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долг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испансер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теринария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ворожден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уфли, туфле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еномен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всегдата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епочка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алюз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мер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вид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клер, экле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древл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ухон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4360" y="691920"/>
            <a:ext cx="4038480" cy="59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диц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арф, ш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ф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постр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нуты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ворож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ны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вор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, творог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симметр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, асимметр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д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д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г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испанс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терин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ия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35640" y="692280"/>
            <a:ext cx="32464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ворожд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уфли, т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ле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ен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н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всегд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еп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ка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алюз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м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в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кл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, экл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др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л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он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Дых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лассификация типов дыхания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рудное дыхани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при котором вдох происходит за счет поднятия верхней и средней части грудной клет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Брюшное дыхани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при котором дыхательные движения совершаются в нижних отделах грудной клет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мешанно - диафрагматическое, или полное, дыхание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наблюдается в жизни у здоровых людей с хорошей осанк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9" descr="Skan_02"/>
          <p:cNvPicPr/>
          <p:nvPr/>
        </p:nvPicPr>
        <p:blipFill>
          <a:blip r:embed="rId1"/>
          <a:stretch/>
        </p:blipFill>
        <p:spPr>
          <a:xfrm>
            <a:off x="5057640" y="1270080"/>
            <a:ext cx="2538720" cy="3816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Skan_01"/>
          <p:cNvPicPr/>
          <p:nvPr/>
        </p:nvPicPr>
        <p:blipFill>
          <a:blip r:embed="rId2"/>
          <a:stretch/>
        </p:blipFill>
        <p:spPr>
          <a:xfrm>
            <a:off x="1547640" y="1270080"/>
            <a:ext cx="2513160" cy="3816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237600"/>
            <a:ext cx="835344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Одно из упражнений, развивающих носовое дыхание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2392200" y="5892840"/>
            <a:ext cx="563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3759120" y="5964120"/>
            <a:ext cx="218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20"/>
          <p:cNvSpPr/>
          <p:nvPr/>
        </p:nvSpPr>
        <p:spPr>
          <a:xfrm>
            <a:off x="324000" y="5156280"/>
            <a:ext cx="8712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 счёт раз - закройте правую ноздрю пальцем правой руки - вдох; на счёт два - фиксируем положение (задержка дыхания), меняем руку; на счёт три - пальцем левой руки закройте левую ноздрю - выдох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НИМАНИЕ: Следите за тем, чтобы плечи не поднимались. Направьте внимание на крылья носа, которые должны активно работать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овторяйте упражнение 3-5 раз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7151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ffff"/>
                </a:solidFill>
                <a:latin typeface="Tahoma"/>
              </a:rPr>
              <a:t>Голос 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Физиологические свойства голоса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ла зависит от напора выдыхаемого воздуха, силы смыкания и амплитуды голосовых склад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мбр зависит от анатомического устройства речевого аппарата и умения пользоваться резонатор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сота зависит от частоты колебания голосовых склад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апазон зависит от количества речевых тон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3T13:48:36Z</dcterms:created>
  <dc:creator>Admin</dc:creator>
  <dc:description/>
  <dc:language>en-US</dc:language>
  <cp:lastModifiedBy>kokain3331@gmail.com</cp:lastModifiedBy>
  <dcterms:modified xsi:type="dcterms:W3CDTF">2020-11-18T21:06:43Z</dcterms:modified>
  <cp:revision>8</cp:revision>
  <dc:subject/>
  <dc:title>Слайд 1</dc:title>
</cp:coreProperties>
</file>