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658-2AED-42CC-B126-91D7C6B7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F28B-BAE4-4213-A3D9-E0D31320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0AF-8DC7-428B-9757-F5A5FA6D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1E8-8E57-4CAA-A9BD-01ED9DC8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9D66-FDA8-4E47-9BAF-002AEDBE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0DC-687F-40E5-8FB7-605E7584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0C0-693C-469A-B281-7015B718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152-4F92-4ED9-A7D0-1DBE482E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1E9-B183-411E-8E26-38CA297B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47C8-533C-49A5-B864-B472F8D7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2044-8CC7-402A-8768-8BD7819B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8A53-4548-4CBC-A3AD-BF959F3A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CCD3-0633-4987-9896-3AB0E747AE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1285920" y="64296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143000" y="642960"/>
            <a:ext cx="721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Колыванская средняя общеобразовательная школа № 1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428840" y="2857680"/>
            <a:ext cx="692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нировочные упражнения на закрепление темы «Причастный оборо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к русского языка  в 7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https://www.culture.ru/storage/images/8176c31ac62464b7abae651764dff3fe/0cf64eb6a9d70d695273085afeeac97d.jpg"/>
          <p:cNvPicPr/>
          <p:nvPr/>
        </p:nvPicPr>
        <p:blipFill>
          <a:blip r:embed="rId1"/>
          <a:stretch/>
        </p:blipFill>
        <p:spPr>
          <a:xfrm>
            <a:off x="6429240" y="4226040"/>
            <a:ext cx="1890720" cy="1774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Наташа\Desktop\фото\DQ5A0246.jpg"/>
          <p:cNvPicPr/>
          <p:nvPr/>
        </p:nvPicPr>
        <p:blipFill>
          <a:blip r:embed="rId2"/>
          <a:stretch/>
        </p:blipFill>
        <p:spPr>
          <a:xfrm>
            <a:off x="1428840" y="1428840"/>
            <a:ext cx="178596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s://i.pinimg.com/originals/97/d7/82/97d78226764cf1c7f1e809c4cb50ab2d.png"/>
          <p:cNvPicPr/>
          <p:nvPr/>
        </p:nvPicPr>
        <p:blipFill>
          <a:blip r:embed="rId3"/>
          <a:stretch/>
        </p:blipFill>
        <p:spPr>
          <a:xfrm>
            <a:off x="5643720" y="1214280"/>
            <a:ext cx="2357280" cy="1643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s://img2.freepng.ru/20180612/ti/kisspng-glasswing-butterfly-clip-art-buterfly-5b1ff1a62b3595.515352961528820134177.jpg"/>
          <p:cNvPicPr/>
          <p:nvPr/>
        </p:nvPicPr>
        <p:blipFill>
          <a:blip r:embed="rId4"/>
          <a:stretch/>
        </p:blipFill>
        <p:spPr>
          <a:xfrm>
            <a:off x="3286080" y="4572000"/>
            <a:ext cx="12146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дания для закрепл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пишите предложения в тетрадь, расставьте запятые и графически укажите причастный оборот, пользуясь правилом обособлением причастного оборота (предыдущий слай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Борющиеся с волнами пловцы развевающиеся на ветру знамена стелющееся по земле раст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На улице шел дождь сопровождающийся раскатами гро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На дереве сидела ворона громко каркающая куда-то в сторон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В небо поднимался самолет улетающий в другую стран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На сцене находился мужчина исполняющий веселую песн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Он слушал музыку доносящуюся из радиоприемн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Снаружи моросил дождь сопровождающийся небольшими раскатами гро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Стрелка вправо 3"/>
          <p:cNvSpPr/>
          <p:nvPr/>
        </p:nvSpPr>
        <p:spPr>
          <a:xfrm>
            <a:off x="6072120" y="5072040"/>
            <a:ext cx="1857600" cy="71424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Задания для закрепл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Запишите предложения в тетрадь, расставьте запятые и графически укажите причастный оборот, пользуясь правилом обособлением причастного оборота (предыдущий слай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Лодка подплывающая к берегу была полна люд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. Цветок растущий на клумбе вдруг завя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. Пруд заросший камышами был живописе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1. Мальчик решивший задачу получил хорошую отметк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2.Стол сломанный вечером уже отремонтировал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3.Студенты приехавшие в лагерь спешат к рек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4.Я узнал мальчика несущегося мне навстречу на велосипед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1714680" y="64296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428840" y="15717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всё поня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есть над чем подум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меня есть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s://avatars.mds.yandex.net/get-zen_doc/1881575/pub_5cf8cde3253cb300aec639f8_5cf8cdfde77f2e00b01cc453/scale_1200"/>
          <p:cNvPicPr/>
          <p:nvPr/>
        </p:nvPicPr>
        <p:blipFill>
          <a:blip r:embed="rId1"/>
          <a:stretch/>
        </p:blipFill>
        <p:spPr>
          <a:xfrm>
            <a:off x="5786280" y="1285920"/>
            <a:ext cx="1292400" cy="1292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2.bp.blogspot.com/-qFj9N4xMIZo/VgpUUyjjFkI/AAAAAAAALnI/XCn5b1Wq7XU/s1600/thinking_smiley.jpg"/>
          <p:cNvPicPr/>
          <p:nvPr/>
        </p:nvPicPr>
        <p:blipFill>
          <a:blip r:embed="rId2"/>
          <a:stretch/>
        </p:blipFill>
        <p:spPr>
          <a:xfrm>
            <a:off x="5715000" y="2786040"/>
            <a:ext cx="1330200" cy="134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s://klike.net/uploads/posts/2019-09/1568622566_17.jpg"/>
          <p:cNvPicPr/>
          <p:nvPr/>
        </p:nvPicPr>
        <p:blipFill>
          <a:blip r:embed="rId3"/>
          <a:stretch/>
        </p:blipFill>
        <p:spPr>
          <a:xfrm>
            <a:off x="5715000" y="4500720"/>
            <a:ext cx="1422360" cy="1396800"/>
          </a:xfrm>
          <a:prstGeom prst="rect">
            <a:avLst/>
          </a:prstGeom>
          <a:ln w="0">
            <a:noFill/>
          </a:ln>
        </p:spPr>
      </p:pic>
      <p:sp>
        <p:nvSpPr>
          <p:cNvPr id="77" name="TextBox 6"/>
          <p:cNvSpPr/>
          <p:nvPr/>
        </p:nvSpPr>
        <p:spPr>
          <a:xfrm>
            <a:off x="4214880" y="57168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МАЙЛИК НАРИСУЙТЕ НА ПОЛЯХ В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Наташа\Pictures\img17.jpg"/>
          <p:cNvPicPr/>
          <p:nvPr/>
        </p:nvPicPr>
        <p:blipFill>
          <a:blip r:embed="rId1"/>
          <a:stretch/>
        </p:blipFill>
        <p:spPr>
          <a:xfrm>
            <a:off x="1000080" y="214200"/>
            <a:ext cx="785808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Блиц-опрос: (устно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00080" y="1571400"/>
            <a:ext cx="76867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Что такое причасти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Как изменяются причасти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Какого вида и какого времени бывают причасти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Какова его синтаксическая роль в предложени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Как определяются гласные в падежных окончаниях причасти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Что такое причастный оборо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Что такое определяемое слово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Каким членом предложения является причастный оборо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. В каких случаях причастный оборот выделяется запятым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. Входит ли определяемое слово в причастный оборо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1714680" y="64296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Оценка вопр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428840" y="15717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ответили на 10 вопросов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ответили на  7-8 вопросов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ответили на 6-5 вопросов 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s://avatars.mds.yandex.net/get-zen_doc/1881575/pub_5cf8cde3253cb300aec639f8_5cf8cdfde77f2e00b01cc453/scale_1200"/>
          <p:cNvPicPr/>
          <p:nvPr/>
        </p:nvPicPr>
        <p:blipFill>
          <a:blip r:embed="rId1"/>
          <a:stretch/>
        </p:blipFill>
        <p:spPr>
          <a:xfrm>
            <a:off x="5786280" y="1285920"/>
            <a:ext cx="1292400" cy="1292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2.bp.blogspot.com/-qFj9N4xMIZo/VgpUUyjjFkI/AAAAAAAALnI/XCn5b1Wq7XU/s1600/thinking_smiley.jpg"/>
          <p:cNvPicPr/>
          <p:nvPr/>
        </p:nvPicPr>
        <p:blipFill>
          <a:blip r:embed="rId2"/>
          <a:stretch/>
        </p:blipFill>
        <p:spPr>
          <a:xfrm>
            <a:off x="5715000" y="2786040"/>
            <a:ext cx="1330200" cy="134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s://klike.net/uploads/posts/2019-09/1568622566_17.jpg"/>
          <p:cNvPicPr/>
          <p:nvPr/>
        </p:nvPicPr>
        <p:blipFill>
          <a:blip r:embed="rId3"/>
          <a:stretch/>
        </p:blipFill>
        <p:spPr>
          <a:xfrm>
            <a:off x="5715000" y="4500720"/>
            <a:ext cx="142236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71360" y="1714680"/>
            <a:ext cx="7615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епление знаний о причастном обороте, его роли в предложении; формирование практического умения выделять запятыми причастный оборо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торение: падежные окончания существительных, прилагательных, причастий; безударные гласные в корн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Записываем в тетради число.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Девятнадцатое ноя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6760" y="1600200"/>
            <a:ext cx="857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пишите в тетради словосочет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кажите главное слово, у причастий определите вид и 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  Исправленная рукопись        6. Поющий солов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Выброшенный мусор             7. Пришедший во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Приготовленный салат           8. Танцующий на ули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Обиженная девочка                9. Гонимый вет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Прочитанная книга                 10. Узнаваемый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пишите в тетрадь и вставьте пропущенные буквы в окончаниях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ышущ__ся пламя, искрящ__ся костёр, сидящ__ ученик, волнующ__ся море, о движущ__мся циклоне, колющ__мся шиповник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Каким правилом вы руководствовались при написании данных сло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s://thepresentation.ru/img/thumbs/18e72aec66b2b6b75ee64d2b2134d1d8-800x.jpg"/>
          <p:cNvPicPr/>
          <p:nvPr/>
        </p:nvPicPr>
        <p:blipFill>
          <a:blip r:embed="rId1"/>
          <a:stretch/>
        </p:blipFill>
        <p:spPr>
          <a:xfrm>
            <a:off x="1143000" y="571680"/>
            <a:ext cx="7215120" cy="4643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286000" y="78588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ПРАВ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Наташа\Pictures\hello_html_3a5f1b57.jpg"/>
          <p:cNvPicPr/>
          <p:nvPr/>
        </p:nvPicPr>
        <p:blipFill>
          <a:blip r:embed="rId1"/>
          <a:stretch/>
        </p:blipFill>
        <p:spPr>
          <a:xfrm>
            <a:off x="457200" y="285840"/>
            <a:ext cx="82296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1143000" y="285840"/>
            <a:ext cx="73580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Записываем в тетради предло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увидели искры, похожие на звёз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Users\Наташа\Pictures\img13.jpg"/>
          <p:cNvPicPr/>
          <p:nvPr/>
        </p:nvPicPr>
        <p:blipFill>
          <a:blip r:embed="rId1"/>
          <a:stretch/>
        </p:blipFill>
        <p:spPr>
          <a:xfrm>
            <a:off x="1214280" y="1285920"/>
            <a:ext cx="7072560" cy="4875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9"/>
          <p:cNvSpPr/>
          <p:nvPr/>
        </p:nvSpPr>
        <p:spPr>
          <a:xfrm>
            <a:off x="1500120" y="4857840"/>
            <a:ext cx="5786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Определяемое слово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-слово, от которого зависит причастие, от него задаётся вопро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частный оборот является одним членом предложением -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9T17:42:42Z</dcterms:created>
  <dc:creator>Елена</dc:creator>
  <dc:description/>
  <dc:language>en-US</dc:language>
  <cp:lastModifiedBy>Наташа</cp:lastModifiedBy>
  <dcterms:modified xsi:type="dcterms:W3CDTF">2020-11-18T14:54:45Z</dcterms:modified>
  <cp:revision>54</cp:revision>
  <dc:subject/>
  <dc:title>Название презентации</dc:title>
</cp:coreProperties>
</file>