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489-7A16-41E6-BBC0-EBDB3438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6B5-F64C-4EA3-85C0-B39F5078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A6F-9CA1-44BB-B5BB-C7E3503D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F5B-1D92-433A-ADE5-C6943F8C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40F-D018-4128-87DE-CBF2B972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F6B-B824-47D4-88B2-EA5AE97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7DA-3F4C-4901-8DC9-4CFBAD7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C84-C255-446B-A8D0-7276ABC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C9A-ABE9-48C1-B2F2-B11DDEC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2F8-A2D3-4D3D-B65D-F140CA05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7D3-C9BA-4FC0-9FD3-71A949E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F7A-F39F-4FA3-AE68-0112562D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A648-6AC8-4C96-B97B-228487DA77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285920" y="6429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143000" y="64296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Колыванская средняя общеобразовательная школа № 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28840" y="2857680"/>
            <a:ext cx="692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ровочные упражнения на закрепление темы «Причастный оборо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русского языка 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https://www.culture.ru/storage/images/8176c31ac62464b7abae651764dff3fe/0cf64eb6a9d70d695273085afeeac97d.jpg"/>
          <p:cNvPicPr/>
          <p:nvPr/>
        </p:nvPicPr>
        <p:blipFill>
          <a:blip r:embed="rId1"/>
          <a:stretch/>
        </p:blipFill>
        <p:spPr>
          <a:xfrm>
            <a:off x="6429240" y="4226040"/>
            <a:ext cx="1890720" cy="1774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Наташа\Desktop\фото\DQ5A0246.jpg"/>
          <p:cNvPicPr/>
          <p:nvPr/>
        </p:nvPicPr>
        <p:blipFill>
          <a:blip r:embed="rId2"/>
          <a:stretch/>
        </p:blipFill>
        <p:spPr>
          <a:xfrm>
            <a:off x="1428840" y="142884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s://i.pinimg.com/originals/97/d7/82/97d78226764cf1c7f1e809c4cb50ab2d.png"/>
          <p:cNvPicPr/>
          <p:nvPr/>
        </p:nvPicPr>
        <p:blipFill>
          <a:blip r:embed="rId3"/>
          <a:stretch/>
        </p:blipFill>
        <p:spPr>
          <a:xfrm>
            <a:off x="5643720" y="1214280"/>
            <a:ext cx="2357280" cy="1643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s://img2.freepng.ru/20180612/ti/kisspng-glasswing-butterfly-clip-art-buterfly-5b1ff1a62b3595.515352961528820134177.jpg"/>
          <p:cNvPicPr/>
          <p:nvPr/>
        </p:nvPicPr>
        <p:blipFill>
          <a:blip r:embed="rId4"/>
          <a:stretch/>
        </p:blipFill>
        <p:spPr>
          <a:xfrm>
            <a:off x="3286080" y="4572000"/>
            <a:ext cx="1214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дания для закрепл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апишите предложения в тетрадь, расставьте запятые и графически укажите причастный оборот, пользуясь правилом обособлением причастного оборота (предыдущий слай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Борющиеся с волнами пловцы развевающиеся на ветру знамена стелющееся по земле раст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 улице шел дождь сопровождающийся раскатами гр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а дереве сидела ворона громко каркающая куда-то в сторо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 небо поднимался самолет улетающий в другую стран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На сцене находился мужчина исполняющий веселую песн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Он слушал музыку доносящуюся из радиоприем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Снаружи моросил дождь сопровождающийся небольшими раскатами гр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право 3"/>
          <p:cNvSpPr/>
          <p:nvPr/>
        </p:nvSpPr>
        <p:spPr>
          <a:xfrm>
            <a:off x="6072120" y="5072040"/>
            <a:ext cx="1857600" cy="71424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дания для закрепл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апишите предложения в тетрадь, расставьте запятые и графически укажите причастный оборот, пользуясь правилом обособлением причастного оборота (предыдущий слай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Лодка подплывающая к берегу была полна люд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Цветок растущий на клумбе вдруг завя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Пруд заросший камышами был живопис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Мальчик решивший задачу получил хорошую отметк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2.Стол сломанный вечером уже отремонтирова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Студенты приехавшие в лагерь спешат к ре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Я узнал мальчика несущегося мне навстречу на велосипе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1714680" y="6429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428840" y="15717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всё пон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есть над чем подум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меня ес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avatars.mds.yandex.net/get-zen_doc/1881575/pub_5cf8cde3253cb300aec639f8_5cf8cdfde77f2e00b01cc453/scale_1200"/>
          <p:cNvPicPr/>
          <p:nvPr/>
        </p:nvPicPr>
        <p:blipFill>
          <a:blip r:embed="rId1"/>
          <a:stretch/>
        </p:blipFill>
        <p:spPr>
          <a:xfrm>
            <a:off x="5786280" y="1285920"/>
            <a:ext cx="1292400" cy="129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2.bp.blogspot.com/-qFj9N4xMIZo/VgpUUyjjFkI/AAAAAAAALnI/XCn5b1Wq7XU/s1600/thinking_smiley.jpg"/>
          <p:cNvPicPr/>
          <p:nvPr/>
        </p:nvPicPr>
        <p:blipFill>
          <a:blip r:embed="rId2"/>
          <a:stretch/>
        </p:blipFill>
        <p:spPr>
          <a:xfrm>
            <a:off x="5715000" y="2786040"/>
            <a:ext cx="1330200" cy="13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s://klike.net/uploads/posts/2019-09/1568622566_17.jpg"/>
          <p:cNvPicPr/>
          <p:nvPr/>
        </p:nvPicPr>
        <p:blipFill>
          <a:blip r:embed="rId3"/>
          <a:stretch/>
        </p:blipFill>
        <p:spPr>
          <a:xfrm>
            <a:off x="5715000" y="4500720"/>
            <a:ext cx="1422360" cy="1396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4214880" y="571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МАЙЛИК НАРИСУЙТЕ НА ПОЛЯХ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Наташа\Pictures\img17.jpg"/>
          <p:cNvPicPr/>
          <p:nvPr/>
        </p:nvPicPr>
        <p:blipFill>
          <a:blip r:embed="rId1"/>
          <a:stretch/>
        </p:blipFill>
        <p:spPr>
          <a:xfrm>
            <a:off x="1000080" y="214200"/>
            <a:ext cx="78580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Блиц-опрос: (устн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00080" y="1571400"/>
            <a:ext cx="768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Что такое причаст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Как изменяются причаст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акого вида и какого времени бывают причаст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Какова его синтаксическая роль в предложен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ак определяются гласные в падежных окончаниях причасти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Что такое причастный оборо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Что такое определяемое слов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Каким членом предложения является причастный оборо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 В каких случаях причастный оборот выделяется запятым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Входит ли определяемое слово в причастный оборо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1714680" y="64296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Оценка во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428840" y="15717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ответили на 10 вопросов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ответили на  7-8 вопрос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ответили на 6-5 вопросов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avatars.mds.yandex.net/get-zen_doc/1881575/pub_5cf8cde3253cb300aec639f8_5cf8cdfde77f2e00b01cc453/scale_1200"/>
          <p:cNvPicPr/>
          <p:nvPr/>
        </p:nvPicPr>
        <p:blipFill>
          <a:blip r:embed="rId1"/>
          <a:stretch/>
        </p:blipFill>
        <p:spPr>
          <a:xfrm>
            <a:off x="5786280" y="1285920"/>
            <a:ext cx="1292400" cy="129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2.bp.blogspot.com/-qFj9N4xMIZo/VgpUUyjjFkI/AAAAAAAALnI/XCn5b1Wq7XU/s1600/thinking_smiley.jpg"/>
          <p:cNvPicPr/>
          <p:nvPr/>
        </p:nvPicPr>
        <p:blipFill>
          <a:blip r:embed="rId2"/>
          <a:stretch/>
        </p:blipFill>
        <p:spPr>
          <a:xfrm>
            <a:off x="5715000" y="2786040"/>
            <a:ext cx="1330200" cy="13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s://klike.net/uploads/posts/2019-09/1568622566_17.jpg"/>
          <p:cNvPicPr/>
          <p:nvPr/>
        </p:nvPicPr>
        <p:blipFill>
          <a:blip r:embed="rId3"/>
          <a:stretch/>
        </p:blipFill>
        <p:spPr>
          <a:xfrm>
            <a:off x="5715000" y="4500720"/>
            <a:ext cx="14223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1360" y="1714680"/>
            <a:ext cx="7615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ление знаний о причастном обороте, его роли в предложении; формирование практического умения выделять запятыми причастный оборо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ение: падежные окончания существительных, прилагательных, причастий; безударные гласные в кор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Записываем в тетради число.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Девятнадцатое но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пишите в тетради словосочет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кажите главное слово, у причастий определите вид и 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  Исправленная рукопись        6. Поющий 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брошенный мусор             7. Пришедший во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Приготовленный салат           8. Танцующий на ул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Обиженная девочка                9. Гонимый в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Прочитанная книга                 10. Узнаваемый челов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ишите в тетрадь и вставьте пропущенные буквы в окончаниях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ышущ__ся пламя, искрящ__ся костёр, сидящ__ ученик, волнующ__ся море, о движущ__мся циклоне, колющ__мся шиповник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Каким правилом вы руководствовались при написании данных слов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s://thepresentation.ru/img/thumbs/18e72aec66b2b6b75ee64d2b2134d1d8-800x.jpg"/>
          <p:cNvPicPr/>
          <p:nvPr/>
        </p:nvPicPr>
        <p:blipFill>
          <a:blip r:embed="rId1"/>
          <a:stretch/>
        </p:blipFill>
        <p:spPr>
          <a:xfrm>
            <a:off x="1143000" y="571680"/>
            <a:ext cx="7215120" cy="46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286000" y="7858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Наташа\Pictures\hello_html_3a5f1b57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143000" y="285840"/>
            <a:ext cx="73580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аписываем в тетради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увидели искры, похожие на звё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Наташа\Pictures\img13.jpg"/>
          <p:cNvPicPr/>
          <p:nvPr/>
        </p:nvPicPr>
        <p:blipFill>
          <a:blip r:embed="rId1"/>
          <a:stretch/>
        </p:blipFill>
        <p:spPr>
          <a:xfrm>
            <a:off x="1214280" y="1285920"/>
            <a:ext cx="7072560" cy="4875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1500120" y="4857840"/>
            <a:ext cx="578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ределяемое слов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слово, от которого зависит причастие, от него задаётся вопр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частный оборот является одним членом предложением -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7:42:42Z</dcterms:created>
  <dc:creator>Елена</dc:creator>
  <dc:description/>
  <dc:language>en-US</dc:language>
  <cp:lastModifiedBy>Наташа</cp:lastModifiedBy>
  <dcterms:modified xsi:type="dcterms:W3CDTF">2020-11-18T14:54:45Z</dcterms:modified>
  <cp:revision>54</cp:revision>
  <dc:subject/>
  <dc:title>Название презентации</dc:title>
</cp:coreProperties>
</file>