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078D-EC41-42B0-AF98-5958B94D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0657-2CDB-42AA-88D9-37E24DB2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1AA8-FD6A-4909-87CB-04A3F903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339C-07EB-4253-BED6-810A5446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8F05-9959-4D6B-A6FC-180D8054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AEAC-BD76-4A54-A311-9500B51F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C1F1-7B2F-4405-8807-A4B05013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6A16-26F2-4AA2-BD0F-6C4EB56E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F2DF-ACA9-4138-94A5-B7DEC22E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FDF1-2BDC-45AE-B37B-07194B29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B386-AA4B-42B1-846A-99FCFDB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39B9-4BBB-4169-9799-8D15A6B0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FBC8-8494-478A-A534-4DB3BC19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8970-37F0-4B77-B507-4C8C704C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D5CC-F352-4BF7-89FD-69736CF2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D926-E07A-4CEF-9DAB-AC3A715D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B5FA-71D7-4E6F-95A9-5F038FF3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B999-9A49-45B7-B502-0F2639C6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2648-620C-4336-8E5E-D54B1F97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65A6A-85D0-460D-87B5-59754404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3E020-79F0-414F-9FBE-EB38747B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6000-91ED-4560-86AB-30796280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4A85-0642-459C-9CCE-DF8D45EA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FB1F-F9D7-4B9C-A7BF-C3E12D3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5DE8-EC00-48A6-99DA-7E41ADB49B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D5E9-7FCA-4104-B9D6-0ABB6CBED2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oto-zverey.ru/kopytnye/kopytnye-1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foto-zverey.ru/1/kopytnye_38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macroclub.ru/gallery/showphoto.php/photo/100232/cat/517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macroclub.ru/gallery/showphoto.php/photo/100187/cat/517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dic.academic.ru/dic.nsf/ruwiki/399651" TargetMode="External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jpeg"/><Relationship Id="rId17" Type="http://schemas.openxmlformats.org/officeDocument/2006/relationships/hyperlink" Target="http://serena.ucoz.ru/_ph/2/2/749089816.jpg" TargetMode="External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8;&#1091;&#1089;&#1089;&#1082;&#1080;&#1077;%20&#1089;&#1082;&#1072;&#1079;&#1082;&#1080;%20&#1089;%20&#1091;&#1095;&#1072;&#1089;&#1090;&#1080;&#1077;&#1084;%20&#1074;&#1086;&#1083;&#1082;&#1072;&amp;noreask=1&amp;img_url=http%3A%2F%2Fwww.planetaskazok.ru%2Fimages%2Fstories%2Frussian%2Flisa_i_volk%2Fimg_04.jpg&amp;pos=17&amp;rpt=simage&amp;lr=2&amp;nojs=1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images.yandex.ru/yandsearch?text=&#1088;&#1091;&#1089;&#1089;&#1082;&#1080;&#1077;%20&#1089;&#1082;&#1072;&#1079;&#1082;&#1080;%20&#1089;%20&#1091;&#1095;&#1072;&#1089;&#1090;&#1080;&#1077;&#1084;%20&#1074;&#1086;&#1083;&#1082;&#1072;&amp;noreask=1&amp;img_url=http%3A%2F%2Fmedia-shoot.ru%2Fphoto-cinema%2Fpictures%2Fsmall%2F54vasnecov-ivan_carevich_na_serom_volke.jpg&amp;pos=10&amp;rpt=simage&amp;lr=2&amp;nojs=1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images.yandex.ru/yandsearch?text=&#1088;&#1091;&#1089;&#1089;&#1082;&#1080;&#1077;%20&#1089;&#1082;&#1072;&#1079;&#1082;&#1080;%20&#1089;%20&#1091;&#1095;&#1072;&#1089;&#1090;&#1080;&#1077;&#1084;%20&#1074;&#1086;&#1083;&#1082;&#1072;&amp;noreask=1&amp;img_url=http%3A%2F%2Fschool.xvatit.com%2Fimages%2F1%2F14%2F022-2-wolf-and-kids-color.jpeg&amp;pos=8&amp;rpt=simage&amp;lr=2&amp;nojs=1" TargetMode="External"/><Relationship Id="rId6" Type="http://schemas.openxmlformats.org/officeDocument/2006/relationships/image" Target="../media/image31.jpeg"/><Relationship Id="rId7" Type="http://schemas.openxmlformats.org/officeDocument/2006/relationships/hyperlink" Target="http://images.yandex.ru/yandsearch?text=&#1088;&#1091;&#1089;&#1089;&#1082;&#1080;&#1077;%20&#1089;&#1082;&#1072;&#1079;&#1082;&#1080;%20&#1089;%20&#1091;&#1095;&#1072;&#1089;&#1090;&#1080;&#1077;&#1084;%20&#1074;&#1086;&#1083;&#1082;&#1072;&amp;noreask=1&amp;img_url=http%3A%2F%2Fvyatmama.ru%2Fskazki%2F3.jpg&amp;pos=14&amp;rpt=simage&amp;lr=2&amp;nojs=1" TargetMode="External"/><Relationship Id="rId8" Type="http://schemas.openxmlformats.org/officeDocument/2006/relationships/image" Target="../media/image32.jpeg"/><Relationship Id="rId9" Type="http://schemas.openxmlformats.org/officeDocument/2006/relationships/hyperlink" Target="http://images.yandex.ru/yandsearch?text=&#1088;&#1091;&#1089;&#1089;&#1082;&#1080;&#1077;%20&#1089;&#1082;&#1072;&#1079;&#1082;&#1080;%20&#1089;%20&#1091;&#1095;&#1072;&#1089;&#1090;&#1080;&#1077;&#1084;%20&#1074;&#1086;&#1083;&#1082;&#1072;&amp;noreask=1&amp;img_url=http%3A%2F%2Fwww.modernlib.ru%2Fbooks%2Feposi_legendi_i_skazaniya%2Flisichkasestrichka_i_volk%2Fi_016.jpg&amp;pos=23&amp;rpt=simage&amp;lr=2&amp;nojs=1" TargetMode="External"/><Relationship Id="rId10" Type="http://schemas.openxmlformats.org/officeDocument/2006/relationships/image" Target="../media/image33.jpeg"/><Relationship Id="rId11" Type="http://schemas.openxmlformats.org/officeDocument/2006/relationships/hyperlink" Target="http://images.yandex.ru/yandsearch?text=&#1088;&#1091;&#1089;&#1089;&#1082;&#1080;&#1077;%20&#1089;&#1082;&#1072;&#1079;&#1082;&#1080;%20&#1089;%20&#1091;&#1095;&#1072;&#1089;&#1090;&#1080;&#1077;&#1084;%20&#1074;&#1086;&#1083;&#1082;&#1072;&amp;noreask=1&amp;img_url=http%3A%2F%2Fimg-fotki.yandex.ru%2Fget%2F3110%2Ftan-ber.d%2F0_831d_2168ffbe_L&amp;pos=29&amp;rpt=simage&amp;lr=2&amp;nojs=1" TargetMode="External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547056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ВОЛКИ-звери наших лесов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79280" y="501300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зентац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ставила Мурашова С.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5" descr="Анимации, анимашки Волки"/>
          <p:cNvPicPr/>
          <p:nvPr/>
        </p:nvPicPr>
        <p:blipFill>
          <a:blip r:embed="rId1"/>
          <a:stretch/>
        </p:blipFill>
        <p:spPr>
          <a:xfrm>
            <a:off x="6516720" y="4762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3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219986472_354428629[1]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69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4360" y="580536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514"/>
                </a:solidFill>
                <a:latin typeface="Arial Black"/>
              </a:rPr>
              <a:t>Волчица своих волчат носит, как кошка котят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file_1964"/>
          <p:cNvPicPr/>
          <p:nvPr/>
        </p:nvPicPr>
        <p:blipFill>
          <a:blip r:embed="rId1"/>
          <a:stretch/>
        </p:blipFill>
        <p:spPr>
          <a:xfrm>
            <a:off x="1547640" y="1341360"/>
            <a:ext cx="6058080" cy="453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684360" y="476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 Black"/>
              </a:rPr>
              <a:t>Как называют жилище волков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Коллаж с рыжим волком"/>
          <p:cNvPicPr/>
          <p:nvPr/>
        </p:nvPicPr>
        <p:blipFill>
          <a:blip r:embed="rId1"/>
          <a:stretch/>
        </p:blipFill>
        <p:spPr>
          <a:xfrm>
            <a:off x="1619280" y="476280"/>
            <a:ext cx="5257800" cy="424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971640" y="5616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514"/>
                </a:solidFill>
                <a:latin typeface="Arial Black"/>
              </a:rPr>
              <a:t>Волки особенно активны ночью? Почему? Чем же питаются волки?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козл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3333960" cy="2228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kopytnye_38_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260280"/>
            <a:ext cx="3097440" cy="216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IMG_7124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637000"/>
            <a:ext cx="1714680" cy="1209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083_resiz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08360" y="260280"/>
            <a:ext cx="1714680" cy="1095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kladka_yait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812000" y="2781360"/>
            <a:ext cx="1152720" cy="79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ANd9GcT64snyitgCmhVmWgwg7Nw5nIaMDj05LC--ye7k-XYwe3IfQfgqKA"/>
          <p:cNvPicPr/>
          <p:nvPr/>
        </p:nvPicPr>
        <p:blipFill>
          <a:blip r:embed="rId11"/>
          <a:stretch/>
        </p:blipFill>
        <p:spPr>
          <a:xfrm>
            <a:off x="5219640" y="4508640"/>
            <a:ext cx="1873440" cy="1441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ANd9GcRHgmTAwJTsq5OYEw_HwsNtSGElmo-LuLcDe0CwK0PRh-an36_F"/>
          <p:cNvPicPr/>
          <p:nvPr/>
        </p:nvPicPr>
        <p:blipFill>
          <a:blip r:embed="rId12"/>
          <a:stretch/>
        </p:blipFill>
        <p:spPr>
          <a:xfrm>
            <a:off x="324000" y="2421000"/>
            <a:ext cx="1944360" cy="172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ANd9GcQBAKq8FUnnehOEfnBAm_-35LjjvqmX3dHGBm-sqwrHf-rR2EqQ"/>
          <p:cNvPicPr/>
          <p:nvPr/>
        </p:nvPicPr>
        <p:blipFill>
          <a:blip r:embed="rId13"/>
          <a:stretch/>
        </p:blipFill>
        <p:spPr>
          <a:xfrm>
            <a:off x="179280" y="450864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ANd9GcS-Wiq_83KrLKevCMVBJFIVqsB3ajL8UGCWZ8RVd8TAJ4UnFS1Nlg"/>
          <p:cNvPicPr/>
          <p:nvPr/>
        </p:nvPicPr>
        <p:blipFill>
          <a:blip r:embed="rId14"/>
          <a:stretch/>
        </p:blipFill>
        <p:spPr>
          <a:xfrm>
            <a:off x="2556000" y="4581360"/>
            <a:ext cx="2314440" cy="198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3" descr="Домашняя птица. КУРЫ, УТКИ, ГУСИ, ИНДЮКИ"/>
          <p:cNvPicPr/>
          <p:nvPr/>
        </p:nvPicPr>
        <p:blipFill>
          <a:blip r:embed="rId15"/>
          <a:stretch/>
        </p:blipFill>
        <p:spPr>
          <a:xfrm>
            <a:off x="3780000" y="1844640"/>
            <a:ext cx="3671640" cy="25941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25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AutoShape 2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AutoShape 2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AutoShape 31"/>
          <p:cNvSpPr/>
          <p:nvPr/>
        </p:nvSpPr>
        <p:spPr>
          <a:xfrm>
            <a:off x="3348000" y="249228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0" name="Picture 33" descr="ANd9GcRG_RE8caWYWBzxFnIU-0SCzJgTAHX4uv1-KDTTxHHOTYaHq_JA"/>
          <p:cNvPicPr/>
          <p:nvPr/>
        </p:nvPicPr>
        <p:blipFill>
          <a:blip r:embed="rId16"/>
          <a:stretch/>
        </p:blipFill>
        <p:spPr>
          <a:xfrm>
            <a:off x="6524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5" descr="749089816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524720" y="3789360"/>
            <a:ext cx="1440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i?id=120632915-7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07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i?id=619090624-55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1052640"/>
            <a:ext cx="1485720" cy="1428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i?id=183191595-48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907920"/>
            <a:ext cx="2038320" cy="1428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i?id=555838078-14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2852640"/>
            <a:ext cx="1981440" cy="1428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i?id=359050433-31-72&amp;n=2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987640" y="270828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i?id=506156272-06-72&amp;n=2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148360" y="2997360"/>
            <a:ext cx="2047680" cy="1428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i?id=195854661-34-72&amp;n=21"/>
          <p:cNvPicPr/>
          <p:nvPr/>
        </p:nvPicPr>
        <p:blipFill>
          <a:blip r:embed="rId13"/>
          <a:stretch/>
        </p:blipFill>
        <p:spPr>
          <a:xfrm>
            <a:off x="6588000" y="49417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3" descr="i?id=515724190-66-72&amp;n=21"/>
          <p:cNvPicPr/>
          <p:nvPr/>
        </p:nvPicPr>
        <p:blipFill>
          <a:blip r:embed="rId14"/>
          <a:stretch/>
        </p:blipFill>
        <p:spPr>
          <a:xfrm>
            <a:off x="1116000" y="4581360"/>
            <a:ext cx="105732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ANd9GcTwG81GDXRfiqpLVWWuUPS10396TIgoosJp_ZKRJXqKbjV4AukaXA"/>
          <p:cNvPicPr/>
          <p:nvPr/>
        </p:nvPicPr>
        <p:blipFill>
          <a:blip r:embed="rId15"/>
          <a:stretch/>
        </p:blipFill>
        <p:spPr>
          <a:xfrm>
            <a:off x="3059280" y="4724280"/>
            <a:ext cx="2466720" cy="1847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6"/>
          <p:cNvSpPr/>
          <p:nvPr/>
        </p:nvSpPr>
        <p:spPr>
          <a:xfrm>
            <a:off x="519120" y="26028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спомни название некоторых сказок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-1136520" y="1440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3616200" y="1432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" name="Picture 6" descr="givotnye_zveri_zimoy_foto_04[1]"/>
          <p:cNvPicPr/>
          <p:nvPr/>
        </p:nvPicPr>
        <p:blipFill>
          <a:blip r:embed="rId1"/>
          <a:stretch/>
        </p:blipFill>
        <p:spPr>
          <a:xfrm>
            <a:off x="611280" y="189000"/>
            <a:ext cx="7632720" cy="5370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735120" y="5559480"/>
            <a:ext cx="80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514"/>
                </a:solidFill>
                <a:latin typeface="Arial Black"/>
              </a:rPr>
              <a:t>Серый волк –  хищное животное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924360" y="340200"/>
            <a:ext cx="496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                            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ерь стройного, пропорционального склада, мощный, с покатой спиной, высокой холкой, крепким и широким крупом. Шея короткая и толстая, голова сравнительно крупная, лоб широкий, морда короткая, ноги достаточно длинные. Шерсть грубая, на холке и по хребту - полоса более длинных и темных остевых или рыжеватым оттенком, на брюхе и ногах - светлее, переход от одного оттенка к другому постепенны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Picture 5" descr="Z-WOLF"/>
          <p:cNvPicPr/>
          <p:nvPr/>
        </p:nvPicPr>
        <p:blipFill>
          <a:blip r:embed="rId1"/>
          <a:stretch/>
        </p:blipFill>
        <p:spPr>
          <a:xfrm>
            <a:off x="179280" y="1341360"/>
            <a:ext cx="3384720" cy="3240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050920" y="170028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volk"/>
          <p:cNvPicPr/>
          <p:nvPr/>
        </p:nvPicPr>
        <p:blipFill>
          <a:blip r:embed="rId1"/>
          <a:stretch/>
        </p:blipFill>
        <p:spPr>
          <a:xfrm>
            <a:off x="611280" y="0"/>
            <a:ext cx="48956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580000" y="765000"/>
            <a:ext cx="35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равнение следа волка,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лисицы, корсака, енотовидной собаки, следы собак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givotnye_zveri_zimoy_foto_29[1]"/>
          <p:cNvPicPr/>
          <p:nvPr/>
        </p:nvPicPr>
        <p:blipFill>
          <a:blip r:embed="rId1"/>
          <a:stretch/>
        </p:blipFill>
        <p:spPr>
          <a:xfrm>
            <a:off x="1476360" y="404640"/>
            <a:ext cx="6264360" cy="45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250920" y="54738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514"/>
                </a:solidFill>
                <a:latin typeface="Arial Black"/>
              </a:rPr>
              <a:t>Волки живут стаями, чаще являются родственниками. Вожаком стаи является самый сильный и большой волк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8801280" y="3600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Волки"/>
          <p:cNvPicPr/>
          <p:nvPr/>
        </p:nvPicPr>
        <p:blipFill>
          <a:blip r:embed="rId1"/>
          <a:stretch/>
        </p:blipFill>
        <p:spPr>
          <a:xfrm>
            <a:off x="1547640" y="333360"/>
            <a:ext cx="6264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547640" y="53006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514"/>
                </a:solidFill>
                <a:latin typeface="Arial Black"/>
              </a:rPr>
              <a:t>Папа – волк, мама – волчица, а сыночек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008920" y="540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219986533_842137716[1]"/>
          <p:cNvPicPr/>
          <p:nvPr/>
        </p:nvPicPr>
        <p:blipFill>
          <a:blip r:embed="rId1"/>
          <a:stretch/>
        </p:blipFill>
        <p:spPr>
          <a:xfrm>
            <a:off x="2195640" y="260280"/>
            <a:ext cx="540072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818520" y="54975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514"/>
                </a:solidFill>
                <a:latin typeface="Arial Black"/>
              </a:rPr>
              <a:t>ВОЛЧОНОК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ANd9GcQAq4PhxB2bFXwUC9r5Y2621Nk-AnB9d5ZM-PDqveO4QwPduc0y"/>
          <p:cNvPicPr/>
          <p:nvPr/>
        </p:nvPicPr>
        <p:blipFill>
          <a:blip r:embed="rId1"/>
          <a:stretch/>
        </p:blipFill>
        <p:spPr>
          <a:xfrm>
            <a:off x="468360" y="476280"/>
            <a:ext cx="316872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ANd9GcR0ABBW7KWJhFZUcCLZO0rq-69eluo9K9sAhXmKmq02oPcQdCd7qg"/>
          <p:cNvPicPr/>
          <p:nvPr/>
        </p:nvPicPr>
        <p:blipFill>
          <a:blip r:embed="rId2"/>
          <a:stretch/>
        </p:blipFill>
        <p:spPr>
          <a:xfrm>
            <a:off x="4932360" y="476280"/>
            <a:ext cx="3240000" cy="2521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ANd9GcT4V6zo9G7BeLGnbhdmVanVAZiydB9e-NYiM8b4OwbttAzeUsRz"/>
          <p:cNvPicPr/>
          <p:nvPr/>
        </p:nvPicPr>
        <p:blipFill>
          <a:blip r:embed="rId3"/>
          <a:stretch/>
        </p:blipFill>
        <p:spPr>
          <a:xfrm>
            <a:off x="3203640" y="2565360"/>
            <a:ext cx="2448000" cy="201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ANd9GcQfW_lyp7PYfmF4Wj0TzA0bWn8876CunvuJH0cpRQnfa6NGKFyV3A"/>
          <p:cNvPicPr/>
          <p:nvPr/>
        </p:nvPicPr>
        <p:blipFill>
          <a:blip r:embed="rId4"/>
          <a:stretch/>
        </p:blipFill>
        <p:spPr>
          <a:xfrm>
            <a:off x="250920" y="4437000"/>
            <a:ext cx="3024000" cy="2059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ANd9GcTFE4vkuSxg7oDnXOGpHpR-zFpTFbUM0Nazy8QKUavIXUqSM8jWSw"/>
          <p:cNvPicPr/>
          <p:nvPr/>
        </p:nvPicPr>
        <p:blipFill>
          <a:blip r:embed="rId5"/>
          <a:stretch/>
        </p:blipFill>
        <p:spPr>
          <a:xfrm>
            <a:off x="5651640" y="4437000"/>
            <a:ext cx="2682720" cy="2063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3780000" y="5300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лчат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WordArt 15"/>
          <p:cNvSpPr txBox="1"/>
          <p:nvPr/>
        </p:nvSpPr>
        <p:spPr>
          <a:xfrm>
            <a:off x="3419640" y="4797360"/>
            <a:ext cx="1989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лч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5"/>
          <p:cNvSpPr/>
          <p:nvPr/>
        </p:nvSpPr>
        <p:spPr>
          <a:xfrm>
            <a:off x="4000680" y="3000240"/>
            <a:ext cx="1143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4000680" y="3000240"/>
            <a:ext cx="1143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8" name="Picture 9" descr="ANd9GcTKr25k3miyExbROgSqKhpRLGZGwKwfJgfqFZMX1nzIIN7IddoF"/>
          <p:cNvPicPr/>
          <p:nvPr/>
        </p:nvPicPr>
        <p:blipFill>
          <a:blip r:embed="rId1"/>
          <a:stretch/>
        </p:blipFill>
        <p:spPr>
          <a:xfrm>
            <a:off x="1403280" y="260280"/>
            <a:ext cx="6985080" cy="5040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1332000" y="5661000"/>
            <a:ext cx="712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514"/>
                </a:solidFill>
                <a:latin typeface="Arial Black"/>
              </a:rPr>
              <a:t>У здоровой волчицы рождается до 10 волчат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14:47:29Z</dcterms:created>
  <dc:creator>яшка2</dc:creator>
  <dc:description/>
  <dc:language>en-US</dc:language>
  <cp:lastModifiedBy>Acer</cp:lastModifiedBy>
  <dcterms:modified xsi:type="dcterms:W3CDTF">2020-11-18T17:53:03Z</dcterms:modified>
  <cp:revision>9</cp:revision>
  <dc:subject/>
  <dc:title>ВОЛКИ-звери наших лесов</dc:title>
</cp:coreProperties>
</file>