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2ADDE-1A10-448F-B230-20EEA9BA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219B-B359-4DB3-A160-AECEA3A9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EC10-C03B-4E71-AF5D-C6D5AFB6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FCB2-BEB0-4F17-A88C-90A4FA36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5352-60BB-44EA-8B71-D5C2E702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7AA7-4168-48D1-8AE1-9DBA52F8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9F6-8F3D-4E08-A81A-79E3487E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2F94-C434-4AD2-BD32-4F08ACF8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695-ADAA-4AE3-B7FF-8330A014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68B5-FDDC-41F4-A40B-C2C3183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3C8-C1A6-45B5-A82D-BB6EE23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DA6D-D478-485D-B97B-42602695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D24-6C92-4C41-BB15-D8FD3C2A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85CB-6E3F-4D6F-B812-2941D7A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6A02-7115-4A51-8D62-21EA211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7AB-3F41-4501-9160-6A5CFE19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2633-DE9D-4EDB-911C-AA51F943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A8A7-EE02-4C0B-9703-B285FB2E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410A-39F4-4715-B04F-232137EC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1AC5-2906-47B6-B8B7-B84CC6C2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55C6-6673-44F5-900F-DD77ADC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96C8-8A7D-4F9D-B60B-B143D5F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F7BF-F1C5-4B7A-B576-C7B13E8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F915-0B35-4D59-A7AD-49BAB4B7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2E5-729D-44B5-89FE-FC9EFC92CF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402-3751-4A3D-BE2F-9DFEFD2124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-zverey.ru/kopytnye/kopytnye-1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foto-zverey.ru/1/kopytnye_38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macroclub.ru/gallery/showphoto.php/photo/100232/cat/517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macroclub.ru/gallery/showphoto.php/photo/100187/cat/517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dic.academic.ru/dic.nsf/ruwiki/39965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hyperlink" Target="http://serena.ucoz.ru/_ph/2/2/749089816.jpg" TargetMode="External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www.planetaskazok.ru%2Fimages%2Fstories%2Frussian%2Flisa_i_volk%2Fimg_04.jpg&amp;pos=17&amp;rpt=simage&amp;lr=2&amp;nojs=1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media-shoot.ru%2Fphoto-cinema%2Fpictures%2Fsmall%2F54vasnecov-ivan_carevich_na_serom_volke.jpg&amp;pos=10&amp;rpt=simage&amp;lr=2&amp;nojs=1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school.xvatit.com%2Fimages%2F1%2F14%2F022-2-wolf-and-kids-color.jpeg&amp;pos=8&amp;rpt=simage&amp;lr=2&amp;nojs=1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vyatmama.ru%2Fskazki%2F3.jpg&amp;pos=14&amp;rpt=simage&amp;lr=2&amp;nojs=1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www.modernlib.ru%2Fbooks%2Feposi_legendi_i_skazaniya%2Flisichkasestrichka_i_volk%2Fi_016.jpg&amp;pos=23&amp;rpt=simage&amp;lr=2&amp;nojs=1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img-fotki.yandex.ru%2Fget%2F3110%2Ftan-ber.d%2F0_831d_2168ffbe_L&amp;pos=29&amp;rpt=simage&amp;lr=2&amp;nojs=1" TargetMode="External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547056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ВОЛКИ-звери наших лес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79280" y="501300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ила Мурашова С.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Анимации, анимашки Волки"/>
          <p:cNvPicPr/>
          <p:nvPr/>
        </p:nvPicPr>
        <p:blipFill>
          <a:blip r:embed="rId1"/>
          <a:stretch/>
        </p:blipFill>
        <p:spPr>
          <a:xfrm>
            <a:off x="6516720" y="476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219986472_354428629[1]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6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58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Волчица своих волчат носит, как кошка котят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file_1964"/>
          <p:cNvPicPr/>
          <p:nvPr/>
        </p:nvPicPr>
        <p:blipFill>
          <a:blip r:embed="rId1"/>
          <a:stretch/>
        </p:blipFill>
        <p:spPr>
          <a:xfrm>
            <a:off x="1547640" y="1341360"/>
            <a:ext cx="6058080" cy="453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68436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Как называют жилище волков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Коллаж с рыжим волком"/>
          <p:cNvPicPr/>
          <p:nvPr/>
        </p:nvPicPr>
        <p:blipFill>
          <a:blip r:embed="rId1"/>
          <a:stretch/>
        </p:blipFill>
        <p:spPr>
          <a:xfrm>
            <a:off x="1619280" y="476280"/>
            <a:ext cx="5257800" cy="424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971640" y="5616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Волки особенно активны ночью? Почему? Чем же питаются волки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козл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333960" cy="222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kopytnye_38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309744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7124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637000"/>
            <a:ext cx="171468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083_resiz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260280"/>
            <a:ext cx="1714680" cy="1095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kladka_yai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812000" y="278136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Nd9GcT64snyitgCmhVmWgwg7Nw5nIaMDj05LC--ye7k-XYwe3IfQfgqKA"/>
          <p:cNvPicPr/>
          <p:nvPr/>
        </p:nvPicPr>
        <p:blipFill>
          <a:blip r:embed="rId11"/>
          <a:stretch/>
        </p:blipFill>
        <p:spPr>
          <a:xfrm>
            <a:off x="5219640" y="4508640"/>
            <a:ext cx="1873440" cy="1441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ANd9GcRHgmTAwJTsq5OYEw_HwsNtSGElmo-LuLcDe0CwK0PRh-an36_F"/>
          <p:cNvPicPr/>
          <p:nvPr/>
        </p:nvPicPr>
        <p:blipFill>
          <a:blip r:embed="rId12"/>
          <a:stretch/>
        </p:blipFill>
        <p:spPr>
          <a:xfrm>
            <a:off x="324000" y="2421000"/>
            <a:ext cx="1944360" cy="172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ANd9GcQBAKq8FUnnehOEfnBAm_-35LjjvqmX3dHGBm-sqwrHf-rR2EqQ"/>
          <p:cNvPicPr/>
          <p:nvPr/>
        </p:nvPicPr>
        <p:blipFill>
          <a:blip r:embed="rId13"/>
          <a:stretch/>
        </p:blipFill>
        <p:spPr>
          <a:xfrm>
            <a:off x="179280" y="4508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ANd9GcS-Wiq_83KrLKevCMVBJFIVqsB3ajL8UGCWZ8RVd8TAJ4UnFS1Nlg"/>
          <p:cNvPicPr/>
          <p:nvPr/>
        </p:nvPicPr>
        <p:blipFill>
          <a:blip r:embed="rId14"/>
          <a:stretch/>
        </p:blipFill>
        <p:spPr>
          <a:xfrm>
            <a:off x="2556000" y="4581360"/>
            <a:ext cx="231444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Домашняя птица. КУРЫ, УТКИ, ГУСИ, ИНДЮКИ"/>
          <p:cNvPicPr/>
          <p:nvPr/>
        </p:nvPicPr>
        <p:blipFill>
          <a:blip r:embed="rId15"/>
          <a:stretch/>
        </p:blipFill>
        <p:spPr>
          <a:xfrm>
            <a:off x="3780000" y="1844640"/>
            <a:ext cx="3671640" cy="25941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5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AutoShape 31"/>
          <p:cNvSpPr/>
          <p:nvPr/>
        </p:nvSpPr>
        <p:spPr>
          <a:xfrm>
            <a:off x="3348000" y="24922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33" descr="ANd9GcRG_RE8caWYWBzxFnIU-0SCzJgTAHX4uv1-KDTTxHHOTYaHq_JA"/>
          <p:cNvPicPr/>
          <p:nvPr/>
        </p:nvPicPr>
        <p:blipFill>
          <a:blip r:embed="rId16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5" descr="749089816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524720" y="378936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i?id=120632915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?id=619090624-5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1052640"/>
            <a:ext cx="1485720" cy="1428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i?id=183191595-4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907920"/>
            <a:ext cx="203832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i?id=555838078-14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85264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i?id=359050433-31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87640" y="27082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i?id=506156272-06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48360" y="2997360"/>
            <a:ext cx="2047680" cy="142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i?id=195854661-34-72&amp;n=21"/>
          <p:cNvPicPr/>
          <p:nvPr/>
        </p:nvPicPr>
        <p:blipFill>
          <a:blip r:embed="rId13"/>
          <a:stretch/>
        </p:blipFill>
        <p:spPr>
          <a:xfrm>
            <a:off x="6588000" y="4941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i?id=515724190-66-72&amp;n=21"/>
          <p:cNvPicPr/>
          <p:nvPr/>
        </p:nvPicPr>
        <p:blipFill>
          <a:blip r:embed="rId14"/>
          <a:stretch/>
        </p:blipFill>
        <p:spPr>
          <a:xfrm>
            <a:off x="1116000" y="458136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ANd9GcTwG81GDXRfiqpLVWWuUPS10396TIgoosJp_ZKRJXqKbjV4AukaXA"/>
          <p:cNvPicPr/>
          <p:nvPr/>
        </p:nvPicPr>
        <p:blipFill>
          <a:blip r:embed="rId15"/>
          <a:stretch/>
        </p:blipFill>
        <p:spPr>
          <a:xfrm>
            <a:off x="3059280" y="4724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6"/>
          <p:cNvSpPr/>
          <p:nvPr/>
        </p:nvSpPr>
        <p:spPr>
          <a:xfrm>
            <a:off x="519120" y="26028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спомни название некоторых сказок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-1136520" y="144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61620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Picture 6" descr="givotnye_zveri_zimoy_foto_04[1]"/>
          <p:cNvPicPr/>
          <p:nvPr/>
        </p:nvPicPr>
        <p:blipFill>
          <a:blip r:embed="rId1"/>
          <a:stretch/>
        </p:blipFill>
        <p:spPr>
          <a:xfrm>
            <a:off x="611280" y="189000"/>
            <a:ext cx="7632720" cy="5370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735120" y="5559480"/>
            <a:ext cx="80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Серый волк –  хищное животно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24360" y="340200"/>
            <a:ext cx="496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                            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ь стройного, пропорционального склада, мощный, с покатой спиной, высокой холкой, крепким и широким крупом. Шея короткая и толстая, голова сравнительно крупная, лоб широкий, морда короткая, ноги достаточно длинные. Шерсть грубая, на холке и по хребту - полоса более длинных и темных остевых или рыжеватым оттенком, на брюхе и ногах - светлее, переход от одного оттенка к другому постепенны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5" descr="Z-WOLF"/>
          <p:cNvPicPr/>
          <p:nvPr/>
        </p:nvPicPr>
        <p:blipFill>
          <a:blip r:embed="rId1"/>
          <a:stretch/>
        </p:blipFill>
        <p:spPr>
          <a:xfrm>
            <a:off x="179280" y="134136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050920" y="1700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olk"/>
          <p:cNvPicPr/>
          <p:nvPr/>
        </p:nvPicPr>
        <p:blipFill>
          <a:blip r:embed="rId1"/>
          <a:stretch/>
        </p:blipFill>
        <p:spPr>
          <a:xfrm>
            <a:off x="611280" y="0"/>
            <a:ext cx="4895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580000" y="76500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равнение следа волка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лисицы, корсака, енотовидной собаки, следы собак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givotnye_zveri_zimoy_foto_29[1]"/>
          <p:cNvPicPr/>
          <p:nvPr/>
        </p:nvPicPr>
        <p:blipFill>
          <a:blip r:embed="rId1"/>
          <a:stretch/>
        </p:blipFill>
        <p:spPr>
          <a:xfrm>
            <a:off x="1476360" y="404640"/>
            <a:ext cx="6264360" cy="45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50920" y="5473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514"/>
                </a:solidFill>
                <a:latin typeface="Arial Black"/>
              </a:rPr>
              <a:t>Волки живут стаями, чаще являются родственниками. Вожаком стаи является самый сильный и большой волк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8801280" y="3600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Волки"/>
          <p:cNvPicPr/>
          <p:nvPr/>
        </p:nvPicPr>
        <p:blipFill>
          <a:blip r:embed="rId1"/>
          <a:stretch/>
        </p:blipFill>
        <p:spPr>
          <a:xfrm>
            <a:off x="1547640" y="333360"/>
            <a:ext cx="6264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547640" y="530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Arial Black"/>
              </a:rPr>
              <a:t>Папа – волк, мама – волчица, а сыночек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008920" y="54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219986533_842137716[1]"/>
          <p:cNvPicPr/>
          <p:nvPr/>
        </p:nvPicPr>
        <p:blipFill>
          <a:blip r:embed="rId1"/>
          <a:stretch/>
        </p:blipFill>
        <p:spPr>
          <a:xfrm>
            <a:off x="2195640" y="260280"/>
            <a:ext cx="54007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818520" y="5497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Arial Black"/>
              </a:rPr>
              <a:t>ВОЛЧОНО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QAq4PhxB2bFXwUC9r5Y2621Nk-AnB9d5ZM-PDqveO4QwPduc0y"/>
          <p:cNvPicPr/>
          <p:nvPr/>
        </p:nvPicPr>
        <p:blipFill>
          <a:blip r:embed="rId1"/>
          <a:stretch/>
        </p:blipFill>
        <p:spPr>
          <a:xfrm>
            <a:off x="468360" y="47628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ANd9GcR0ABBW7KWJhFZUcCLZO0rq-69eluo9K9sAhXmKmq02oPcQdCd7qg"/>
          <p:cNvPicPr/>
          <p:nvPr/>
        </p:nvPicPr>
        <p:blipFill>
          <a:blip r:embed="rId2"/>
          <a:stretch/>
        </p:blipFill>
        <p:spPr>
          <a:xfrm>
            <a:off x="4932360" y="47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ANd9GcT4V6zo9G7BeLGnbhdmVanVAZiydB9e-NYiM8b4OwbttAzeUsRz"/>
          <p:cNvPicPr/>
          <p:nvPr/>
        </p:nvPicPr>
        <p:blipFill>
          <a:blip r:embed="rId3"/>
          <a:stretch/>
        </p:blipFill>
        <p:spPr>
          <a:xfrm>
            <a:off x="3203640" y="256536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ANd9GcQfW_lyp7PYfmF4Wj0TzA0bWn8876CunvuJH0cpRQnfa6NGKFyV3A"/>
          <p:cNvPicPr/>
          <p:nvPr/>
        </p:nvPicPr>
        <p:blipFill>
          <a:blip r:embed="rId4"/>
          <a:stretch/>
        </p:blipFill>
        <p:spPr>
          <a:xfrm>
            <a:off x="250920" y="4437000"/>
            <a:ext cx="3024000" cy="205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ANd9GcTFE4vkuSxg7oDnXOGpHpR-zFpTFbUM0Nazy8QKUavIXUqSM8jWSw"/>
          <p:cNvPicPr/>
          <p:nvPr/>
        </p:nvPicPr>
        <p:blipFill>
          <a:blip r:embed="rId5"/>
          <a:stretch/>
        </p:blipFill>
        <p:spPr>
          <a:xfrm>
            <a:off x="5651640" y="4437000"/>
            <a:ext cx="2682720" cy="2063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780000" y="530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лча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3419640" y="4797360"/>
            <a:ext cx="1989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ч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5"/>
          <p:cNvSpPr/>
          <p:nvPr/>
        </p:nvSpPr>
        <p:spPr>
          <a:xfrm>
            <a:off x="4000680" y="300024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000680" y="300024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" name="Picture 9" descr="ANd9GcTKr25k3miyExbROgSqKhpRLGZGwKwfJgfqFZMX1nzIIN7IddoF"/>
          <p:cNvPicPr/>
          <p:nvPr/>
        </p:nvPicPr>
        <p:blipFill>
          <a:blip r:embed="rId1"/>
          <a:stretch/>
        </p:blipFill>
        <p:spPr>
          <a:xfrm>
            <a:off x="1403280" y="26028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332000" y="5661000"/>
            <a:ext cx="712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514"/>
                </a:solidFill>
                <a:latin typeface="Arial Black"/>
              </a:rPr>
              <a:t>У здоровой волчицы рождается до 10 волчат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4:47:29Z</dcterms:created>
  <dc:creator>яшка2</dc:creator>
  <dc:description/>
  <dc:language>en-US</dc:language>
  <cp:lastModifiedBy>Acer</cp:lastModifiedBy>
  <dcterms:modified xsi:type="dcterms:W3CDTF">2020-11-18T17:53:03Z</dcterms:modified>
  <cp:revision>9</cp:revision>
  <dc:subject/>
  <dc:title>ВОЛКИ-звери наших лесов</dc:title>
</cp:coreProperties>
</file>