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EF4A-931F-408D-807A-F3C50162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11F8-B714-4CAC-ACA3-B6133942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A37-4EB2-4225-9824-EC5BD14C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1A78-EDCD-407A-A0E0-DEEE78F7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53BB-3695-4D99-9CD7-A8DBF50A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EFBA-32F7-4873-9113-3A49B6D1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985D-7DFF-4B30-BEBB-A2AD6340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1DF1-C8F5-4464-B8BB-3AAE393E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AE54-46AE-4C30-95E8-66F6824B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8DD9-D3A9-4931-949A-146AE042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B6AE-EBDD-4330-9DEF-065C8F03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F72D-AF69-4B4A-8519-C67A4596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D99C-6827-459A-917C-58592E8F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FF04-8324-4683-9A69-FBA909CA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F30C-53EA-4115-8A84-87AE094F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B9D2-3ADC-4556-8F69-0C389C6B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9EB3-2910-4EF9-AE53-CE444B23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074F-A9A1-40C7-AD5A-8E1795AD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DE78-90F2-414D-84E4-D0AE7F90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3C9D-6E45-4EAB-89E1-A73DFFA8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0163-44DA-4EBD-A2FF-3BE1094D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A38B-AE29-4483-B635-EFCB1A95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5FA6-FDD9-4178-8F02-BDEAF6CD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BC7-FFF5-480C-BA3B-84F06515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1B8F-3B81-4801-96F2-493881B7C8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922E-B78B-4C8C-AD27-46B9016E3043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619280" y="1700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ahoma"/>
              </a:rPr>
              <a:t>Обучающая программа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«Я -  волонтер!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761184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 Unicode MS"/>
              </a:rPr>
              <a:t>Упражнение 3.  «Имя – качество»</a:t>
            </a:r>
            <a:br>
              <a:rPr sz="3200"/>
            </a:br>
            <a:br>
              <a:rPr sz="3200"/>
            </a:br>
            <a:r>
              <a:rPr b="0" lang="ru-RU" sz="40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 Unicode MS"/>
              </a:rPr>
              <a:t>(знакомство)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Более близкое знакомство участников друг с друго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Инструкция</a:t>
            </a: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Каждый участник придумывает какое-либо качество личности, свойство характера и т. д., начинающееся на ту же букву, что и имя (например: Лариса – любовь, Сергей – скромность), которое характеризует ег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9" descr="222393"/>
          <p:cNvPicPr/>
          <p:nvPr/>
        </p:nvPicPr>
        <p:blipFill>
          <a:blip r:embed="rId1"/>
          <a:stretch/>
        </p:blipFill>
        <p:spPr>
          <a:xfrm>
            <a:off x="4597560" y="4398840"/>
            <a:ext cx="4546440" cy="24591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92000" y="213840"/>
            <a:ext cx="5451480" cy="155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айте ответ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бята, вы, наверное, сталкивались с людьми, которые бросают мусор на улице, обижают животных, с презрением относятся к старикам, не Вспомните и назовите чувства, которые вы испытываете, сталкиваясь с такими людь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6" descr="9625bc3f6165db1bc2e6af250655a7b6"/>
          <p:cNvPicPr/>
          <p:nvPr/>
        </p:nvPicPr>
        <p:blipFill>
          <a:blip r:embed="rId2"/>
          <a:stretch/>
        </p:blipFill>
        <p:spPr>
          <a:xfrm>
            <a:off x="0" y="3860640"/>
            <a:ext cx="3092400" cy="198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homeless-1"/>
          <p:cNvPicPr/>
          <p:nvPr/>
        </p:nvPicPr>
        <p:blipFill>
          <a:blip r:embed="rId3"/>
          <a:stretch/>
        </p:blipFill>
        <p:spPr>
          <a:xfrm>
            <a:off x="2771640" y="4076640"/>
            <a:ext cx="3168720" cy="198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upl_1484244146_539"/>
          <p:cNvPicPr/>
          <p:nvPr/>
        </p:nvPicPr>
        <p:blipFill>
          <a:blip r:embed="rId4"/>
          <a:stretch/>
        </p:blipFill>
        <p:spPr>
          <a:xfrm>
            <a:off x="0" y="0"/>
            <a:ext cx="326232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2800" spc="-1" strike="noStrike">
                <a:solidFill>
                  <a:srgbClr val="cc0000"/>
                </a:solidFill>
                <a:latin typeface="Arial Unicode MS"/>
              </a:rPr>
              <a:t>Давайте вместе подумаем, что заставляет людей поступать подобным образом?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Задание: в малых группах по 3-5 человека ребята заполняют таблиц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заставляет подростков так поступа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они получают в результате своих действий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может сделать волонтер, чтобы повлиять на этих подростков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флексия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на какие вопросы в процессе работы было трудно отвеча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что нового узнали или осознали в процессе работ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что помогало, что мешало работе в группа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Разминка «Поменяйтесь местами те…»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ходе упражнения все участники группы сидят, а ведущий, стул которого убирается, стоя в круге, называет какой-либо признак, например: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«Поменяйтесь местами те, у кого карие глаза»,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в тот момент, когда участники меняются местами, занимает свободное место. </a:t>
            </a: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Меняться местами можно с любым участником, который не является твоим соседо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Упражнение 4.  «Расскажи про своего соседа»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Знакомство участников друг с другом, развитие внима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Инструкция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нимательно посмотрите на своего соседа справа и попробуйте догадаться, какой он в жизни (каким был в 5 лет, каким станет, когда ему будет 30 лет). Поделитесь своими предположениями.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нкетирование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 Unicode MS"/>
              </a:rPr>
              <a:t>Сейчас каждый из вас получит анкету, заполните ее и дайте ответы на несколько вопрос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 Unicode MS"/>
              </a:rPr>
              <a:t>Упражнение 5.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 Unicode MS"/>
              </a:rPr>
              <a:t>Упражнение «Моя эмблема, мой девиз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 Unicode MS"/>
              </a:rPr>
              <a:t>Деви́з</a:t>
            </a:r>
            <a:r>
              <a:rPr b="0" lang="ru-RU" sz="2400" spc="-1" strike="noStrike">
                <a:solidFill>
                  <a:srgbClr val="cc0000"/>
                </a:solidFill>
                <a:latin typeface="Arial Unicode MS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фр. devise) — слово или короткая фраза, определяющая поведение и устремления группы людей или организации. В геральдике гербовая фигура или изречение на гербе. Девиз может быть на любом языке, однако в западном мире используют в основном латинский язык. (Википедия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 Unicode MS"/>
              </a:rPr>
              <a:t>Эмблем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 (от др.-греч. ἔμβλημα «вставка») — условное изображение идеи в рисунке и пластике, которому присвоен тот или другой смысл. Эмблемы должны быть непременно ясны и просты, зритель должен в них видеть то, что ему хотели сказа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55964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 Unicode MS"/>
              </a:rPr>
              <a:t>Упражнение 5.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 Unicode MS"/>
              </a:rPr>
              <a:t>Упражнение «Моя эмблема, мой девиз»</a:t>
            </a:r>
            <a:r>
              <a:rPr b="1" lang="ru-RU" sz="4000" spc="-1" strike="noStrike">
                <a:solidFill>
                  <a:srgbClr val="333399"/>
                </a:solidFill>
                <a:latin typeface="Arial Unicode MS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лее близкое знакомство участников друг с другом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Инструкция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о сигналу ведущего каждый придумывает и рисует то, что может быть эмблемой и пишет ту фразу или слово, которое может служить его девизом. Фразы перед вами представлены на слайде, но можете придумать и сво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 должны рассказать о своей эмблеме и девизе присутствующи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70036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Варианты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6000" y="691920"/>
            <a:ext cx="37432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Место встречи изменить нельзя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Дорога начинается с первого шага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мелость — начало побед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Наш девиз: Не унывать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се пройти и все узнать!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Я….. — верный друг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могаю всем вокруг!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ореть, не тлеть и все уметь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елай что должен, и будь что буд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лыбнись миру и он улыбнётся теб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Я все смогу. Я все сумею!!! Переживу. Переболею. Перекантуюсь. Перебьюсь, Но своего всегда добьюсь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ОЯ ЖИЗНЬ-МОИ ПРАВИЛА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ождённые ползать, расступитесь!! Я взлетаю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"Великим человек может быть и благодаря своим чувствам, а не только уму!«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Живи-смотри вперёд и не поворачивайс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76360" y="0"/>
            <a:ext cx="3878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Что не происходит, все к лучшему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се или ничего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десь и сейчас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ороться и искать, найти и не сдавать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лыбнись – и тебе улыбнуться в ответ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ерпение и труд, все перетрут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ет ничего невозможного! Просто следуй за своей мечтой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Жить нужно так, чтобы депрессия была у других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Я все смогу. Я все сумею, Я не боюсь. Я не жале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"У меня есть Я, мы как-нибудь справимся«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"Душа сама создает свои горизонты«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ожешь лучше-делай сам!!!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е ждите чуда - чудите сами!!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аков орел-таковы и гор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е верь своим глазам, доверяй сердцу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Если иметь, то иметь иметь лучшее. Если быть, то быть первы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оишься не делай!!!! Сделал - не бойся..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40000" y="214200"/>
            <a:ext cx="6603840" cy="148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10 правил общения с людьм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лушать больше, чем говори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лгать самому и не заставлять лгать собеседни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умать, прежде чем сказа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высмеивать собеседни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перебивать, давая возможность высказать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збегать высокомерного, пренебрежительного поведения по отношению к собеседник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держиваться уверенного, но дружелюбного тон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важать точку зрения собеседни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зывать собеседника по имен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 встрече с любым человеком иметь хорошее, позитивное настро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4" descr="754840379740580"/>
          <p:cNvPicPr/>
          <p:nvPr/>
        </p:nvPicPr>
        <p:blipFill>
          <a:blip r:embed="rId1"/>
          <a:stretch/>
        </p:blipFill>
        <p:spPr>
          <a:xfrm>
            <a:off x="-181080" y="0"/>
            <a:ext cx="2521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Упражнение «Я никогда не...»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Формирование умения критически оценивать себя; повышение самооценк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Инструкция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Участники по очереди говорят фразу, начинающуюся со слов «Я никогда не...» (например, «Я никогда не прыгал с парашютом»). Остальные участники загибают по одному пальцу на руке, если для них утверждение не верно (т.е. они, например, прыгали с парашютом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разы должны соответствовать реальности, и пальцы загибать надо по-честному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827840" cy="141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 Unicode MS"/>
              </a:rPr>
              <a:t>Упражнение «Я возьму с собой в поход»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Развитие логики, внима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Инструкция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Каждый должен назвать свое имя и какой-то предмет, который он взял бы с собой в поход </a:t>
            </a: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(меня зовут ..., я возьму с собой ..., я пойду в поход?)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едущий должен сказать, берет ли он этого человека с собой или нет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Тот, кто догадается, почему ведущий не одного берет с собой в поход ,а другого нет, должен ранить молчание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аши правила общения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Правило поднятой ру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Правило равенст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Уваж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Я – высказываний, т.е. говорить от первого лиц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Говорить по очеред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Право на свое мн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Правило  быть креативны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img57503f797f9d7"/>
          <p:cNvPicPr/>
          <p:nvPr/>
        </p:nvPicPr>
        <p:blipFill>
          <a:blip r:embed="rId1"/>
          <a:stretch/>
        </p:blipFill>
        <p:spPr>
          <a:xfrm>
            <a:off x="2700360" y="4292640"/>
            <a:ext cx="4505400" cy="2792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7280" y="214200"/>
            <a:ext cx="775656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ь нашей программы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80550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ы с вами на практике освоим виды и формы волонтерской деятельности, для того, чтобы вы самостоятельно уже в своей школе смогли организовать школьное волонтерское движение, проводить различные акции, мероприятия, оказывать грамотно помощь и т.д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4" descr="d0e6a5668672b891e5638af7c70b5517"/>
          <p:cNvPicPr/>
          <p:nvPr/>
        </p:nvPicPr>
        <p:blipFill>
          <a:blip r:embed="rId2"/>
          <a:stretch/>
        </p:blipFill>
        <p:spPr>
          <a:xfrm rot="348600">
            <a:off x="-324000" y="4635360"/>
            <a:ext cx="3337200" cy="2222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DSC_7670"/>
          <p:cNvPicPr/>
          <p:nvPr/>
        </p:nvPicPr>
        <p:blipFill>
          <a:blip r:embed="rId3"/>
          <a:stretch/>
        </p:blipFill>
        <p:spPr>
          <a:xfrm rot="21028200">
            <a:off x="6516720" y="4581360"/>
            <a:ext cx="3048120" cy="20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1988640"/>
            <a:ext cx="76327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ша программа состоит из двух модуле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3141360"/>
            <a:ext cx="799128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Unicode MS"/>
              </a:rPr>
              <a:t>1 модуль</a:t>
            </a:r>
            <a:r>
              <a:rPr b="0" lang="ru-RU" sz="2800" spc="-1" strike="noStrike">
                <a:solidFill>
                  <a:srgbClr val="cc0000"/>
                </a:solidFill>
                <a:latin typeface="Arial Unicode MS"/>
              </a:rPr>
              <a:t> – </a:t>
            </a:r>
            <a:r>
              <a:rPr b="1" lang="ru-RU" sz="2800" spc="-1" strike="noStrike">
                <a:solidFill>
                  <a:srgbClr val="cc0000"/>
                </a:solidFill>
                <a:latin typeface="Arial Unicode MS"/>
              </a:rPr>
              <a:t>Основы волонтерского движ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десь мы познакомимся с сущностью, правовыми аспектами, историей становления и развития волонтерского движения. Изучим  основные понятия волонтерства,  как значимой социально-общественной деятельности, добровольчества и отличия содержания волонтерства от меценатства, благотворительности.   Особое внимание уделим формам и видам волонтерской деятельност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4" descr="BddwMtX7WCI"/>
          <p:cNvPicPr/>
          <p:nvPr/>
        </p:nvPicPr>
        <p:blipFill>
          <a:blip r:embed="rId1"/>
          <a:stretch/>
        </p:blipFill>
        <p:spPr>
          <a:xfrm>
            <a:off x="0" y="0"/>
            <a:ext cx="727380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 Unicode MS"/>
              </a:rPr>
              <a:t>2 модуль</a:t>
            </a:r>
            <a:r>
              <a:rPr b="0" lang="ru-RU" sz="3200" spc="-1" strike="noStrike">
                <a:solidFill>
                  <a:srgbClr val="cc0000"/>
                </a:solidFill>
                <a:latin typeface="Arial Unicode MS"/>
              </a:rPr>
              <a:t> – </a:t>
            </a:r>
            <a:r>
              <a:rPr b="1" lang="ru-RU" sz="3200" spc="-1" strike="noStrike">
                <a:solidFill>
                  <a:srgbClr val="cc0000"/>
                </a:solidFill>
                <a:latin typeface="Arial Unicode MS"/>
              </a:rPr>
              <a:t>Основы социального проектирования, игровая деятельность, социально-значимые дел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ной предметной областью данного модуля является освоение метода социального проектировани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5" descr="BddwMtX7WCI"/>
          <p:cNvPicPr/>
          <p:nvPr/>
        </p:nvPicPr>
        <p:blipFill>
          <a:blip r:embed="rId1"/>
          <a:stretch/>
        </p:blipFill>
        <p:spPr>
          <a:xfrm>
            <a:off x="0" y="0"/>
            <a:ext cx="76788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920" y="836280"/>
            <a:ext cx="723744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Наш ритуал – настрой на работу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8055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д тем как мы с вами начнём работу, я предлагаю вам придумать </a:t>
            </a:r>
            <a:r>
              <a:rPr b="0" lang="ru-RU" sz="2400" spc="-1" strike="noStrike">
                <a:solidFill>
                  <a:srgbClr val="cc0000"/>
                </a:solidFill>
                <a:latin typeface="Tahoma"/>
              </a:rPr>
              <a:t>особый ритуал, который будет известен только нам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ы будем проводить его в начале каждого занятия в знак приветствия друг друг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пример, можно использовать </a:t>
            </a:r>
            <a:r>
              <a:rPr b="0" lang="ru-RU" sz="2400" spc="-1" strike="noStrike">
                <a:solidFill>
                  <a:srgbClr val="cc0000"/>
                </a:solidFill>
                <a:latin typeface="Tahoma"/>
              </a:rPr>
              <a:t>Ритуал «Ладони»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выражение своей готовности и настроенности на работу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ahoma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Tahoma"/>
              </a:rPr>
              <a:t>открытые ладони – «Я готов работать»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ahoma"/>
              </a:rPr>
              <a:t>* скрытые – «Я не настроен на работу»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ahoma"/>
              </a:rPr>
              <a:t>* одна открыта, другая скрыта «Я неопределённо себя чувствую»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Вы можете придумать свой ритуа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Упражнение 1. «Снежный ком»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(знакомство)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Инструкция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ервый участник называет свое имя, второй – имя первого и свое, третий – имена первого и второго, потом – свое и т.д., пока круг не замкнется. В итоге, последний в круге говорит имена всех играющих, а затем и сво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2000" y="764640"/>
            <a:ext cx="761184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Упражнение 2. «Имя – движение»</a:t>
            </a:r>
            <a:br>
              <a:rPr sz="32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(знакомство)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42920" y="2017440"/>
            <a:ext cx="79120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Инструкция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Участники встают в круг, каждый из них по очереди выходит на шаг вперед, произносит свое имя и делает какое-нибудь движение, дающее ему возможность выразить себя. Группа хором повторяет имя, сопровождая его таким же движением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ле того как представились все участники, возможно повторение процедуры, но имена и движения воспроизводятся в кругу уже по памяти, без повторной демонстрац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4T05:47:43Z</dcterms:created>
  <dc:creator>Пользователь</dc:creator>
  <dc:description/>
  <dc:language>en-US</dc:language>
  <cp:lastModifiedBy>HP</cp:lastModifiedBy>
  <dcterms:modified xsi:type="dcterms:W3CDTF">2020-11-18T10:46:37Z</dcterms:modified>
  <cp:revision>9</cp:revision>
  <dc:subject/>
  <dc:title>Обучающая программа  «Я -  волонтер!»</dc:title>
</cp:coreProperties>
</file>