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879-1078-47AB-B046-81052662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AB2-32BF-46FA-8E47-35984A92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29C-5C3F-40A0-A84D-B16FA586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431-E41A-4EA8-BFB5-77CD48AC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F86D-7EE2-4C79-B75B-ECB506E1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74B3-DFFF-4E3B-A08E-5AAF2614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2103-F0A6-4A6D-AE89-0445E17D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942C-D4DD-4D0A-8D24-5F836910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D939-8171-445A-9EF0-C2C26300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98BA-6ACF-442E-8695-FBB7B0A2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D5AF-C57A-403B-9A35-6963D299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558-69CD-4940-B110-EA9F8C9E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5EFC-9368-46C9-9261-E7794EEE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0128-3621-4837-A41E-B6C83961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C788-EDD9-4B86-88E3-8DBEA36F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AB8C-A5A6-43B1-997A-8E7886EE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E981-57FB-4692-9E12-D31D10DD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CE0-224C-47B8-8E32-6FF584C8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9CE-3B44-40F5-A7F8-02E86B62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586-7D43-4609-AFE4-8053AAFA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7FA-8A21-4804-9315-034C0549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CD93-670C-45DA-8A37-F8666D2E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D6B-148B-463E-BF37-F7EA5467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1BA-0BA5-4D98-9865-D8C807A4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84A1-92FC-42D0-A6D4-DD03EB445A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8B27-9F23-4623-9BE9-CA9A079E7A3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61928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ahoma"/>
              </a:rPr>
              <a:t>Обучающая программа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«Я -  волонтер!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61184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 Unicode MS"/>
              </a:rPr>
              <a:t>Упражнение 3.  «Имя – качество»</a:t>
            </a:r>
            <a:br>
              <a:rPr sz="3200"/>
            </a:br>
            <a:br>
              <a:rPr sz="3200"/>
            </a:br>
            <a:r>
              <a:rPr b="0" lang="ru-RU" sz="40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 Unicode MS"/>
              </a:rPr>
              <a:t>(знакомство)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Более близкое знакомство участников друг с друг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Инструкция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аждый участник придумывает какое-либо качество личности, свойство характера и т. д., начинающееся на ту же букву, что и имя (например: Лариса – любовь, Сергей – скромность), которое характеризует е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222393"/>
          <p:cNvPicPr/>
          <p:nvPr/>
        </p:nvPicPr>
        <p:blipFill>
          <a:blip r:embed="rId1"/>
          <a:stretch/>
        </p:blipFill>
        <p:spPr>
          <a:xfrm>
            <a:off x="4597560" y="4398840"/>
            <a:ext cx="4546440" cy="2459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0" y="213840"/>
            <a:ext cx="5451480" cy="15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айте ответ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бята, вы, наверное, сталкивались с людьми, которые бросают мусор на улице, обижают животных, с презрением относятся к старикам, не Вспомните и назовите чувства, которые вы испытываете, сталкиваясь с такими людь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9625bc3f6165db1bc2e6af250655a7b6"/>
          <p:cNvPicPr/>
          <p:nvPr/>
        </p:nvPicPr>
        <p:blipFill>
          <a:blip r:embed="rId2"/>
          <a:stretch/>
        </p:blipFill>
        <p:spPr>
          <a:xfrm>
            <a:off x="0" y="3860640"/>
            <a:ext cx="309240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homeless-1"/>
          <p:cNvPicPr/>
          <p:nvPr/>
        </p:nvPicPr>
        <p:blipFill>
          <a:blip r:embed="rId3"/>
          <a:stretch/>
        </p:blipFill>
        <p:spPr>
          <a:xfrm>
            <a:off x="2771640" y="4076640"/>
            <a:ext cx="316872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upl_1484244146_539"/>
          <p:cNvPicPr/>
          <p:nvPr/>
        </p:nvPicPr>
        <p:blipFill>
          <a:blip r:embed="rId4"/>
          <a:stretch/>
        </p:blipFill>
        <p:spPr>
          <a:xfrm>
            <a:off x="0" y="0"/>
            <a:ext cx="32623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Давайте вместе подумаем, что заставляет людей поступать подобным образом?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Задание: в малых группах по 3-5 человека ребята заполняют таблиц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заставляет подростков так поступ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они получают в результате своих действий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может сделать волонтер, чтобы повлиять на этих подростко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флексия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на какие вопросы в процессе работы было трудно отвеча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что нового узнали или осознали в процессе работ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что помогало, что мешало работе в групп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Разминка «Поменяйтесь местами те…»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ходе упражнения все участники группы сидят, а ведущий, стул которого убирается, стоя в круге, называет какой-либо признак, например: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«Поменяйтесь местами те, у кого карие глаза»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в тот момент, когда участники меняются местами, занимает свободное место. 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Меняться местами можно с любым участником, который не является твоим сосед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пражнение 4.  «Расскажи про своего соседа»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накомство участников друг с другом, развитие вним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Инструкция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нимательно посмотрите на своего соседа справа и попробуйте догадаться, какой он в жизни (каким был в 5 лет, каким станет, когда ему будет 30 лет). Поделитесь своими предположениями.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кетировани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 Unicode MS"/>
              </a:rPr>
              <a:t>Сейчас каждый из вас получит анкету, заполните ее и дайте ответы на несколько вопрос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 Unicode MS"/>
              </a:rPr>
              <a:t>Упражнение 5.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Упражнение «Моя эмблема, мой девиз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Unicode MS"/>
              </a:rPr>
              <a:t>Деви́з</a:t>
            </a:r>
            <a:r>
              <a:rPr b="0" lang="ru-RU" sz="2400" spc="-1" strike="noStrike">
                <a:solidFill>
                  <a:srgbClr val="cc0000"/>
                </a:solidFill>
                <a:latin typeface="Arial Unicode MS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фр. devise) — слово или короткая фраза, определяющая поведение и устремления группы людей или организации. В геральдике гербовая фигура или изречение на гербе. Девиз может быть на любом языке, однако в западном мире используют в основном латинский язык. (Википед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Unicode MS"/>
              </a:rPr>
              <a:t>Эмблем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(от др.-греч. ἔμβλημα «вставка») — условное изображение идеи в рисунке и пластике, которому присвоен тот или другой смысл. Эмблемы должны быть непременно ясны и просты, зритель должен в них видеть то, что ему хотели сказа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5964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 Unicode MS"/>
              </a:rPr>
              <a:t>Упражнение 5.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Упражнение «Моя эмблема, мой девиз»</a:t>
            </a:r>
            <a:r>
              <a:rPr b="1" lang="ru-RU" sz="4000" spc="-1" strike="noStrike">
                <a:solidFill>
                  <a:srgbClr val="333399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лее близкое знакомство участников друг с друг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Инструкция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 сигналу ведущего каждый придумывает и рисует то, что может быть эмблемой и пишет ту фразу или слово, которое может служить его девизом. Фразы перед вами представлены на слайде, но можете придумать и сво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 должны рассказать о своей эмблеме и девизе присутствующи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70036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Варианты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691920"/>
            <a:ext cx="37432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Место встречи изменить нельз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Дорога начинается с первого шага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мелость — начало побед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Наш девиз: Не унывать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се пройти и все узнать!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Я….. — верный друг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могаю всем вокруг!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реть, не тлеть и все уметь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лай что должен, и будь что буд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лыбнись миру и он улыбнётся теб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Я все смогу. Я все сумею!!! Переживу. Переболею. Перекантуюсь. Перебьюсь, Но своего всегда добьюсь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Я ЖИЗНЬ-МОИ ПРАВИЛА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ждённые ползать, расступитесь!! Я взлетаю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"Великим человек может быть и благодаря своим чувствам, а не только уму!«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Живи-смотри вперёд и не поворачивайс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76360" y="0"/>
            <a:ext cx="3878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Что не происходит, все к лучшему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се или ничего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десь и сейча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ороться и искать, найти и не сдавать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лыбнись – и тебе улыбнуться в ответ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рпение и труд, все перетрут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т ничего невозможного! Просто следуй за своей мечтой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Жить нужно так, чтобы депрессия была у других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Я все смогу. Я все сумею, Я не боюсь. Я не жале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"У меня есть Я, мы как-нибудь справимся«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"Душа сама создает свои горизонты«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жешь лучше-делай сам!!!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 ждите чуда - чудите сами!!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аков орел-таковы и гор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 верь своим глазам, доверяй сердцу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Если иметь, то иметь иметь лучшее. Если быть, то быть первы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оишься не делай!!!! Сделал - не бойся..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40000" y="214200"/>
            <a:ext cx="6603840" cy="14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10 правил общения с людьм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лушать больше, чем говори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лгать самому и не заставлять лгать собеседн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умать, прежде чем сказа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высмеивать собеседн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перебивать, давая возможность высказать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бегать высокомерного, пренебрежительного поведения по отношению к собеседни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держиваться уверенного, но дружелюбного тон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важать точку зрения собеседн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зывать собеседника по и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встрече с любым человеком иметь хорошее, позитивное настро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4" descr="754840379740580"/>
          <p:cNvPicPr/>
          <p:nvPr/>
        </p:nvPicPr>
        <p:blipFill>
          <a:blip r:embed="rId1"/>
          <a:stretch/>
        </p:blipFill>
        <p:spPr>
          <a:xfrm>
            <a:off x="-181080" y="0"/>
            <a:ext cx="2521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Упражнение «Я никогда не...»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Формирование умения критически оценивать себя; повышение самооцен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Инструкция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Участники по очереди говорят фразу, начинающуюся со слов «Я никогда не...» (например, «Я никогда не прыгал с парашютом»). Остальные участники загибают по одному пальцу на руке, если для них утверждение не верно (т.е. они, например, прыгали с парашютом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разы должны соответствовать реальности, и пальцы загибать надо по-честном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827840" cy="14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Упражнение «Я возьму с собой в поход»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азвитие логики, вним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Инструкция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аждый должен назвать свое имя и какой-то предмет, который он взял бы с собой в поход 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(меня зовут ..., я возьму с собой ..., я пойду в поход?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едущий должен сказать, берет ли он этого человека с собой или нет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Тот, кто догадается, почему ведущий не одного берет с собой в поход ,а другого нет, должен ранить молчани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ши правила общени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Правило поднятой ру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Правило равен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Ува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Я – высказываний, т.е. говорить от первого ли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Говорить по очеред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Право на свое мн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Правило  быть креативны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img57503f797f9d7"/>
          <p:cNvPicPr/>
          <p:nvPr/>
        </p:nvPicPr>
        <p:blipFill>
          <a:blip r:embed="rId1"/>
          <a:stretch/>
        </p:blipFill>
        <p:spPr>
          <a:xfrm>
            <a:off x="2700360" y="4292640"/>
            <a:ext cx="4505400" cy="2792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214200"/>
            <a:ext cx="775656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 нашей программы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80550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 с вами на практике освоим виды и формы волонтерской деятельности, для того, чтобы вы самостоятельно уже в своей школе смогли организовать школьное волонтерское движение, проводить различные акции, мероприятия, оказывать грамотно помощь и т.д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4" descr="d0e6a5668672b891e5638af7c70b5517"/>
          <p:cNvPicPr/>
          <p:nvPr/>
        </p:nvPicPr>
        <p:blipFill>
          <a:blip r:embed="rId2"/>
          <a:stretch/>
        </p:blipFill>
        <p:spPr>
          <a:xfrm rot="348600">
            <a:off x="-324000" y="4635360"/>
            <a:ext cx="3337200" cy="2222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SC_7670"/>
          <p:cNvPicPr/>
          <p:nvPr/>
        </p:nvPicPr>
        <p:blipFill>
          <a:blip r:embed="rId3"/>
          <a:stretch/>
        </p:blipFill>
        <p:spPr>
          <a:xfrm rot="21028200">
            <a:off x="6516720" y="4581360"/>
            <a:ext cx="304812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988640"/>
            <a:ext cx="7632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ша программа состоит из двух модул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3141360"/>
            <a:ext cx="799128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Unicode MS"/>
              </a:rPr>
              <a:t>1 модуль</a:t>
            </a: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 – </a:t>
            </a:r>
            <a:r>
              <a:rPr b="1" lang="ru-RU" sz="2800" spc="-1" strike="noStrike">
                <a:solidFill>
                  <a:srgbClr val="cc0000"/>
                </a:solidFill>
                <a:latin typeface="Arial Unicode MS"/>
              </a:rPr>
              <a:t>Основы волонтерского движ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десь мы познакомимся с сущностью, правовыми аспектами, историей становления и развития волонтерского движения. Изучим  основные понятия волонтерства,  как значимой социально-общественной деятельности, добровольчества и отличия содержания волонтерства от меценатства, благотворительности.   Особое внимание уделим формам и видам волонтерской деятельност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BddwMtX7WCI"/>
          <p:cNvPicPr/>
          <p:nvPr/>
        </p:nvPicPr>
        <p:blipFill>
          <a:blip r:embed="rId1"/>
          <a:stretch/>
        </p:blipFill>
        <p:spPr>
          <a:xfrm>
            <a:off x="0" y="0"/>
            <a:ext cx="72738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 Unicode MS"/>
              </a:rPr>
              <a:t>2 модуль</a:t>
            </a:r>
            <a:r>
              <a:rPr b="0" lang="ru-RU" sz="3200" spc="-1" strike="noStrike">
                <a:solidFill>
                  <a:srgbClr val="cc0000"/>
                </a:solidFill>
                <a:latin typeface="Arial Unicode MS"/>
              </a:rPr>
              <a:t> – </a:t>
            </a:r>
            <a:r>
              <a:rPr b="1" lang="ru-RU" sz="3200" spc="-1" strike="noStrike">
                <a:solidFill>
                  <a:srgbClr val="cc0000"/>
                </a:solidFill>
                <a:latin typeface="Arial Unicode MS"/>
              </a:rPr>
              <a:t>Основы социального проектирования, игровая деятельность, социально-значимые дел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ой предметной областью данного модуля является освоение метода социального проектирова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5" descr="BddwMtX7WCI"/>
          <p:cNvPicPr/>
          <p:nvPr/>
        </p:nvPicPr>
        <p:blipFill>
          <a:blip r:embed="rId1"/>
          <a:stretch/>
        </p:blipFill>
        <p:spPr>
          <a:xfrm>
            <a:off x="0" y="0"/>
            <a:ext cx="76788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920" y="836280"/>
            <a:ext cx="7237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ш ритуал – настрой на работу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8055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д тем как мы с вами начнём работу, я предлагаю вам придумать </a:t>
            </a: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особый ритуал, который будет известен только нам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ы будем проводить его в начале каждого занятия в знак приветствия друг друг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ример, можно использовать </a:t>
            </a: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Ритуал «Ладони»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выражение своей готовности и настроенности на работу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открытые ладони – «Я готов работать»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* скрытые – «Я не настроен на работу»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* одна открыта, другая скрыта «Я неопределённо себя чувствую»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ы можете придумать свой ритуа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Упражнение 1. «Снежный ком»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(знакомство)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Инструкция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ервый участник называет свое имя, второй – имя первого и свое, третий – имена первого и второго, потом – свое и т.д., пока круг не замкнется. В итоге, последний в круге говорит имена всех играющих, а затем и сво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764640"/>
            <a:ext cx="761184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пражнение 2. «Имя – движение»</a:t>
            </a:r>
            <a:br>
              <a:rPr sz="32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(знакомство)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920" y="2017440"/>
            <a:ext cx="7912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Инструкция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Участники встают в круг, каждый из них по очереди выходит на шаг вперед, произносит свое имя и делает какое-нибудь движение, дающее ему возможность выразить себя. Группа хором повторяет имя, сопровождая его таким же движение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ле того как представились все участники, возможно повторение процедуры, но имена и движения воспроизводятся в кругу уже по памяти, без повторной демонстра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05:47:43Z</dcterms:created>
  <dc:creator>Пользователь</dc:creator>
  <dc:description/>
  <dc:language>en-US</dc:language>
  <cp:lastModifiedBy>HP</cp:lastModifiedBy>
  <dcterms:modified xsi:type="dcterms:W3CDTF">2020-11-18T10:46:37Z</dcterms:modified>
  <cp:revision>9</cp:revision>
  <dc:subject/>
  <dc:title>Обучающая программа  «Я -  волонтер!»</dc:title>
</cp:coreProperties>
</file>