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7DC-78C0-437D-9CBE-3808FFE8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203-85F0-4B85-B995-8251D527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FB3-CF63-4C78-99BB-3BB35229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3E2-A850-49FD-98E0-6D7A814E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2CD-354D-49FA-BF34-1E3C4B32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9F8-9543-4D0D-87E8-C43C85BF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431-079A-416D-A55C-2B3FBC19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DAD-EA1D-48F1-90EE-706DFD99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D4D-6A70-44B5-BF3C-83CB3B0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FF2-4913-408B-9586-D7F16EE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4F6-C1D6-4929-9392-562C396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C55-FFB4-406B-AC2A-E4F8064F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E9E8-C001-453E-B935-10BCFFB7051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ГБУ СРЦН «РАДУГА»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сять ошибок в воспитан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832968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нформация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дготовила педагог-психоло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.Г.Остан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 ошибка. Зависимость воспитания от настроения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1571400"/>
            <a:ext cx="900108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Можно или нет? Это зависит от настроени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иятности на работе, плохие отношения в семье... Как часто взрослые выпускают пар на ребёнке. Многие уверены, что в этом нет ничего страшного. До­статочно потом купить малышу давно обещанную игрушку, и всё будет в поряд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ители должны показывать малышу, что их радуют его хорошие поступки и расстраивают плохие. Это создаёт у детей сознание в непоколебимости жизненных ценностей. Когда взрослые в угоду своему эгоизму и настроению сегодня разрешают что-то, а завтра это же запрещают, ребёнок может понять только одно: всё равно, что я делаю, главное — какое у мамы настро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днак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если вы чувствуете, что себя не переделать, лучше заранее договориться с ребёнком: «Итак, когда у меня хорошее настроение, тебе не будет позволено делать всё, что тебе заблагорассудится, если плохое — постарайся быть ко мне снисходительны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  ошибка. Слишком мало времени для воспитания ребёнка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3840" y="1571400"/>
            <a:ext cx="864396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К сожалению, у меня совсем нет времени для теб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ие взрослые очень загружены на работе, но каждую свою свободную минутку стараются проводить с детьми: они отводят их в сад и школу, готовят для них, стирают, покупают всё, что им нужно. Дети должны сами понимать, что у родителей просто нет времени поиграть и почитать с н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рослые часто забывают простую истину: если уж родили ребёнка, надо и время для него найти. Малыш, который постоянно слышит, что у взрослых нет на него времени, будет искать среди чужих людей родственные душ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аже ес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аш день расписан по минутам, найдите вечером полчаса (в этом вопросе качество важнее количества) посидеть у кроватки малыша, поговорите с ним, расскажите сказку, почитайте, поговор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асибо, что внимательно просмотрели и прослушали информа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ошибка. Обещание больше не любить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857240"/>
            <a:ext cx="8472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дети так часто спорят по поводу любой нашей просьбы? Может быть, они делают нам назло? Как быть? Призывать к здравому смыслу? Да они просто не слышат, что взрослые им говорят. Угрожать? Это больше не действует. В таких случаях многие используют своеобразную козырную карту: «Теперь мамочка больше не будет любить тебя». Как часто многие из нас произносят эту фраз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щание больше не любить своего малыша — одно из сильнейших средств воздействия. Однако эта угроза, как правило, не осуществляется. А дети прекрасно чувствую фальшь. Единожды обманув, вы можете на долгое время потерять доверие ребёнка. Намного лучше сказать так: «Я буду тебя всё равно любить, но твоё поведение я не одобряю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2 ошибка. Безразличие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«Делай что хочешь, мне всё равно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чем напрягаться, спорить, искать аргументы, доказывать что-то малышу, нервничать? Ребёнок сам должен научиться решать свои проблемы. И вообще, ре­бенка надо готовить к взрослой жизни, пусть он скорее станет самостоятельным. А нас оставит в пок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когда не надо оказывать малышу, что вам всё равно, чем он занимается. Ребёнок, почувствовав ваше безразличие, немедленно начнёт проверять, насколько оно «настоящее». И, скорее всего, проверка будет заключаться в совершении поступков изначально плохих. Ребёнок ждёт, последует ли за проступок критика или нет. Словом, замкнутый круг. Лучше вместо показного безразличия постараться наладить с ребёнком дружеские отношения, даже если его поведение вас совершенно не устраивает. Можно сказать, например, так: «Знаешь, в этом вопросе я с тобой совершенно не согласен. Но я хочу помочь тебе, потому что люблю тебя. В любой момент, когда тебе это понадобится, ты можешь спросить у меня совет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3 ошибка. Слишком много строгости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480" y="1500120"/>
            <a:ext cx="864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Ты должен делать то, что я тебе сказал, потому что я в доме главный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должны слушаться старших беспрекословно - это самый важный принцип в воспитании. Дискуссии здесь недопустимы. Не важно, сколько ребёнку - 6 или 16 лет, детям нельзя давать поблажек, иначе они окончательно сядут нам на ш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обязательно должны понимать, почему и зачем они делают то, что от них требуется. Слишком строгое воспитание, основанное на принципах, которые не всегда понятны ребёнку, напоминает дрессировку. Ребёнок может беспрекословно исполнять всё, когда вы рядом, и плевать на все запреты, когда вас рядом нет. Убеждение лучше строгости. В случае необходимости можно сказать так: «Ты сейчас делаешь так, как я говорю, а вечером мы спокойно всё обсудим — почему и заче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4 ошибка. Детей надо баловать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4200" y="1571400"/>
            <a:ext cx="8715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Пожалуй, я сделаю это сама. Моему малышу это пока не по сила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ы готовы всё сделать для нашего малыша, ведь дети всегда должны получать самое лучшее. Детство — такая короткая пора, поэтому оно должно быть прекрасно. Нравоучения, неудачи, неудовлетворённость — в наших силах избавить малышей от всех этих трудностей и неприятностей. Так приятно угадывать и исполнять любое желание ребё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балованным детям очень тяжело приходится в жизни. Нельзя держать единственное чадо под колпаком родительской любви, в дальнейшем это может привести к множеству проблем. Поверьте, когда родители убирают буквально каждый камушек с дороги малыша, от этого ребёнок не чувствует себя счастливее. Скорее наоборот — он ощущает себя совершенно беспомощным и одиноким. «Попробуй-ка сделать это сам, а если не получится, я тебе с удовольствием помогу» — вот один из вариантов мудрого отношения к дочери или сы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 ошибка. Навязанная роль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«Мой ребёнок — мой лучший друг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ебёнок — главное в нашей жизни, он такой смышлёный, с ним можно говорить обо всём. Он понимает нас, прямо как настоящий взрослы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ети готовы сделать всё, чтобы понравиться своим родителям, ведь папа и мама для них главнейшие люди на свете. Малыши даже готовы погрузиться в сложный мир взрослых проблем, вместо того чтобы обсуждать свои интересы со сверстниками. Но при этом их собственные проблемы так и остаются нерешённым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642960"/>
            <a:ext cx="8715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ошибка. Качество воспитания зависит от количества денег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4200" y="1785960"/>
            <a:ext cx="878688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ы слишком стеснены в средствах, поэтому не можем себе позволить даже побаловать ребёнка, постоянно приходится ему во всём отказывать, он донашивает старые вещи и т.п. Словом, будь у нас больше денег, мы были бы лучшими родител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бовь не купить за деньги — звучит довольно банально, но это так. Часто бывает, что в семьях с невысоким достатком взрослые делают всё, чтобы ребёнок ни в чём не нуждался. Но вы не должны чувствовать угрызений совести за то, что не можете исполнять все его жел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На самом дел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бовь, ласка, совместные игры и проведённый вместе досуг для малыша намного важнее содержимого вашего кошелька. И, если разобраться, совсем не деньги делают ребёнка счастливым, а осознание того, что он для вас самый-самы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7  ошибка. Наполеоновские планы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2920" y="1356840"/>
            <a:ext cx="88581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Мой ребёнок будет заниматься музыкой (теннисом, живописью), я не позволю ему упустить свой шанс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ие взрослые мечтали в детстве заниматься балетом, учиться игре на пианино или играть в теннис, но у них не было такой возможности. И теперь главная цель пап и мам — дать детям самое лучшее образование. Не важно, если малышам этого не очень-то и хочется, пройдёт время, и они оценят старания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сожалению, дети не всегда оценивают усилия родителей. И часто блестящее будущее, нарисованное взрослыми в своём воображении, разбивается о полное нежелание ребёнка заниматься, скажем, музыкой. Пока малыш ещё маленький и слушается взрослых, но затем, желая вырваться из клетки родительской любви, начинает выражать протест доступными ему способами. А это может быть не только злоупотребление тяжёлым роком в ночные часы, но и приём наркотиков.  Заполняя день ребёнка нужными и полезными занятиями, не забывайте оставить ему немного времени и для личных д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8 ошибка. Слишком мало ласки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2920" y="1143000"/>
            <a:ext cx="885816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«Поцелуй и прочие нежности не так уж и важны для ребёнка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ние родителей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скать младшую сестрёнку? Какая ерунда! Поцеловать маму? Обнять папу? Да на это нет времени. А ещё многие взрослые считают, что ласки в детском возрасте могут привести в дальнейшем к проблемам в сексуальной ориентации. Короче, никаких объятий и поцелуев — есть более серьёзные и нужные вещ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ние психологов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любого возраста стремятся к ласке, она помогает им ощущать себя любимыми и придаёт уверенности в своих силах. Но помните: желание получить ласку  должно в большинстве случаев исходить от самого ребёнка. Не навязывайте детям свою любовь активно — это может оттолкнуть и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8:59:23Z</dcterms:created>
  <dc:creator>Кениг Т.В.</dc:creator>
  <dc:description/>
  <dc:language>en-US</dc:language>
  <cp:lastModifiedBy>RePack by SPecialiST</cp:lastModifiedBy>
  <dcterms:modified xsi:type="dcterms:W3CDTF">2018-03-19T07:45:44Z</dcterms:modified>
  <cp:revision>10</cp:revision>
  <dc:subject/>
  <dc:title>Десять ошибок в воспитании </dc:title>
</cp:coreProperties>
</file>