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430-C756-4783-A854-B875CFBD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AE1-8536-4639-AE62-61C261E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B40-03A4-4731-8831-D7802FA1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201-51F4-4F29-A060-E5409EBE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C90-A364-44A7-9D2C-38AF6C06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0D8-4F9C-4011-B788-C89FF5D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F70-44B7-4DEA-872B-D048C8D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BA6-A944-4B06-9A96-2EFDB99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71B-DDAD-4791-A543-889DF61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B93-EC45-48DF-B566-6E879727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1F5-95A1-46A5-A857-1EF36EF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82D-1310-4B33-8312-5B13C51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8149-5BD3-4029-AB5E-54EDDF3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9B7B-C63D-40B5-BADA-CF93819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6092-C8AD-43C6-BA2F-89823BE7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7156-17DE-483A-8517-2BE8B7D6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5B6-1C6D-4AA4-9E76-843E0EC0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E58-460C-487E-BA63-530424E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B9A-7369-4196-B077-414DA93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A51-57F7-4DFF-814F-0CF87430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2DA-3DF5-4C33-952C-4E89E82C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9E0-A60B-4D4F-BCA2-C5F4BA8E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719-9C39-4038-A9A6-52A7795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98F-C7FB-4352-85F3-9FE6AB0E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2829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305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5680" indent="-2746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62320" indent="-29556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4AC9-96CD-43A2-B1C9-52882492AC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71360"/>
            <a:ext cx="8229600" cy="4572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462924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914400"/>
            <a:ext cx="7925040" cy="6858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29718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2829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305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5680" indent="-2746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62320" indent="-29556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862A-FB72-40C8-9B5A-89754028B1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058760"/>
            <a:ext cx="784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Балет «Щелкунчик»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П.И Чайковский»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27280" y="2139480"/>
            <a:ext cx="2737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остав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Юсупова Л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тский сад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.Ба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1403280" y="4084560"/>
            <a:ext cx="6337440" cy="77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тановку хореографических но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чает балетмей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:\__Василий\Музыка\2 класс\img\баллетттт [преобразованный].png"/>
          <p:cNvPicPr/>
          <p:nvPr/>
        </p:nvPicPr>
        <p:blipFill>
          <a:blip r:embed="rId1"/>
          <a:stretch/>
        </p:blipFill>
        <p:spPr>
          <a:xfrm>
            <a:off x="1395360" y="549360"/>
            <a:ext cx="63532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Каждое движение в балете – это рассказ. Действующие лица не говорят, а танцуют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13" descr="nucracker_suite_1"/>
          <p:cNvPicPr/>
          <p:nvPr/>
        </p:nvPicPr>
        <p:blipFill>
          <a:blip r:embed="rId1"/>
          <a:stretch/>
        </p:blipFill>
        <p:spPr>
          <a:xfrm>
            <a:off x="1042920" y="1131840"/>
            <a:ext cx="640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1332000" y="3940200"/>
            <a:ext cx="2525760" cy="64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Галина Ул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1909–199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435640" y="3940200"/>
            <a:ext cx="2525760" cy="64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Майя Плисец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род. 192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954880" y="3828960"/>
            <a:ext cx="627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Calibri"/>
              </a:rPr>
              <a:t>Eric Koch / Anef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Русские балерины заслуживают восхищ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2" descr="http://upload.wikimedia.org/wikipedia/commons/1/12/Galina_Ulanova_(1968).jpg"/>
          <p:cNvPicPr/>
          <p:nvPr/>
        </p:nvPicPr>
        <p:blipFill>
          <a:blip r:embed="rId1"/>
          <a:stretch/>
        </p:blipFill>
        <p:spPr>
          <a:xfrm>
            <a:off x="1403280" y="771480"/>
            <a:ext cx="2332080" cy="3111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ile:Maya Plisetskaya - 1974.jpg"/>
          <p:cNvPicPr/>
          <p:nvPr/>
        </p:nvPicPr>
        <p:blipFill>
          <a:blip r:embed="rId2"/>
          <a:stretch/>
        </p:blipFill>
        <p:spPr>
          <a:xfrm>
            <a:off x="5580000" y="771480"/>
            <a:ext cx="236556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Праздник на рождественской ёлке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Торжественный момент - раздача подар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88000" y="1058760"/>
            <a:ext cx="40320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вие юных гостей, получающих подарки, сопровождается характерной музыкой детского «Марш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арактере марша чувствуется миниатюрность и упругая легкость детских движений, наивная серьезность и мальчишеский задор. После раздачи подарков начинаются тан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lassballet"/>
          <p:cNvPicPr/>
          <p:nvPr/>
        </p:nvPicPr>
        <p:blipFill>
          <a:blip r:embed="rId1"/>
          <a:stretch/>
        </p:blipFill>
        <p:spPr>
          <a:xfrm>
            <a:off x="468360" y="1276200"/>
            <a:ext cx="4037040" cy="26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Марш деревянных солдатиков из </a:t>
            </a:r>
            <a:br>
              <a:rPr sz="2600"/>
            </a:b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етского альбома П.И. Чайковского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7280" y="699840"/>
            <a:ext cx="489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img6"/>
          <p:cNvPicPr/>
          <p:nvPr/>
        </p:nvPicPr>
        <p:blipFill>
          <a:blip r:embed="rId1"/>
          <a:stretch/>
        </p:blipFill>
        <p:spPr>
          <a:xfrm>
            <a:off x="1187280" y="1058760"/>
            <a:ext cx="6048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тарый мастер дарит детям игруш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лы начинают танцевать. Мастер еще подарил детям щипцы для колки орехов. Они сделаны в виде маленького человечка – Щелкунч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кунчик особенно понравился девочке Маше, хотя он очень уродлив – с огромным ртом, в который вкладывали орехи, чтобы он их разгрыз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hchelkunchik_"/>
          <p:cNvPicPr/>
          <p:nvPr/>
        </p:nvPicPr>
        <p:blipFill>
          <a:blip r:embed="rId1"/>
          <a:stretch/>
        </p:blipFill>
        <p:spPr>
          <a:xfrm>
            <a:off x="901800" y="1200240"/>
            <a:ext cx="31496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Сцена сражени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700200"/>
            <a:ext cx="424476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чью Маше приснился сон: на Щелкунчика напало мышиное войско во главе с предводителем – огромной, страшной кры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кунчик вместе со своими оловянными солдатиками храбро боролся с врагами, но силы были неравными, и Щелкунчика уже настигали его проти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Маша бросила в предводителя мышей туфельку, и все его войско в смятении разбежалось.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lNGE5Nzgt"/>
          <p:cNvPicPr/>
          <p:nvPr/>
        </p:nvPicPr>
        <p:blipFill>
          <a:blip r:embed="rId1"/>
          <a:stretch/>
        </p:blipFill>
        <p:spPr>
          <a:xfrm>
            <a:off x="611280" y="1203480"/>
            <a:ext cx="4038480" cy="32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95120"/>
            <a:ext cx="40021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казочное царство с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Щелкунчик, победив своего заклятого врага, превратился в прекрасного принца и вместе с Машей отправился в волшебную страну сладостей и игруше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казочном царстве сластей ожидают возвращения принца и Мари. Готовится пышный праздни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4572000" y="339840"/>
            <a:ext cx="3527640" cy="4102560"/>
            <a:chOff x="4572000" y="339840"/>
            <a:chExt cx="3527640" cy="4102560"/>
          </a:xfrm>
        </p:grpSpPr>
        <p:pic>
          <p:nvPicPr>
            <p:cNvPr id="131" name="Picture 4" descr="InsertedImage"/>
            <p:cNvPicPr/>
            <p:nvPr/>
          </p:nvPicPr>
          <p:blipFill>
            <a:blip r:embed="rId1"/>
            <a:stretch/>
          </p:blipFill>
          <p:spPr>
            <a:xfrm>
              <a:off x="4660560" y="392040"/>
              <a:ext cx="3351600" cy="39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2"/>
            <a:stretch/>
          </p:blipFill>
          <p:spPr>
            <a:xfrm>
              <a:off x="4572000" y="339840"/>
              <a:ext cx="3527640" cy="4102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Арабский танец «Кофе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первой части очень хорошо передает медлительные движения танцующих. Музыка танца протяжная, немного ленивая. Нежно и протяжно звучит мелодия у скрипок в сопровождении ударных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часть музыки танца несколько иная: она громче, выше, оживлен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rabic"/>
          <p:cNvPicPr/>
          <p:nvPr/>
        </p:nvPicPr>
        <p:blipFill>
          <a:blip r:embed="rId1"/>
          <a:stretch/>
        </p:blipFill>
        <p:spPr>
          <a:xfrm>
            <a:off x="611280" y="127620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итайский танец «чай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, как и в предыдущем танце, композитор воспроизводит звучание народных музыкальных инстру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тае есть духовые инструменты, у которых очень высокий и пронзительны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йковский вводит в музыку танца Чая свистящие звуки флейт, фаготов. Все это создает впечатление необычности, некоторой шутлив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000026"/>
          <p:cNvPicPr/>
          <p:nvPr/>
        </p:nvPicPr>
        <p:blipFill>
          <a:blip r:embed="rId1"/>
          <a:stretch/>
        </p:blipFill>
        <p:spPr>
          <a:xfrm>
            <a:off x="806400" y="1200240"/>
            <a:ext cx="33400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9975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Танец «Феи Драже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410760"/>
            <a:ext cx="43164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нец «Феи Драже» рисует нежный, грациозный образ сказочной феи слад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звучит необычно, так как здесь звучит редкий инструмент - челеста, издающий звуки очень высокие, нежные, как будто звучат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танца слышны переливы арфы, напоминающие журчание руче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41adbdca6a65bf9d1799833374b4939"/>
          <p:cNvPicPr/>
          <p:nvPr/>
        </p:nvPicPr>
        <p:blipFill>
          <a:blip r:embed="rId1"/>
          <a:stretch/>
        </p:blipFill>
        <p:spPr>
          <a:xfrm>
            <a:off x="324000" y="113184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Танец «Вальс цветов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6267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туплении к танцу слышатся звуки арфы. Они как бы, одевают, этот вальс в волшебный красочный наряд. Основную тему вальса вначале исполняют различные духовые инструменты валторны, клар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ая, чарующая тема валь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альс цветов» выделяется своей поистине сказочной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 побеждено, добро победил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helkunchik5_b"/>
          <p:cNvPicPr/>
          <p:nvPr/>
        </p:nvPicPr>
        <p:blipFill>
          <a:blip r:embed="rId1"/>
          <a:stretch/>
        </p:blipFill>
        <p:spPr>
          <a:xfrm>
            <a:off x="395280" y="1131840"/>
            <a:ext cx="41832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Марш деревянных солдатик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5" descr="Текст Марш деревянных солдатиков"/>
          <p:cNvPicPr/>
          <p:nvPr/>
        </p:nvPicPr>
        <p:blipFill>
          <a:blip r:embed="rId1"/>
          <a:stretch/>
        </p:blipFill>
        <p:spPr>
          <a:xfrm>
            <a:off x="900000" y="915840"/>
            <a:ext cx="50403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Эрнст Теодор Амадей Гофман (1776-182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Picture 3" descr="ed38b605df"/>
          <p:cNvPicPr/>
          <p:nvPr/>
        </p:nvPicPr>
        <p:blipFill>
          <a:blip r:embed="rId1"/>
          <a:stretch/>
        </p:blipFill>
        <p:spPr>
          <a:xfrm>
            <a:off x="539640" y="915840"/>
            <a:ext cx="597708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«Щелкунчик и мышиный король»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мультфильм-сказка Эрнест Гофман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5" descr="0_fdd7e_ebb0fd4_XL"/>
          <p:cNvPicPr/>
          <p:nvPr/>
        </p:nvPicPr>
        <p:blipFill>
          <a:blip r:embed="rId1"/>
          <a:stretch/>
        </p:blipFill>
        <p:spPr>
          <a:xfrm>
            <a:off x="1332000" y="1058760"/>
            <a:ext cx="568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П.И.Чайковский (1840-1893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4" descr="Portrait-of-Pyotr-Ilyich--014"/>
          <p:cNvPicPr/>
          <p:nvPr/>
        </p:nvPicPr>
        <p:blipFill>
          <a:blip r:embed="rId1"/>
          <a:stretch/>
        </p:blipFill>
        <p:spPr>
          <a:xfrm>
            <a:off x="539640" y="771480"/>
            <a:ext cx="6193080" cy="3716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EN00242_.WMF"/>
          <p:cNvPicPr/>
          <p:nvPr/>
        </p:nvPicPr>
        <p:blipFill>
          <a:blip r:embed="rId2"/>
          <a:stretch/>
        </p:blipFill>
        <p:spPr>
          <a:xfrm>
            <a:off x="4896000" y="843120"/>
            <a:ext cx="4248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403280" y="3724200"/>
            <a:ext cx="6338880" cy="77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т и опера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спектак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560c22dc6152d"/>
          <p:cNvPicPr/>
          <p:nvPr/>
        </p:nvPicPr>
        <p:blipFill>
          <a:blip r:embed="rId1"/>
          <a:stretch/>
        </p:blipFill>
        <p:spPr>
          <a:xfrm>
            <a:off x="4780080" y="907920"/>
            <a:ext cx="4119480" cy="253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244440" y="835200"/>
            <a:ext cx="440676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16000" y="411120"/>
            <a:ext cx="71643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58920" y="4371840"/>
            <a:ext cx="66261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ет — вид сценическ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94760"/>
            <a:ext cx="829152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33"/>
                </a:solidFill>
                <a:latin typeface="Arial"/>
              </a:rPr>
              <a:t>Тема: «Детский музыкальный театр. Балет «Щелкунчик». П.И Чайковский».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ознакомиться с балетом П.И. Чайковского «Щелкунчик». Разучить песню «Марш деревянных солдатиков» из Детского альбома П.И. Чайковск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накомиться с музыкальными произведениями балета «Щелкунчик»: «Марш», «Фея Драже», «Китайский танец – чай», «Арабский танец – кофе, «Вальс цветов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нить «Марш деревянных солдатиков» из Детского альбома П.И. Чайковск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476360" y="4237200"/>
            <a:ext cx="619128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ет зародился во Фр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09:40:24Z</dcterms:created>
  <dc:creator>Пользователь</dc:creator>
  <dc:description/>
  <dc:language>en-US</dc:language>
  <cp:lastModifiedBy>Admin</cp:lastModifiedBy>
  <dcterms:modified xsi:type="dcterms:W3CDTF">2020-11-19T09:29:12Z</dcterms:modified>
  <cp:revision>276</cp:revision>
  <dc:subject/>
  <dc:title>Презентация PowerPoint</dc:title>
</cp:coreProperties>
</file>