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5F6-B7C0-487E-A008-10CFEEA7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12A-9889-4DE1-BAEE-A7998FB8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A95A-9026-4FF6-9C67-C75D0E66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A131-3795-463A-83C1-6A8427EE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967B-70E0-4908-AE47-A6BCD3A6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2BA2-BF98-476C-92FE-CD9808E3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43D8-A145-47B8-9BE7-0BC8AE2B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CB67-3064-4767-9CC9-0DC868DC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6329-EF1C-421A-8E70-7C37D5B9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DDC7-E113-44F7-BD97-8972F806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4799-4545-4F8B-9FC5-599BA580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CBC-EFBD-4166-BAE0-3B164A16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EDF3-786D-476F-B57D-4DF76DF5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A85E-28E0-468B-B7CF-85041E98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1FF2-A93A-4916-911D-2EE5BBBF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6059-8365-4205-B1EB-C0AD70DF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5649-7B6C-479A-89D3-B2CD12E6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7B4F-17AD-4F6F-A5B6-D7DB754B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6587-2135-41B6-9CF6-50456221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80F-D795-45EF-A0D6-B2098430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7720"/>
            <a:ext cx="822960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CA6-2200-4A63-B941-EF729F29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B82-25D4-4661-BE1C-F4770967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BF91-8135-4389-ADAE-EA589D0A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C38-C2FC-4672-9C86-19054CF6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2829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89200" indent="-305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65680" indent="-2746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62320" indent="-29556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62320" indent="-29556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62320" indent="-29556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CEE2-E41D-47AB-88B3-078C3FC7A3A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71360"/>
            <a:ext cx="8229600" cy="45720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462924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914400"/>
            <a:ext cx="7925040" cy="6858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29718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2829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89200" indent="-3052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65680" indent="-2746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62320" indent="-29556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62320" indent="-29556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62320" indent="-29556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BCE1-32E1-4D14-AB93-F5C90CA97FD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1058760"/>
            <a:ext cx="7848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Балет «Щелкунчик»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П.И Чайковский».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227280" y="2139480"/>
            <a:ext cx="2737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остав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Музыкальный руко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Юсупова Л.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Детский сад №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Г.Бак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5"/>
          <p:cNvSpPr/>
          <p:nvPr/>
        </p:nvSpPr>
        <p:spPr>
          <a:xfrm>
            <a:off x="1403280" y="4084560"/>
            <a:ext cx="6337440" cy="77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2c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постановку хореографических номе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чает балетмейс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D:\__Василий\Музыка\2 класс\img\баллетттт [преобразованный].png"/>
          <p:cNvPicPr/>
          <p:nvPr/>
        </p:nvPicPr>
        <p:blipFill>
          <a:blip r:embed="rId1"/>
          <a:stretch/>
        </p:blipFill>
        <p:spPr>
          <a:xfrm>
            <a:off x="1395360" y="549360"/>
            <a:ext cx="635328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Каждое движение в балете – это рассказ. Действующие лица не говорят, а танцуют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Picture 13" descr="nucracker_suite_1"/>
          <p:cNvPicPr/>
          <p:nvPr/>
        </p:nvPicPr>
        <p:blipFill>
          <a:blip r:embed="rId1"/>
          <a:stretch/>
        </p:blipFill>
        <p:spPr>
          <a:xfrm>
            <a:off x="1042920" y="1131840"/>
            <a:ext cx="640872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1332000" y="3940200"/>
            <a:ext cx="2525760" cy="64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2c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Bookman Old Style"/>
              </a:rPr>
              <a:t>Галина Ула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Bookman Old Style"/>
              </a:rPr>
              <a:t>1909–1998 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435640" y="3940200"/>
            <a:ext cx="2525760" cy="64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2c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Bookman Old Style"/>
              </a:rPr>
              <a:t>Майя Плисец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Bookman Old Style"/>
              </a:rPr>
              <a:t>род. 192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2954880" y="3828960"/>
            <a:ext cx="627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Calibri"/>
              </a:rPr>
              <a:t>Eric Koch / Anef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Русские балерины заслуживают восхищения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2" descr="http://upload.wikimedia.org/wikipedia/commons/1/12/Galina_Ulanova_(1968).jpg"/>
          <p:cNvPicPr/>
          <p:nvPr/>
        </p:nvPicPr>
        <p:blipFill>
          <a:blip r:embed="rId1"/>
          <a:stretch/>
        </p:blipFill>
        <p:spPr>
          <a:xfrm>
            <a:off x="1403280" y="771480"/>
            <a:ext cx="2332080" cy="3111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ile:Maya Plisetskaya - 1974.jpg"/>
          <p:cNvPicPr/>
          <p:nvPr/>
        </p:nvPicPr>
        <p:blipFill>
          <a:blip r:embed="rId2"/>
          <a:stretch/>
        </p:blipFill>
        <p:spPr>
          <a:xfrm>
            <a:off x="5580000" y="771480"/>
            <a:ext cx="2365560" cy="3111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Праздник на рождественской ёлке </a:t>
            </a: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Торжественный момент - раздача подарков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88000" y="1058760"/>
            <a:ext cx="403200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ествие юных гостей, получающих подарки, сопровождается характерной музыкой детского «Марш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арактере марша чувствуется миниатюрность и упругая легкость детских движений, наивная серьезность и мальчишеский задор. После раздачи подарков начинаются тан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klassballet"/>
          <p:cNvPicPr/>
          <p:nvPr/>
        </p:nvPicPr>
        <p:blipFill>
          <a:blip r:embed="rId1"/>
          <a:stretch/>
        </p:blipFill>
        <p:spPr>
          <a:xfrm>
            <a:off x="468360" y="1276200"/>
            <a:ext cx="4037040" cy="26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Марш деревянных солдатиков из </a:t>
            </a:r>
            <a:br>
              <a:rPr sz="2600"/>
            </a:b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детского альбома П.И. Чайковского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67280" y="699840"/>
            <a:ext cx="4897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img6"/>
          <p:cNvPicPr/>
          <p:nvPr/>
        </p:nvPicPr>
        <p:blipFill>
          <a:blip r:embed="rId1"/>
          <a:stretch/>
        </p:blipFill>
        <p:spPr>
          <a:xfrm>
            <a:off x="1187280" y="1058760"/>
            <a:ext cx="60487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Старый мастер дарит детям игрушки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199880"/>
            <a:ext cx="403848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клы начинают танцевать. Мастер еще подарил детям щипцы для колки орехов. Они сделаны в виде маленького человечка – Щелкунч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лкунчик особенно понравился девочке Маше, хотя он очень уродлив – с огромным ртом, в который вкладывали орехи, чтобы он их разгрыз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shchelkunchik_"/>
          <p:cNvPicPr/>
          <p:nvPr/>
        </p:nvPicPr>
        <p:blipFill>
          <a:blip r:embed="rId1"/>
          <a:stretch/>
        </p:blipFill>
        <p:spPr>
          <a:xfrm>
            <a:off x="901800" y="1200240"/>
            <a:ext cx="31496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Сцена сражения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700200"/>
            <a:ext cx="424476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чью Маше приснился сон: на Щелкунчика напало мышиное войско во главе с предводителем – огромной, страшной крыс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лкунчик вместе со своими оловянными солдатиками храбро боролся с врагами, но силы были неравными, и Щелкунчика уже настигали его против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да Маша бросила в предводителя мышей туфельку, и все его войско в смятении разбежалось.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lNGE5Nzgt"/>
          <p:cNvPicPr/>
          <p:nvPr/>
        </p:nvPicPr>
        <p:blipFill>
          <a:blip r:embed="rId1"/>
          <a:stretch/>
        </p:blipFill>
        <p:spPr>
          <a:xfrm>
            <a:off x="611280" y="1203480"/>
            <a:ext cx="4038480" cy="32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95120"/>
            <a:ext cx="40021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Сказочное царство сла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Щелкунчик, победив своего заклятого врага, превратился в прекрасного принца и вместе с Машей отправился в волшебную страну сладостей и игрушек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сказочном царстве сластей ожидают возвращения принца и Мари. Готовится пышный праздник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4572000" y="339840"/>
            <a:ext cx="3527640" cy="4102560"/>
            <a:chOff x="4572000" y="339840"/>
            <a:chExt cx="3527640" cy="4102560"/>
          </a:xfrm>
        </p:grpSpPr>
        <p:pic>
          <p:nvPicPr>
            <p:cNvPr id="131" name="Picture 4" descr="InsertedImage"/>
            <p:cNvPicPr/>
            <p:nvPr/>
          </p:nvPicPr>
          <p:blipFill>
            <a:blip r:embed="rId1"/>
            <a:stretch/>
          </p:blipFill>
          <p:spPr>
            <a:xfrm>
              <a:off x="4660560" y="392040"/>
              <a:ext cx="3351600" cy="39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"/>
            <p:cNvPicPr/>
            <p:nvPr/>
          </p:nvPicPr>
          <p:blipFill>
            <a:blip r:embed="rId2"/>
            <a:stretch/>
          </p:blipFill>
          <p:spPr>
            <a:xfrm>
              <a:off x="4572000" y="339840"/>
              <a:ext cx="3527640" cy="4102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Арабский танец «Кофе»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199880"/>
            <a:ext cx="403848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ыка первой части очень хорошо передает медлительные движения танцующих. Музыка танца протяжная, немного ленивая. Нежно и протяжно звучит мелодия у скрипок в сопровождении ударных инстру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часть музыки танца несколько иная: она громче, выше, оживлен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arabic"/>
          <p:cNvPicPr/>
          <p:nvPr/>
        </p:nvPicPr>
        <p:blipFill>
          <a:blip r:embed="rId1"/>
          <a:stretch/>
        </p:blipFill>
        <p:spPr>
          <a:xfrm>
            <a:off x="611280" y="1276200"/>
            <a:ext cx="4038480" cy="26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Китайский танец «чай»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199880"/>
            <a:ext cx="403848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, как и в предыдущем танце, композитор воспроизводит звучание народных музыкальных инструм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итае есть духовые инструменты, у которых очень высокий и пронзительный зву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йковский вводит в музыку танца Чая свистящие звуки флейт, фаготов. Все это создает впечатление необычности, некоторой шутлив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000026"/>
          <p:cNvPicPr/>
          <p:nvPr/>
        </p:nvPicPr>
        <p:blipFill>
          <a:blip r:embed="rId1"/>
          <a:stretch/>
        </p:blipFill>
        <p:spPr>
          <a:xfrm>
            <a:off x="806400" y="1200240"/>
            <a:ext cx="334008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799754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Танец «Феи Драже»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410760"/>
            <a:ext cx="43164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нец «Феи Драже» рисует нежный, грациозный образ сказочной феи слад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ыка звучит необычно, так как здесь звучит редкий инструмент - челеста, издающий звуки очень высокие, нежные, как будто звучат колокольч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ередине танца слышны переливы арфы, напоминающие журчание ручей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f41adbdca6a65bf9d1799833374b4939"/>
          <p:cNvPicPr/>
          <p:nvPr/>
        </p:nvPicPr>
        <p:blipFill>
          <a:blip r:embed="rId1"/>
          <a:stretch/>
        </p:blipFill>
        <p:spPr>
          <a:xfrm>
            <a:off x="324000" y="1131840"/>
            <a:ext cx="403848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Танец «Вальс цветов»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626760"/>
            <a:ext cx="4038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туплении к танцу слышатся звуки арфы. Они как бы, одевают, этот вальс в волшебный красочный наряд. Основную тему вальса вначале исполняют различные духовые инструменты валторны, кларн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гкая, чарующая тема валь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альс цветов» выделяется своей поистине сказочной красо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ло побеждено, добро победило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shelkunchik5_b"/>
          <p:cNvPicPr/>
          <p:nvPr/>
        </p:nvPicPr>
        <p:blipFill>
          <a:blip r:embed="rId1"/>
          <a:stretch/>
        </p:blipFill>
        <p:spPr>
          <a:xfrm>
            <a:off x="395280" y="1131840"/>
            <a:ext cx="418320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33"/>
                </a:solidFill>
                <a:latin typeface="Garamond"/>
              </a:rPr>
              <a:t>Марш деревянных солдатиков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5" descr="Текст Марш деревянных солдатиков"/>
          <p:cNvPicPr/>
          <p:nvPr/>
        </p:nvPicPr>
        <p:blipFill>
          <a:blip r:embed="rId1"/>
          <a:stretch/>
        </p:blipFill>
        <p:spPr>
          <a:xfrm>
            <a:off x="900000" y="915840"/>
            <a:ext cx="504036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Эрнст Теодор Амадей Гофман (1776-1822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Picture 3" descr="ed38b605df"/>
          <p:cNvPicPr/>
          <p:nvPr/>
        </p:nvPicPr>
        <p:blipFill>
          <a:blip r:embed="rId1"/>
          <a:stretch/>
        </p:blipFill>
        <p:spPr>
          <a:xfrm>
            <a:off x="539640" y="915840"/>
            <a:ext cx="5977080" cy="36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«Щелкунчик и мышиный король» </a:t>
            </a:r>
            <a:br>
              <a:rPr sz="2400"/>
            </a:b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мультфильм-сказка Эрнест Гофмана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Picture 5" descr="0_fdd7e_ebb0fd4_XL"/>
          <p:cNvPicPr/>
          <p:nvPr/>
        </p:nvPicPr>
        <p:blipFill>
          <a:blip r:embed="rId1"/>
          <a:stretch/>
        </p:blipFill>
        <p:spPr>
          <a:xfrm>
            <a:off x="1332000" y="1058760"/>
            <a:ext cx="5688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77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П.И.Чайковский (1840-1893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" name="Picture 4" descr="Portrait-of-Pyotr-Ilyich--014"/>
          <p:cNvPicPr/>
          <p:nvPr/>
        </p:nvPicPr>
        <p:blipFill>
          <a:blip r:embed="rId1"/>
          <a:stretch/>
        </p:blipFill>
        <p:spPr>
          <a:xfrm>
            <a:off x="539640" y="771480"/>
            <a:ext cx="6193080" cy="37162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EN00242_.WMF"/>
          <p:cNvPicPr/>
          <p:nvPr/>
        </p:nvPicPr>
        <p:blipFill>
          <a:blip r:embed="rId2"/>
          <a:stretch/>
        </p:blipFill>
        <p:spPr>
          <a:xfrm>
            <a:off x="4896000" y="843120"/>
            <a:ext cx="424800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1403280" y="3724200"/>
            <a:ext cx="6338880" cy="77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2c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ет и опера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ыкальные спектак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560c22dc6152d"/>
          <p:cNvPicPr/>
          <p:nvPr/>
        </p:nvPicPr>
        <p:blipFill>
          <a:blip r:embed="rId1"/>
          <a:stretch/>
        </p:blipFill>
        <p:spPr>
          <a:xfrm>
            <a:off x="4780080" y="907920"/>
            <a:ext cx="4119480" cy="2536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"/>
          <p:cNvPicPr/>
          <p:nvPr/>
        </p:nvPicPr>
        <p:blipFill>
          <a:blip r:embed="rId2"/>
          <a:stretch/>
        </p:blipFill>
        <p:spPr>
          <a:xfrm>
            <a:off x="244440" y="835200"/>
            <a:ext cx="4406760" cy="264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116000" y="411120"/>
            <a:ext cx="7164360" cy="41385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1258920" y="4371840"/>
            <a:ext cx="66261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2c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лет — вид сценического искус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94760"/>
            <a:ext cx="8291520" cy="16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6633"/>
                </a:solidFill>
                <a:latin typeface="Arial"/>
              </a:rPr>
              <a:t>Тема: «Детский музыкальный театр. Балет «Щелкунчик». П.И Чайковский».</a:t>
            </a:r>
            <a:br>
              <a:rPr sz="2500"/>
            </a:b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ознакомиться с балетом П.И. Чайковского «Щелкунчик». Разучить песню «Марш деревянных солдатиков» из Детского альбома П.И. Чайковског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знакомиться с музыкальными произведениями балета «Щелкунчик»: «Марш», «Фея Драже», «Китайский танец – чай», «Арабский танец – кофе, «Вальс цветов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нить «Марш деревянных солдатиков» из Детского альбома П.И. Чайковског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"/>
          <p:cNvSpPr/>
          <p:nvPr/>
        </p:nvSpPr>
        <p:spPr>
          <a:xfrm>
            <a:off x="1476360" y="4237200"/>
            <a:ext cx="619128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e2c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лет зародился во Фра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1T09:40:24Z</dcterms:created>
  <dc:creator>Пользователь</dc:creator>
  <dc:description/>
  <dc:language>en-US</dc:language>
  <cp:lastModifiedBy>Admin</cp:lastModifiedBy>
  <dcterms:modified xsi:type="dcterms:W3CDTF">2020-11-19T09:29:12Z</dcterms:modified>
  <cp:revision>276</cp:revision>
  <dc:subject/>
  <dc:title>Презентация PowerPoint</dc:title>
</cp:coreProperties>
</file>