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02DB-C0C7-4EB8-BB31-C8705A59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0024-DE99-4D10-9855-8EF31A74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A12F-CCBD-4275-83BD-F1CFA1C8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3BA8-4B6F-488F-82DB-7C61CFCD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CFE0-E373-4BB2-B36D-B6DEAD2B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78A0-62C0-47AD-B279-E888A67B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1F8B-2725-47C4-9255-C13C5AF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5E1-9590-4DD0-BCC4-356B3A7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EE6-3437-4FFC-88DE-95D48E8F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D3A-1F09-4EAE-A36A-E34B2463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A9B-9F2F-4CE1-9228-9A35E199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0565-CB1E-4081-906D-284F5BEE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925-866A-44D4-BA89-D9EFBE8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E0E-ED78-42DE-8AF0-F9750CF4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54BB-A384-4736-AE67-8556FF5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4D21-6BDF-4CAF-8F62-01D1279D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C603-F8F3-4DAB-91D9-9A59E771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C7CC-61F4-47DD-BB92-F8B2B309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6F07-221E-4212-8901-1F7C8628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3523-9B97-4B3E-B7E9-8B399CC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5457-86CE-4D0D-8A77-A9F4A29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BE74-F0AF-45D6-B80C-58AAB91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7805-19CC-42C2-BDB1-FCF43F8C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2F12-EFBA-46CB-9B77-10F1166A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CE80-3256-43A1-A6C2-2D20329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1ECC-E251-43C7-9C93-A5E0F38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5269A-6329-4861-9840-917A0EF5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66DA-1ACD-4DE9-99EA-434A069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A8759-1667-433F-BF1B-D5550FBA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F913-49A0-4161-97D5-01918088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D102-7F55-4C45-AB77-7C6CF223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DA91-0C17-4FE3-BB03-722C627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250C-7DB2-465C-BB05-79240982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2D7F-3370-4AF9-B1AB-509EED54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5B3A-ED19-4C65-9890-C88951A0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2423-8ADA-4D8F-A0B2-F517ECB8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EA01-B215-4D95-BE4F-E65EED6E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05A6-6652-4775-93D3-E8B12AF7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A8750-69D6-4B51-8322-1A38BF03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2BF76-0606-492E-AC13-1AB81D9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0BCF-D08D-46DA-8D80-2D7E5BC2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61A9-6F61-413D-843C-B2A03667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A110-76C3-4409-B26A-797752D9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8980-366A-4722-8D2F-786A1F6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091A-7929-4035-BAF7-1B1E1C8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2774-1C59-417F-B409-A0E4213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A586-D716-498D-93C9-1DACA42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C72B-13C6-4C0D-B392-D593B27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B85-B4A8-4D08-9E5A-01EEF0CD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2079-AB25-449E-A7CF-3E9D504F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1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C969-426E-4608-9179-56B36F222E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5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B1B6-BF70-4FAA-88AC-149010FAF4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mara-photo.ru/images/480f78610a21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40/347/40347354_2814821_large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asik.ru/images/2973/1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hyperlink" Target="http://ru-v.typepad.com/.a/6a012876c1055c970c0120a7bf09cd970b-800wi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estoteka.narod.ru/lichn/1/08.html" TargetMode="External"/><Relationship Id="rId2" Type="http://schemas.openxmlformats.org/officeDocument/2006/relationships/hyperlink" Target="http://testoteka.narod.ru/lichn/1/08.html" TargetMode="External"/><Relationship Id="rId3" Type="http://schemas.openxmlformats.org/officeDocument/2006/relationships/hyperlink" Target="http://testoteka.narod.ru/lichn/1/08.html" TargetMode="Externa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lix.ru/uploads/posts/2008-10/thumbs/1222947733_img_4528859_2501_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10920" y="1988640"/>
            <a:ext cx="806436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Психокоррекционная и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диагностическая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работа с детьми,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       оказавшимися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Times New Roman"/>
              </a:rPr>
              <a:t>         в кризисных ситуациях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Автор Останина О.Г,</a:t>
            </a:r>
            <a:br>
              <a:rPr sz="14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педагог-психолог</a:t>
            </a:r>
            <a:br>
              <a:rPr sz="1400"/>
            </a:br>
            <a:r>
              <a:rPr b="0" lang="ru-RU" sz="1400" spc="-1" strike="noStrike">
                <a:solidFill>
                  <a:srgbClr val="dfdef6"/>
                </a:solidFill>
                <a:latin typeface="Arial"/>
              </a:rPr>
              <a:t>СОГБУ СРЦН «Радуга»</a:t>
            </a:r>
            <a:endParaRPr b="0" lang="en-US" sz="1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" descr="Картинка 23 из 1049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Смерть домашнего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        животного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Что нужно приня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Estrangelo Edessa"/>
              </a:rPr>
              <a:t>во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ообщить о смерти животн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спользуя простые и понятные сло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Если ребёнок не видел труп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оказать место обслед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у ветеринара) захоро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3. Принять решение об усыплении животного без участия ребё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. Используйте смерть животного в качестве основы для беседы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ребёнком о смерти вообщ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5.Не стоит сразу заводить другое домашнее живот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6" name="" descr="Картинка 15 из 8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60280"/>
            <a:ext cx="3673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800" spc="-1" strike="noStrike">
                <a:solidFill>
                  <a:srgbClr val="ffffcc"/>
                </a:solidFill>
                <a:latin typeface="Arial Black"/>
              </a:rPr>
              <a:t>Травма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 реакции на посттравматическое событи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28" name="" descr="Картинка 25 из 20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997360"/>
            <a:ext cx="4971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5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Травм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крайне сильный источник стресса </a:t>
            </a:r>
            <a:r>
              <a:rPr b="0" i="1" lang="ru-RU" sz="2400" spc="-1" strike="noStrike">
                <a:solidFill>
                  <a:srgbClr val="ffffcc"/>
                </a:solidFill>
                <a:latin typeface="Arial Black"/>
              </a:rPr>
              <a:t>вне области обыкновенного человеческого опы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который очень неприятени вызывает симптом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-1476720" y="1988640"/>
            <a:ext cx="127810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Вторичная (опосредованная) травм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реакция на описа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равматических событ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Посттравматическое стрессовое расстройство  (ПТСР)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характерный симптомокомплекс, развивающийся пос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сихологической трав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собенност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травматического событ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езап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сутствие похожего 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и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достаток контр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е и утр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кспозиция смер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ральная неуверен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ведение во время собы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штаб разру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т чего зависит состояние защитных сил личн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840720" cy="40338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3011760" cy="3024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1763640" y="4869000"/>
            <a:ext cx="2087640" cy="18111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4"/>
          <a:stretch/>
        </p:blipFill>
        <p:spPr>
          <a:xfrm>
            <a:off x="684360" y="1341360"/>
            <a:ext cx="952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стрессоустойчивости человека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Молодцы! Знаете!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39" name="" descr="Хвалить"/>
          <p:cNvPicPr/>
          <p:nvPr/>
        </p:nvPicPr>
        <p:blipFill>
          <a:blip r:embed="rId1"/>
          <a:stretch/>
        </p:blipFill>
        <p:spPr>
          <a:xfrm>
            <a:off x="2916360" y="2133720"/>
            <a:ext cx="33336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ТРИ КИТА»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рессоустойчивост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щущение важности своего существо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вство независимости и способности влиять на собственную жиз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рытости и интереса к изменениям, отношения к ним не как к угрозе, а как к потенциальной возможности разви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зы развития ПТС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43" name="" descr="Дети: У страха глаза велики..."/>
          <p:cNvPicPr/>
          <p:nvPr/>
        </p:nvPicPr>
        <p:blipFill>
          <a:blip r:embed="rId1"/>
          <a:stretch/>
        </p:blipFill>
        <p:spPr>
          <a:xfrm>
            <a:off x="4211640" y="3141720"/>
            <a:ext cx="4614840" cy="34002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чаян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риц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вязчив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рабаты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ерш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да имеет смысл искать профессиональную помощь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гда у Вас есть хронические, физические и телесные нарушения, а никаких медицинских причин не находя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полностью поглощены мыслями о пережит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чувствуете себя очень одиноким и боите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м очень трудно принимать решения и сконцентрироваться на чем-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испытываете чувство безнадёжности, депрессию или гне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 надеетесь. Что лекарственные средства, алкоголь или какие-то другие вещества успокоят вашу боль физическую или душевн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аша жизнь идёт наперекосяк: семейные конфликты, утрата дружбы, проблемы на работе, в шко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адачи психолог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МОЧЬ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ять реальность утр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ново приспособиться к действи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рнуть эмоциональную энергию и вложить её в другие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ГОРЕ утраты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Estrangelo Edessa"/>
              </a:rPr>
              <a:t>Фазы го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Шок. Оцепе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Фаза по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Фаза острого гор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Фаза отсроченных толч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Вых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вершающая стад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6084720" y="2997000"/>
            <a:ext cx="1151280" cy="16556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Картинка 1 из 10183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32360" y="836640"/>
            <a:ext cx="3271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тапы процесса сопровож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1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роение программы сопрово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ализация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ал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024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иагнос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агностическое интервь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Лич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Люш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т Кет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ективные методики (ДДЧ, Несуществующее животное, Карта страны, Контуры тела, Общий рисун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ка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Выявление суицидального риска у детей (А.А. Кучер, В.П. 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Костюкевич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одика ШКАЛА СНИЖЕННОГО НАСТРОЕНИЯ — СУБДЕПРЕССИИ (ШСНС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ндивидуальная программа сопровожд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ительность: от 2 до 6 ме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5 занятий либо 6, но по 3-4 час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!!!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сле 12 занятия ребёнок получает представление о том, как пользоваться полученными навы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ключает: диагностику, психокоррекцию, реабилитацию, работу с родител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Конечный результат должен выгладеть примерно так!!!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7" name="" descr="Картинка 381 из 10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5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оматические нарушен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922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е дых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птомы физического переутом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рата аппет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ушения сна, кошмары, бессон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мптоматика той болезни, от которой умер близ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Изменения в психической сфер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увство вины, самообвин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ы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ход в се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руженность в образ умерш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щущение опустошё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дражительность, гн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ах собственной смерти, болезни, трав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блемы с сосредоточенност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симизм относительно будущ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оведенческие реак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54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рилипание» к родител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каз от хождения в школу (с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хотят спать ОДНИ или находиться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рессив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ничтожение вещ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яжелые реак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5052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едение как будто ничего не случило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льные ры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риятие того, что близкий ум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 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Что осложняет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процесс 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                                        гореван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23640" y="1988640"/>
            <a:ext cx="2879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3280" y="1989000"/>
            <a:ext cx="4042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рываемая, непол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Чувства не обсуждают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фликты с близким перед его смер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полненные обещ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ённые обстоятельства смерти близ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туации «непохороненны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8"/>
          <a:stretch/>
        </p:blipFill>
        <p:spPr>
          <a:xfrm>
            <a:off x="324000" y="404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Как помочь ребёнку </a:t>
            </a:r>
            <a:br>
              <a:rPr sz="40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преодолеть гор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хранить ритм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ворить о чувств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чать на вопро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вовать в ритуале прощ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ощрять рассказы ребёнка (о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вматическом событ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делить травму от собы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спокоить (за здоровье членов семьи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ссказать о том, где его умерший род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Как не нужно говорить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4" marL="1522440" indent="-168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Мама хотела, чтобы ты был весёлым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Дедушка уснул навсег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Бабушка после того, как её увезли в больниц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Не беспокойся, я никогда не умр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Бабушка была больн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Уже прошло два года с тех пор, как умер дедушка. Все уже успокои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почему ты до сих пор расстроен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Не могу представить себе, что наша семья будет счастлива без него (неё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Твой брат (умерший), никогда не перечил мне, если я просила его помочь мне. В отличии от теб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-16884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 Мы поговорим об этом поздне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22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2160360" cy="2141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1"/>
          <a:stretch/>
        </p:blipFill>
        <p:spPr>
          <a:xfrm>
            <a:off x="324000" y="4149720"/>
            <a:ext cx="19699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47:01Z</dcterms:created>
  <dc:creator>User</dc:creator>
  <dc:description/>
  <dc:language>en-US</dc:language>
  <cp:lastModifiedBy>1</cp:lastModifiedBy>
  <dcterms:modified xsi:type="dcterms:W3CDTF">2014-04-04T09:02:39Z</dcterms:modified>
  <cp:revision>10</cp:revision>
  <dc:subject/>
  <dc:title>Слайд 1</dc:title>
</cp:coreProperties>
</file>