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B95C-6A4D-4788-A9EA-37E4D9A4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B706-C64F-487A-9645-79654166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B00C-BAFD-4572-9D5A-4FFC5A10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11E3-EFA0-4267-BDCF-C1475BFA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1D6B-98F8-4EA8-BC32-4933E3BA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19A6-98A5-40F6-A630-78EAF886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1973-0081-4EE3-ABE9-781FB0EE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67BC-3A03-4FC8-84A6-D7BE3C4C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DB21-342D-4675-9852-E8F9C982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BFA4-F973-4B6A-A531-7223B940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27BD-B43E-49C7-9F51-86A70F83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1421-5585-4045-8B1E-60F32742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1F11-54A1-477D-A801-4FC307CA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3F52-D75A-48ED-BDCD-8C43C4B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9AB1-A221-4317-9AB7-9614FB89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2B39-8C34-4BDD-9ED1-6A193439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EA7E-5432-483C-9804-2FAEAA9B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5294-9B33-4BCC-B1BC-FD39111F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FA96-158E-4EBD-9539-13887829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735C-608D-4894-93AC-7CE69A2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332B-4676-42C0-93F4-A96C624C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AEB1-53B1-4231-976D-77C73401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E2E5-8216-49A9-9353-A3C9B757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490F-3085-4F9D-8DDE-5631DCF3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45A6-B68B-46F3-9843-0CB1068A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EBEF2-A8F5-48B5-A796-C5FE7FFE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0C36-E01D-4642-8A79-C4BDB43C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6B75-C4F1-469C-AA6F-D4E176DC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2F11-C979-4EA6-B2F8-CBF751B4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493E-28EC-41A5-8802-E89DFBA8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D362-DD57-4CD1-96EB-D291E088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20FB-85E1-4CC1-A700-A273174C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E39BB-F3EE-4DF7-A2F9-C9E9559E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FB69-BDBB-4E77-8EE4-2E6F4CC9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87E8-128D-467C-9A27-5814B4EF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7DEB4-49B8-430B-8434-7A0D812E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C37E-F59C-4981-A474-B07A047F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965A-9034-48CF-9A0C-385290E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F2900-BF59-4327-BB68-AF9358A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991C-68A9-4D93-ADF0-A4D520F1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DC59-436A-4B20-BAE9-60133099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3DE9-35E0-4AAD-8C75-7EB48B48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5955-BFED-4BA7-8462-376D93F5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484C-2BC1-4490-AB83-B6FC062F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BB16-38DB-42FF-862A-1DB3E124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97F2-68DD-47FC-8312-A9B9389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D23A-FD92-4348-9691-1317E7D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03AC-80C9-4E10-8FCC-4901132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80F0-CEC4-4226-BA88-BB1026034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4D0-3024-43BF-A38F-E0A86789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1D8-BD32-49E8-B670-97851D1EE7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5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8909-8B70-4CB0-BB80-56A30630A5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mara-photo.ru/images/480f78610a21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40/347/40347354_2814821_large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asik.ru/images/2973/14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hyperlink" Target="http://ru-v.typepad.com/.a/6a012876c1055c970c0120a7bf09cd970b-800wi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testoteka.narod.ru/lichn/1/08.html" TargetMode="External"/><Relationship Id="rId2" Type="http://schemas.openxmlformats.org/officeDocument/2006/relationships/hyperlink" Target="http://testoteka.narod.ru/lichn/1/08.html" TargetMode="External"/><Relationship Id="rId3" Type="http://schemas.openxmlformats.org/officeDocument/2006/relationships/hyperlink" Target="http://testoteka.narod.ru/lichn/1/08.html" TargetMode="Externa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lix.ru/uploads/posts/2008-10/thumbs/1222947733_img_4528859_2501_9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10920" y="1988640"/>
            <a:ext cx="806436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Психокоррекционная и 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              диагностическая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              работа с детьми, 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                оказавшимися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         в кризисных ситуациях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r>
              <a:rPr b="0" lang="ru-RU" sz="1400" spc="-1" strike="noStrike">
                <a:solidFill>
                  <a:srgbClr val="dfdef6"/>
                </a:solidFill>
                <a:latin typeface="Arial"/>
              </a:rPr>
              <a:t>Автор Останина О.Г,</a:t>
            </a:r>
            <a:br>
              <a:rPr sz="1400"/>
            </a:br>
            <a:r>
              <a:rPr b="0" lang="ru-RU" sz="1400" spc="-1" strike="noStrike">
                <a:solidFill>
                  <a:srgbClr val="dfdef6"/>
                </a:solidFill>
                <a:latin typeface="Arial"/>
              </a:rPr>
              <a:t>педагог-психолог</a:t>
            </a:r>
            <a:br>
              <a:rPr sz="1400"/>
            </a:br>
            <a:r>
              <a:rPr b="0" lang="ru-RU" sz="1400" spc="-1" strike="noStrike">
                <a:solidFill>
                  <a:srgbClr val="dfdef6"/>
                </a:solidFill>
                <a:latin typeface="Arial"/>
              </a:rPr>
              <a:t>СОГБУ СРЦН «Радуга»</a:t>
            </a:r>
            <a:endParaRPr b="0" lang="en-US" sz="1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1" name="" descr="Картинка 23 из 1049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0"/>
            <a:ext cx="370836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Смерть домашнего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        животного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Estrangelo Edessa"/>
              </a:rPr>
              <a:t>Что нужно приня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Estrangelo Edessa"/>
              </a:rPr>
              <a:t>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Estrangelo Edessa"/>
              </a:rPr>
              <a:t>во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ообщить о смерти животн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пользуя простые и понятные сл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ребёнок не видел труп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оказать место обслед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у ветеринара) захоро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3. Принять решение об усыплении животного без участия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. Используйте смерть животного в качестве основы для беседы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ебёнком о смерти вообщ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5.Не стоит сразу заводить другое домашнее живот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" descr="Картинка 15 из 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60280"/>
            <a:ext cx="3673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800" spc="-1" strike="noStrike">
                <a:solidFill>
                  <a:srgbClr val="ffffcc"/>
                </a:solidFill>
                <a:latin typeface="Arial Black"/>
              </a:rPr>
              <a:t>Травма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 реакции на посттравматическое событ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8" name="" descr="Картинка 25 из 20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997360"/>
            <a:ext cx="4971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Травм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– крайне сильный источник стресса </a:t>
            </a: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вне области обыкновенного человеческого опы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который очень неприятени вызывает симптом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-1476720" y="1988640"/>
            <a:ext cx="127810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Вторичная (опосредованная) травм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– реакция на опис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равматических событ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Посттравматическое стрессовое расстройство  (ПТСР)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характерный симптомокомплекс, развивающийся пос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сихологической трав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собенност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авматического собы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езап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сутствие похожего опы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достаток контр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ре и утр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спозиция смер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альная неуве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едение во время собы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штаб разру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т чего зависит состояние защитных сил лично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840720" cy="40338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3011760" cy="30240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1763640" y="4869000"/>
            <a:ext cx="2087640" cy="18111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4"/>
          <a:stretch/>
        </p:blipFill>
        <p:spPr>
          <a:xfrm>
            <a:off x="684360" y="1341360"/>
            <a:ext cx="952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стрессоустойчивости человека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Молодцы! Знаете!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39" name="" descr="Хвалить"/>
          <p:cNvPicPr/>
          <p:nvPr/>
        </p:nvPicPr>
        <p:blipFill>
          <a:blip r:embed="rId1"/>
          <a:stretch/>
        </p:blipFill>
        <p:spPr>
          <a:xfrm>
            <a:off x="2916360" y="2133720"/>
            <a:ext cx="33336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ТРИ КИТА»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трессоустойчивост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щущение важности своего существ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вство независимости и способности влиять на собственную жиз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рытости и интереса к изменениям, отношения к ним не как к угрозе, а как к потенциальной возможности разви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зы развития ПТС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43" name="" descr="Дети: У страха глаза велики..."/>
          <p:cNvPicPr/>
          <p:nvPr/>
        </p:nvPicPr>
        <p:blipFill>
          <a:blip r:embed="rId1"/>
          <a:stretch/>
        </p:blipFill>
        <p:spPr>
          <a:xfrm>
            <a:off x="4211640" y="3141720"/>
            <a:ext cx="4614840" cy="34002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чаянь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риц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вязчив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рабаты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ерш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огда имеет смысл искать профессиональную помощь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гда у Вас есть хронические, физические и телесные нарушения, а никаких медицинских причин не находя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 полностью поглощены мыслями о пережи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 чувствуете себя очень одиноким и боите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ам очень трудно принимать решения и сконцентрироваться на чем-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 испытываете чувство безнадёжности, депрессию или гн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 надеетесь. Что лекарственные средства, алкоголь или какие-то другие вещества успокоят вашу боль физическую или душевну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аша жизнь идёт наперекосяк: семейные конфликты, утрата дружбы, проблемы на работе, в шко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адачи психолог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МОЧЬ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ять реальность утр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ново приспособиться к действи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нуть эмоциональную энергию и вложить её в другие отно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ГОРЕ утраты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Estrangelo Edessa"/>
              </a:rPr>
              <a:t>Фазы гор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Шок. Оцепе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Фаза по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Фаза острого гор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Фаза отсроченных толч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Вых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ющая стад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6084720" y="2997000"/>
            <a:ext cx="1151280" cy="16556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Картинка 1 из 10183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32360" y="836640"/>
            <a:ext cx="32716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Этапы процесса сопровожд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гности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роение программы сопров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ализация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ал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024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иагнос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агностическое интерв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 Лич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 Люш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 Кет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ективные методики (ДДЧ, Несуществующее животное, Карта страны, Контуры тела, Общий рисун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ика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Выявление суицидального риска у детей (А.А. Кучер, В.П.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Костюкевич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ика ШКАЛА СНИЖЕННОГО НАСТРОЕНИЯ — СУБДЕПРЕССИИ (ШСНС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ндивидуальная программа сопровожд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тельность: от 2 до 6 ме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5 занятий либо 6, но по 3-4 часа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!!!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сле 12 занятия ребёнок получает представление о том, как пользоваться полученными навы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ает: диагностику, психокоррекцию, реабилитацию, работу с родител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Конечный результат должен выгладеть примерно так!!!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7" name="" descr="Картинка 381 из 10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54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оматические наруш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922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ушение дых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птомы физического переутом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трата аппет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ушения сна, кошмары, бессон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птоматика той болезни, от которой умер близ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Изменения в психической сфер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увство вины, самообвин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ы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ход в с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руженность в образ умерш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щущение опустошё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дражительность, гн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х собственной смерти, болезни, трав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блемы с сосредоточен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ссимизм относительно будущ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оведенческие реак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54064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рилипание» к родител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аз от хождения в школу (са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хотят спать ОДНИ или находиться д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ресс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ничтожение вещ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яжелые реак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50524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дение как будто ничего не случило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ьные ры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приятие того, что близкий ум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                            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Что осложняет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                            процесс 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                                        гореван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23640" y="1988640"/>
            <a:ext cx="2879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3280" y="1989000"/>
            <a:ext cx="4042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рываемая, неполн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Чувства не обсуждаютс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фликты с близким перед его смер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ыполненные обещ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ённые обстоятельства смерти близ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туации «непохороненны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8"/>
          <a:stretch/>
        </p:blipFill>
        <p:spPr>
          <a:xfrm>
            <a:off x="324000" y="404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Как помочь ребёнку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реодолеть гор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хранить ритм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ворить о чувств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чать на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вовать в ритуале прощ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ощрять рассказы ребёнка (о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авматическом событ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делить травму от собы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покоить (за здоровье членов семьи и т.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ассказать о том, где его умерший род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Как не нужно говорит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4" marL="1522440" indent="-168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 Мама хотела, чтобы ты был весёлым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Дедушка уснул навсег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Бабушка после того, как её увезли в больниц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Не беспокойся, я никогда не умр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Бабушка была больн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 Уже прошло два года с тех пор, как умер дедушка. Все уже успокои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почему ты до сих пор расстроен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Не могу представить себе, что наша семья будет счастлива без него (неё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Твой брат (умерший), никогда не перечил мне, если я просила его помочь мне. В отличии от теб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 Мы поговорим об этом поздне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0"/>
          <a:stretch/>
        </p:blipFill>
        <p:spPr>
          <a:xfrm>
            <a:off x="250920" y="260280"/>
            <a:ext cx="2160360" cy="21416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11"/>
          <a:stretch/>
        </p:blipFill>
        <p:spPr>
          <a:xfrm>
            <a:off x="324000" y="4149720"/>
            <a:ext cx="19699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47:01Z</dcterms:created>
  <dc:creator>User</dc:creator>
  <dc:description/>
  <dc:language>en-US</dc:language>
  <cp:lastModifiedBy>1</cp:lastModifiedBy>
  <dcterms:modified xsi:type="dcterms:W3CDTF">2014-04-04T09:02:39Z</dcterms:modified>
  <cp:revision>10</cp:revision>
  <dc:subject/>
  <dc:title>Слайд 1</dc:title>
</cp:coreProperties>
</file>