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AB2-F43C-4B5F-A0EC-48CFEE0C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34F-9E58-4CF0-BC8C-1F1C9306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1FD-35AE-4171-A203-3DD6BE29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E19-96B7-48D3-BBEC-A82FC5D2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8475-088C-4A0B-8A68-4E2C0B8A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8749-701A-44DA-901F-B3F0E6B4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7058-9BD8-4262-843E-48AF1348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1807-1BCF-4D68-BEF4-26029D90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92A4-AA38-4023-9D8B-0C78FF9A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31B0-70D0-4B6C-8D84-03299207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8B2D-501D-44A2-8142-84108EC9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40E5-D3A1-41C5-9717-59F39965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23FF-5F84-4185-9D49-E32D531C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13E2-A9EB-4EC2-8C3C-41201DC5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5DA9-98A0-44CC-A82F-344C644C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6F7A-3A78-4922-83B1-7B190376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971F-F28E-425E-A376-F914B42C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F5A51-ED5D-454F-B20A-659ECAA1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8EB81-8903-4490-9B0D-57F2617F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C8558-DDB1-4797-BB12-CAF99FB1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7F271-D370-407C-93C0-8BD20DB5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5B987-A454-4D3B-B782-50C40364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70F2-BBBD-4898-81DB-C663A933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0D6D1-AE60-4031-A014-C19CAD13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96790-4132-4A41-B5AC-A1B91875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DAF2A-302F-4D14-BC28-DFAF601A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1323E-BC8B-42E4-B2F4-6C28D05E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67E29-900F-4228-B79D-01130B8B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9230C-6C44-4189-9276-38B8F9F4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29970-47D6-4215-9276-57CA67F8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F645C-EB1F-4703-9C49-796378DC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5A36D-B556-45C9-89AB-354AA73E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D5A9B-BE17-4CF1-9710-73C68DB9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E201-37A0-4D75-9332-6AF8ACC1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3FC92-2CB2-4A67-880B-1F6E97D5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EE76C-6980-4EE9-A3A5-C6AC56AE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C99A9-BC08-41D3-8B18-DEF9379E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743DF-42A7-4981-9733-F5530AB2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C818D-5800-453D-A270-B747E914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F5CE1-A4F5-4423-8690-B7464691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1CD29-0AEC-460A-B11E-17B005F9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F7B17-4253-48C3-B570-A98586B0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4B717-3BDD-4094-8737-940909DC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8848-B0AE-4BC9-B989-C6F96C6B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670-994D-4955-BE1F-A0614973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A95-6DB2-4A55-9034-3BD5BC79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CFC-61CE-4582-BF4F-5CD23409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72D7-C753-4ABC-B82F-99F28BB2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2280"/>
            <a:ext cx="9144000" cy="1755720"/>
            <a:chOff x="0" y="5102280"/>
            <a:chExt cx="9144000" cy="175572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2280"/>
              <a:ext cx="91440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2280"/>
            <a:chOff x="0" y="0"/>
            <a:chExt cx="9144000" cy="510228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0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E75A-2ABB-4327-8BED-482A3B763FE3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3CC2-66AD-4817-8CFF-312135C485AD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4B4B-A455-4163-BAD0-2CD1587F65E1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CF71-582C-4ECD-B93F-BB818E5F135A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2280"/>
            <a:ext cx="9144000" cy="1755720"/>
            <a:chOff x="0" y="5102280"/>
            <a:chExt cx="9144000" cy="175572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2280"/>
              <a:ext cx="91440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2280"/>
            <a:chOff x="0" y="0"/>
            <a:chExt cx="9144000" cy="510228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0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73D0-46E4-4479-9766-3E833CB74944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54D1-EDBE-4140-87B7-F4B57D2E2499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A300-E400-4AA6-9840-F989A0C62277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18DE-E37A-4F1D-A3A3-23CC4273389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gi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755280" y="1341360"/>
            <a:ext cx="799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ОД</a:t>
            </a:r>
            <a:r>
              <a:rPr b="0" lang="ru-RU" sz="1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по образовательной области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«Физическое развитие»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для детей старшей группы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на тему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«С микробами я не дружу – я здоровьем дорожу!»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Провела: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Галактионова Г.Н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инструктор по физической культуре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576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br>
              <a:rPr sz="1600"/>
            </a:br>
            <a:r>
              <a:rPr b="1" lang="ru-RU" sz="16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«Детский сад №1 «Теремок» р.п. Базарный Карабулак Саратовской области»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C:\Users\Галина\Desktop\квитанции свет\660f4df6-7dfb-43f7-9a52-70a6de97486e.gif"/>
          <p:cNvPicPr/>
          <p:nvPr/>
        </p:nvPicPr>
        <p:blipFill>
          <a:blip r:embed="rId1"/>
          <a:stretch/>
        </p:blipFill>
        <p:spPr>
          <a:xfrm>
            <a:off x="233280" y="189000"/>
            <a:ext cx="8677440" cy="6346800"/>
          </a:xfrm>
          <a:prstGeom prst="rect">
            <a:avLst/>
          </a:prstGeom>
          <a:ln w="0">
            <a:noFill/>
          </a:ln>
        </p:spPr>
      </p:pic>
      <p:pic>
        <p:nvPicPr>
          <p:cNvPr id="248" name="Звук 12.mp3" descr=""/>
          <p:cNvPicPr/>
          <p:nvPr/>
        </p:nvPicPr>
        <p:blipFill>
          <a:blip r:embed="rId2"/>
          <a:stretch/>
        </p:blipFill>
        <p:spPr>
          <a:xfrm>
            <a:off x="3962520" y="508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848360" cy="4608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До свиданья, детвора!</a:t>
            </a:r>
            <a:br>
              <a:rPr sz="5400"/>
            </a:br>
            <a:r>
              <a:rPr b="1" lang="ru-RU" sz="5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Всем привет! </a:t>
            </a:r>
            <a:br>
              <a:rPr sz="5400"/>
            </a:br>
            <a:r>
              <a:rPr b="1" lang="ru-RU" sz="54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Физкульт-Ура</a:t>
            </a: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!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elektronnaya-pochta.mp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Users\Галина\Desktop\квитанции свет\660f4df6-7dfb-43f7-9a52-70a6de97486e.gif"/>
          <p:cNvPicPr/>
          <p:nvPr/>
        </p:nvPicPr>
        <p:blipFill>
          <a:blip r:embed="rId1"/>
          <a:stretch/>
        </p:blipFill>
        <p:spPr>
          <a:xfrm>
            <a:off x="498600" y="365040"/>
            <a:ext cx="8157960" cy="5967360"/>
          </a:xfrm>
          <a:prstGeom prst="rect">
            <a:avLst/>
          </a:prstGeom>
          <a:ln w="0">
            <a:noFill/>
          </a:ln>
        </p:spPr>
      </p:pic>
      <p:pic>
        <p:nvPicPr>
          <p:cNvPr id="218" name="Звук 01.mp3" descr=""/>
          <p:cNvPicPr/>
          <p:nvPr/>
        </p:nvPicPr>
        <p:blipFill>
          <a:blip r:embed="rId2"/>
          <a:stretch/>
        </p:blipFill>
        <p:spPr>
          <a:xfrm>
            <a:off x="3978360" y="501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Users\Галина\Desktop\квитанции свет\660f4df6-7dfb-43f7-9a52-70a6de97486e.gif"/>
          <p:cNvPicPr/>
          <p:nvPr/>
        </p:nvPicPr>
        <p:blipFill>
          <a:blip r:embed="rId1"/>
          <a:stretch/>
        </p:blipFill>
        <p:spPr>
          <a:xfrm>
            <a:off x="-9360" y="42840"/>
            <a:ext cx="4895640" cy="3581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Users\Галина\Desktop\квитанции свет\pngtree-talkative-cartoon-virus-pathogen-png-clipart_3503034.jpg"/>
          <p:cNvPicPr/>
          <p:nvPr/>
        </p:nvPicPr>
        <p:blipFill>
          <a:blip r:embed="rId2"/>
          <a:stretch/>
        </p:blipFill>
        <p:spPr>
          <a:xfrm>
            <a:off x="0" y="3068640"/>
            <a:ext cx="3573360" cy="378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C:\Users\Галина\Desktop\квитанции свет\images (2).jpg"/>
          <p:cNvPicPr/>
          <p:nvPr/>
        </p:nvPicPr>
        <p:blipFill>
          <a:blip r:embed="rId3"/>
          <a:stretch/>
        </p:blipFill>
        <p:spPr>
          <a:xfrm>
            <a:off x="4643280" y="-87480"/>
            <a:ext cx="2143440" cy="2143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C:\Users\Галина\Desktop\квитанции свет\images (2).jpg"/>
          <p:cNvPicPr/>
          <p:nvPr/>
        </p:nvPicPr>
        <p:blipFill>
          <a:blip r:embed="rId4"/>
          <a:stretch/>
        </p:blipFill>
        <p:spPr>
          <a:xfrm>
            <a:off x="7000920" y="-381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Users\Галина\Desktop\квитанции свет\500_F_123857243_SEYycEFnBYHYxuZqCbz4XyMcgbf1QYfj.jpg"/>
          <p:cNvPicPr/>
          <p:nvPr/>
        </p:nvPicPr>
        <p:blipFill>
          <a:blip r:embed="rId5"/>
          <a:stretch/>
        </p:blipFill>
        <p:spPr>
          <a:xfrm>
            <a:off x="3711600" y="1811160"/>
            <a:ext cx="5121360" cy="5048280"/>
          </a:xfrm>
          <a:prstGeom prst="rect">
            <a:avLst/>
          </a:prstGeom>
          <a:ln w="0">
            <a:noFill/>
          </a:ln>
        </p:spPr>
      </p:pic>
      <p:pic>
        <p:nvPicPr>
          <p:cNvPr id="224" name="Звук 02.mp3" descr=""/>
          <p:cNvPicPr/>
          <p:nvPr/>
        </p:nvPicPr>
        <p:blipFill>
          <a:blip r:embed="rId6"/>
          <a:stretch/>
        </p:blipFill>
        <p:spPr>
          <a:xfrm>
            <a:off x="2044800" y="20779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Звук 03.mp3" descr=""/>
          <p:cNvPicPr/>
          <p:nvPr/>
        </p:nvPicPr>
        <p:blipFill>
          <a:blip r:embed="rId7"/>
          <a:stretch/>
        </p:blipFill>
        <p:spPr>
          <a:xfrm>
            <a:off x="4657680" y="32972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26" name="Звук 04.mp3" descr=""/>
          <p:cNvPicPr/>
          <p:nvPr/>
        </p:nvPicPr>
        <p:blipFill>
          <a:blip r:embed="rId8"/>
          <a:stretch/>
        </p:blipFill>
        <p:spPr>
          <a:xfrm>
            <a:off x="2797200" y="52070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,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,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Users\Галина\Desktop\квитанции свет\660f4df6-7dfb-43f7-9a52-70a6de97486e.gif"/>
          <p:cNvPicPr/>
          <p:nvPr/>
        </p:nvPicPr>
        <p:blipFill>
          <a:blip r:embed="rId1"/>
          <a:stretch/>
        </p:blipFill>
        <p:spPr>
          <a:xfrm>
            <a:off x="15840" y="0"/>
            <a:ext cx="5081760" cy="3716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Users\Галина\Desktop\квитанции свет\500_F_123857243_SEYycEFnBYHYxuZqCbz4XyMcgbf1QYfj.jpg"/>
          <p:cNvPicPr/>
          <p:nvPr/>
        </p:nvPicPr>
        <p:blipFill>
          <a:blip r:embed="rId2"/>
          <a:stretch/>
        </p:blipFill>
        <p:spPr>
          <a:xfrm rot="16200000">
            <a:off x="3483000" y="1209600"/>
            <a:ext cx="6021360" cy="5300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:\Users\Галина\Desktop\квитанции свет\images (2).jpg"/>
          <p:cNvPicPr/>
          <p:nvPr/>
        </p:nvPicPr>
        <p:blipFill>
          <a:blip r:embed="rId3"/>
          <a:stretch/>
        </p:blipFill>
        <p:spPr>
          <a:xfrm>
            <a:off x="42840" y="31417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Users\Галина\Desktop\квитанции свет\images (2).jpg"/>
          <p:cNvPicPr/>
          <p:nvPr/>
        </p:nvPicPr>
        <p:blipFill>
          <a:blip r:embed="rId4"/>
          <a:stretch/>
        </p:blipFill>
        <p:spPr>
          <a:xfrm>
            <a:off x="2305080" y="473220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231" name="Звук 06.mp3" descr=""/>
          <p:cNvPicPr/>
          <p:nvPr/>
        </p:nvPicPr>
        <p:blipFill>
          <a:blip r:embed="rId5"/>
          <a:stretch/>
        </p:blipFill>
        <p:spPr>
          <a:xfrm>
            <a:off x="2486160" y="51800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32" name="Звук 05.mp3" descr=""/>
          <p:cNvPicPr/>
          <p:nvPr/>
        </p:nvPicPr>
        <p:blipFill>
          <a:blip r:embed="rId6"/>
          <a:stretch/>
        </p:blipFill>
        <p:spPr>
          <a:xfrm>
            <a:off x="2328840" y="177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C:\Users\Галина\Desktop\квитанции свет\660f4df6-7dfb-43f7-9a52-70a6de97486e.gif"/>
          <p:cNvPicPr/>
          <p:nvPr/>
        </p:nvPicPr>
        <p:blipFill>
          <a:blip r:embed="rId1"/>
          <a:stretch/>
        </p:blipFill>
        <p:spPr>
          <a:xfrm>
            <a:off x="179280" y="115920"/>
            <a:ext cx="4326120" cy="3556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Users\Галина\Desktop\квитанции свет\500_F_123857243_SEYycEFnBYHYxuZqCbz4XyMcgbf1QYfj.jpg"/>
          <p:cNvPicPr/>
          <p:nvPr/>
        </p:nvPicPr>
        <p:blipFill>
          <a:blip r:embed="rId2"/>
          <a:stretch/>
        </p:blipFill>
        <p:spPr>
          <a:xfrm>
            <a:off x="3924360" y="1695600"/>
            <a:ext cx="5219640" cy="5045040"/>
          </a:xfrm>
          <a:prstGeom prst="rect">
            <a:avLst/>
          </a:prstGeom>
          <a:ln w="0">
            <a:noFill/>
          </a:ln>
        </p:spPr>
      </p:pic>
      <p:pic>
        <p:nvPicPr>
          <p:cNvPr id="235" name="Звук 07.mp3" descr=""/>
          <p:cNvPicPr/>
          <p:nvPr/>
        </p:nvPicPr>
        <p:blipFill>
          <a:blip r:embed="rId3"/>
          <a:stretch/>
        </p:blipFill>
        <p:spPr>
          <a:xfrm>
            <a:off x="1258920" y="29592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Галина\Desktop\квитанции свет\660f4df6-7dfb-43f7-9a52-70a6de97486e.gif"/>
          <p:cNvPicPr/>
          <p:nvPr/>
        </p:nvPicPr>
        <p:blipFill>
          <a:blip r:embed="rId1"/>
          <a:stretch/>
        </p:blipFill>
        <p:spPr>
          <a:xfrm>
            <a:off x="0" y="0"/>
            <a:ext cx="4362480" cy="3191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C:\Users\Галина\Desktop\квитанции свет\20190408_183956..jpg"/>
          <p:cNvPicPr/>
          <p:nvPr/>
        </p:nvPicPr>
        <p:blipFill>
          <a:blip r:embed="rId2"/>
          <a:stretch/>
        </p:blipFill>
        <p:spPr>
          <a:xfrm>
            <a:off x="3635280" y="2719440"/>
            <a:ext cx="5340600" cy="4005360"/>
          </a:xfrm>
          <a:prstGeom prst="rect">
            <a:avLst/>
          </a:prstGeom>
          <a:ln w="0">
            <a:noFill/>
          </a:ln>
        </p:spPr>
      </p:pic>
      <p:pic>
        <p:nvPicPr>
          <p:cNvPr id="238" name="Звук 08.mp3" descr=""/>
          <p:cNvPicPr/>
          <p:nvPr/>
        </p:nvPicPr>
        <p:blipFill>
          <a:blip r:embed="rId3"/>
          <a:stretch/>
        </p:blipFill>
        <p:spPr>
          <a:xfrm>
            <a:off x="1908000" y="37400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C:\Users\Галина\Desktop\квитанции свет\500_F_197013672_wnHWdtaK4Ipy7buUz0Y69yGdYj5J60at.jpg"/>
          <p:cNvPicPr/>
          <p:nvPr/>
        </p:nvPicPr>
        <p:blipFill>
          <a:blip r:embed="rId1"/>
          <a:stretch/>
        </p:blipFill>
        <p:spPr>
          <a:xfrm>
            <a:off x="0" y="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Галина\Desktop\квитанции свет\660f4df6-7dfb-43f7-9a52-70a6de97486e.gif"/>
          <p:cNvPicPr/>
          <p:nvPr/>
        </p:nvPicPr>
        <p:blipFill>
          <a:blip r:embed="rId2"/>
          <a:stretch/>
        </p:blipFill>
        <p:spPr>
          <a:xfrm>
            <a:off x="2106720" y="309600"/>
            <a:ext cx="6943680" cy="5632560"/>
          </a:xfrm>
          <a:prstGeom prst="rect">
            <a:avLst/>
          </a:prstGeom>
          <a:ln w="0">
            <a:noFill/>
          </a:ln>
        </p:spPr>
      </p:pic>
      <p:pic>
        <p:nvPicPr>
          <p:cNvPr id="241" name="Звук 09.mp3" descr=""/>
          <p:cNvPicPr/>
          <p:nvPr/>
        </p:nvPicPr>
        <p:blipFill>
          <a:blip r:embed="rId3"/>
          <a:stretch/>
        </p:blipFill>
        <p:spPr>
          <a:xfrm>
            <a:off x="6892920" y="282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Звук 10.mp3" descr=""/>
          <p:cNvPicPr/>
          <p:nvPr/>
        </p:nvPicPr>
        <p:blipFill>
          <a:blip r:embed="rId4"/>
          <a:stretch/>
        </p:blipFill>
        <p:spPr>
          <a:xfrm>
            <a:off x="4572000" y="49417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Users\Галина\Desktop\квитанции свет\660f4df6-7dfb-43f7-9a52-70a6de97486e.gif"/>
          <p:cNvPicPr/>
          <p:nvPr/>
        </p:nvPicPr>
        <p:blipFill>
          <a:blip r:embed="rId1"/>
          <a:stretch/>
        </p:blipFill>
        <p:spPr>
          <a:xfrm>
            <a:off x="2908440" y="692280"/>
            <a:ext cx="6321240" cy="4626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Users\Галина\Desktop\квитанции свет\images (1).jpg"/>
          <p:cNvPicPr/>
          <p:nvPr/>
        </p:nvPicPr>
        <p:blipFill>
          <a:blip r:embed="rId2"/>
          <a:stretch/>
        </p:blipFill>
        <p:spPr>
          <a:xfrm>
            <a:off x="50760" y="3776760"/>
            <a:ext cx="3081240" cy="3081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C:\Users\Галина\Desktop\квитанции свет\images (4).jpg"/>
          <p:cNvPicPr/>
          <p:nvPr/>
        </p:nvPicPr>
        <p:blipFill>
          <a:blip r:embed="rId3"/>
          <a:stretch/>
        </p:blipFill>
        <p:spPr>
          <a:xfrm>
            <a:off x="4680" y="0"/>
            <a:ext cx="3272040" cy="3270240"/>
          </a:xfrm>
          <a:prstGeom prst="rect">
            <a:avLst/>
          </a:prstGeom>
          <a:ln w="0">
            <a:noFill/>
          </a:ln>
        </p:spPr>
      </p:pic>
      <p:pic>
        <p:nvPicPr>
          <p:cNvPr id="246" name="Звук 11.mp3" descr=""/>
          <p:cNvPicPr/>
          <p:nvPr/>
        </p:nvPicPr>
        <p:blipFill>
          <a:blip r:embed="rId4"/>
          <a:stretch/>
        </p:blipFill>
        <p:spPr>
          <a:xfrm>
            <a:off x="5764320" y="4076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7T16:28:07Z</dcterms:created>
  <dc:creator>Галина Галактионова</dc:creator>
  <dc:description/>
  <dc:language>en-US</dc:language>
  <cp:lastModifiedBy>Пользователь Windows</cp:lastModifiedBy>
  <dcterms:modified xsi:type="dcterms:W3CDTF">2020-11-19T17:30:53Z</dcterms:modified>
  <cp:revision>31</cp:revision>
  <dc:subject/>
  <dc:title>Презентация PowerPoint</dc:title>
</cp:coreProperties>
</file>