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18F6-D49F-40F9-95FA-EFFF69EA26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4781-D959-4A7F-BB33-39813DC2C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C4B6-93F8-4451-B09E-DB6589600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780-CB6A-4EE5-9E0C-F62A5269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49B-7A49-48DF-96F0-1102DA94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885-7D4D-4DA3-B937-92E45E7D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2E6-E82C-4AE8-A4CA-2B9683A3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DAE1-17EA-4268-9545-D246B1D4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DA45-2CD8-4F06-823D-A85D17E9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1DE3-6F7C-4A60-922B-7BCD663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4F0-8251-4891-BEA1-2ABA225D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2751-486F-4EFE-B4B1-6162B9C8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DFEA-E5DC-4EFC-AA37-916E51CB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6C4A-551E-468E-AC6E-3FC40F64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D9E-D8AE-4762-9745-217FB81C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D7C6-86AD-4CD6-81A9-773C5224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DBB3-C139-4552-8C3F-1BDF9AED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8DA1-134C-4C12-91BE-2AEB1A75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F937-C16F-4EFB-9FFB-27C2BA56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5282-2019-4791-8FC7-019CD6CB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5EDA-82A3-4A24-84D6-6C1D34A2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E744-8360-42E5-AA1B-560254D3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3CBF-BABD-405E-B837-5D0F5F0B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107D-EEB3-4031-A0A9-03C00832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133D-F177-48C9-916C-4DF3E578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02A-20B1-4A62-AF82-2323085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1547-87FE-4C11-8AD9-EDA4B802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A84E-4FAC-4E33-A313-EF1B6985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EEC1-40BA-424E-9B97-9AA792B5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CAE3-9D64-4209-B861-AECB1EB6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977EC-CF5E-4414-9BEA-11D7254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695C8-3450-405B-86BD-9DEFDCEA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44C6A-6FA6-44EF-8C4A-B10D979B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7DB8D-6571-4AB5-B71C-CFEB07F6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50CAC-80D6-4237-AEF5-1F711827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1AE7-1B77-411E-8683-D1B7B629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64C-17E9-4004-948B-3ADEAEF9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02910-F104-42BD-8D8C-0772B936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F67F0-523C-4B47-8024-A48534B4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9DA0-0414-483E-B862-8B11D6EA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122F-8074-44EF-BA6A-498A4DBE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06CBC-ACF5-4B6C-B161-474C08A4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7EFC4-BB20-4015-AACD-AE5A522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1AF8C-7FEF-4CDF-B11B-E971FAE9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5F7F-4129-4B8A-9EAE-A26D70E1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A4FE-B78C-4B25-A588-4A230AF0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C1A34-9C90-46DA-A052-EB7304C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466-4E22-4448-9298-9E442A46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E8A5-2699-4B20-88A3-A0B4658E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985C9-3BAC-4855-A66C-92E4EA8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2FA2-7B51-4788-B208-25054212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4C41D-E0D8-42D8-A957-9C15BBC0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F2911-AC17-4325-83A5-F25C50C3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D3A6-823E-4C94-B8EC-B2D0447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C5384-16C1-4A75-97B8-94906AC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DA04-2263-4A11-A82A-FD17489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327F-B867-4A45-A752-2018FA23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5E609-0C7F-421F-963C-39C62A5D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B70-4749-48E8-B6D2-544BB5E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EB7B-B79E-4EF4-9032-9314BD4C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C2AD-A45A-4CE1-8979-27AA7D29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C92EE-3174-4372-A6BD-E65257BA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C224A-CF69-464C-A292-EDCF86D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34BE6-C8D5-4355-B3CE-E08608D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66386-3311-4E32-A5C4-E5E227E9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E19C-C82B-414F-A5E0-2B381C16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5BBBD-DE0E-4DC6-9F9C-9770621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568C3-C2C0-4C1B-8E84-2E657C3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A8CB0-2285-426A-8A93-E07A882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F98-9ECB-4141-8956-FA027D15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BD36F-3A3E-4A96-9D6E-844C5837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01E3-5F17-4A7B-A03B-9B447364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14D1C-0614-4F9D-B426-644710D8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D99-8263-4B00-82B3-1E0C04B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82B-CCC5-44E7-9970-3B591897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E7A3-7CCB-4D3E-9FDD-895AD54C1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A062-158F-4C70-ABF8-D69CB6A95A3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клипарты\Оформляшки\5e226a3bbf95.png"/>
          <p:cNvPicPr/>
          <p:nvPr/>
        </p:nvPicPr>
        <p:blipFill>
          <a:blip r:embed="rId3"/>
          <a:srcRect l="-872" t="46843" r="51530" b="0"/>
          <a:stretch/>
        </p:blipFill>
        <p:spPr>
          <a:xfrm>
            <a:off x="357120" y="0"/>
            <a:ext cx="8532720" cy="6405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CA51-02BC-4759-B7B0-CE13AA701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6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D57C-181A-4EB2-9D12-D61EAC3A646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8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B4DC-9FF6-4525-8E52-19AA2B3EAF8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42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29BC-DFD2-4A66-B3E9-981F9C7A81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1763640" y="2060640"/>
            <a:ext cx="662472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только тогда знание, когда оно приобретено усилиями своей мысли, а не памя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63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294e7b"/>
                </a:solidFill>
                <a:latin typeface="Times New Roman"/>
                <a:ea typeface="Times New Roman"/>
              </a:rPr>
              <a:t>Конъюнкци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294e7b"/>
                </a:solidFill>
                <a:latin typeface="Times New Roman"/>
                <a:ea typeface="Times New Roman"/>
              </a:rPr>
              <a:t>Дизъюнкци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294e7b"/>
                </a:solidFill>
                <a:latin typeface="Times New Roman"/>
                <a:ea typeface="Times New Roman"/>
              </a:rPr>
              <a:t>Инверс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C:\Users\Админ\Desktop\логика откр\peresechenie.jpg"/>
          <p:cNvPicPr/>
          <p:nvPr/>
        </p:nvPicPr>
        <p:blipFill>
          <a:blip r:embed="rId1"/>
          <a:stretch/>
        </p:blipFill>
        <p:spPr>
          <a:xfrm>
            <a:off x="5665680" y="2603520"/>
            <a:ext cx="2960640" cy="1933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C:\Users\Админ\Desktop\логика откр\obedinenie.jpg"/>
          <p:cNvPicPr/>
          <p:nvPr/>
        </p:nvPicPr>
        <p:blipFill>
          <a:blip r:embed="rId2"/>
          <a:stretch/>
        </p:blipFill>
        <p:spPr>
          <a:xfrm>
            <a:off x="5651640" y="4757760"/>
            <a:ext cx="2896920" cy="1882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C:\Users\Админ\Desktop\логика откр\дополнение.png"/>
          <p:cNvPicPr/>
          <p:nvPr/>
        </p:nvPicPr>
        <p:blipFill>
          <a:blip r:embed="rId3"/>
          <a:stretch/>
        </p:blipFill>
        <p:spPr>
          <a:xfrm>
            <a:off x="5702400" y="333360"/>
            <a:ext cx="2873160" cy="1871640"/>
          </a:xfrm>
          <a:prstGeom prst="rect">
            <a:avLst/>
          </a:prstGeom>
          <a:ln w="0">
            <a:noFill/>
          </a:ln>
        </p:spPr>
      </p:pic>
      <p:cxnSp>
        <p:nvCxnSpPr>
          <p:cNvPr id="321" name="Прямая со стрелкой 4"/>
          <p:cNvCxnSpPr/>
          <p:nvPr/>
        </p:nvCxnSpPr>
        <p:spPr>
          <a:xfrm>
            <a:off x="4716360" y="1413000"/>
            <a:ext cx="936000" cy="19454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322" name="Прямая со стрелкой 7"/>
          <p:cNvCxnSpPr/>
          <p:nvPr/>
        </p:nvCxnSpPr>
        <p:spPr>
          <a:xfrm flipV="1">
            <a:off x="3605040" y="1052280"/>
            <a:ext cx="2262960" cy="35042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323" name="Прямая со стрелкой 11"/>
          <p:cNvCxnSpPr>
            <a:stCxn id="317" idx="2"/>
          </p:cNvCxnSpPr>
          <p:nvPr/>
        </p:nvCxnSpPr>
        <p:spPr>
          <a:xfrm>
            <a:off x="4582800" y="2776320"/>
            <a:ext cx="1284840" cy="24534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324" name="Овал 12"/>
          <p:cNvSpPr/>
          <p:nvPr/>
        </p:nvSpPr>
        <p:spPr>
          <a:xfrm>
            <a:off x="2195640" y="333360"/>
            <a:ext cx="576000" cy="57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19"/>
          <p:cNvSpPr/>
          <p:nvPr/>
        </p:nvSpPr>
        <p:spPr>
          <a:xfrm>
            <a:off x="2340000" y="2097000"/>
            <a:ext cx="57636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20"/>
          <p:cNvSpPr/>
          <p:nvPr/>
        </p:nvSpPr>
        <p:spPr>
          <a:xfrm>
            <a:off x="2079720" y="3716280"/>
            <a:ext cx="57600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34800" y="139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мальчики играют в хоккей и не играют в футбо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25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2960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tretch/>
        </p:blipFill>
        <p:spPr>
          <a:xfrm>
            <a:off x="449280" y="1197000"/>
            <a:ext cx="82994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542880" y="92160"/>
            <a:ext cx="8229600" cy="1176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" descr=""/>
          <p:cNvPicPr/>
          <p:nvPr/>
        </p:nvPicPr>
        <p:blipFill>
          <a:blip r:embed="rId3"/>
          <a:stretch/>
        </p:blipFill>
        <p:spPr>
          <a:xfrm>
            <a:off x="395280" y="1000080"/>
            <a:ext cx="813744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90680"/>
            <a:ext cx="88995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http://videouroki.net/img/articles/248-1380895502.png"/>
          <p:cNvPicPr/>
          <p:nvPr/>
        </p:nvPicPr>
        <p:blipFill>
          <a:blip r:embed="rId1"/>
          <a:stretch/>
        </p:blipFill>
        <p:spPr>
          <a:xfrm>
            <a:off x="1116000" y="620640"/>
            <a:ext cx="727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2" descr=""/>
          <p:cNvPicPr/>
          <p:nvPr/>
        </p:nvPicPr>
        <p:blipFill>
          <a:blip r:embed="rId1"/>
          <a:stretch/>
        </p:blipFill>
        <p:spPr>
          <a:xfrm>
            <a:off x="2193840" y="871560"/>
            <a:ext cx="6121440" cy="107316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1763640" y="1989000"/>
            <a:ext cx="62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пользуя презентацию, составить сводную таблицу «Логические оп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ь задание на карточ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готовиться к провероч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liubavyshka.ru/_ph/4/2/357458179.gif"/>
          <p:cNvPicPr/>
          <p:nvPr/>
        </p:nvPicPr>
        <p:blipFill>
          <a:blip r:embed="rId1"/>
          <a:stretch/>
        </p:blipFill>
        <p:spPr>
          <a:xfrm>
            <a:off x="3276720" y="33480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4" descr=""/>
          <p:cNvPicPr/>
          <p:nvPr/>
        </p:nvPicPr>
        <p:blipFill>
          <a:blip r:embed="rId2"/>
          <a:stretch/>
        </p:blipFill>
        <p:spPr>
          <a:xfrm>
            <a:off x="-212760" y="3067200"/>
            <a:ext cx="9569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=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играет в футбо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 играет в баскетбо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ксим играет в футбол и баскетбо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одзаголовок 2" descr=""/>
          <p:cNvPicPr/>
          <p:nvPr/>
        </p:nvPicPr>
        <p:blipFill>
          <a:blip r:embed="rId1"/>
          <a:stretch/>
        </p:blipFill>
        <p:spPr>
          <a:xfrm>
            <a:off x="1762200" y="1895400"/>
            <a:ext cx="6400800" cy="3024360"/>
          </a:xfrm>
          <a:prstGeom prst="rect">
            <a:avLst/>
          </a:prstGeom>
          <a:ln w="0">
            <a:noFill/>
          </a:ln>
        </p:spPr>
      </p:pic>
      <p:sp>
        <p:nvSpPr>
          <p:cNvPr id="308" name="Дата 1"/>
          <p:cNvSpPr/>
          <p:nvPr/>
        </p:nvSpPr>
        <p:spPr>
          <a:xfrm>
            <a:off x="6372360" y="1052640"/>
            <a:ext cx="166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87C1-BAC5-466C-B880-691DE43307F9}" type="datetime">
              <a:rPr b="1" lang="ru-RU" sz="2400" spc="-1" strike="noStrike">
                <a:solidFill>
                  <a:srgbClr val="002060"/>
                </a:solidFill>
                <a:latin typeface="Calibri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1390680"/>
            <a:ext cx="889956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ъюнк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зъюнкц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вер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знакомиться с информацией в учебн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обходимую информацию вынести на слайды, шаблоны которых я для вас приготов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нести изученный вами материал до двух других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395280" y="1197000"/>
            <a:ext cx="820908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тивно участвуй в совмест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нимательно выслушивай собесе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е перебивай товарища, пока он не закончит свой рас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ыскажи свою точку зрения по данному вопросу, будь при этом веж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е смейся над чужими недостатками и ошибками, но тактично укажи на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лагодари партнеров за совместную рабо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Прямоугольник 2" descr=""/>
          <p:cNvPicPr/>
          <p:nvPr/>
        </p:nvPicPr>
        <p:blipFill>
          <a:blip r:embed="rId1"/>
          <a:stretch/>
        </p:blipFill>
        <p:spPr>
          <a:xfrm>
            <a:off x="1504800" y="244440"/>
            <a:ext cx="63835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644400" y="907920"/>
            <a:ext cx="777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94e7b"/>
                </a:solidFill>
                <a:uFillTx/>
                <a:latin typeface="Times New Roman"/>
                <a:ea typeface="Times New Roman"/>
              </a:rPr>
              <a:t>Групп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ъюнкция (слайды 2-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2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94e7b"/>
                </a:solidFill>
                <a:uFillTx/>
                <a:latin typeface="Times New Roman"/>
                <a:ea typeface="Times New Roman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ъюнкция (слайды 7-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2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294e7b"/>
                </a:solidFill>
                <a:uFillTx/>
                <a:latin typeface="Times New Roman"/>
                <a:ea typeface="Times New Roman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(слайды 12-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риф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24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3:47:59Z</dcterms:created>
  <dc:creator>Helen</dc:creator>
  <dc:description/>
  <dc:language>en-US</dc:language>
  <cp:lastModifiedBy>Админ</cp:lastModifiedBy>
  <dcterms:modified xsi:type="dcterms:W3CDTF">2019-11-11T12:47:07Z</dcterms:modified>
  <cp:revision>76</cp:revision>
  <dc:subject/>
  <dc:title>Слайд 1</dc:title>
</cp:coreProperties>
</file>