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2.png" ContentType="image/png"/>
  <Override PartName="/ppt/media/image10.png" ContentType="image/png"/>
  <Override PartName="/ppt/media/image21.gif" ContentType="image/gif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2698-1067-4BF2-98F5-699FEE58A7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BA3F-7604-48A9-A6CB-356564A4CF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D5D7-099B-4E8F-B8A9-2AF212628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129-9D18-440C-A046-3838DB73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AC5-55B4-4266-A829-E533126E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BC2-4797-45C1-959F-A9CD8A0C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9DA-BE8C-4AE0-BD88-5782859A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6AB2-7DFC-4962-9270-F6C55D6C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79FE-E820-49CD-88D2-07AFA06C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6C35-6A77-43EB-A668-2625B686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313D-F25B-4738-8133-1A011FFE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A866-51FB-4ABB-A5C8-647C27AE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63AF-BA5A-42DA-B558-E90FC1CF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6C64-0395-464A-A173-4EC40B48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924-6FF0-4846-9F7E-A2943705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948A-3205-4DB4-AE26-610B7A57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BEB0-8BDA-460D-A9A6-505DB988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988C-5220-4012-AAEA-97637F57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002A-40F4-4D81-A390-B24220B0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7142-190A-41E8-B37B-A12ED938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0A10-9F2A-4835-AE75-40D54159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3D4E3-5659-4D09-869E-9A957B72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0F78-BD65-4FB0-9B14-977F97DC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CF94A-AD24-4CC6-9099-B3A4AD69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8092-7C84-402A-B660-760C30B0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8B9-9E68-4B35-8E2E-C1FF8105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8791-6998-4A76-A77D-69872AA1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FCBC-A548-4D05-9D24-A642E46B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FF316-FC11-4CB9-9635-7659341A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9A0FD-BCD6-4155-81BC-45D6EB0B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429B-A0D2-4DAA-9A3E-221D7043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5A68-F7D9-446E-8628-85FE4F8F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190AD-49F7-4D5A-8DB6-9450F7B1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EBE6A-CEF0-4203-B4FE-715164BA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ED7BE-6BF6-4FB7-8ED0-5BD027EE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62E0-FC7D-4AA8-AEA0-17AE3219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6B9-FFE7-45EE-940C-A2CAE56C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1E62-BC39-45B9-A5C1-EE2A190C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9A320-A093-4153-9E2D-C63C119D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D96A-BBAF-4912-9049-196C052A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C33A3-8AC4-4BAF-B474-D6B70F75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E859-359C-42D9-9EEF-584EC16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867A-D0A8-4028-A7CB-FAB9A26D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952E3-CC62-4BF2-95E4-78D77EA5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BFE08-12D7-4069-A340-64F23D39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A7AB8-6935-4813-8804-CDC3336E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7A448-98E7-4B9A-B0EE-256D881E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8F3-CCF9-4209-AD95-3594319B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01777-D197-4DC5-BEC2-BB178122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7D24F-1DDA-4FEE-B5E4-B9E2AFE3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2CC45-300C-44FA-A57B-8C520872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50A44-72F1-42BC-994C-716AAEAE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6B165-DCD7-4507-84FF-AD8E4B0E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DB0E9-250A-4A65-906D-04DCD805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A2EBF-91FE-4D86-9D80-BC2EE916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BE489-E033-458D-97AF-653A4A5A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31486-7419-4FDB-913F-5637D98F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E9089-3E65-488E-88E4-A7CF149B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B90-904D-4E7A-9A5E-7DB3002D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1C225-28F4-454A-8459-9890B3E7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E6F8A-0A60-4D33-B801-381F14D4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49534-AEAD-4F5E-AFEB-46AD33C3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05D94-B689-4B8F-BCC6-27AC2E38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F683A-8CB3-4FF2-9BD9-402C020D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87FFE-B011-4AAD-BA55-DC11B263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52D33-4946-4C7C-9634-22DE8121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93154-6200-4ACC-B072-60312E32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44777-5918-4702-823B-7E22C9CD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463C1-8F37-40E6-832D-2B08A913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C0E-213A-4EF7-84D7-1EC1188C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57057-44F3-446D-B785-58CE2BE0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056F9-EC15-4CC8-B350-401878A4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032F-7C0A-469B-8529-7C91BC8F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FDA-F6A2-477E-B06A-30D43992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611-FE8B-4920-87A9-197485BD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D188-F9B2-4674-B35D-81180449C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C823-DF94-424F-B1DD-9154411453F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клипарты\Оформляшки\5e226a3bbf95.png"/>
          <p:cNvPicPr/>
          <p:nvPr/>
        </p:nvPicPr>
        <p:blipFill>
          <a:blip r:embed="rId3"/>
          <a:srcRect l="-872" t="46843" r="51530" b="0"/>
          <a:stretch/>
        </p:blipFill>
        <p:spPr>
          <a:xfrm>
            <a:off x="357120" y="0"/>
            <a:ext cx="8532720" cy="6405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7761-4BCB-44F3-B173-6EB5594974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36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7F78-5258-418F-A20E-991D1FDEC6F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8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B10F-02F6-4C35-B42E-2F5A8266E0B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B76F-27CA-454C-8210-F0E1534CC1D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"/>
          <p:cNvSpPr/>
          <p:nvPr/>
        </p:nvSpPr>
        <p:spPr>
          <a:xfrm>
            <a:off x="1763640" y="2060640"/>
            <a:ext cx="6624720" cy="22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только тогда знание, когда оно приобретено усилиями своей мысли, а не памя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63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294e7b"/>
                </a:solidFill>
                <a:latin typeface="Times New Roman"/>
                <a:ea typeface="Times New Roman"/>
              </a:rPr>
              <a:t>Конъюнкция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294e7b"/>
                </a:solidFill>
                <a:latin typeface="Times New Roman"/>
                <a:ea typeface="Times New Roman"/>
              </a:rPr>
              <a:t>Дизъюнкция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294e7b"/>
                </a:solidFill>
                <a:latin typeface="Times New Roman"/>
                <a:ea typeface="Times New Roman"/>
              </a:rPr>
              <a:t>Инверс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" descr="C:\Users\Админ\Desktop\логика откр\peresechenie.jpg"/>
          <p:cNvPicPr/>
          <p:nvPr/>
        </p:nvPicPr>
        <p:blipFill>
          <a:blip r:embed="rId1"/>
          <a:stretch/>
        </p:blipFill>
        <p:spPr>
          <a:xfrm>
            <a:off x="5665680" y="2603520"/>
            <a:ext cx="2960640" cy="1933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C:\Users\Админ\Desktop\логика откр\obedinenie.jpg"/>
          <p:cNvPicPr/>
          <p:nvPr/>
        </p:nvPicPr>
        <p:blipFill>
          <a:blip r:embed="rId2"/>
          <a:stretch/>
        </p:blipFill>
        <p:spPr>
          <a:xfrm>
            <a:off x="5651640" y="4757760"/>
            <a:ext cx="2896920" cy="1882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C:\Users\Админ\Desktop\логика откр\дополнение.png"/>
          <p:cNvPicPr/>
          <p:nvPr/>
        </p:nvPicPr>
        <p:blipFill>
          <a:blip r:embed="rId3"/>
          <a:stretch/>
        </p:blipFill>
        <p:spPr>
          <a:xfrm>
            <a:off x="5702400" y="333360"/>
            <a:ext cx="2873160" cy="1871640"/>
          </a:xfrm>
          <a:prstGeom prst="rect">
            <a:avLst/>
          </a:prstGeom>
          <a:ln w="0">
            <a:noFill/>
          </a:ln>
        </p:spPr>
      </p:pic>
      <p:cxnSp>
        <p:nvCxnSpPr>
          <p:cNvPr id="321" name="Прямая со стрелкой 4"/>
          <p:cNvCxnSpPr/>
          <p:nvPr/>
        </p:nvCxnSpPr>
        <p:spPr>
          <a:xfrm>
            <a:off x="4716360" y="1413000"/>
            <a:ext cx="936000" cy="194544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322" name="Прямая со стрелкой 7"/>
          <p:cNvCxnSpPr/>
          <p:nvPr/>
        </p:nvCxnSpPr>
        <p:spPr>
          <a:xfrm flipV="1">
            <a:off x="3605040" y="1052280"/>
            <a:ext cx="2262960" cy="350424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323" name="Прямая со стрелкой 11"/>
          <p:cNvCxnSpPr>
            <a:stCxn id="317" idx="2"/>
          </p:cNvCxnSpPr>
          <p:nvPr/>
        </p:nvCxnSpPr>
        <p:spPr>
          <a:xfrm>
            <a:off x="4582800" y="2776320"/>
            <a:ext cx="1284840" cy="24534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324" name="Овал 12"/>
          <p:cNvSpPr/>
          <p:nvPr/>
        </p:nvSpPr>
        <p:spPr>
          <a:xfrm>
            <a:off x="2195640" y="333360"/>
            <a:ext cx="576000" cy="57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19"/>
          <p:cNvSpPr/>
          <p:nvPr/>
        </p:nvSpPr>
        <p:spPr>
          <a:xfrm>
            <a:off x="2340000" y="2097000"/>
            <a:ext cx="57636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20"/>
          <p:cNvSpPr/>
          <p:nvPr/>
        </p:nvSpPr>
        <p:spPr>
          <a:xfrm>
            <a:off x="2079720" y="3716280"/>
            <a:ext cx="576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34800" y="139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мальчики играют в хоккей и не играют в футбо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25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813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29600" cy="1224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3"/>
          <a:stretch/>
        </p:blipFill>
        <p:spPr>
          <a:xfrm>
            <a:off x="449280" y="1197000"/>
            <a:ext cx="829944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542880" y="92160"/>
            <a:ext cx="8229600" cy="1176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3"/>
          <a:stretch/>
        </p:blipFill>
        <p:spPr>
          <a:xfrm>
            <a:off x="395280" y="1000080"/>
            <a:ext cx="813744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390680"/>
            <a:ext cx="88995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Рисунок 1" descr="http://videouroki.net/img/articles/248-1380895502.png"/>
          <p:cNvPicPr/>
          <p:nvPr/>
        </p:nvPicPr>
        <p:blipFill>
          <a:blip r:embed="rId1"/>
          <a:stretch/>
        </p:blipFill>
        <p:spPr>
          <a:xfrm>
            <a:off x="1116000" y="620640"/>
            <a:ext cx="7272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Прямоугольник 2" descr=""/>
          <p:cNvPicPr/>
          <p:nvPr/>
        </p:nvPicPr>
        <p:blipFill>
          <a:blip r:embed="rId1"/>
          <a:stretch/>
        </p:blipFill>
        <p:spPr>
          <a:xfrm>
            <a:off x="2193840" y="871560"/>
            <a:ext cx="6121440" cy="107316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"/>
          <p:cNvSpPr/>
          <p:nvPr/>
        </p:nvSpPr>
        <p:spPr>
          <a:xfrm>
            <a:off x="1763640" y="1989000"/>
            <a:ext cx="62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пользуя презентацию, составить сводную таблицу «Логические опер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полнить задание на карточ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готовиться к проверочн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liubavyshka.ru/_ph/4/2/357458179.gif"/>
          <p:cNvPicPr/>
          <p:nvPr/>
        </p:nvPicPr>
        <p:blipFill>
          <a:blip r:embed="rId1"/>
          <a:stretch/>
        </p:blipFill>
        <p:spPr>
          <a:xfrm>
            <a:off x="3276720" y="334800"/>
            <a:ext cx="2158920" cy="216072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4" descr=""/>
          <p:cNvPicPr/>
          <p:nvPr/>
        </p:nvPicPr>
        <p:blipFill>
          <a:blip r:embed="rId2"/>
          <a:stretch/>
        </p:blipFill>
        <p:spPr>
          <a:xfrm>
            <a:off x="-212760" y="3067200"/>
            <a:ext cx="95695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=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 играет в футбо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 играет в баскетбо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ксим играет в футбол и баскетбо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одзаголовок 2" descr=""/>
          <p:cNvPicPr/>
          <p:nvPr/>
        </p:nvPicPr>
        <p:blipFill>
          <a:blip r:embed="rId1"/>
          <a:stretch/>
        </p:blipFill>
        <p:spPr>
          <a:xfrm>
            <a:off x="1762200" y="1895400"/>
            <a:ext cx="6400800" cy="3024360"/>
          </a:xfrm>
          <a:prstGeom prst="rect">
            <a:avLst/>
          </a:prstGeom>
          <a:ln w="0">
            <a:noFill/>
          </a:ln>
        </p:spPr>
      </p:pic>
      <p:sp>
        <p:nvSpPr>
          <p:cNvPr id="308" name="Дата 1"/>
          <p:cNvSpPr/>
          <p:nvPr/>
        </p:nvSpPr>
        <p:spPr>
          <a:xfrm>
            <a:off x="6372360" y="1052640"/>
            <a:ext cx="166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5A6E-D762-461B-BCD9-B8BB2F8C28FB}" type="datetime">
              <a:rPr b="1" lang="ru-RU" sz="2400" spc="-1" strike="noStrike">
                <a:solidFill>
                  <a:srgbClr val="002060"/>
                </a:solidFill>
                <a:latin typeface="Calibri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390680"/>
            <a:ext cx="88995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ъюнкц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зъюнкц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вер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20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знакомиться с информацией в учебни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обходимую информацию вынести на слайды, шаблоны которых я для вас приготов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онести изученный вами материал до двух других груп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1"/>
          <p:cNvSpPr/>
          <p:nvPr/>
        </p:nvSpPr>
        <p:spPr>
          <a:xfrm>
            <a:off x="395280" y="1197000"/>
            <a:ext cx="820908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ктивно участвуй в совместн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нимательно выслушивай собесе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е перебивай товарища, пока он не закончит свой рас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ыскажи свою точку зрения по данному вопросу, будь при этом вежл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е смейся над чужими недостатками и ошибками, но тактично укажи на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благодари партнеров за совместную рабо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Прямоугольник 2" descr=""/>
          <p:cNvPicPr/>
          <p:nvPr/>
        </p:nvPicPr>
        <p:blipFill>
          <a:blip r:embed="rId1"/>
          <a:stretch/>
        </p:blipFill>
        <p:spPr>
          <a:xfrm>
            <a:off x="1504800" y="244440"/>
            <a:ext cx="63835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1"/>
          <p:cNvSpPr/>
          <p:nvPr/>
        </p:nvSpPr>
        <p:spPr>
          <a:xfrm>
            <a:off x="644400" y="907920"/>
            <a:ext cx="7777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294e7b"/>
                </a:solidFill>
                <a:uFillTx/>
                <a:latin typeface="Times New Roman"/>
                <a:ea typeface="Times New Roman"/>
              </a:rPr>
              <a:t>Группа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ъюнкция (слайды 2-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риф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 24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294e7b"/>
                </a:solidFill>
                <a:uFillTx/>
                <a:latin typeface="Times New Roman"/>
                <a:ea typeface="Times New Roman"/>
              </a:rPr>
              <a:t>Групп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ъюнкция (слайды 7-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риф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 24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294e7b"/>
                </a:solidFill>
                <a:uFillTx/>
                <a:latin typeface="Times New Roman"/>
                <a:ea typeface="Times New Roman"/>
              </a:rPr>
              <a:t>Группа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 (слайды 12-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риф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 24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3:47:59Z</dcterms:created>
  <dc:creator>Helen</dc:creator>
  <dc:description/>
  <dc:language>en-US</dc:language>
  <cp:lastModifiedBy>Админ</cp:lastModifiedBy>
  <dcterms:modified xsi:type="dcterms:W3CDTF">2019-11-11T12:47:07Z</dcterms:modified>
  <cp:revision>76</cp:revision>
  <dc:subject/>
  <dc:title>Слайд 1</dc:title>
</cp:coreProperties>
</file>