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2947-05F9-4C5C-A1AE-088718C23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D85A-C238-4FA6-89FE-AFCDF20E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F9BB-D627-4602-8946-FD52B8C35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23BD-E8A1-4BA9-A410-6A5EF454D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7BFD-01E7-43D2-A3E3-B4BE58BF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6DF3-5E98-4483-918D-7A76695C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480C-D382-4A48-8EB9-90F962ED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4673-90A2-42A3-8A34-4AE3133B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2174-D40C-4DF8-81E0-4A200547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A5E1-A0C4-474C-9C50-BED17C99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00C4-B20E-42A8-8912-512C3F1C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CCE8-0BF1-4A02-AF0F-59914BC3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B947-A817-4374-B397-9CB26C1FE6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radikal.ru/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http://lyceum-4.ucoz.ru/Lager/GD/slajd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3" descr="http://img.ura.dn.ua/0000096280-55f51e05-03c20a50-4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Выписка из Правил нахождения граждан на объектах инфраструктуры железнодорожного транспорт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85840" y="1143000"/>
            <a:ext cx="84009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е заходи за линию безопасности у края пассажирской платформы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е прыгай с пассажирской платформы на железнодорожные пути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е поднимайся на крыши вагонов поездов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8" descr="http://school324.kurort.gov.spb.ru/2012_2013/railway/12.jpg"/>
          <p:cNvPicPr/>
          <p:nvPr/>
        </p:nvPicPr>
        <p:blipFill>
          <a:blip r:embed="rId2"/>
          <a:stretch/>
        </p:blipFill>
        <p:spPr>
          <a:xfrm>
            <a:off x="357120" y="4572000"/>
            <a:ext cx="2286000" cy="19699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9" descr="http://school324.kurort.gov.spb.ru/2012_2013/railway/13.jpg"/>
          <p:cNvPicPr/>
          <p:nvPr/>
        </p:nvPicPr>
        <p:blipFill>
          <a:blip r:embed="rId3"/>
          <a:stretch/>
        </p:blipFill>
        <p:spPr>
          <a:xfrm>
            <a:off x="3643200" y="4071960"/>
            <a:ext cx="2000520" cy="20718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0" descr="http://school324.kurort.gov.spb.ru/2012_2013/railway/14.jpg"/>
          <p:cNvPicPr/>
          <p:nvPr/>
        </p:nvPicPr>
        <p:blipFill>
          <a:blip r:embed="rId4"/>
          <a:stretch/>
        </p:blipFill>
        <p:spPr>
          <a:xfrm>
            <a:off x="6786720" y="3357720"/>
            <a:ext cx="200160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3" descr="http://lyceum-4.ucoz.ru/Lager/GD/slajd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3" descr="http://lyceum-4.ucoz.ru/Lager/GD/slajd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3" descr="http://lyceum-4.ucoz.ru/Lager/GD/slajd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3" descr="http://school324.kurort.gov.spb.ru/2012_2013/railway/tra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692360" y="404280"/>
            <a:ext cx="61149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Соблюдая эти элементарные правила личной безопасности, которые требуют от Вас только внимания и осмотрительности, </a:t>
            </a: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Вы убережете свою жизнь, жизнь своих детей, родственников и близких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3" descr="http://school324.kurort.gov.spb.ru/2012_2013/railway/tra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0" y="907920"/>
            <a:ext cx="914400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Железная дорога - удобный и востребованный вид транспорта, которым пользуются миллионы людей каждый день. Повышение скоростей на транспорте решило множество проблем, сократив время пребывания пассажиров в пути и доставки грузов, и в то же время породило массу опасностей для человека.</a:t>
            </a:r>
            <a:br>
              <a:rPr sz="30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3" descr="http://school324.kurort.gov.spb.ru/2012_2013/railway/tra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0" y="188640"/>
            <a:ext cx="91440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324000" y="981000"/>
            <a:ext cx="8572320" cy="51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На большинстве участков железных дорог скорость поездов достигает до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 140 км/ч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. При огромных объемах перевозок, высокой интенсивности и повышенных скоростях движения поездов железные дороги являются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 </a:t>
            </a:r>
            <a:r>
              <a:rPr b="1" lang="ru-RU" sz="2800" spc="-1" strike="noStrike">
                <a:solidFill>
                  <a:srgbClr val="ff0000"/>
                </a:solidFill>
                <a:latin typeface="Cambria"/>
                <a:ea typeface="Arial"/>
              </a:rPr>
              <a:t>зоной повышенной опасности</a:t>
            </a:r>
            <a:r>
              <a:rPr b="0" lang="ru-RU" sz="2800" spc="-1" strike="noStrike">
                <a:solidFill>
                  <a:srgbClr val="ff0000"/>
                </a:solidFill>
                <a:latin typeface="Cambria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Для остановки поезда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, движущегося со скоростью 60-70 км/ч,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необходимо 600-700 метро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в. Масса локомотива превышает 500 тонн, а грузового состава – 5 тысяч тонн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Напряжение в проводах контактной сети чрезвычайно высокое: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до 27500 воль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Поезд, идущий со скоростью 100-120 км/час,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за одну секунду преодолевает 30 метров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Arial"/>
              </a:rPr>
              <a:t>. А пешеходу, для того чтобы перейти через железнодорожный путь, требуется не менее пяти-шести секун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http://school324.kurort.gov.spb.ru/2012_2013/railway/tra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0" y="214200"/>
            <a:ext cx="558000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Устраивая подвижные игры на территории объектов железнодорожного транспорта, вы подвергаете опасности не только свою жизнь, но жизнь и здоровье окружающих людей, локомотивной бригады и пассажиров, едущих в поезде.</a:t>
            </a:r>
            <a:br>
              <a:rPr sz="28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5" descr="http://tourist.kharkov.ua/report/705/imgm/image8.jpg"/>
          <p:cNvPicPr/>
          <p:nvPr/>
        </p:nvPicPr>
        <p:blipFill>
          <a:blip r:embed="rId2"/>
          <a:srcRect l="27108" t="28126" r="24934" b="20315"/>
          <a:stretch/>
        </p:blipFill>
        <p:spPr>
          <a:xfrm>
            <a:off x="5867280" y="333360"/>
            <a:ext cx="30006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http://school324.kurort.gov.spb.ru/2012_2013/railway/tra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-360" y="214200"/>
            <a:ext cx="89298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ы уверены, что услышав сигнал, поданный машинистом, успеете отойти в безопасное место? Увы, многие из вас за такую самоуверенность расплачиваются жизнью, а оставшиеся в живых получают тяжелейшие травмы, становятся  инвалидам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4" descr="http://i026.radikal.ru/1105/a5/ee8d3229f0fb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24000" y="2852640"/>
            <a:ext cx="404820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13840" y="3214800"/>
            <a:ext cx="8472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Нет ничего важнее человеческой жизни, а детские жизни - это самое ценно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. Будьте внимательны и бдительны, помните, что железная дорога - не место для игр. Не катайтесь по платформе на велосипеде, скейтборде и роликах - ЭТО ОПАСНО ДЛЯ ЖИЗНИ! Приближаясь к железной дороге - снимите наушники - в них можно не услышать сигналов поезда! Никогда не переходите железнодорожные пути в местах стрелочных переводов. Поскользнувшись, можно застрять в тисках стрелки, которая перемещается непосредственно перед идущим поездом. Опасайтесь края платформы, не стойте на линии, обозначающей опасность! Оступившись, вы можете упасть на рельсы, под приближающийся поезд. Берегите себя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http://s48.radikal.ru/i122/1105/cc/781d45aace4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0"/>
            <a:ext cx="55720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3" descr="http://img.ura.dn.ua/0000096280-55f51e05-03c20a50-4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Выписка из Правил нахождения граждан на объектах инфраструктуры железнодорожного транспорт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85840" y="1285560"/>
            <a:ext cx="84009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еходить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железнодорожные пути можно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 только в установленных местах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пользуясь при этом пешеходными мостами, тоннелями, переезд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а станциях, где мостов и тоннелей нет, граждане должны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еходить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железнодорожные пути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 по настилам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а также в местах, где установлены указатели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«Переход через пути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Запрещается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переходить пути на железнодорожных переездах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ри закрытом шлагбауме или показании красного сигнала светофора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ереездной сигнализ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4" descr="http://school324.kurort.gov.spb.ru/2012_2013/railway/1.jpg"/>
          <p:cNvPicPr/>
          <p:nvPr/>
        </p:nvPicPr>
        <p:blipFill>
          <a:blip r:embed="rId2"/>
          <a:stretch/>
        </p:blipFill>
        <p:spPr>
          <a:xfrm>
            <a:off x="571680" y="4714920"/>
            <a:ext cx="1643040" cy="17384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5" descr="http://school324.kurort.gov.spb.ru/2012_2013/railway/2.jpg"/>
          <p:cNvPicPr/>
          <p:nvPr/>
        </p:nvPicPr>
        <p:blipFill>
          <a:blip r:embed="rId3"/>
          <a:stretch/>
        </p:blipFill>
        <p:spPr>
          <a:xfrm>
            <a:off x="3714840" y="4357800"/>
            <a:ext cx="1714320" cy="16430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6" descr="http://school324.kurort.gov.spb.ru/2012_2013/railway/2_1.jpg"/>
          <p:cNvPicPr/>
          <p:nvPr/>
        </p:nvPicPr>
        <p:blipFill>
          <a:blip r:embed="rId4"/>
          <a:stretch/>
        </p:blipFill>
        <p:spPr>
          <a:xfrm>
            <a:off x="7000920" y="4786200"/>
            <a:ext cx="157176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3" descr="http://img.ura.dn.ua/0000096280-55f51e05-03c20a50-4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Выписка из Правил нахождения граждан на объектах инфраструктуры железнодорожного транспорт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85840" y="1143000"/>
            <a:ext cx="84009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ри переходе через железнодорожные пути необходимо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убедиться в отсутствии движущегося поезда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локомотива или вагон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Ходить по железнодорожным путям категорически запрещается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еходить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и перебегать через железнодорожные пути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ед близко идущим поездом,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если расстояние до него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менее 400 м - запрещаетс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Запрещается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переходить железнодорожные пути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менее чем за 10 минут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до прохода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коростного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оез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8" descr="http://school324.kurort.gov.spb.ru/2012_2013/railway/3.jpg"/>
          <p:cNvPicPr/>
          <p:nvPr/>
        </p:nvPicPr>
        <p:blipFill>
          <a:blip r:embed="rId2"/>
          <a:stretch/>
        </p:blipFill>
        <p:spPr>
          <a:xfrm>
            <a:off x="428760" y="4572000"/>
            <a:ext cx="1643040" cy="17384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9" descr="http://school324.kurort.gov.spb.ru/2012_2013/railway/4.jpg"/>
          <p:cNvPicPr/>
          <p:nvPr/>
        </p:nvPicPr>
        <p:blipFill>
          <a:blip r:embed="rId3"/>
          <a:stretch/>
        </p:blipFill>
        <p:spPr>
          <a:xfrm>
            <a:off x="3286080" y="4572000"/>
            <a:ext cx="2000160" cy="19861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0" descr="http://school324.kurort.gov.spb.ru/2012_2013/railway/5.jpg"/>
          <p:cNvPicPr/>
          <p:nvPr/>
        </p:nvPicPr>
        <p:blipFill>
          <a:blip r:embed="rId4"/>
          <a:stretch/>
        </p:blipFill>
        <p:spPr>
          <a:xfrm>
            <a:off x="6215040" y="4500720"/>
            <a:ext cx="250020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3" descr="http://img.ura.dn.ua/0000096280-55f51e05-03c20a50-4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Выписка из Правил нахождения граждан на объектах инфраструктуры железнодорожного транспорт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85840" y="1143000"/>
            <a:ext cx="84009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Категорически запрещается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на станциях и перегонах п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одлезать под вагоны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и перелезать через автосцепки для прохода через пу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Запрещается проходить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вдоль железнодорожных путей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ближе 5 метров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от крайнего рельс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прещается в охранных зонах контактной сети 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абрасывать на провода контактной сети, опоры и приближать к ним посторонние предметы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а также подниматься на опо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He использовать наушники и мобильные телефоны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при переходе через железнодорожные пути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7" descr="http://school324.kurort.gov.spb.ru/2012_2013/railway/8.jpg"/>
          <p:cNvPicPr/>
          <p:nvPr/>
        </p:nvPicPr>
        <p:blipFill>
          <a:blip r:embed="rId2"/>
          <a:stretch/>
        </p:blipFill>
        <p:spPr>
          <a:xfrm>
            <a:off x="357120" y="4500720"/>
            <a:ext cx="1785960" cy="19526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1" descr="http://school324.kurort.gov.spb.ru/2012_2013/railway/11.jpg"/>
          <p:cNvPicPr/>
          <p:nvPr/>
        </p:nvPicPr>
        <p:blipFill>
          <a:blip r:embed="rId3"/>
          <a:stretch/>
        </p:blipFill>
        <p:spPr>
          <a:xfrm>
            <a:off x="3429000" y="4214880"/>
            <a:ext cx="1928880" cy="19526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2" descr="http://school324.kurort.gov.spb.ru/2012_2013/railway/10.jpg"/>
          <p:cNvPicPr/>
          <p:nvPr/>
        </p:nvPicPr>
        <p:blipFill>
          <a:blip r:embed="rId4"/>
          <a:stretch/>
        </p:blipFill>
        <p:spPr>
          <a:xfrm>
            <a:off x="6715080" y="4286160"/>
            <a:ext cx="17146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3T15:17:49Z</dcterms:created>
  <dc:creator>Елена Викторовна</dc:creator>
  <dc:description/>
  <dc:language>en-US</dc:language>
  <cp:lastModifiedBy>екатерина </cp:lastModifiedBy>
  <dcterms:modified xsi:type="dcterms:W3CDTF">2020-11-06T12:09:15Z</dcterms:modified>
  <cp:revision>5</cp:revision>
  <dc:subject/>
  <dc:title>Слайд 1</dc:title>
</cp:coreProperties>
</file>