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AEE-25A9-4967-B901-93BB9CCB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BFCF-F505-4336-9D64-817CF8EC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40B-DC85-4A17-B6A6-24FE26C1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18F-ADC2-4E80-9A88-6203DE08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147-275F-4C1D-9DD7-48A7826C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36A-8698-4491-B439-F41654D4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42FA-7341-42B1-8EE2-3E4BA93C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F38-194F-4666-BE0E-8DA8B159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A56-E64A-44EE-B040-420DFDD7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132A-400B-4937-A2F6-FFF3EB93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A023-D78F-4F34-84CC-86631393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3A1E-19DC-400A-8BF0-E5347262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9E09-AABF-4396-87F0-BB4072B71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http://lyceum-4.ucoz.ru/Lager/GD/slajd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http://img.ura.dn.ua/0000096280-55f51e05-03c20a50-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Выписка из Правил нахождения граждан на объектах инфраструктуры железнодорожного транспор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840" y="1143000"/>
            <a:ext cx="8400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 заходи за линию безопасности у края пассажирской платформ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 прыгай с пассажирской платформы на железнодорожные пут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 поднимайся на крыши вагонов поездов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8" descr="http://school324.kurort.gov.spb.ru/2012_2013/railway/12.jpg"/>
          <p:cNvPicPr/>
          <p:nvPr/>
        </p:nvPicPr>
        <p:blipFill>
          <a:blip r:embed="rId2"/>
          <a:stretch/>
        </p:blipFill>
        <p:spPr>
          <a:xfrm>
            <a:off x="357120" y="4572000"/>
            <a:ext cx="2286000" cy="19699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9" descr="http://school324.kurort.gov.spb.ru/2012_2013/railway/13.jpg"/>
          <p:cNvPicPr/>
          <p:nvPr/>
        </p:nvPicPr>
        <p:blipFill>
          <a:blip r:embed="rId3"/>
          <a:stretch/>
        </p:blipFill>
        <p:spPr>
          <a:xfrm>
            <a:off x="3643200" y="4071960"/>
            <a:ext cx="200052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0" descr="http://school324.kurort.gov.spb.ru/2012_2013/railway/14.jpg"/>
          <p:cNvPicPr/>
          <p:nvPr/>
        </p:nvPicPr>
        <p:blipFill>
          <a:blip r:embed="rId4"/>
          <a:stretch/>
        </p:blipFill>
        <p:spPr>
          <a:xfrm>
            <a:off x="6786720" y="3357720"/>
            <a:ext cx="200160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http://lyceum-4.ucoz.ru/Lager/GD/slajd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3" descr="http://lyceum-4.ucoz.ru/Lager/GD/slajd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3" descr="http://lyceum-4.ucoz.ru/Lager/GD/slajd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692360" y="404280"/>
            <a:ext cx="61149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облюдая эти элементарные правила личной безопасности, которые требуют от Вас только внимания и осмотрительности,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Вы убережете свою жизнь, жизнь своих детей, родственников и близких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0" y="907920"/>
            <a:ext cx="91440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Железная дорога - удобный и востребованный вид транспорта, которым пользуются миллионы людей каждый день. Повышение скоростей на транспорте решило множество проблем, сократив время пребывания пассажиров в пути и доставки грузов, и в то же время породило массу опасностей для человека.</a:t>
            </a:r>
            <a:br>
              <a:rPr sz="30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0" y="188640"/>
            <a:ext cx="91440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324000" y="981000"/>
            <a:ext cx="857232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На большинстве участков железных дорог скорость поездов достигает до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 140 км/ч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. При огромных объемах перевозок, высокой интенсивности и повышенных скоростях движения поездов железные дороги являются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 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  <a:ea typeface="Arial"/>
              </a:rPr>
              <a:t>зоной повышенной опасности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Для остановки поезда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, движущегося со скоростью 60-70 км/ч,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необходимо 600-700 метро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в. Масса локомотива превышает 500 тонн, а грузового состава – 5 тысяч тон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Напряжение в проводах контактной сети чрезвычайно высокое: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до 27500 воль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Поезд, идущий со скоростью 100-120 км/час,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за одну секунду преодолевает 30 метров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. А пешеходу, для того чтобы перейти через железнодорожный путь, требуется не менее пяти-шести секу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0" y="214200"/>
            <a:ext cx="558000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страивая подвижные игры на территории объектов железнодорожного транспорта, вы подвергаете опасности не только свою жизнь, но жизнь и здоровье окружающих людей, локомотивной бригады и пассажиров, едущих в поезде.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5" descr="http://tourist.kharkov.ua/report/705/imgm/image8.jpg"/>
          <p:cNvPicPr/>
          <p:nvPr/>
        </p:nvPicPr>
        <p:blipFill>
          <a:blip r:embed="rId2"/>
          <a:srcRect l="27108" t="28126" r="24934" b="20315"/>
          <a:stretch/>
        </p:blipFill>
        <p:spPr>
          <a:xfrm>
            <a:off x="5867280" y="333360"/>
            <a:ext cx="30006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-360" y="214200"/>
            <a:ext cx="89298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ы уверены, что услышав сигнал, поданный машинистом, успеете отойти в безопасное место? Увы, многие из вас за такую самоуверенность расплачиваются жизнью, а оставшиеся в живых получают тяжелейшие травмы, становятся  инвалидам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4" descr="http://i026.radikal.ru/1105/a5/ee8d3229f0f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2852640"/>
            <a:ext cx="40482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13840" y="3214800"/>
            <a:ext cx="8472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Нет ничего важнее человеческой жизни, а детские жизни - это самое ценно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 Будьте внимательны и бдительны, помните, что железная дорога - не место для игр. Не катайтесь по платформе на велосипеде, скейтборде и роликах - ЭТО ОПАСНО ДЛЯ ЖИЗНИ! Приближаясь к железной дороге - снимите наушники - в них можно не услышать сигналов поезда! Никогда не переходите железнодорожные пути в местах стрелочных переводов. Поскользнувшись, можно застрять в тисках стрелки, которая перемещается непосредственно перед идущим поездом. Опасайтесь края платформы, не стойте на линии, обозначающей опасность! Оступившись, вы можете упасть на рельсы, под приближающийся поезд. Берегите себя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http://s48.radikal.ru/i122/1105/cc/781d45aace4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0"/>
            <a:ext cx="5572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http://img.ura.dn.ua/0000096280-55f51e05-03c20a50-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Выписка из Правил нахождения граждан на объектах инфраструктуры железнодорожного транспор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5840" y="1285560"/>
            <a:ext cx="84009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ходить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железнодорожные пути можно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 только в установленных местах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пользуясь при этом пешеходными мостами, тоннелями, переезд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 станциях, где мостов и тоннелей нет, граждане должны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ходить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железнодорожные пути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 по настилам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а также в местах, где установлены указатели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«Переход через пут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прещается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переходить пути на железнодорожных переездах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и закрытом шлагбауме или показании красного сигнала светофора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еездной сигнал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http://school324.kurort.gov.spb.ru/2012_2013/railway/1.jpg"/>
          <p:cNvPicPr/>
          <p:nvPr/>
        </p:nvPicPr>
        <p:blipFill>
          <a:blip r:embed="rId2"/>
          <a:stretch/>
        </p:blipFill>
        <p:spPr>
          <a:xfrm>
            <a:off x="571680" y="4714920"/>
            <a:ext cx="1643040" cy="17384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http://school324.kurort.gov.spb.ru/2012_2013/railway/2.jpg"/>
          <p:cNvPicPr/>
          <p:nvPr/>
        </p:nvPicPr>
        <p:blipFill>
          <a:blip r:embed="rId3"/>
          <a:stretch/>
        </p:blipFill>
        <p:spPr>
          <a:xfrm>
            <a:off x="3714840" y="435780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6" descr="http://school324.kurort.gov.spb.ru/2012_2013/railway/2_1.jpg"/>
          <p:cNvPicPr/>
          <p:nvPr/>
        </p:nvPicPr>
        <p:blipFill>
          <a:blip r:embed="rId4"/>
          <a:stretch/>
        </p:blipFill>
        <p:spPr>
          <a:xfrm>
            <a:off x="7000920" y="4786200"/>
            <a:ext cx="15717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http://img.ura.dn.ua/0000096280-55f51e05-03c20a50-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Выписка из Правил нахождения граждан на объектах инфраструктуры железнодорожного транспор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5840" y="1143000"/>
            <a:ext cx="8400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и переходе через железнодорожные пути необходимо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убедиться в отсутствии движущегося поезда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локомотива или вагон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Ходить по железнодорожным путям категорически запрещаетс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ходить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и перебегать через железнодорожные пути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д близко идущим поездом,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если расстояние до него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енее 400 м - запрещаетс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прещается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переходить железнодорожные пути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енее чем за 10 минут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до прохода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коростного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ез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8" descr="http://school324.kurort.gov.spb.ru/2012_2013/railway/3.jpg"/>
          <p:cNvPicPr/>
          <p:nvPr/>
        </p:nvPicPr>
        <p:blipFill>
          <a:blip r:embed="rId2"/>
          <a:stretch/>
        </p:blipFill>
        <p:spPr>
          <a:xfrm>
            <a:off x="428760" y="4572000"/>
            <a:ext cx="1643040" cy="17384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http://school324.kurort.gov.spb.ru/2012_2013/railway/4.jpg"/>
          <p:cNvPicPr/>
          <p:nvPr/>
        </p:nvPicPr>
        <p:blipFill>
          <a:blip r:embed="rId3"/>
          <a:stretch/>
        </p:blipFill>
        <p:spPr>
          <a:xfrm>
            <a:off x="3286080" y="4572000"/>
            <a:ext cx="2000160" cy="1986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0" descr="http://school324.kurort.gov.spb.ru/2012_2013/railway/5.jpg"/>
          <p:cNvPicPr/>
          <p:nvPr/>
        </p:nvPicPr>
        <p:blipFill>
          <a:blip r:embed="rId4"/>
          <a:stretch/>
        </p:blipFill>
        <p:spPr>
          <a:xfrm>
            <a:off x="6215040" y="4500720"/>
            <a:ext cx="250020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http://img.ura.dn.ua/0000096280-55f51e05-03c20a50-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Выписка из Правил нахождения граждан на объектах инфраструктуры железнодорожного транспор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5840" y="1143000"/>
            <a:ext cx="8400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Категорически запрещается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на станциях и перегонах п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длезать под вагоны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и перелезать через автосцепки для прохода через пу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прещается проходить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вдоль железнодорожных путей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ближе 5 метров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от крайнего рель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прещается в охранных зонах контактной сети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брасывать на провода контактной сети, опоры и приближать к ним посторонние предметы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а также подниматься на опо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He использовать наушники и мобильные телефоны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при переходе через железнодорожные пут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7" descr="http://school324.kurort.gov.spb.ru/2012_2013/railway/8.jpg"/>
          <p:cNvPicPr/>
          <p:nvPr/>
        </p:nvPicPr>
        <p:blipFill>
          <a:blip r:embed="rId2"/>
          <a:stretch/>
        </p:blipFill>
        <p:spPr>
          <a:xfrm>
            <a:off x="357120" y="4500720"/>
            <a:ext cx="1785960" cy="19526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1" descr="http://school324.kurort.gov.spb.ru/2012_2013/railway/11.jpg"/>
          <p:cNvPicPr/>
          <p:nvPr/>
        </p:nvPicPr>
        <p:blipFill>
          <a:blip r:embed="rId3"/>
          <a:stretch/>
        </p:blipFill>
        <p:spPr>
          <a:xfrm>
            <a:off x="3429000" y="4214880"/>
            <a:ext cx="1928880" cy="1952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" descr="http://school324.kurort.gov.spb.ru/2012_2013/railway/10.jpg"/>
          <p:cNvPicPr/>
          <p:nvPr/>
        </p:nvPicPr>
        <p:blipFill>
          <a:blip r:embed="rId4"/>
          <a:stretch/>
        </p:blipFill>
        <p:spPr>
          <a:xfrm>
            <a:off x="6715080" y="4286160"/>
            <a:ext cx="17146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5:17:49Z</dcterms:created>
  <dc:creator>Елена Викторовна</dc:creator>
  <dc:description/>
  <dc:language>en-US</dc:language>
  <cp:lastModifiedBy>екатерина </cp:lastModifiedBy>
  <dcterms:modified xsi:type="dcterms:W3CDTF">2020-11-06T12:09:15Z</dcterms:modified>
  <cp:revision>5</cp:revision>
  <dc:subject/>
  <dc:title>Слайд 1</dc:title>
</cp:coreProperties>
</file>