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563-8D16-4C40-BB68-4AB06A74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365-7224-4F1D-8DA2-A6AAE09C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F4F-8232-45EC-9ED3-3E86FE12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437-71E0-4034-AAC1-449FBFED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5AB-2D9E-49B3-A6E1-19EAA04A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C23-B5A7-405A-BB73-8EA7AE50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005-CFB6-4161-A960-CF4F567A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A52-84A5-417C-85D5-C09F364D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A9F-05C3-45EE-8691-3DA053AC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90E-7BB3-4E3B-B127-3A341735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30F-ABE7-46AC-9815-A9758C4F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354-B86B-4AFA-9D95-C679DE1B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777A-689A-48FE-BAA4-EE7F15B08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4968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РЕВО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827600" y="404640"/>
            <a:ext cx="3965400" cy="612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539640" y="4508640"/>
            <a:ext cx="36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еся 4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. руководитель: Шибаева Татья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310760" y="208080"/>
            <a:ext cx="21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Де-Кас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егидаль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2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амгун бэйэнин- «амгунский». Негидальцы, народ, проживающий на территории Хабаровского края по рекам Амгунь и Амур. Численность 622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526080" y="0"/>
            <a:ext cx="2617920" cy="299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48276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ив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ивх – «человек». Нивхи, прежнее название – гиляки, народ, проживающий в основном на территории Хабаровского края по нижнему течению реки Амур и острове Сахалин. Численность 467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5796000" y="0"/>
            <a:ext cx="3030480" cy="338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07520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р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635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название – орочили. Орочи – народ, роживающий в Приморье и Хабаровском крае по рекам Тумнин и Амур. Численность 915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796000" y="0"/>
            <a:ext cx="2933640" cy="3591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140360" y="3697200"/>
            <a:ext cx="4716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дэге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1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удэхэ- «лесные люди». Удэгейцы – народ, проживающий в Приморье и Хабаровском крае. Численность 2011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5724360" y="0"/>
            <a:ext cx="2781360" cy="3218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635280" y="3443400"/>
            <a:ext cx="47530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ль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348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ани – «человек земли». Ульчи, народ, проживающий в основном на территории Хабаровского края по нижнему течению реки Амур и острове Сахалин. Численность 323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651640" y="0"/>
            <a:ext cx="2568600" cy="295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в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0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эвэн. Эвенки– прежнее название – тунгусы «оленные люди», народ, проживающий на территории Сибири и Дальнего Востока. Численность 3023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873760" y="0"/>
            <a:ext cx="2941560" cy="328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4140360" y="3390840"/>
            <a:ext cx="47210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в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399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название –эвен. Эвены, прежнее название – ламуты, народ, проживающий на территории Сибири и Дальнего Востока. Численность 17199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5724360" y="0"/>
            <a:ext cx="2727360" cy="315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3851280" y="3197160"/>
            <a:ext cx="48466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yandex.ru/yandsearch?clid=40931&amp;yasoft=barff&amp;text=%D0%9A%D0%B0%D1%80%D1%82%D0%B0+%D0%A5%D0%B0%D0%B1%D0%B0%D1%80%D0%BE%D0%B2%D1%81%D0%BA%D0%BE%D0%B3%D0%BE+%D0%BA%D1%80%D0%B0%D1%8F&amp;lr=76 карта Хабаров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http://images.yandex.ru/yandsearch?noreask=1&amp;lr=76&amp;ed=1&amp;text= картинки фото малочисл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открыток «Древо жизни» автор О.Шагаутдинова. Фотографии В. Спидлен, О.Шагаутдинова, В. Токарский, В Коробков, С Ф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ево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ерритории Хабаровского края российского Дальнего Востока издревле проживают восемь коренных малочисленных народов: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найцы, негидальцы, нивхи, орочи, удэгейцы, ульчи, эвенки, эв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416480" y="0"/>
            <a:ext cx="443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 жизни и система хозяйства коренных народов Приамурья определяются географической средой и климатическими условиями. Основные традиционные занятия: рыболовство, таёжная и морская охота, собира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4680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снове мировоззрения аборигенов Приамурья лежат древнейшие представления и верования. Наиболее значимы культ природы и шаманство. Коренные народы Приамурья являются наследниками самобытной культуры, насчитывающей более пяти тысяч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85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ий пласт культуры составляет богатое различными видами и формами декоративно-прикладное искусство, тесно связанное с народным бытом и обр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рашенная вышивкой праздничная и повседневная одежда из рыбьей и оленьей кожи, различные по функции изделия из бересты, тальника, дерева, кости, меховые ковры – такова обширная область народного искусства Приаму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158616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6372360" y="2565360"/>
            <a:ext cx="1881000" cy="396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2484360" y="2637000"/>
            <a:ext cx="1846440" cy="230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4356000" y="3860640"/>
            <a:ext cx="2009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шиной народного творчества является орнамент. Орнамент воплотил народные представления о мире и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084480" cy="407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3924360" y="2440080"/>
            <a:ext cx="446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ше время особое значение приобрело понятие «экология культуры». Бережное отношение к истокам, сохранение ценных культурных традиций – это забота о настоящем и будущем не только малочисленных народов, но и человечест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2565360"/>
            <a:ext cx="4643280" cy="303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627440" y="3844800"/>
            <a:ext cx="45165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на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ани – «здешний человек». Нанайцы, прежнее название – гольды, народ, проживающий в основном на территории Хабаровского края по нижнему течению реки Амур. Численность 12017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012000" y="0"/>
            <a:ext cx="259560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3851280" y="3189240"/>
            <a:ext cx="4889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9:29Z</dcterms:created>
  <dc:creator>NATASHA</dc:creator>
  <dc:description/>
  <dc:language>en-US</dc:language>
  <cp:lastModifiedBy>Евгений</cp:lastModifiedBy>
  <dcterms:modified xsi:type="dcterms:W3CDTF">2013-10-13T11:27:13Z</dcterms:modified>
  <cp:revision>11</cp:revision>
  <dc:subject/>
  <dc:title>«Реферат из Интернета: хорошо это или плохо?»</dc:title>
</cp:coreProperties>
</file>