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E30-C88A-4654-B215-DCEA8C81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DC3-2DC0-4AC7-A994-B7C16395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28662E-332B-4480-9598-3CC76C8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B376CB-16BB-4936-9379-2F0199FB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C3C01-92D8-4738-B488-BEBF9DAA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D2C310-09FB-4684-9FD2-CB2C31E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C8A39C-F7CA-4B51-9C0D-192D2F57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70A667-E873-4BDA-A3D7-0180F2F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D2E96C-7284-483C-AC33-C67F2201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FED9F-9931-4E4A-8097-F3BA06A7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45802B-CDB5-45EA-BDA3-6E2EB383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45748B-0E9C-40B2-B114-FE70F761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5F8-EB84-4226-AA4B-BF5D1C01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C28409-B711-47DA-A75B-16F81B37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6720A2-1580-4459-818C-5976B173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9E1EEF-D446-4945-B4C5-6DAAC184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35202D-785F-4791-BB12-30CA2CAB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EE7B91-3B75-407D-A1AE-30B50F7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2C6EDD-C6BF-4898-B955-E7D2C56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424CBB-3387-4CE7-8B7F-BDA8B811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D8B70-42A1-4141-8AF1-B1A0AB2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7923AF-3E5F-480C-813B-34E8A3C5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5D403F-59DC-497C-8A81-70533252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C07-05BF-4B98-8621-BB9213AB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E227E1-017C-4BF6-A49F-E87A17FA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63270-7CE1-4B3B-A330-4A01AC85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50CEA-24B9-40FF-94A9-9D62F559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956FE-E814-4DE5-AD33-E6E3A54E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6391F-F7E0-49BD-8073-27675ACF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15264-4896-48A9-96D6-A37713AE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C665C-69A9-4A9E-859C-D1348B62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CC513-92A7-4C92-8574-E4EBBEF9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AF314-E675-418B-8A2A-068A3E36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2E9AF-A859-4576-BC1A-701031F9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67A7-146B-497B-87AB-CDFB7D9C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85D65-D77C-4131-A0ED-DA216259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5D926-3D90-4A77-BD16-4E761E54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3F2CE-80A7-4885-9074-20143C76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31702-76E4-40B2-94C5-623A8545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28675-E9F4-4DA9-B2B7-9264D53E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5F2DE-DD19-4123-A339-C8652841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A0DDD-37D9-4DA0-A0BF-9A830F51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D55AB-A159-46A3-9FFD-30AE32E2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E3F40-63A6-414D-95C1-BB729A73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FD3AF-1DCE-44D1-B986-9FA4B6C0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1370-63E6-4ACC-A440-8F9B4DDE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D889E-B150-4E54-87CC-662AE4E5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01D91-07DC-4CAC-BAFC-B476F446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B0B8F-FA28-4D73-9A9E-B90BF4F9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2B5FB-41FE-4FF7-A4D5-03A72919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FD94A-9987-47F0-BB84-43125BA5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5D6A-766C-4C3E-A4AE-784576A2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CD33-7858-4442-906A-B10234B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C1CD-D49C-42F2-A2CF-086EE7F2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8809-8EB2-4BC3-8D2E-E26EF21C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6BE9-0AA7-433E-BF54-8B1311B5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965-05F7-4E9B-B653-4FB818CE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2940-7F05-4264-8844-ECC2A561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38AD-00C7-4E0D-81D3-B41E888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46C5-68D5-4A7A-9FE6-CA0DEBA9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692D-2A24-4D24-862A-AD29E48A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F826-1FF2-4AED-8A77-FB0FCD6C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2F0E9-7F7C-461E-A2E2-CB6CF483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E1981-5FF3-4763-83EA-3D48E5FA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0CDC9-9D06-4A4A-A2B2-4FA949A7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A0527-8F3A-481E-AF97-8EA2A62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9AACE-AD4F-4309-ABD2-02D358A6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D80-325C-4321-A464-C91188AD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1B7F4-DF57-4484-903A-32FC2DA4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10D74-0611-45E7-8FDA-3304DB5F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1D10E-9EBB-4A61-AE37-072AB59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FFD58-49B7-446E-ABF1-A7CDC006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B01C1-18BF-487D-B26A-8D9ACE3B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E901C-4BF7-4AC6-A515-75846F1B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D2A6F-8B59-4FDA-AD05-34D76C3C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23D66-EA7A-4C11-9A7E-9A95A981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57A3-A21E-47A1-9C82-48456506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F4B97-225D-4D89-86EE-5422ED3F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E7B-11F1-4EE3-9456-96F76EF4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DF85E-72A6-4066-9A62-304612CC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77636-7B4C-4581-BF20-29809C48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7F3A-F147-4300-9E48-64318C25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42F8-FD06-4DD2-AF6E-9ECD3B93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67BD-11CA-4E24-BA1E-BA532B33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6306C-0B99-4171-B65C-DB8E78EA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DD0BC-9F23-457C-8119-8FF591E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FBF8-EED2-47DF-A3B5-DF5E74C2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41D6-4AB9-422D-8ED0-788DF6C7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EB032-A30C-413C-B8B6-168F704D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A27-0B49-4B2D-8FB4-CADDA822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2063D-1699-4095-AD2B-D31209E7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7F45-D514-44B4-9698-B44156A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432D5-73E3-4D2C-8F0D-6CFEE4A5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A1D6-C711-46D1-835F-DA162E20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F3C8C-C3D5-43D1-BDD3-DD7885E2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B1D8-1E29-4B46-992B-9F5702E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00BA3-AA8D-4584-91D1-445ED53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3CE8-D909-4BF7-AC90-52E3EEA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6E408-543B-46C8-8774-0B660976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D10D8-66BC-4D80-84AA-49B28402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166-B7F3-4A0B-B9B2-10E2C4EF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65679-E7EA-403E-802C-7C7F75E2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4DB7-F9EB-4CEF-B4D9-F095770F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19501-33AC-42B5-B9F1-594A8107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566D6-36DA-49F7-ADE0-8B926648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AA863-BCFC-43A9-BFC9-A2BC7471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CE154-9E8B-4F67-B31A-7D5D152F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A8791-5704-4AF6-A89A-ECA29E50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0FBC8-6ED2-4AD9-8A0A-75A3CCB7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4947D-7C0E-4930-BAF7-C5DDEB5B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38C84-60AB-4F95-8DA2-36F203AA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D5B-847D-4978-A9C0-2147D634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3BCC4-7A73-4FBA-9FFF-BF23B75E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391EE-3072-407E-8169-945C854B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A9C76-43B5-47C4-8D1A-E2CC4B0D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71912-ACD9-40D2-AB32-31B43E23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949B8-718A-4E00-8D65-F197ABF1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561F3-3D4A-438B-BA0B-0CD45267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8B0B3-8995-413F-9C80-8B1A474A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34702-6224-4127-8E0B-9351CD78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F1F62-412E-466E-BD6A-B6E85CF6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A76E5-0A81-43CA-B23F-1B902EE3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082-495A-4503-8AEB-0A770C97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57E6E-A8E6-4BDE-A679-5940879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343DD-42A9-4204-845F-4D2DB80A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B977E-9C8D-4552-B7AF-22ED3FAD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71D1C-CAAC-4657-BC4B-C13CD0AD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58BFF-2F30-4BB3-9A57-682CA371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75932-313C-452F-9B0E-2CAB50F3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A1C5E-7F19-4044-8B5E-29D23FC0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430DA-8652-44A4-B0DD-EB0FA67B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17E50-DE29-4B2D-BA61-1E17D31C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E5E0A-8E47-4873-A952-EEDCE52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242-61A9-44DE-B5CF-0A5D04FE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4C12-3966-42A9-9A29-EA8C09DE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3E9E5-79EC-4F59-8972-173EF6CC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DC9B3-92E3-4A33-9638-55DD9F63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B1060-32B9-4ACF-88D6-68021868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7A6E4-07CA-43A4-A113-9ED2F9F0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E306A-256A-4A92-ABBD-DFDAFD85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773B-F36F-418A-B563-4833E232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C42F54-E79E-4BFE-A08F-09C85E8C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98E885-FD01-4DCA-9276-37F8B67E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A1064A-566B-45B5-B0DE-3CA5884F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9035-A155-4F4D-BE80-9545A945265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A0D0-1C62-48D7-BA0D-CB00FC0737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AAA1-185E-43B8-96DF-01A6768916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9BF-14C8-4090-BBE1-47CC97F2759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A129-8298-4D96-883B-270FB4474F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93B5-A82E-4605-B2B4-11908DA4FD2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B489-4555-43F0-8397-69ACB1CCE2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B4C8-CCC2-44E1-9D2B-ECD3901765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4D5A-3A41-4232-A3DF-54902FF8B9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D234-D7D4-42C5-95A4-2053B97FE5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E4C4-4C81-4342-840E-DE71CAFAA9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98B2-7811-4686-ACF1-73FCAF995F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76000" y="1268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ПРЕДЛОГ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НА-С (СО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Schoolbook"/>
              </a:rPr>
              <a:t>Фрукт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5367960" y="4292640"/>
            <a:ext cx="29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алева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2"/>
          <a:stretch/>
        </p:blipFill>
        <p:spPr>
          <a:xfrm rot="3552000">
            <a:off x="3400200" y="1107720"/>
            <a:ext cx="2521080" cy="18892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1"/>
          <p:cNvSpPr/>
          <p:nvPr/>
        </p:nvSpPr>
        <p:spPr>
          <a:xfrm>
            <a:off x="48420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апельсин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апельс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"/>
          <p:cNvSpPr/>
          <p:nvPr/>
        </p:nvSpPr>
        <p:spPr>
          <a:xfrm>
            <a:off x="1424880" y="5877000"/>
            <a:ext cx="69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 апельсин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00301 L 0.02917 -0.00764 L 0.06962 0.00023 L 0.10052 -0.00602 L 0.12327 -0.00764 L 0.18282 -0.00764 L 0.2125 -0.00602 L 0.26615 0.05579 L 0.2816 0.09236 L 0.29827 0.15417 L 0.30886 0.21134 L 0.32795 0.30023 L 0.32674 0.3463 L 0.32448 0.39699 L 0.32448 0.43194 L 0.32795 0.45741 L 0.33039 0.50671 L 0.34115 0.56366 E">
                                      <p:cBhvr>
                                        <p:cTn id="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"/>
          <p:cNvPicPr/>
          <p:nvPr/>
        </p:nvPicPr>
        <p:blipFill>
          <a:blip r:embed="rId2"/>
          <a:stretch/>
        </p:blipFill>
        <p:spPr>
          <a:xfrm>
            <a:off x="4157640" y="1101600"/>
            <a:ext cx="1703520" cy="1703520"/>
          </a:xfrm>
          <a:prstGeom prst="rect">
            <a:avLst/>
          </a:prstGeom>
          <a:ln w="0">
            <a:noFill/>
          </a:ln>
        </p:spPr>
      </p:pic>
      <p:sp>
        <p:nvSpPr>
          <p:cNvPr id="552" name="TextBox 1"/>
          <p:cNvSpPr/>
          <p:nvPr/>
        </p:nvSpPr>
        <p:spPr>
          <a:xfrm>
            <a:off x="58428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яблоко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яблок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"/>
          <p:cNvSpPr/>
          <p:nvPr/>
        </p:nvSpPr>
        <p:spPr>
          <a:xfrm>
            <a:off x="1427760" y="587700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о яблоко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991 L 0.04028 0.01574 L 0.08229 0.02269 L 0.11441 0.0169 L 0.1382 0.01574 L 0.20018 0.01574 L 0.23108 0.0169 L 0.28698 0.07408 L 0.30313 0.10787 L 0.32049 0.16505 L 0.33143 0.21783 L 0.35122 0.3 L 0.35 0.34259 L 0.34775 0.38935 L 0.34775 0.42176 L 0.35122 0.44514 L 0.35382 0.49074 L 0.36528 0.54352 E">
                                      <p:cBhvr>
                                        <p:cTn id="12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2"/>
          <a:stretch/>
        </p:blipFill>
        <p:spPr>
          <a:xfrm rot="20733000">
            <a:off x="3797280" y="1060560"/>
            <a:ext cx="1779480" cy="178092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"/>
          <p:cNvSpPr/>
          <p:nvPr/>
        </p:nvSpPr>
        <p:spPr>
          <a:xfrm>
            <a:off x="58428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лимон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лим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"/>
          <p:cNvSpPr/>
          <p:nvPr/>
        </p:nvSpPr>
        <p:spPr>
          <a:xfrm>
            <a:off x="1427760" y="5877000"/>
            <a:ext cx="64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 лимон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0408 -0.0044 L 0.08281 0.00301 L 0.11493 -0.00301 L 0.13854 -0.0044 L 0.20052 -0.0044 L 0.23142 -0.00301 L 0.28715 0.05625 L 0.3033 0.09144 L 0.32066 0.1507 L 0.3316 0.20556 L 0.35139 0.29074 L 0.35017 0.33495 L 0.34792 0.38357 L 0.34792 0.41713 L 0.35139 0.44144 L 0.35399 0.48889 L 0.36528 0.54352 E">
                                      <p:cBhvr>
                                        <p:cTn id="18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"/>
          <p:cNvPicPr/>
          <p:nvPr/>
        </p:nvPicPr>
        <p:blipFill>
          <a:blip r:embed="rId2"/>
          <a:stretch/>
        </p:blipFill>
        <p:spPr>
          <a:xfrm rot="478200">
            <a:off x="3552840" y="1182240"/>
            <a:ext cx="1479600" cy="16668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"/>
          <p:cNvSpPr/>
          <p:nvPr/>
        </p:nvSpPr>
        <p:spPr>
          <a:xfrm>
            <a:off x="58428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груша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груш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"/>
          <p:cNvSpPr/>
          <p:nvPr/>
        </p:nvSpPr>
        <p:spPr>
          <a:xfrm>
            <a:off x="1526760" y="5877000"/>
            <a:ext cx="66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а груша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0408 -0.0044 L 0.08281 0.00301 L 0.11493 -0.00301 L 0.13854 -0.0044 L 0.20052 -0.0044 L 0.23142 -0.00301 L 0.28715 0.05625 L 0.3033 0.09144 L 0.32066 0.1507 L 0.3316 0.20556 L 0.35139 0.29074 L 0.35017 0.33495 L 0.34792 0.38357 L 0.34792 0.41713 L 0.35139 0.44144 L 0.35399 0.48889 L 0.36528 0.54352 E">
                                      <p:cBhvr>
                                        <p:cTn id="24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2"/>
          <a:stretch/>
        </p:blipFill>
        <p:spPr>
          <a:xfrm rot="478200">
            <a:off x="3292200" y="1157040"/>
            <a:ext cx="1619280" cy="165564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"/>
          <p:cNvSpPr/>
          <p:nvPr/>
        </p:nvSpPr>
        <p:spPr>
          <a:xfrm>
            <a:off x="58428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слива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слив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"/>
          <p:cNvSpPr/>
          <p:nvPr/>
        </p:nvSpPr>
        <p:spPr>
          <a:xfrm>
            <a:off x="1426320" y="5877000"/>
            <a:ext cx="65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а слива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551 L 0.04497 0.01111 L 0.08698 0.01852 L 0.1191 0.0125 L 0.14271 0.01111 L 0.20469 0.01111 L 0.23559 0.0125 L 0.29132 0.07176 L 0.30747 0.10695 L 0.32483 0.16621 L 0.33577 0.22107 L 0.35556 0.30625 L 0.35434 0.35046 L 0.35208 0.39908 L 0.35208 0.43264 L 0.35556 0.45695 L 0.35816 0.5044 L 0.36945 0.55903 E">
                                      <p:cBhvr>
                                        <p:cTn id="30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http://bestgif.su/_ph/41/2/471817010.gif"/>
          <p:cNvPicPr/>
          <p:nvPr/>
        </p:nvPicPr>
        <p:blipFill>
          <a:blip r:embed="rId1"/>
          <a:stretch/>
        </p:blipFill>
        <p:spPr>
          <a:xfrm>
            <a:off x="971640" y="1484280"/>
            <a:ext cx="7345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4:13:27Z</dcterms:created>
  <dc:creator>Пользователь</dc:creator>
  <dc:description/>
  <dc:language>en-US</dc:language>
  <cp:lastModifiedBy>RePack by Diakov</cp:lastModifiedBy>
  <dcterms:modified xsi:type="dcterms:W3CDTF">2020-10-03T23:31:48Z</dcterms:modified>
  <cp:revision>18</cp:revision>
  <dc:subject/>
  <dc:title>Слайд 1</dc:title>
</cp:coreProperties>
</file>