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259-B5EA-44F4-8105-FBBADC97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09A-5B1A-4952-A68C-2B6C3489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E0914D-C030-410D-BE77-A79FA795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EBE0DA-673D-4FCD-ACB0-69133B86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A049A9-6F52-44CC-B777-AE2EDC5F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B30F10-CB96-43D0-A2B0-83692F81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4540AD-8B6F-4C55-BD88-182CF3E4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5FB8F6-1FDE-4750-B393-560B35F1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CA2A57-8F95-4530-8D46-19CA9B34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833766-4458-48BD-B7CB-E42FB607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FE4E85-253A-4B45-9992-74041838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1A281F-BCF6-4FF6-A823-27955D64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475-8D23-4AFA-9CB3-17A9584F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8B863E-FA26-43E4-8677-BEA1FF46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2F70BD-BB34-4077-ABD5-7C54A6FC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39D725-DEBA-406C-B9B4-6041F9A8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2E0028-5DF2-401E-B784-057EE329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C0FEC5-DA71-4DF7-B828-DA672F6B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4E8AFF-B184-4E3E-BEBC-AB497DBB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90BD16-A7DB-42DA-AC28-428F7BC7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0BD8AD-D2B1-4FF9-8895-80A7D65C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FD6149-BEF2-46FD-B1B6-79037926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9A7E85-BD08-4596-9530-7A0B4C5F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FD73-0B25-4EA7-A07F-75D97298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49579E-4A35-4B51-84EC-BA5356B5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05F72-0F60-4941-87AD-C6E3ABCD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B9DD5-2B90-4FA8-B0EC-4BE4A38F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AA14C-FCDA-4503-A8AB-6B5E6868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FC8F9-71D4-46A3-A48A-36EFB633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0BC38-E56D-4CCF-B1FF-F88730A4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FF099-EFB5-4A4A-8999-5CDD8D6A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883F0-4E74-4F37-8EBF-885798CF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6B0FE-EB7B-4790-9F08-8A755283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405B0-48D4-4E72-A336-8242925C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6B9B-2589-46C9-8F5D-98F73E0C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817F3-AB37-4485-98EE-1F5EEF93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30F2C-C6DE-439D-B678-1BB7273B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DBEB6-E843-4518-B113-60024466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9B164-8B54-47C3-B218-E01AE2F7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0D632-F982-489A-8950-E030A9A3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F3183-926B-4C96-8C2D-3B4F4BFC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F01CC-3ED5-4882-8F62-D3F97CA6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993D0-861E-468E-AB6C-75A5AFB4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8A178-227A-4FCF-9F3D-A2C6D97A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C2CEE-1087-486D-ACCB-440ED45A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0337-D23B-4785-8DF6-ED99EAE0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FB26C-8257-4408-846B-5865D289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DAFD6-2318-4AF1-8887-3B31EFA9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C3198-7313-460E-8F89-7C2D5CA5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44298-1929-4062-A183-942D958A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C2DCA-E284-4D8E-AB52-91A17D20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3528-EB2F-4C93-AF09-D90883A8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B34C-9BE8-4D15-88AC-CE58AB89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8902-D9D5-4A02-993A-EA170BBC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52C9-2A8B-43BE-B827-3C057625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F45B-3AEB-46C1-B70A-4CF710FC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0BD-82FD-4F6D-AF7B-95ABA23A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90FC-CF62-4668-B66B-116E1265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B376-6DA7-404A-9D5C-E40B6AF8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57C2-9CF3-4774-B5A6-33E02C71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2C3C-2D9B-4F0A-847C-737D4518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B20E-FDF0-4BE6-8F42-D47EA8B8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9C855-EB16-4FB2-99B3-5416BB84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7D0C2-B730-452F-B5FD-F1E56F47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3E9B3-6725-4B76-BB5C-3D875899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8E924-C1E6-4DA4-83B1-5AD9ED1C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48576-D31F-4256-B7FB-46EEE2D0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190-DBE8-4130-8034-FCA97616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C638E-67CE-48CF-85ED-2FE4B123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F20AA-C87D-4760-91B5-728ECE6A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A1293-4B3E-4B30-8C48-238F0C36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61EC1-4F2B-43C9-8C34-6993088A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A7544-81EB-49E8-8803-60A130BC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7F83C-45BC-4930-88EE-E9064A63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A5704-6F21-46BF-A1B6-4A3F6D97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4DFBC-B864-4DA0-8040-8C9AB300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D3631-3311-44BE-AB8C-32E5F35D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54339-E934-4679-9AEE-B6D5727D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2F1-6699-4B3A-AA2C-1F7E9BA5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E6D4B-98CC-40E1-9267-BC3F319E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B2E51-5772-4CAF-8456-D8D271EF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7C771-49B6-465F-A674-89EB16B7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DC874-9070-4A09-90DA-E9D446D2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47162-9158-4009-90BA-BC6B6E53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2DE23-CF98-4CD8-B53B-EE82C8BF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E5DBC-994B-4E04-ADE1-319D7B88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C1961-B974-45E5-B1FD-1E6E4E74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DBBD9-FC5E-4F35-89F8-4E23F727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10A43-8300-4437-9CEE-4C78D243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CE45-E6C6-49A1-A04E-89BD7F40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A4CF8-05E3-430E-BC07-33DFAB1A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063B9-FF29-4098-9CEA-4E9226B5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A262D-59D4-40E3-A1C3-83333238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4F07D-3A06-4B76-9EB6-CDDCC8B0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7C2FF-C952-428B-A781-93C9B39D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4AB4E-A0A4-4053-BA06-5890AE55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C0E4B-FBB0-492A-88CA-5A336A6B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96200-3F95-4226-A5A8-3D532BA6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E5BE0-5CEF-402A-A1F3-E8B1D6B3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C60BF-5DE2-4EA9-B6FE-53A41244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C78-227C-46EF-A8F2-7277B9AB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92336-BBA8-4EE0-ABA5-58792528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58F4B-324F-4024-A5D5-93FB1DB6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8546B-9EF2-445E-B7CD-D39E391A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B8C8E-7826-49BB-9415-DFA5974E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D145A-234C-4B49-8F26-33E22770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F26AF-27B1-4EBF-BA31-9220A70E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E7B7F-616A-4B15-B8E0-9B6F9BDF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85AB6-AEA9-451F-9928-DBBC4400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0BC44-DC9C-475D-9AA5-F232A700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4C3EF-DE48-43BE-A5BD-24E5EB5D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2A3-E114-4818-AB73-D2DDEF6B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1AC98-CF1D-4727-BD26-A970A982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FB0AA-4AC5-4AFF-ADB9-42913DE6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6DB81-58E4-4CBB-9394-8220EE7F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4AFCB-422E-4891-B93B-B8E61F24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C0578-C9D5-46C8-B5BB-12ABCEE3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534B65-832C-4531-B701-D1F83A9C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0FEBA-7DD4-4BAD-AD17-9A6C112A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9C6151-5D6E-434A-B709-9C73C157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07B0C-FA0A-4BF5-8649-C85D1EFB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0FB054-B707-47CC-9B6A-69EFDF73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E13-F36F-4A34-BBBB-26D29C53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C3E58-8479-4444-935B-9590C06D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1254E-C694-44F7-ACA8-3ED884B4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138EE4-00F5-463A-A75F-5DF6F489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E7728B-D4B4-4CA8-9D05-6387FA5E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D4007D-8BA9-4239-AE0E-BAC551EC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660B2-EF67-41D5-BFD5-ACA81920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F6ACE-3CE1-4F51-BEFF-271C71AB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3D752-8C08-4B94-ABF9-0A8F7916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472E7-6DAD-4CAE-99CA-C6340773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441A0-1ECF-46C1-91AA-8A74FDA9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0A5-C37F-4E90-A7C9-FF4B856D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CB5C6-3416-4ED0-896B-D219F1DA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7CC05-0FE7-4A53-802B-F2140324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6A2D4-656F-4A91-AAF6-3DB467D5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4698B-D318-487B-B5E0-64D10BAD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14916-45A7-4CC1-AA9A-4FC1DEDC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07C2D-E762-4BA8-9AFA-A3B63EAF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878D4-4B26-4AF5-B775-8AD092D1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065DF4-DA97-4411-8DF9-01A656F4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790D12-C1D5-4678-80C0-ACC94B2D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EED254-85E8-4922-837A-1FE12919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DB16-3DFD-4EB9-AFDF-EADB22AFF66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7691-A10E-4754-8030-EB8AA76D18A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A486-C4A9-4331-B39B-DABF884FDB1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98ED-C2D5-4D5E-8715-79C6A8DA81C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9A3D-D8C5-42A1-B08C-8287DBB85CB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D3AB-6EC8-40D7-A9F1-C6CD95FFF88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7558-0F02-422B-9BB8-AF61A89C282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BD90-36B1-4E21-A6B7-3474C941A72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956E-A42C-4916-8CED-85FD572FA6F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0FDB-E16D-45EF-A849-21F17D13B2E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6D89-F511-4E31-97E5-283D5C7CFD6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7A51-4C60-419E-8B09-1605EDE0216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476000" y="12682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ПРЕДЛОГ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НА-С (СО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32c16"/>
                </a:solidFill>
                <a:latin typeface="Century Schoolbook"/>
              </a:rPr>
              <a:t>Фрукты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5" name="TextBox 1"/>
          <p:cNvSpPr/>
          <p:nvPr/>
        </p:nvSpPr>
        <p:spPr>
          <a:xfrm>
            <a:off x="5367960" y="4292640"/>
            <a:ext cx="29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валева И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C:\Users\user\Desktop\SFH-Table-61.png"/>
          <p:cNvPicPr/>
          <p:nvPr/>
        </p:nvPicPr>
        <p:blipFill>
          <a:blip r:embed="rId1"/>
          <a:stretch/>
        </p:blipFill>
        <p:spPr>
          <a:xfrm>
            <a:off x="1835280" y="1290600"/>
            <a:ext cx="4713120" cy="4711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"/>
          <p:cNvPicPr/>
          <p:nvPr/>
        </p:nvPicPr>
        <p:blipFill>
          <a:blip r:embed="rId2"/>
          <a:stretch/>
        </p:blipFill>
        <p:spPr>
          <a:xfrm rot="3552000">
            <a:off x="3400200" y="1107720"/>
            <a:ext cx="2521080" cy="18892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1"/>
          <p:cNvSpPr/>
          <p:nvPr/>
        </p:nvSpPr>
        <p:spPr>
          <a:xfrm>
            <a:off x="484200" y="318960"/>
            <a:ext cx="7416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де лежит апельсин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алее нажать на апельс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2"/>
          <p:cNvSpPr/>
          <p:nvPr/>
        </p:nvSpPr>
        <p:spPr>
          <a:xfrm>
            <a:off x="1424880" y="5877000"/>
            <a:ext cx="69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ткуда упал апельсин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-0.00301 L 0.02917 -0.00764 L 0.06962 0.00023 L 0.10052 -0.00602 L 0.12327 -0.00764 L 0.18282 -0.00764 L 0.2125 -0.00602 L 0.26615 0.05579 L 0.2816 0.09236 L 0.29827 0.15417 L 0.30886 0.21134 L 0.32795 0.30023 L 0.32674 0.3463 L 0.32448 0.39699 L 0.32448 0.43194 L 0.32795 0.45741 L 0.33039 0.50671 L 0.34115 0.56366 E">
                                      <p:cBhvr>
                                        <p:cTn id="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5" descr="C:\Users\user\Desktop\SFH-Table-61.png"/>
          <p:cNvPicPr/>
          <p:nvPr/>
        </p:nvPicPr>
        <p:blipFill>
          <a:blip r:embed="rId1"/>
          <a:stretch/>
        </p:blipFill>
        <p:spPr>
          <a:xfrm>
            <a:off x="1835280" y="1290600"/>
            <a:ext cx="4713120" cy="47116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"/>
          <p:cNvPicPr/>
          <p:nvPr/>
        </p:nvPicPr>
        <p:blipFill>
          <a:blip r:embed="rId2"/>
          <a:stretch/>
        </p:blipFill>
        <p:spPr>
          <a:xfrm>
            <a:off x="4157640" y="1101600"/>
            <a:ext cx="1703520" cy="1703520"/>
          </a:xfrm>
          <a:prstGeom prst="rect">
            <a:avLst/>
          </a:prstGeom>
          <a:ln w="0">
            <a:noFill/>
          </a:ln>
        </p:spPr>
      </p:pic>
      <p:sp>
        <p:nvSpPr>
          <p:cNvPr id="552" name="TextBox 1"/>
          <p:cNvSpPr/>
          <p:nvPr/>
        </p:nvSpPr>
        <p:spPr>
          <a:xfrm>
            <a:off x="584280" y="318960"/>
            <a:ext cx="7416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де лежит яблоко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алее нажать на яблок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"/>
          <p:cNvSpPr/>
          <p:nvPr/>
        </p:nvSpPr>
        <p:spPr>
          <a:xfrm>
            <a:off x="1427760" y="587700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ткуда упало яблоко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991 L 0.04028 0.01574 L 0.08229 0.02269 L 0.11441 0.0169 L 0.1382 0.01574 L 0.20018 0.01574 L 0.23108 0.0169 L 0.28698 0.07408 L 0.30313 0.10787 L 0.32049 0.16505 L 0.33143 0.21783 L 0.35122 0.3 L 0.35 0.34259 L 0.34775 0.38935 L 0.34775 0.42176 L 0.35122 0.44514 L 0.35382 0.49074 L 0.36528 0.54352 E">
                                      <p:cBhvr>
                                        <p:cTn id="12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5" descr="C:\Users\user\Desktop\SFH-Table-61.png"/>
          <p:cNvPicPr/>
          <p:nvPr/>
        </p:nvPicPr>
        <p:blipFill>
          <a:blip r:embed="rId1"/>
          <a:stretch/>
        </p:blipFill>
        <p:spPr>
          <a:xfrm>
            <a:off x="1835280" y="1290600"/>
            <a:ext cx="4713120" cy="47116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"/>
          <p:cNvPicPr/>
          <p:nvPr/>
        </p:nvPicPr>
        <p:blipFill>
          <a:blip r:embed="rId2"/>
          <a:stretch/>
        </p:blipFill>
        <p:spPr>
          <a:xfrm rot="20733000">
            <a:off x="3797280" y="1060560"/>
            <a:ext cx="1779480" cy="1780920"/>
          </a:xfrm>
          <a:prstGeom prst="rect">
            <a:avLst/>
          </a:prstGeom>
          <a:ln w="0">
            <a:noFill/>
          </a:ln>
        </p:spPr>
      </p:pic>
      <p:sp>
        <p:nvSpPr>
          <p:cNvPr id="556" name="TextBox 1"/>
          <p:cNvSpPr/>
          <p:nvPr/>
        </p:nvSpPr>
        <p:spPr>
          <a:xfrm>
            <a:off x="584280" y="318960"/>
            <a:ext cx="7416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де лежит лимон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алее нажать на лим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2"/>
          <p:cNvSpPr/>
          <p:nvPr/>
        </p:nvSpPr>
        <p:spPr>
          <a:xfrm>
            <a:off x="1427760" y="5877000"/>
            <a:ext cx="64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ткуда упал лимон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11111E-006 L 0.0408 -0.0044 L 0.08281 0.00301 L 0.11493 -0.00301 L 0.13854 -0.0044 L 0.20052 -0.0044 L 0.23142 -0.00301 L 0.28715 0.05625 L 0.3033 0.09144 L 0.32066 0.1507 L 0.3316 0.20556 L 0.35139 0.29074 L 0.35017 0.33495 L 0.34792 0.38357 L 0.34792 0.41713 L 0.35139 0.44144 L 0.35399 0.48889 L 0.36528 0.54352 E">
                                      <p:cBhvr>
                                        <p:cTn id="18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C:\Users\user\Desktop\SFH-Table-61.png"/>
          <p:cNvPicPr/>
          <p:nvPr/>
        </p:nvPicPr>
        <p:blipFill>
          <a:blip r:embed="rId1"/>
          <a:stretch/>
        </p:blipFill>
        <p:spPr>
          <a:xfrm>
            <a:off x="1835280" y="1290600"/>
            <a:ext cx="4713120" cy="47116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"/>
          <p:cNvPicPr/>
          <p:nvPr/>
        </p:nvPicPr>
        <p:blipFill>
          <a:blip r:embed="rId2"/>
          <a:stretch/>
        </p:blipFill>
        <p:spPr>
          <a:xfrm rot="478200">
            <a:off x="3552840" y="1182240"/>
            <a:ext cx="1479600" cy="16668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1"/>
          <p:cNvSpPr/>
          <p:nvPr/>
        </p:nvSpPr>
        <p:spPr>
          <a:xfrm>
            <a:off x="584280" y="318960"/>
            <a:ext cx="7416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де лежит груша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алее нажать на груш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"/>
          <p:cNvSpPr/>
          <p:nvPr/>
        </p:nvSpPr>
        <p:spPr>
          <a:xfrm>
            <a:off x="1526760" y="5877000"/>
            <a:ext cx="66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ткуда упала груша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11111E-006 L 0.0408 -0.0044 L 0.08281 0.00301 L 0.11493 -0.00301 L 0.13854 -0.0044 L 0.20052 -0.0044 L 0.23142 -0.00301 L 0.28715 0.05625 L 0.3033 0.09144 L 0.32066 0.1507 L 0.3316 0.20556 L 0.35139 0.29074 L 0.35017 0.33495 L 0.34792 0.38357 L 0.34792 0.41713 L 0.35139 0.44144 L 0.35399 0.48889 L 0.36528 0.54352 E">
                                      <p:cBhvr>
                                        <p:cTn id="24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5" descr="C:\Users\user\Desktop\SFH-Table-61.png"/>
          <p:cNvPicPr/>
          <p:nvPr/>
        </p:nvPicPr>
        <p:blipFill>
          <a:blip r:embed="rId1"/>
          <a:stretch/>
        </p:blipFill>
        <p:spPr>
          <a:xfrm>
            <a:off x="1835280" y="1290600"/>
            <a:ext cx="4713120" cy="47116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6" descr=""/>
          <p:cNvPicPr/>
          <p:nvPr/>
        </p:nvPicPr>
        <p:blipFill>
          <a:blip r:embed="rId2"/>
          <a:stretch/>
        </p:blipFill>
        <p:spPr>
          <a:xfrm rot="478200">
            <a:off x="3292200" y="1157040"/>
            <a:ext cx="1619280" cy="1655640"/>
          </a:xfrm>
          <a:prstGeom prst="rect">
            <a:avLst/>
          </a:prstGeom>
          <a:ln w="0">
            <a:noFill/>
          </a:ln>
        </p:spPr>
      </p:pic>
      <p:sp>
        <p:nvSpPr>
          <p:cNvPr id="564" name="TextBox 1"/>
          <p:cNvSpPr/>
          <p:nvPr/>
        </p:nvSpPr>
        <p:spPr>
          <a:xfrm>
            <a:off x="584280" y="318960"/>
            <a:ext cx="7416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де лежит слива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алее нажать на слив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"/>
          <p:cNvSpPr/>
          <p:nvPr/>
        </p:nvSpPr>
        <p:spPr>
          <a:xfrm>
            <a:off x="1426320" y="5877000"/>
            <a:ext cx="65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ткуда упала слива?» – «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1551 L 0.04497 0.01111 L 0.08698 0.01852 L 0.1191 0.0125 L 0.14271 0.01111 L 0.20469 0.01111 L 0.23559 0.0125 L 0.29132 0.07176 L 0.30747 0.10695 L 0.32483 0.16621 L 0.33577 0.22107 L 0.35556 0.30625 L 0.35434 0.35046 L 0.35208 0.39908 L 0.35208 0.43264 L 0.35556 0.45695 L 0.35816 0.5044 L 0.36945 0.55903 E">
                                      <p:cBhvr>
                                        <p:cTn id="30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3" descr="http://bestgif.su/_ph/41/2/471817010.gif"/>
          <p:cNvPicPr/>
          <p:nvPr/>
        </p:nvPicPr>
        <p:blipFill>
          <a:blip r:embed="rId1"/>
          <a:stretch/>
        </p:blipFill>
        <p:spPr>
          <a:xfrm>
            <a:off x="971640" y="1484280"/>
            <a:ext cx="73454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4:13:27Z</dcterms:created>
  <dc:creator>Пользователь</dc:creator>
  <dc:description/>
  <dc:language>en-US</dc:language>
  <cp:lastModifiedBy>RePack by Diakov</cp:lastModifiedBy>
  <dcterms:modified xsi:type="dcterms:W3CDTF">2020-10-03T23:31:48Z</dcterms:modified>
  <cp:revision>18</cp:revision>
  <dc:subject/>
  <dc:title>Слайд 1</dc:title>
</cp:coreProperties>
</file>